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AC61-3C88-48FC-BE54-61CFC8DA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66AB-AA80-4E91-9B08-B13CDAF9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91C4-B3DE-402A-BBB2-549B2CFD5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03A1-047D-4270-AADA-C1D2F69EA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8B36-6198-4F43-B936-15E9ABCE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92DC-CE9B-4A5E-9EC7-160832C6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F1A5-4B93-4930-B545-36C5C037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FFD2-5223-4094-AA33-51C46503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E5A4-94E4-4001-87C8-EF498307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DCB3-2E71-4CB7-B2B2-0861D083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842B-66DD-43A5-93D1-C066AA31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5129-D949-4A09-ACE9-4DFC529A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45FE-94EA-4D26-A957-FBDA3CFA8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s.cornell.edu/jif/" TargetMode="External"/><Relationship Id="rId2" Type="http://schemas.openxmlformats.org/officeDocument/2006/relationships/hyperlink" Target="http://www.cs.cornell.edu/jif/" TargetMode="External"/><Relationship Id="rId3" Type="http://schemas.openxmlformats.org/officeDocument/2006/relationships/hyperlink" Target="http://www.cs.cornell.edu/jif/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er Security Found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 597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 David Wal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ing the course for a gra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rse project, final report: approx 5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ments, project progress reports, pop quizzes, class participation, class presentation: approx 5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taking the course for gra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and class particip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esentation on a topic of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ubstantial project involving programming languages and security in some fash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in 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you get started:  work steadily every week of the term (5-10 hours/week, perhaps mo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 deleted the journal 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Project: Milest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pt 2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Form groups &amp; pick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Oct 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analysis of related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~ 5-page analysis of related wor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imum 2 papers/person (hand-in a joint summa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ov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Progress Report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~ 5-page description of one component of the 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a summary and justification, a partial formalization, a proof, a tool description and performance evaluation, a language design and justification, a software design and explanation e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ov 2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Progress Report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~ 5-page description of a second element of the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ast month of 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Presentation on research in your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ign 1 or 2 papers to the class to read; give a lecture and disc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Jan 11, Deans 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Final sub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final report which includes introduction, problem description, technical accomplishments, any code, performance evaluation, related work, and summary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Id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urse web site contains a list of project ideas and some papers you can read as starting point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el free to choose an idea from the web site or try an idea of your own, possibly connected with other research in the depa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of the projects mentioned on the web site are very open-en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small subgoals that can be accomplished each week or every two wee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sure to have multiple fall-back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 realis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yptographic programming in Jif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f is a programming language based on Java equipped with a type system for detecting information-f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 about how Jif works, its features and seman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J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an interface to a cryptographic library using Jif's decentralized label mode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resulting library to implement the cryptographic protocols used in a secure client-server sett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: What did you learn?  Jif pros and c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ing points on the projects pa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g:  Jif Homepage 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cs.cornell.edu/jif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Final Project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I:  Introdu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vation (argument that makes the contributions seem inevitable!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Information security is importan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Cryptographic primitives are crucial for network-based securit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Language-based security is practical way to increase confidence in securit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Current support for cryptographic primitives in languages is not goo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ibu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Design of a cryptographic library in Ji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Show how type system can encode desirable invaria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Investigation of event driven vs. threaded programs with information f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Implementation of a (reasonably) substantial system using J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II:  Background mater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f and Decentralized Label Mod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Important features (label abstraction, first-class principals, declassification, endorsement), syntax, seman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yptographic oper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Final Project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III:  Design of the Cryptographic Libr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s:  Keeping keys secret; Dependency between keys and encrypted values; Authentication information encoded in the types; Integrity Constraints in J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s:  Dynamic Principals; Label polymorphism; Fancy programm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IV:  Evaluation of the Libr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ption of the test ca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Bank/ATM simulation with interesting authentication protocol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Taken from CSE331 course implement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 details/examp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ights learned? Design choices you would have chang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V:  Related 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VI:  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marize 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iterate contribu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Project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e distributed programming &amp; Planet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 a service for PlanetLab using an interesting programm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ple spaces (see Klaim for Ja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in calculus (see JoCa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ed logic programming (see SD3, Soph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security threats and the mechanisms necessary to compens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 a security monitoring service (as opposed to an arbitrary serv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Project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 mon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curity monitor watches a program, virtual machine or distributed system and interrupts the system when it detects a security vi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security monitors based on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ory of what is enforceable in the transactional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ctice of implementing th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concurrent or distributed security mon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hardware/compiler support for parallelizing execution of security monitors with the mainlin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ype-system support for making security monitors compose with one another; implement it in the context of Poly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Project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ying availability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ntly, researchers have a great progress verifying cryptographic protocols and establishing authenticity &amp; secrecy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set writing protocols (Cervesato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 for protocols (Gordon &amp; Jeffr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we do the same for availability properties and developing robust distributed algorith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g:  can we developed techniques for verifying consensus and other group communication protocols?  Under what failure mode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com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 Security Foundations i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interested i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gramming languag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how to apply them to solving systems securit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interested in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ystems security probl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how to use programming languages to solv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Project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y the effectiveness of security analysis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we evaluate security analysis tools to determine how effective they a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properties should they ha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metrics can we use to analyze too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we develop a benchmark for testing these too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two or more existing tools and analyze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 a programming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mer is a compiler framework for extending 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some form of program monitors based on auto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Cryptic-like support to Java for verifying cryptographic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der is a logic-programming language with built-in secui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 a linear-logic programming version of b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Project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racking information flow in a unique programming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ple spac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d logic programm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 assembly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Project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vey paper o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a relatively broad area and do an in-depth analysis of the research in the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e up with a creative way to classify the work in th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ize the major con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the most important avenues for future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cus on producing a particularly well-written report by working on multiple draf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:  software program monitors; hardware support for security; security in distributed programming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Project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e up with a own topic related to your own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topics may bridge gaps between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ing &amp; distributed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s for reliable computing and cryptography &amp; languages to support their implementation or ver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hitecture or compilers to improve performance of security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Jo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next two weeks, figure out who you want to work with and what general topic you want to work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with someone who has the same level of commitment to the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area partnerships can be a great idea (eg: PL person with a systems person or algorithms pers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t the course web page for ideas; talk with your friends or other people in the department; skim a couple of pa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et with me 22-2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Septe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up an appointment by e-m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Sty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lectures given by me on technical top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discussions of papers on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participation is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asional 1-page writing assignment summarizing or critiquing a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take this course for software systems compe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will be useful to have some background in logic or language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l’s theorem proving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languages (COS 510 or 44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have never taken such courses I recomm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enjamin Pierce “types and programming languag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pters 1-9 (approx 100 pages of fairly easy rea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try to fill in background as I 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Monday, we will have a tutorial on this background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pics of Interest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nd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secur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fety, liveness, secrecy, authenticity, integ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principles are available that help us build secure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design, economy of mechanism, minimal trusted computing base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pics of Interest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nguage Mechanis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program monit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y:  what kind of properties can we enfor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ctice: languages for writing program mon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c program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systems for safe virtual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forcing information flow proper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pics of Interest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gic and Secur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ying security properties log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 log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-carrying autho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 for distributed logic progra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pics of Interest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yptographic Protoc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cation of cryptographic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assumptions about the power of cryptographic primi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about cryptography itself (see Ed’s course if you are interested in how cryptography work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ing about cryptographic protocols using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pics of Interest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rrent Techni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loaders, security managers, security policies for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 inspection: what is it?  How does it work?  What kind of security does it really provi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analysis and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checkers:  how to analyze one million lines of code for security flaw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designs:  CQual, V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S</cp:lastModifiedBy>
  <dcterms:modified xsi:type="dcterms:W3CDTF">2004-09-12T22:14:51Z</dcterms:modified>
  <cp:revision>25</cp:revision>
  <dc:subject/>
  <dc:title>PowerPoint Presentation</dc:title>
</cp:coreProperties>
</file>