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66E-6263-43A0-8CB4-25CF5619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0EC-8A53-43BF-9E51-99BC912D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CE3-A58B-4776-9CEE-BB1F24E7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0E1-6ADE-4FC0-89D3-C8ABC111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F02-A1CA-476D-80A0-6256BEC5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669-CC79-491D-A4B4-910E0ED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DC3-959D-4DC9-97BB-197C588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92A-A1CA-4501-8D0F-A044130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770-59A3-4B03-8A57-FC4B099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CEB-EAE3-4890-9D2B-E4DFD652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68C-F72F-488C-85B9-358A0B3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046-DB98-48B4-8E76-5A2B997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031-4D7C-4EDF-82F5-773B59D9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cornell.edu/jif/" TargetMode="External"/><Relationship Id="rId2" Type="http://schemas.openxmlformats.org/officeDocument/2006/relationships/hyperlink" Target="http://www.cs.cornell.edu/jif/" TargetMode="External"/><Relationship Id="rId3" Type="http://schemas.openxmlformats.org/officeDocument/2006/relationships/hyperlink" Target="http://www.cs.cornell.edu/jif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Security Fou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97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 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the course for a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project, final report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s, project progress reports, pop quizzes, class participation, class presentation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aking the course for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nd class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sentation on a topic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tantial project involving programming languages and security in some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started:  work steadily every week of the term (5-10 hours/week, perhaps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 deleted the journal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: Milest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pt 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Form groups &amp; pick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ct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alysis of rela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analysis of related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2 papers/person (hand-in a joint sum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one component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 summary and justification, a partial formalization, a proof, a tool description and performance evaluation, a language design and justification, a software design and explanation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a second element of th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st month of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esentation on research in your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1 or 2 papers to the class to read; give a lecture and disc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an 11, Deans 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inal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final report which includes introduction, problem description, technical accomplishments, any code, performance evaluation, related work, and summar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se web site contains a list of project ideas and some papers you can read as starting poin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 free to choose an idea from the web site or try an idea of your own, possibly connected with other research in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projects mentioned on the web site are very open-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small subgoals that can be accomplished each week or every two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have multiple fall-bac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realis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programming in Ji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f is a programming language based on Java equipped with a type system for detecting information-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about how Jif works, its features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n interface to a cryptographic library using Jif's decentralized label mod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esulting library to implement the cryptographic protocols used in a secure client-server se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: What did you learn?  Jif pros and c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points on the projects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Jif Homepage 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s.cornell.edu/jif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:  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on (argument that makes the contributions seem inevitable!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formation security is importa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ryptographic primitives are crucial for network-based secur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anguage-based security is practical way to increase confidence in secu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urrent support for cryptographic primitives in languages is not go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sign of a cryptographic library in J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how how type system can encode desirable invari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vestigation of event driven vs. threaded programs with information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lementation of a (reasonably) substantial system using J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:  Background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f and Decentralized Label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ortant features (label abstraction, first-class principals, declassification, endorsement), syntax,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ptographic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I:  Design of the Cryptographic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:  Keeping keys secret; Dependency between keys and encrypted values; Authentication information encoded in the types; Integrity Constraints in J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:  Dynamic Principals; Label polymorphism; Fancy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V:  Evaluation of the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of the test c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ank/ATM simulation with interesting authentication protoc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aken from CSE331 course 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/ex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ghts learned? Design choices you would have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:  Related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I: 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terate contrib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distributed programming &amp; Plane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rvice for PlanetLab using an interesting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ple spaces (see Klaim for 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calculus (see JoCa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logic programming (see SD3, Sop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curity threats and the mechanisms necessary to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curity monitoring service (as opposed to an arbitrary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urity monitor watches a program, virtual machine or distributed system and interrupts the system when it detects a 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ecurity monitors based on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 of what is enforceable in the transac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e of implementing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oncurrent or distributed security 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ardware/compiler support for parallelizing execution of security monitors with the mainlin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ype-system support for making security monitors compose with one another; implement it in the context of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ing availabil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, researchers have a great progress verifying cryptographic protocols and establishing authenticity &amp; secrec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et writing protocols (Cervesato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for protocols (Gordon &amp; Jeffr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o the same for availability properties and developing robust distributed algorith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can we developed techniques for verifying consensus and other group communication protocols?  Under what failure mod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ecurity Foundations i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amming langu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apply them to solving systems secur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stems security probl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use programming languages to sol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the effectiveness of security analysis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evaluate security analysis tools to determine how effective they 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perties should they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can we use to analyz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evelop a benchmark for testing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wo or more existing tools and analyz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er is a compiler framework for extending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ome form of program monitors based o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ryptic-like support to Java for verifying cryptographic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er is a logic-programming language with built-in secu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linear-logic programming version of b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racking information flow in a unique programm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sp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logic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pape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relatively broad area and do an in-depth analysis of the research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up with a creative way to classify the work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major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most important avenue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oducing a particularly well-written report by working on multiple dr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 software program monitors; hardware support for security; security in distributed 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up with a own topic related to your own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topics may bridge gaps betwee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&amp; distribu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for reliable computing and cryptography &amp; languages to support their implementation 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or compilers to improve performance of securit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ext two weeks, figure out who you want to work with and what general topic you want to work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someone who has the same level of commitment to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area partnerships can be a great idea (eg: PL person with a systems person or algorithms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course web page for ideas; talk with your friends or other people in the department; skim a couple of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with me 22-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pte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an appointment by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ectures given by me on technic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iscussions of papers o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participation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asional 1-page writing assignment summarizing or critiquing a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take this course for software systems compe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be useful to have some background in logic or langua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l’s theorem prov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languages (COS 510 or 4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never taken such courses I recomm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njamin Pierce “types and programming languag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s 1-9 (approx 100 pages of fairly easy re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try to fill in background as I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, we will have a tutorial on this background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, liveness, secrecy, authenticity,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inciples are available that help us build secure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design, economy of mechanism, minimal trusted computing bas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:  what kind of properties can we enfo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: languages for writing program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progra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ystems for safe virtual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ing information flow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 and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ing security properties log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log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-carrying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or distributed logic pro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yptographic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of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ssumptions about the power of cryptographic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about cryptography itself (see Ed’s course if you are interested in how cryptography 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about cryptographic protocols using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loaders, security managers, security policies for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inspection: what is it?  How does it work?  What kind of security does it really prov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analysis 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heckers:  how to analyze one million lines of code for security f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designs:  CQual, V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</cp:lastModifiedBy>
  <dcterms:modified xsi:type="dcterms:W3CDTF">2004-09-12T22:14:51Z</dcterms:modified>
  <cp:revision>25</cp:revision>
  <dc:subject/>
  <dc:title>PowerPoint Presentation</dc:title>
</cp:coreProperties>
</file>