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417-0599-4B1A-A98C-4093C2CA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B33-2001-46E2-A196-E52FD01F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1736-A404-4BCF-B7AC-7C9D8058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BC1-095E-41C0-820E-CDD4C60F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A91-17BE-4F0F-A434-95051E81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BF4-767F-4D99-8C3A-E96E7A45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9DB-41BD-4386-829D-9F33BDE5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2E9-F968-48C4-B569-9E7D2C4C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C7B-A4FA-4B32-A170-84CFF41D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E35-D9B2-4E83-B26F-7B6561D5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E25-B181-445B-9537-F243473F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722-58AD-4EDF-AEEB-DBABEC9D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7B68-9CBC-4A3A-991F-995275866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s.cornell.edu/jif/" TargetMode="External"/><Relationship Id="rId2" Type="http://schemas.openxmlformats.org/officeDocument/2006/relationships/hyperlink" Target="http://www.cs.cornell.edu/jif/" TargetMode="External"/><Relationship Id="rId3" Type="http://schemas.openxmlformats.org/officeDocument/2006/relationships/hyperlink" Target="http://www.cs.cornell.edu/jif/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er Security Fou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 597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 David Wal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ing the course for a gra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 project, final report: approx 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s, project progress reports, pop quizzes, class participation, class presentation: approx 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aking the course for gra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nd class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esentation on a topic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stantial project involving programming languages and security in some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in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you get started:  work steadily every week of the term (5-10 hours/week, perhaps m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 deleted the journal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Project: Milest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pt 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Form groups &amp; pick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ct 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analysis of related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5-page analysis of related 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um 2 papers/person (hand-in a joint sum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v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Progress Report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5-page description of one component of th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 summary and justification, a partial formalization, a proof, a tool description and performance evaluation, a language design and justification, a software design and explanation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v 2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Progress Repor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5-page description of a second element of the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ast month of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Presentation on research in your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 1 or 2 papers to the class to read; give a lecture and disc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an 11, Deans 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Final sub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final report which includes introduction, problem description, technical accomplishments, any code, performance evaluation, related work, and summar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urse web site contains a list of project ideas and some papers you can read as starting point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l free to choose an idea from the web site or try an idea of your own, possibly connected with other research in th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f the projects mentioned on the web site are very open-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small subgoals that can be accomplished each week or every two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sure to have multiple fall-back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realis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ic programming in Ji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f is a programming language based on Java equipped with a type system for detecting information-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 about how Jif works, its features and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J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n interface to a cryptographic library using Jif's decentralized label mode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resulting library to implement the cryptographic protocols used in a secure client-server sett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: What did you learn?  Jif pros and c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ing points on the projects p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:  Jif Homepage 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cs.cornell.edu/jif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Final Project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I:  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on (argument that makes the contributions seem inevitable!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nformation security is importa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Cryptographic primitives are crucial for network-based secur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Language-based security is practical way to increase confidence in securit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Current support for cryptographic primitives in languages is not goo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ibu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esign of a cryptographic library in Ji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how how type system can encode desirable invari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nvestigation of event driven vs. threaded programs with information f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mplementation of a (reasonably) substantial system using J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II:  Background mate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f and Decentralized Label Mod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mportant features (label abstraction, first-class principals, declassification, endorsement), syntax, seman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yptographic oper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Final Project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III:  Design of the Cryptographic Libr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:  Keeping keys secret; Dependency between keys and encrypted values; Authentication information encoded in the types; Integrity Constraints in J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s:  Dynamic Principals; Label polymorphism; Fancy programm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IV:  Evaluation of the Libr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 of the test ca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ank/ATM simulation with interesting authentication protoco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aken from CSE331 course implemen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details/exam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ights learned? Design choices you would have chang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V:  Related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VI:  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ize 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terate contribu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distributed programming &amp; Plane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a service for PlanetLab using an interesting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ple spaces (see Klaim for 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 calculus (see JoCa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logic programming (see SD3, Soph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security threats and the mechanisms necessary to compens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a security monitoring service (as opposed to an arbitrary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mon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curity monitor watches a program, virtual machine or distributed system and interrupts the system when it detects a security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security monitors based on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y of what is enforceable in the transaction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ctice of implementing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concurrent or distributed security mon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ardware/compiler support for parallelizing execution of security monitors with the mainlin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ype-system support for making security monitors compose with one another; implement it in the context of Poly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ing availability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ly, researchers have a great progress verifying cryptographic protocols and establishing authenticity &amp; secrecy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set writing protocols (Cervesato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for protocols (Gordon &amp; Jeffr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do the same for availability properties and developing robust distributed algorith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:  can we developed techniques for verifying consensus and other group communication protocols?  Under what failure mod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co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Security Foundations i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interested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gramming langu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ow to apply them to solving systems securit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interested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ystems security probl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ow to use programming languages to solv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the effectiveness of security analysis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evaluate security analysis tools to determine how effective they a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properties should they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etrics can we use to analyze too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develop a benchmark for testing these too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wo or more existing tools and analyz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 a programming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er is a compiler framework for extending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some form of program monitors based on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ryptic-like support to Java for verifying cryptographic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er is a logic-programming language with built-in secui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a linear-logic programming version of b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racking information flow in a unique programming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 spa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logic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 assembl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vey paper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relatively broad area and do an in-depth analysis of the research in th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up with a creative way to classify the work in th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ize the major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most important avenues for future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producing a particularly well-written report by working on multiple dr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:  software program monitors; hardware support for security; security in distributed programming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 up with a own topic related to your own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topics may bridge gaps between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ing &amp; distribut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 for reliable computing and cryptography &amp; languages to support their implementation or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ure or compilers to improve performance of security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J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next two weeks, figure out who you want to work with and what general topic you want to work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with someone who has the same level of commitment to th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area partnerships can be a great idea (eg: PL person with a systems person or algorithms per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the course web page for ideas; talk with your friends or other people in the department; skim a couple of 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 with me 22-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epte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up an appointment by 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lectures given by me on technical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discussions of papers on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participation is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asional 1-page writing assignment summarizing or critiquing a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take this course for software systems compe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ill be useful to have some background in logic or languag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l’s theorem prov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languages (COS 510 or 4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never taken such courses I recomm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enjamin Pierce “types and programming languag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s 1-9 (approx 100 pages of fairly easy rea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try to fill in background as I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Monday, we will have a tutorial on this background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 of Interes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nd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ecur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ty, liveness, secrecy, authenticity,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inciples are available that help us build secure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design, economy of mechanism, minimal trusted computing bas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 of Interes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nguage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rogram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:  what kind of properties can we enfor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e: languages for writing program mon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progra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systems for safe virtual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forcing information flow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 of Interes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ic and Secur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ying security properties log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log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-carrying autho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for distributed logic progr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 of Interes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yptographic Protoc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ation of cryptographic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ssumptions about the power of cryptographic 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about cryptography itself (see Ed’s course if you are interested in how cryptography work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ing about cryptographic protocols using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 of Interes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rrent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loaders, security managers, security policies for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inspection: what is it?  How does it work?  What kind of security does it really prov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analysis an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checkers:  how to analyze one million lines of code for security fla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designs:  CQual, V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S</cp:lastModifiedBy>
  <dcterms:modified xsi:type="dcterms:W3CDTF">2004-09-12T22:14:51Z</dcterms:modified>
  <cp:revision>25</cp:revision>
  <dc:subject/>
  <dc:title>PowerPoint Presentation</dc:title>
</cp:coreProperties>
</file>