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735C-6979-4476-8A2F-DA84CA05B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8665-C129-4C85-A20D-02B21766C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FE7AE-FB8B-4299-8BEB-5DF172A00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946F-0F27-43CD-97D3-6066CE981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AC834-EF01-4FDC-A34B-C5BBB7332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0B716-4D2D-4C02-AE9A-57E92285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EBDCA-8629-42D2-BA2A-3791AD81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1B903-8944-4D40-A7EC-B275E05C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B0FE4-0BAE-47BC-9DAB-F6108572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240B6-B9D7-4FE0-B567-49BB6ED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0B5C4-CE91-424A-88E2-94F00951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7B70-BCEC-4647-90D6-FEC86D4EA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1B0B2-5CFF-4081-B528-C090A43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9A691-28B5-4EC5-81DD-2AEC75EE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7B76B-6285-4829-88CD-6317C6D1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1E3F-776E-4977-928A-D325AB65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2C31A-A5E4-4AD0-B001-19550C92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61FA-0D06-4DA6-B4DB-AB7FD85E9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7B17-5ACE-4923-9619-4E2D23AD8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0F16-C40F-4E6C-A43F-0FDA96F07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7696-09E1-43A8-BF0E-3A25BB3FD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21EC-FF78-4227-9056-A9B46C883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143A-8351-41FB-9E89-FD4415BC2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F306-C131-4639-A6CB-DB4479A08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FA74-55E0-42C1-8E83-85FC0371D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F538-07D2-461C-8454-0ECA8500F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vid Wal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ides from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ff Foster, University of Maryl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 by Alex Aiken, Jeff Foster, Rob Johnson, John Kodumal, Tachio Terauchi, and David Wag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ing Tainted and Untaint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qualifier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printf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char *fmt, ..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getenv(const char *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ay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must not be controlled by advers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EA7B-B027-4036-BD39-59ED71A2F0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29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olution: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from_us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py_to_us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13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should be writ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p) { 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p) { copy_to_user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erform the required safety chec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number of bytes that couldn’t be copi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om_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ds destination with 0’s if couldn’t 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FE0C9-E564-430C-818D-6B8CF79FF79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’s Easy to Forget The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ers to kernel and user space look the s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part of the point of the desig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ux 2.4.20 has 129 syscalls with pointers to user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129 of those need to u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py_from/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oct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lementation passes user pointers to device drivers (without sanitizing them fir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ult:  Hundreds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py_from/_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(small) kernel version:  389 from, 428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re’s no che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E71C-9845-4E5A-B2BB-AE80FC3F6D3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r/Kernel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use type qualifiers to distinguish the two kinds of poin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ern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ust be under kernel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- This pointer may be under user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ernel &lt;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1A3BC-9F8F-40D9-9E60-9E29DAC5F1A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ignatur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2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dd signatures for the appropriate f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copy_from_user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memcpy(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t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            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from, int len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s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x, p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sys_getint(int *</a:t>
            </a:r>
            <a:r>
              <a:rPr b="0" lang="en-US" sz="2200" spc="-1" strike="noStrike">
                <a:solidFill>
                  <a:srgbClr val="cc0099"/>
                </a:solidFill>
                <a:latin typeface="Comic Sans MS"/>
              </a:rPr>
              <a:t>user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p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memcpy(p, &amp;x, sizeof(x)); 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 rot="16200000">
            <a:off x="-487800" y="3840480"/>
            <a:ext cx="1966680" cy="457200"/>
          </a:xfrm>
          <a:prstGeom prst="wedgeRectCallout">
            <a:avLst>
              <a:gd name="adj1" fmla="val -4967"/>
              <a:gd name="adj2" fmla="val 109370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Lives in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621400" y="3462480"/>
            <a:ext cx="1311120" cy="425160"/>
          </a:xfrm>
          <a:prstGeom prst="wedgeRectCallout">
            <a:avLst>
              <a:gd name="adj1" fmla="val -179055"/>
              <a:gd name="adj2" fmla="val 160819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57880" y="3552840"/>
            <a:ext cx="1311480" cy="425520"/>
          </a:xfrm>
          <a:prstGeom prst="wedgeRectCallout">
            <a:avLst>
              <a:gd name="adj1" fmla="val -269611"/>
              <a:gd name="adj2" fmla="val 145893"/>
            </a:avLst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33760" y="5578560"/>
            <a:ext cx="1311480" cy="425520"/>
          </a:xfrm>
          <a:prstGeom prst="wedgeRectCallout">
            <a:avLst>
              <a:gd name="adj1" fmla="val -157750"/>
              <a:gd name="adj2" fmla="val -9850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89CD-B021-4E0D-9A18-F8BBA0AB0C4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lifiers and Type Structur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the following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void ioctl(void *user arg) {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struct cmd { char *datap; } c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opy_from_user(&amp;c, arg, sizeof©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.datap[0] = 0;    // not a good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s from the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ata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so comes from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shouldn’t deference it without a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04F5-CE8E-441F-9ABC-7E64DDE9AE6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r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r **user 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under use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refore so i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*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 rule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 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t must b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ell-formedn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dition on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5F9D3-21FC-430C-8B05-2E8CFD7BAA30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a type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implicitly require all types to be well-form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about other qualifier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qualifiers have these structural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maybe other quals wan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670040" y="2450520"/>
            <a:ext cx="6149880" cy="1015920"/>
            <a:chOff x="1670040" y="2450520"/>
            <a:chExt cx="6149880" cy="1015920"/>
          </a:xfrm>
        </p:grpSpPr>
        <p:sp>
          <p:nvSpPr>
            <p:cNvPr id="672" name=""/>
            <p:cNvSpPr/>
            <p:nvPr/>
          </p:nvSpPr>
          <p:spPr>
            <a:xfrm>
              <a:off x="1670040" y="2450520"/>
              <a:ext cx="6149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(Q’ s)     Q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|--wf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(Q’ 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82680" y="2933640"/>
              <a:ext cx="3263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2B96-3134-4A58-97CE-C22B0D2F211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conditional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be als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y on a per-qualifier level whether to generate this constrai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hard to add to constraint re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1670040" y="231156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(Q’ s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’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06560" y="2793960"/>
            <a:ext cx="5605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F925-FA96-4A1E-A5E8-6CAACCA690A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ll-Formedness Constrai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ilar constraint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in, can specify this per-qualif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190520" y="2550960"/>
            <a:ext cx="739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,   |--wf (Qi si)  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 ==&gt; Qi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wf struc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Q1 s1, …, Qn s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384200" y="3033720"/>
            <a:ext cx="704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5FEFE-F7D1-4D73-BF2F-2290CB9A39E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al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on two Linux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0 -- 11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4.23 -- 10 bugs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ed to add 245 annot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py_from/to, kmalloc, kfree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Linux syscalls take user args (221 cal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ld have be done automagically (All begin with sys_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n both single file (unsound) and whole-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271EB-EBF9-4923-80A4-5A3F7180053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384720" cy="18226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f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(a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1676520"/>
            <a:ext cx="3352680" cy="1828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g(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50532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accept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350532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 accepts only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029200" y="5105520"/>
            <a:ext cx="3352680" cy="459720"/>
            <a:chOff x="5029200" y="5105520"/>
            <a:chExt cx="3352680" cy="459720"/>
          </a:xfrm>
        </p:grpSpPr>
        <p:sp>
          <p:nvSpPr>
            <p:cNvPr id="123" name=""/>
            <p:cNvSpPr/>
            <p:nvPr/>
          </p:nvSpPr>
          <p:spPr>
            <a:xfrm>
              <a:off x="5029200" y="5105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72200" y="5105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48120" y="5715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C6D9-2B23-42AD-83A6-6C93C9417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Detailed Resul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0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12 raw warnings, 275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que = combine msgs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al from sam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full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71 raw warnings, 264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single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1 raw warnings, 76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4.23, default config, whole kern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27 raw warnings, 53 unique,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ploitable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8239-8885-426C-94C7-5AA02233798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ite a few false posi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code base magnifies false positive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ral bugs persisted through a few kerne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bugs found in 2.4.23 that persisted to 2.5.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unsound tool, MECA, found 2 of 8 bu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Soundness matt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821A-987B-44DB-A65E-C0AC2334E4E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11 bugs in 2.4.23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 are in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place to look for bug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 errors found in “core” device dr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 bugs in PCMCIA subsyst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churn between kernel ver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2.4.20 and 2.4.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bugs fix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more intro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7408-7F5E-4278-BC9F-98F7402945C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qualifiers are specifications that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to large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 many different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works:  ccqual, jqual, Eclipse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6329-45DA-4CF3-8411-EB76856F4A1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la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ice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D8218-F494-4CCD-A6E4-AFC108B41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type qualifiers to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pproach works for other languages (like 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type systems define types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c0(t, …, t) | … | cn(t, …, 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c0…c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set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ype construct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 ::= int | bool |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int, bool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ritten infi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311E-2E5F-4155-B0CB-874DFED55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 for MinML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set of 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d to be chosen in advance and fix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{tainted, untainted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 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qualified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ju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Q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::= c0(qt, …, qt) | … | cn(qt, …, q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 a type qualifier to appear on each type constru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inM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29F6-7608-4DEC-ACD2-51434AF62E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stract Syntax of MinML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7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x | n | true | false | if e then e else e                  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 baseline="30000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| e e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| annot(Q, e) | check(Q, 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nnot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“fail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 not have qualifie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 only the top-level qual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fread (x:qt):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…annot(tainted,4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printf (x:qt):qt’ = check(untainted, x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FCB9-89D4-4952-8E26-9CCA4CAE41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ly-constructed values have “bare”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ion adds an outermost qual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390840" y="231156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n :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4200" y="2303640"/>
            <a:ext cx="2019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2880" y="30481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tru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1200" y="3040200"/>
            <a:ext cx="29764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81600" y="306900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alse : 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9560" y="3060720"/>
            <a:ext cx="29768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31960" y="486900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annot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44960" y="53514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7C16-0968-4541-827D-858E8B0FB6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ng Rules:  Qualifier Elimin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default, discard qualifier at destruc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heck(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s the qualifier allow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785960" y="46306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8960" y="511344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3302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G |-- e2 : qt   G |--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if e1 then e2 else e3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5880" y="280836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0C26-4D12-48E8-9CBF-2FDBCBCECB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example us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nyone expecting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be given a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ead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ub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be passed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.e.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tainted, annot(untainted, 42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type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dd that to our syste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6381-7A61-4B4C-BCE4-27FBC7328B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e with a partial order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reflex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=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nti-symmetr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, p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ransi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fiers introduce subtyp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our 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&lt;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BFE7-57EA-4A61-A136-B577E32D30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suring that software is secure is 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practice for software qu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sure program runs correctly on set of inpu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de audi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ince yourself and others that your code is corre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6E86-9F51-4CCF-BF6A-004C9C0ED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4171680"/>
            <a:ext cx="83059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er in picture = lower in partial or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ges show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612800" y="214488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7840" y="167976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5120" y="2830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7053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23911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0769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654360" y="2112840"/>
            <a:ext cx="365040" cy="3700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222800" y="281628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81400" y="2119320"/>
            <a:ext cx="36504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66960" y="2803680"/>
            <a:ext cx="365400" cy="3697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05720" y="24670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200" y="3489120"/>
            <a:ext cx="29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2-point lat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5287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iscrete parti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9F0B-F05F-499A-B527-02DE149921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mbining Partial Ord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form a new partial order, their cross-produ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x (Q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(Q,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=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Q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a, b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c, d) if a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c and b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97E6-1B27-48C5-89A0-4A60D3C9FC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4838400"/>
            <a:ext cx="830592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s sense with orthogonal sets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us to write type rules assuming only one set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447840" y="2079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" y="3230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7800" y="255096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19360" y="20448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37000" y="31957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49680" y="2516040"/>
            <a:ext cx="0" cy="70812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52760" y="27327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1760" y="172260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70360" y="275436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53280" y="27716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377028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non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2880" y="292608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70160" y="2414520"/>
            <a:ext cx="520920" cy="3002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0600" y="346248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0" y="3594240"/>
            <a:ext cx="52092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45360" y="2424240"/>
            <a:ext cx="520560" cy="2998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A118D-86D8-45BF-971E-9F0F12F725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tending the Qualifier Order to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077640"/>
            <a:ext cx="8305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one new rul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ubsump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typ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954000" y="1716120"/>
            <a:ext cx="32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0000" y="2198520"/>
            <a:ext cx="23000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746360"/>
            <a:ext cx="321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33960" y="2228760"/>
            <a:ext cx="230040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257800"/>
            <a:ext cx="83055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ns:  If any position requires an expression of 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it is safe to provide it a subtyp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82720" y="396252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95720" y="444492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17B3A-E225-4748-AB08-C7A03D42C2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59480" y="2056680"/>
            <a:ext cx="885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42 : int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    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annot(untainted, 42)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-- check(tainted, annot(untainted, 42)) : tainted 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200" y="3289320"/>
            <a:ext cx="8697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9240" y="2871720"/>
            <a:ext cx="86976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2409840"/>
            <a:ext cx="5607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0FD2-A95E-4165-A1D8-99996F7A03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bout function typ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8400" indent="-68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: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subtyp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a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used anywhere 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48320" indent="-568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can we replace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f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a call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g x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2932200" y="2373480"/>
            <a:ext cx="416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62160" y="2855880"/>
            <a:ext cx="395784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0B54-DB29-41AD-AE37-3850F2A554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expect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return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can only retur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m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return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E067-C6A5-4B43-A037-87DB9934C1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cing “f x” by “g x”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ument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supposed to accep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’s argument ty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we must accep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le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 A function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replaced with one that accep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9BE5-FC11-48BC-A8A9-2415122E1A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on Function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7440" y="3506400"/>
            <a:ext cx="8337600" cy="22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say tha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range (subtyping dir the s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ravaria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domain (subtyping dir fli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2630520" y="1895400"/>
            <a:ext cx="484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  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   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1760" y="2378160"/>
            <a:ext cx="465264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9B54-F02F-4F44-A379-296E7E7A3B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semantics tags values with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::= x | n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tru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false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 fun f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 : qt1) : qt2 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rules same as before, carrying the qualifiers along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1454040" y="49546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tru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1 else e2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12800" y="543240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01CC-ADE6-4D5B-BB50-88D875D297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rawbacks to Standard Approach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ens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licious advers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rying to exploit anything you miss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A133-E0D1-4084-91CA-4E4BAFBDE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ynamic Semantics with Qualifiers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new rule checks a qualifi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ion at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n continue only if the qualifier matches what is expec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 the program get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tu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lso need rule to evaluate under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1785960" y="2278080"/>
            <a:ext cx="647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Q, v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3680" y="2755800"/>
            <a:ext cx="27226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1BEBB-BCF4-4347-A1DD-5043372F56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Exer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if you can adapt proofs to this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ot too much work; really just need to show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esn’t get stuc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01DC-EB83-4F51-A1BF-091950B953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pdateable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MinML language is missing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ide-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’s no way to write to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that this doesn’t limit expressiv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de-effects sure are han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57B8-D849-4479-9F8A-6931E72B07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nguage Exten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372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ML-style 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e | !e | e := 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-- Allocate memory and set its content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emory lo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qualifier on pointer (not on conte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!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-- Return the contents of memory locat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 := 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- Updat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s contents to conta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gs to no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null pointers (memory always initializ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utable local variables (only pointers to heap allow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9E68-B8E6-48A3-AD3C-C2632C83DA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c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type language with referen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…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 In ML the ref appears on the r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90560" y="3195720"/>
            <a:ext cx="6150240" cy="1015920"/>
            <a:chOff x="1690560" y="3195720"/>
            <a:chExt cx="6150240" cy="1015920"/>
          </a:xfrm>
        </p:grpSpPr>
        <p:sp>
          <p:nvSpPr>
            <p:cNvPr id="235" name=""/>
            <p:cNvSpPr/>
            <p:nvPr/>
          </p:nvSpPr>
          <p:spPr>
            <a:xfrm>
              <a:off x="1690560" y="3195720"/>
              <a:ext cx="61502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03560" y="36781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0880" y="4794120"/>
            <a:ext cx="3443400" cy="1015920"/>
            <a:chOff x="380880" y="4794120"/>
            <a:chExt cx="3443400" cy="1015920"/>
          </a:xfrm>
        </p:grpSpPr>
        <p:sp>
          <p:nvSpPr>
            <p:cNvPr id="238" name=""/>
            <p:cNvSpPr/>
            <p:nvPr/>
          </p:nvSpPr>
          <p:spPr>
            <a:xfrm>
              <a:off x="380880" y="4794120"/>
              <a:ext cx="3443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!e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2760" y="526572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124160" y="4794120"/>
            <a:ext cx="4667400" cy="1015920"/>
            <a:chOff x="4124160" y="4794120"/>
            <a:chExt cx="4667400" cy="1015920"/>
          </a:xfrm>
        </p:grpSpPr>
        <p:sp>
          <p:nvSpPr>
            <p:cNvPr id="241" name=""/>
            <p:cNvSpPr/>
            <p:nvPr/>
          </p:nvSpPr>
          <p:spPr>
            <a:xfrm>
              <a:off x="4124160" y="4794120"/>
              <a:ext cx="4640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 ref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Comic Sans MS"/>
                </a:rPr>
                <a:t>Q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    G |--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1 := e2 : 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41800" y="5265720"/>
              <a:ext cx="4649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AD41-40D2-4558-8C83-621D98C73C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rational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a level of indirection to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 locations to set of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 ::= … | lo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t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mapping from locations to val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reduction relat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lt;S, e&gt;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S’, e’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initial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expressio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valuates 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sulting in new sto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EFA2-7977-42F9-8FE3-C0A2E738E4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typing Refere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ule for subtyping references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x = ref 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 y = x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:= 3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eck(untainted, !x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2995560" y="2509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28960" y="2992320"/>
            <a:ext cx="40813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E03D-515A-4033-BFF5-F1E7830FD5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’ve Got Aliasing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have multiple names for the same memory lo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y have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 c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o memory at differe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444852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44852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5105520"/>
            <a:ext cx="609480" cy="533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02080" y="4737240"/>
            <a:ext cx="979200" cy="368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495320" y="4809960"/>
            <a:ext cx="771480" cy="295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059600">
            <a:off x="2757240" y="4529520"/>
            <a:ext cx="8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0434800">
            <a:off x="4376520" y="45990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3BAB-0F34-4E00-84B3-91E139A720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1:  Java’s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ses this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[]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 subclass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[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nter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o[] a = new Foo[5]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bject[] b = a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[0] = new Object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forbidden at run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[0].foo(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/ …so this can’t hap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E06B-3CD8-42D3-88AD-BB1F72B4A8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ution #2:  Purely Static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 from rule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reference is like an object with two metho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et    : uni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t    : 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un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ce th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ccurs both co- and contravaria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ight ru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490392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qt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00" y="5386320"/>
            <a:ext cx="4081680" cy="1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4905360"/>
            <a:ext cx="394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’    qt =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9680" y="5388120"/>
            <a:ext cx="2754360" cy="14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51520" y="512640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E24F-E5C8-40E9-88B4-69F1138362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for Secur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more can we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ild tools that analyze source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 about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possible ru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mited but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per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iminate categories of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 people concentrate on the deep reas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programming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oid mistakes in the first pl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urage programmers to think about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DE64-02C0-45B8-B540-9F9BA338ED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to 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servation:  Evaluation preserves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:  Well-typed programs don’t get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prove it with updateable referenc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nt:  You’ll need a stronger induction hypo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’ll need to reason about types in the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so that if you retrieve a value out of the store, you know what type it h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E52B-59F6-4CCF-8979-8F1151ECD7E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our motivating examp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ave a legacy C program that ha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 inform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 C-style types in most places unless the programmer chooses to add extra anno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dded signatur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the standard library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we checked whether there were any contradi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requires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ype qualifier in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FF5E-B9BF-40F4-9245-A6AB7BCC6CB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 Inference Statem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a program wi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lifier an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qualifier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no other information abou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there exist a valid typing of the progra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ant an algorithm to 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B3A5-89D6-42D4-98E1-A23409C220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Qualifier Inference Algorith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Apply syntax-directed type inference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means 1 rule per syntactic constr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ax-directed rules will generate fresh unknowns and constraints among the unknow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Solve the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ther compute 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fail, if there is no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has a type err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ies the program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ave a security vulner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A116-C354-4D70-9311-2562800521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Problem:  Subsumption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re allowed to apply this rule at any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s it hard to develop a deterministic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checking is no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yntax driv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unately, we don’t have that many cho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e need to dec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we apply the “regular” rule f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do we apply subsumption (how many times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1773360" y="1619280"/>
            <a:ext cx="614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6000" y="2101680"/>
            <a:ext cx="3264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3577-E69A-43E3-B8FF-617EA86413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: Transitivity of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080" y="3271680"/>
            <a:ext cx="7064280" cy="1572120"/>
            <a:chOff x="46080" y="3271680"/>
            <a:chExt cx="7064280" cy="1572120"/>
          </a:xfrm>
        </p:grpSpPr>
        <p:sp>
          <p:nvSpPr>
            <p:cNvPr id="282" name=""/>
            <p:cNvSpPr/>
            <p:nvPr/>
          </p:nvSpPr>
          <p:spPr>
            <a:xfrm>
              <a:off x="46080" y="327168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            qt’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6000" y="4324320"/>
              <a:ext cx="3264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44600" y="3790800"/>
              <a:ext cx="27939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-662040" y="4824360"/>
            <a:ext cx="7064280" cy="1572120"/>
            <a:chOff x="-662040" y="4824360"/>
            <a:chExt cx="7064280" cy="1572120"/>
          </a:xfrm>
        </p:grpSpPr>
        <p:sp>
          <p:nvSpPr>
            <p:cNvPr id="286" name=""/>
            <p:cNvSpPr/>
            <p:nvPr/>
          </p:nvSpPr>
          <p:spPr>
            <a:xfrm>
              <a:off x="-662040" y="4824360"/>
              <a:ext cx="7064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            qt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                            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 |-- e : qt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05160" y="5889600"/>
              <a:ext cx="3263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806400" y="3849840"/>
            <a:ext cx="998640" cy="2238120"/>
          </a:xfrm>
          <a:custGeom>
            <a:avLst/>
            <a:gdLst>
              <a:gd name="textAreaLeft" fmla="*/ 133560 w 998640"/>
              <a:gd name="textAreaRight" fmla="*/ 865080 w 998640"/>
              <a:gd name="textAreaTop" fmla="*/ 455040 h 2238120"/>
              <a:gd name="textAreaBottom" fmla="*/ 1559160 h 223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86" stAng="-5400000" swAng="-5400000"/>
                <a:lnTo>
                  <a:pt x="0" y="10655"/>
                </a:lnTo>
                <a:arcTo wR="21600" hR="8786" stAng="10800000" swAng="-2940081"/>
                <a:lnTo>
                  <a:pt x="14400" y="21098"/>
                </a:lnTo>
                <a:lnTo>
                  <a:pt x="21600" y="18506"/>
                </a:lnTo>
                <a:lnTo>
                  <a:pt x="14400" y="14909"/>
                </a:lnTo>
                <a:lnTo>
                  <a:pt x="14400" y="17069"/>
                </a:lnTo>
                <a:arcTo wR="21600" hR="8786" stAng="7859919" swAng="2790597"/>
                <a:lnTo>
                  <a:pt x="123" y="9720"/>
                </a:lnTo>
                <a:arcTo wR="21600" hR="8786" stAng="-10650515" swAng="5250515"/>
                <a:close/>
              </a:path>
              <a:path fill="darkenLess" w="21600" h="21600">
                <a:moveTo>
                  <a:pt x="21600" y="0"/>
                </a:moveTo>
                <a:arcTo wR="21600" hR="8786" stAng="-5400000" swAng="-5400000"/>
                <a:lnTo>
                  <a:pt x="0" y="8786"/>
                </a:lnTo>
                <a:arcTo wR="21600" hR="8786" stAng="10800000" swAng="-149485"/>
                <a:lnTo>
                  <a:pt x="123" y="9720"/>
                </a:lnTo>
                <a:arcTo wR="21600" hR="8786" stAng="-10650515" swAng="5250515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8AC9-46E7-4FED-9BD0-E09F244C53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064240" y="4595760"/>
            <a:ext cx="55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……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1 &lt;= q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conclusion          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qt3 &lt;=q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rdinary prem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9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mma:  Multiple sequential uses of subsumption can be collapsed into a single u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quence: All typing derivations can be structured as exactly one subsumption rule followed by an ordinary rule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38320" y="500364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38320" y="5358960"/>
            <a:ext cx="308304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92480" y="5754240"/>
            <a:ext cx="5467320" cy="111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3613320" y="6095880"/>
            <a:ext cx="244944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89960" y="554184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97240" y="585936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4680" y="513540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ord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38440" y="476712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BE6A-7681-4429-9A62-BB73BBA45FA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: Get rid of separate subsumption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orporate it directly into the other ru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536400" y="398124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   G |-- e2 : q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  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67560" y="4933800"/>
            <a:ext cx="2438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208240" y="5432040"/>
            <a:ext cx="5441760" cy="255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852560" y="4902120"/>
            <a:ext cx="3328920" cy="129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90960" y="51865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197920" y="471636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35000" y="4678200"/>
            <a:ext cx="8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(su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A986-871C-424E-B51D-A2512C0D7AE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 &amp; breakdown function subtyping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36400" y="342252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  G |--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   qt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9520" y="4343400"/>
            <a:ext cx="353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EDFD2-2C02-429A-A086-70F2CD1454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Fol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ubsumption into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cc0099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qt’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FC85-D1D1-47D0-B1D8-1CCC75240C2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ls Need Specifi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460440" y="1770120"/>
            <a:ext cx="8226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dd specifications to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way th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will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ght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s to larg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ves many different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9B11C-566B-4247-B340-5AF8B94EEB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We do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so remove that constrain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            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5107-8B43-412D-904F-EF8A9CAE0D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Apply transitivity of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ve intermediat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AF55-4A76-4AA3-B771-9DB9ECA503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We’re going to apply subsumption afterward, so no need to weak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’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36400" y="3422160"/>
            <a:ext cx="825192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: qt’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’       G |-- e2 : qt   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1 e2 :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49520" y="4898880"/>
            <a:ext cx="62928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CABE-4119-44C2-90F2-A06DBF45078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847880" y="1679400"/>
            <a:ext cx="61498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   Q’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30640" y="2728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55960" y="2152800"/>
            <a:ext cx="4201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4780080"/>
            <a:ext cx="6149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e : Q’ s  Q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check(Q, e) : Q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5257800"/>
            <a:ext cx="32637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81600" y="3497400"/>
            <a:ext cx="719280" cy="874440"/>
          </a:xfrm>
          <a:prstGeom prst="downArrow">
            <a:avLst>
              <a:gd name="adj1" fmla="val 50000"/>
              <a:gd name="adj2" fmla="val 30393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0513-F6E8-4B2E-A501-9E84F01168E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tting Rid of Subsumption (cont’d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pply the same reasoning to the other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left with a purely syntax-directed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Now we’re half-way to an algorith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9906-FC81-4B65-B877-C411308B310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Problem:  Assump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take a look at the rule for func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’s a problem with applying this ru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assuming that we’re given the argumen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 result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n the problem statement, we said we only have annotations and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566720" y="2371680"/>
            <a:ext cx="689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qt1):qt2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98640" y="2854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4603-8D8F-4112-A4C8-7F01BF97437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knowns in Qualifier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8868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ve go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egul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ype annotations for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e could even get away without these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pick the qualifiers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generate fresh, unknow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qualifier variab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then solve for th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046160" y="3244320"/>
            <a:ext cx="68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?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?, x:?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8080" y="3727440"/>
            <a:ext cx="62816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71DA-3478-4E0B-B56E-41F0D8EF688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ding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add qualifier variabl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… to our set of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Letters closer t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stand for consta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resh : 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int) 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bool) =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) =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resh(t1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2) = fresh(t1)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resh(t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fre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5FFF-93C3-4AA0-8720-576C36554D6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ule for Func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420720"/>
            <a:ext cx="830592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452600" y="1593720"/>
            <a:ext cx="68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qt1 = fresh(t1)   qt2 = fresh(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f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, x:qt1 |-- e : qt2’    qt2’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|-- fun 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x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: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 : qt1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2480" y="2749680"/>
            <a:ext cx="6282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0DB1-9A5D-42F3-90FD-BC9E5E82B7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Picture of Fresh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120" y="2209680"/>
            <a:ext cx="3429000" cy="1752840"/>
            <a:chOff x="762120" y="2209680"/>
            <a:chExt cx="3429000" cy="1752840"/>
          </a:xfrm>
        </p:grpSpPr>
        <p:sp>
          <p:nvSpPr>
            <p:cNvPr id="355" name=""/>
            <p:cNvSpPr/>
            <p:nvPr/>
          </p:nvSpPr>
          <p:spPr>
            <a:xfrm>
              <a:off x="762120" y="2209680"/>
              <a:ext cx="3429000" cy="17528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14600" y="23623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41160" y="327672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9520" y="281952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295280" y="2362320"/>
            <a:ext cx="1284120" cy="1374120"/>
            <a:chOff x="1295280" y="2362320"/>
            <a:chExt cx="1284120" cy="1374120"/>
          </a:xfrm>
        </p:grpSpPr>
        <p:sp>
          <p:nvSpPr>
            <p:cNvPr id="360" name=""/>
            <p:cNvSpPr/>
            <p:nvPr/>
          </p:nvSpPr>
          <p:spPr>
            <a:xfrm>
              <a:off x="129528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06800" y="2362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410080" y="2198520"/>
            <a:ext cx="3048120" cy="2743200"/>
            <a:chOff x="5410080" y="2198520"/>
            <a:chExt cx="3048120" cy="2743200"/>
          </a:xfrm>
        </p:grpSpPr>
        <p:sp>
          <p:nvSpPr>
            <p:cNvPr id="363" name=""/>
            <p:cNvSpPr/>
            <p:nvPr/>
          </p:nvSpPr>
          <p:spPr>
            <a:xfrm>
              <a:off x="5410080" y="2198520"/>
              <a:ext cx="3048120" cy="27432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2351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38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38880" y="4038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95880" y="31892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402240" y="28065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0836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0120" y="36576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325200" y="238752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94840" y="322596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71320" y="401328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78640" y="321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tr(            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ptr(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16002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DA4B-F520-49A8-B4AD-DF2C43F4A9B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Qua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tension of C with lightweight specs in the form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yp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ed on serious applications (Linux) to find security vulnerabilities and simple coding err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Cqua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sourceforge.net/projects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cc99"/>
                </a:solidFill>
                <a:latin typeface="Comic Sans MS"/>
              </a:rPr>
              <a:t>http://www.cs.umd.edu/~jfoster/cqual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9406-8C27-4E66-AD50-A11862C580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re Are W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90160" y="1599840"/>
            <a:ext cx="872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ntax-directed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expression, clear which rule to app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ant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 qualif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 to find a valid assignment to constant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restrict our use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will limit solutions for qualifier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9418D-E8BF-49C8-BE12-2BD63C778A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’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::=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bool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| qt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 |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by simplif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read solution off of simplified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ll present algorithm as a rewrite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==&gt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means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write to (simpler) constrai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10B0-C2E6-42BD-A3EC-DEB2105E29B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B1CB-F917-4004-A4B9-76C53D057BA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DD81-1EF3-4278-B86B-2893371CB03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15133-6B36-450E-A1FE-3D5E1C6CE0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14CE-3E59-40A6-8DCC-81C642C0FFA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aints:  Step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int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bool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} ==&gt; S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’ </a:t>
            </a:r>
            <a:r>
              <a:rPr b="1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’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’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ref</a:t>
            </a:r>
            <a:r>
              <a:rPr b="0" lang="en-US" sz="2800" spc="-1" strike="noStrike" baseline="30000">
                <a:solidFill>
                  <a:srgbClr val="b2b2b2"/>
                </a:solidFill>
                <a:latin typeface="Comic Sans MS"/>
              </a:rPr>
              <a:t>Q’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==&gt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S + { qt1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2 } + { qt2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t1 } + { Q </a:t>
            </a:r>
            <a:r>
              <a:rPr b="0" lang="en-US" sz="2800" spc="-1" strike="noStrike">
                <a:solidFill>
                  <a:srgbClr val="b2b2b2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b2b2b2"/>
                </a:solidFill>
                <a:latin typeface="Comic Sans MS"/>
              </a:rPr>
              <a:t> Q’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 + { mismatched constructors } ==&gt;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’t happen if program correct w.r.t. st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2746-7BDA-44CE-BE84-DE59F0682D4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lving Constriants:  Step 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type syste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tructural subtyp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the same sha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’re done with step 1, we’re left with constraints of the for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Q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either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be an unkn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omic subtyping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’s because qualifiers don’t have any “structu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8DA5-ABA4-4BC6-B1AD-4AFEF2A990D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762120" y="2286000"/>
            <a:ext cx="6705360" cy="3124080"/>
            <a:chOff x="762120" y="2286000"/>
            <a:chExt cx="6705360" cy="3124080"/>
          </a:xfrm>
        </p:grpSpPr>
        <p:sp>
          <p:nvSpPr>
            <p:cNvPr id="396" name=""/>
            <p:cNvSpPr/>
            <p:nvPr/>
          </p:nvSpPr>
          <p:spPr>
            <a:xfrm>
              <a:off x="990720" y="2286000"/>
              <a:ext cx="2361960" cy="3124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400" y="2819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90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666880" y="44956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7920" y="36576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754280" y="32749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3276720"/>
              <a:ext cx="45720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18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2120" y="22860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112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724280" y="36576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31480" y="45720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29200" y="4114800"/>
              <a:ext cx="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91120" y="22860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95880" y="2286000"/>
              <a:ext cx="1371600" cy="3048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36600" y="36576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200" y="22860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 Gener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tr(int) f(x : int) = { ... }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:= f(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371600" y="2590920"/>
            <a:ext cx="7620120" cy="3467160"/>
            <a:chOff x="1371600" y="2590920"/>
            <a:chExt cx="7620120" cy="3467160"/>
          </a:xfrm>
        </p:grpSpPr>
        <p:sp>
          <p:nvSpPr>
            <p:cNvPr id="424" name=""/>
            <p:cNvSpPr/>
            <p:nvPr/>
          </p:nvSpPr>
          <p:spPr>
            <a:xfrm>
              <a:off x="7848720" y="259092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4114800"/>
              <a:ext cx="5029200" cy="1943280"/>
            </a:xfrm>
            <a:custGeom>
              <a:avLst/>
              <a:gdLst/>
              <a:ahLst/>
              <a:rect l="l" t="t" r="r" b="b"/>
              <a:pathLst>
                <a:path w="3168" h="1224">
                  <a:moveTo>
                    <a:pt x="3168" y="0"/>
                  </a:moveTo>
                  <a:cubicBezTo>
                    <a:pt x="2840" y="444"/>
                    <a:pt x="2512" y="888"/>
                    <a:pt x="2064" y="1056"/>
                  </a:cubicBezTo>
                  <a:cubicBezTo>
                    <a:pt x="1616" y="1224"/>
                    <a:pt x="824" y="1176"/>
                    <a:pt x="480" y="1008"/>
                  </a:cubicBezTo>
                  <a:cubicBezTo>
                    <a:pt x="136" y="840"/>
                    <a:pt x="68" y="444"/>
                    <a:pt x="0" y="48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2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30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1AD3-5941-4EBA-B863-342FF8FA6BF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raints as Graph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3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4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514600" y="3809880"/>
            <a:ext cx="6477120" cy="1866960"/>
            <a:chOff x="2514600" y="3809880"/>
            <a:chExt cx="6477120" cy="1866960"/>
          </a:xfrm>
        </p:grpSpPr>
        <p:sp>
          <p:nvSpPr>
            <p:cNvPr id="448" name=""/>
            <p:cNvSpPr/>
            <p:nvPr/>
          </p:nvSpPr>
          <p:spPr>
            <a:xfrm>
              <a:off x="2590920" y="4876920"/>
              <a:ext cx="1828800" cy="482400"/>
            </a:xfrm>
            <a:custGeom>
              <a:avLst/>
              <a:gdLst/>
              <a:ahLst/>
              <a:rect l="l" t="t" r="r" b="b"/>
              <a:pathLst>
                <a:path w="1152" h="304">
                  <a:moveTo>
                    <a:pt x="0" y="0"/>
                  </a:moveTo>
                  <a:cubicBezTo>
                    <a:pt x="216" y="136"/>
                    <a:pt x="432" y="272"/>
                    <a:pt x="624" y="288"/>
                  </a:cubicBezTo>
                  <a:cubicBezTo>
                    <a:pt x="816" y="304"/>
                    <a:pt x="984" y="200"/>
                    <a:pt x="1152" y="9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14600" y="4952880"/>
              <a:ext cx="1981080" cy="723960"/>
            </a:xfrm>
            <a:custGeom>
              <a:avLst/>
              <a:gdLst/>
              <a:ahLst/>
              <a:rect l="l" t="t" r="r" b="b"/>
              <a:pathLst>
                <a:path w="1248" h="456">
                  <a:moveTo>
                    <a:pt x="1248" y="144"/>
                  </a:moveTo>
                  <a:cubicBezTo>
                    <a:pt x="1064" y="300"/>
                    <a:pt x="880" y="456"/>
                    <a:pt x="672" y="432"/>
                  </a:cubicBezTo>
                  <a:cubicBezTo>
                    <a:pt x="464" y="408"/>
                    <a:pt x="232" y="204"/>
                    <a:pt x="0" y="0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48720" y="38098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=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47920" y="1981080"/>
            <a:ext cx="7086600" cy="3939120"/>
            <a:chOff x="1447920" y="1981080"/>
            <a:chExt cx="7086600" cy="3939120"/>
          </a:xfrm>
        </p:grpSpPr>
        <p:sp>
          <p:nvSpPr>
            <p:cNvPr id="452" name=""/>
            <p:cNvSpPr/>
            <p:nvPr/>
          </p:nvSpPr>
          <p:spPr>
            <a:xfrm>
              <a:off x="1447920" y="4038480"/>
              <a:ext cx="761760" cy="533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514600" y="1981080"/>
              <a:ext cx="6019920" cy="3939120"/>
              <a:chOff x="2514600" y="1981080"/>
              <a:chExt cx="6019920" cy="3939120"/>
            </a:xfrm>
          </p:grpSpPr>
          <p:sp>
            <p:nvSpPr>
              <p:cNvPr id="454" name=""/>
              <p:cNvSpPr/>
              <p:nvPr/>
            </p:nvSpPr>
            <p:spPr>
              <a:xfrm>
                <a:off x="6095880" y="541008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172200" y="19810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00"/>
                    </a:solidFill>
                    <a:latin typeface="Comic Sans MS"/>
                  </a:rPr>
                  <a:t>un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781680" y="464832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15000" y="2971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895480" y="4114800"/>
                <a:ext cx="762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 baseline="-25000">
                    <a:solidFill>
                      <a:srgbClr val="cc0099"/>
                    </a:solidFill>
                    <a:latin typeface="Comic Sans MS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 flipV="1">
                <a:off x="6552720" y="4114800"/>
                <a:ext cx="685800" cy="53352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324480" y="4186080"/>
                <a:ext cx="155520" cy="12988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4724280" y="3429000"/>
                <a:ext cx="1143000" cy="129528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90920" y="4038480"/>
                <a:ext cx="380880" cy="22860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514600" y="41911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1152" y="432"/>
                    </a:moveTo>
                    <a:cubicBezTo>
                      <a:pt x="816" y="420"/>
                      <a:pt x="480" y="408"/>
                      <a:pt x="288" y="336"/>
                    </a:cubicBezTo>
                    <a:cubicBezTo>
                      <a:pt x="96" y="264"/>
                      <a:pt x="48" y="13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cc00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229600" y="4114800"/>
                <a:ext cx="304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•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095880" y="2362320"/>
                <a:ext cx="762120" cy="761760"/>
              </a:xfrm>
              <a:prstGeom prst="line">
                <a:avLst/>
              </a:prstGeom>
              <a:ln w="381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3930-A352-4039-BBA5-9D65F42674D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1840" y="4637160"/>
            <a:ext cx="3656160" cy="1004040"/>
            <a:chOff x="1131840" y="4637160"/>
            <a:chExt cx="3656160" cy="1004040"/>
          </a:xfrm>
        </p:grpSpPr>
        <p:sp>
          <p:nvSpPr>
            <p:cNvPr id="95" name=""/>
            <p:cNvSpPr/>
            <p:nvPr/>
          </p:nvSpPr>
          <p:spPr>
            <a:xfrm>
              <a:off x="1131840" y="4637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             ch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9600" y="5181480"/>
              <a:ext cx="267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tr(char)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 standard type systems (C, Java, M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already us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ers understand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programmers to write down a little more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046240" y="410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31840" y="4103640"/>
            <a:ext cx="6629400" cy="459720"/>
            <a:chOff x="1131840" y="4103640"/>
            <a:chExt cx="6629400" cy="459720"/>
          </a:xfrm>
        </p:grpSpPr>
        <p:sp>
          <p:nvSpPr>
            <p:cNvPr id="101" name=""/>
            <p:cNvSpPr/>
            <p:nvPr/>
          </p:nvSpPr>
          <p:spPr>
            <a:xfrm>
              <a:off x="1131840" y="41036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99"/>
                  </a:solidFill>
                  <a:latin typeface="Comic Sans MS"/>
                </a:rPr>
                <a:t>co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3120" y="410364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147680" y="4637160"/>
            <a:ext cx="7844040" cy="1050120"/>
            <a:chOff x="1147680" y="4637160"/>
            <a:chExt cx="7844040" cy="1050120"/>
          </a:xfrm>
        </p:grpSpPr>
        <p:sp>
          <p:nvSpPr>
            <p:cNvPr id="104" name=""/>
            <p:cNvSpPr/>
            <p:nvPr/>
          </p:nvSpPr>
          <p:spPr>
            <a:xfrm>
              <a:off x="4713120" y="4637160"/>
              <a:ext cx="427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mat-string vulnerab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147680" y="4637160"/>
              <a:ext cx="7596360" cy="1050120"/>
              <a:chOff x="1147680" y="4637160"/>
              <a:chExt cx="7596360" cy="105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1665360" y="463716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99"/>
                    </a:solidFill>
                    <a:latin typeface="Comic Sans MS"/>
                  </a:rPr>
                  <a:t>taint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1147680" y="5197320"/>
                <a:ext cx="7596360" cy="489960"/>
                <a:chOff x="1147680" y="5197320"/>
                <a:chExt cx="7596360" cy="489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147680" y="5197320"/>
                  <a:ext cx="297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99"/>
                      </a:solidFill>
                      <a:latin typeface="Comic Sans MS"/>
                    </a:rPr>
                    <a:t>kerne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05200" y="5227560"/>
                  <a:ext cx="4038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User/kernel vulnerabiliti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0B4D9-F8B6-4EC8-A368-5AA7F80B53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Bad New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ing atomic subtyping constraints is NP-hard in the general c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comes up with some really weird partial ord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40752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98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275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89600" y="4761000"/>
            <a:ext cx="0" cy="70776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24280" y="42958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41920" y="54468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59360" y="474516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056120" y="4753080"/>
            <a:ext cx="914400" cy="685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EA601-A82A-4E77-A068-8F727440961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t That’s O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partial orders don’t seem to come up in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very natu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qualifier partial orders have one of two desirable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either always hav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east upp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reatest lower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any pair of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6DF3-E1F3-4B2B-A355-F8FC24154CB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ubs and Glb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= Least upper bou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 lub q =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q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lb = Greatest lower bound, defined du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b and glb may not ex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6BAF2-7CA8-4934-92DD-F0764930EEE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tti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att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partial order such that lubs and glbs always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lattice, it turns out we can use a really simple algorithm to check satisfiability of constraints ov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394D-5B81-4966-A961-891DDD7E9A9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485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495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F716-B279-4F83-8859-A556BE94DED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16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26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n inconsistent path through the grap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7E5D-CBC2-4297-A547-C37DDD141E1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via Graph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054800" y="2819520"/>
            <a:ext cx="5599080" cy="2262600"/>
            <a:chOff x="1054800" y="2819520"/>
            <a:chExt cx="5599080" cy="2262600"/>
          </a:xfrm>
        </p:grpSpPr>
        <p:sp>
          <p:nvSpPr>
            <p:cNvPr id="547" name=""/>
            <p:cNvSpPr/>
            <p:nvPr/>
          </p:nvSpPr>
          <p:spPr>
            <a:xfrm>
              <a:off x="1685160" y="281952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5480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183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09680" y="441972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7572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75720" y="45720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80840" y="3657600"/>
              <a:ext cx="47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784872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4114800"/>
            <a:ext cx="5029200" cy="1943280"/>
          </a:xfrm>
          <a:custGeom>
            <a:avLst/>
            <a:gdLst/>
            <a:ahLst/>
            <a:rect l="l" t="t" r="r" b="b"/>
            <a:pathLst>
              <a:path w="3168" h="1224">
                <a:moveTo>
                  <a:pt x="3168" y="0"/>
                </a:moveTo>
                <a:cubicBezTo>
                  <a:pt x="2840" y="444"/>
                  <a:pt x="2512" y="888"/>
                  <a:pt x="2064" y="1056"/>
                </a:cubicBezTo>
                <a:cubicBezTo>
                  <a:pt x="1616" y="1224"/>
                  <a:pt x="824" y="1176"/>
                  <a:pt x="480" y="1008"/>
                </a:cubicBezTo>
                <a:cubicBezTo>
                  <a:pt x="136" y="840"/>
                  <a:pt x="68" y="444"/>
                  <a:pt x="0" y="48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590920" y="3200400"/>
            <a:ext cx="6400800" cy="609480"/>
            <a:chOff x="2590920" y="3200400"/>
            <a:chExt cx="6400800" cy="609480"/>
          </a:xfrm>
        </p:grpSpPr>
        <p:sp>
          <p:nvSpPr>
            <p:cNvPr id="557" name=""/>
            <p:cNvSpPr/>
            <p:nvPr/>
          </p:nvSpPr>
          <p:spPr>
            <a:xfrm>
              <a:off x="2590920" y="3276720"/>
              <a:ext cx="1828800" cy="533160"/>
            </a:xfrm>
            <a:custGeom>
              <a:avLst/>
              <a:gdLst/>
              <a:ahLst/>
              <a:rect l="l" t="t" r="r" b="b"/>
              <a:pathLst>
                <a:path w="1152" h="336">
                  <a:moveTo>
                    <a:pt x="0" y="336"/>
                  </a:moveTo>
                  <a:cubicBezTo>
                    <a:pt x="192" y="168"/>
                    <a:pt x="384" y="0"/>
                    <a:pt x="576" y="0"/>
                  </a:cubicBezTo>
                  <a:cubicBezTo>
                    <a:pt x="768" y="0"/>
                    <a:pt x="960" y="168"/>
                    <a:pt x="1152" y="336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48720" y="320040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2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 baseline="-25000">
                  <a:solidFill>
                    <a:srgbClr val="cc0099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2590920" y="4876920"/>
            <a:ext cx="1828800" cy="482400"/>
          </a:xfrm>
          <a:custGeom>
            <a:avLst/>
            <a:gdLst/>
            <a:ahLst/>
            <a:rect l="l" t="t" r="r" b="b"/>
            <a:pathLst>
              <a:path w="1152" h="304">
                <a:moveTo>
                  <a:pt x="0" y="0"/>
                </a:moveTo>
                <a:cubicBezTo>
                  <a:pt x="216" y="136"/>
                  <a:pt x="432" y="272"/>
                  <a:pt x="624" y="288"/>
                </a:cubicBezTo>
                <a:cubicBezTo>
                  <a:pt x="816" y="304"/>
                  <a:pt x="984" y="200"/>
                  <a:pt x="1152" y="9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514600" y="4952880"/>
            <a:ext cx="1981080" cy="723960"/>
          </a:xfrm>
          <a:custGeom>
            <a:avLst/>
            <a:gdLst/>
            <a:ahLst/>
            <a:rect l="l" t="t" r="r" b="b"/>
            <a:pathLst>
              <a:path w="1248" h="456">
                <a:moveTo>
                  <a:pt x="1248" y="144"/>
                </a:moveTo>
                <a:cubicBezTo>
                  <a:pt x="1064" y="300"/>
                  <a:pt x="880" y="456"/>
                  <a:pt x="672" y="432"/>
                </a:cubicBezTo>
                <a:cubicBezTo>
                  <a:pt x="464" y="408"/>
                  <a:pt x="232" y="204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848720" y="38098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4038480"/>
            <a:ext cx="76176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5880" y="5410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8168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6552720" y="4114800"/>
            <a:ext cx="685800" cy="5335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6324480" y="4186080"/>
            <a:ext cx="155520" cy="12988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724280" y="3429000"/>
            <a:ext cx="1143000" cy="12952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4038480"/>
            <a:ext cx="380880" cy="2286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14600" y="419112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432"/>
                </a:moveTo>
                <a:cubicBezTo>
                  <a:pt x="816" y="420"/>
                  <a:pt x="480" y="408"/>
                  <a:pt x="288" y="336"/>
                </a:cubicBezTo>
                <a:cubicBezTo>
                  <a:pt x="96" y="264"/>
                  <a:pt x="48" y="132"/>
                  <a:pt x="0" y="0"/>
                </a:cubicBezTo>
              </a:path>
            </a:pathLst>
          </a:custGeom>
          <a:noFill/>
          <a:ln w="38160">
            <a:solidFill>
              <a:srgbClr val="cc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229600" y="4114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6095880" y="2362320"/>
            <a:ext cx="762120" cy="7617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378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cc0099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cc0099"/>
                </a:solidFill>
                <a:latin typeface="Comic Sans MS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D5E3D-8D44-4967-A52B-8B59AAD2871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tisfiability in Linear Ti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itial program of siz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 set of qualifi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untain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ursive abstract syntax tree wal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 reachability take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s for semi-lattices, discrete p.o.,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DE0E-D58E-45C2-8500-4B77C092319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typing gives us a kind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olymorph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represents multiple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subtyping system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resent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all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s sub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we saw, this flexibility helps make the analysis more pre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it isn’t always enough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77D2-9B0F-42A3-ADBB-C2EA61D4869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ations of Subtype Polymorphis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g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’s look at the identity fun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qualified types can we infer fo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4A06-9DC7-42B5-A46B-80E89F0732C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functions in C use format str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!"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Hello, %s!", 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Hello,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am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ead of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"%s", name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 no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742B-431C-4439-B9B4-06F8C3B510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for i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gnoring int, qual on i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untainted data passed in becomes tain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e but can’t pass in tainted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too usefu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un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03FE-9BBA-4CBD-835F-FA91CAD1F13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 Calls and Context-Sensitiv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65040" y="4890600"/>
            <a:ext cx="81345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calls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du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fl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onomorph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text-insensi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17720" y="2667240"/>
            <a:ext cx="1765800" cy="1339200"/>
            <a:chOff x="5517720" y="2667240"/>
            <a:chExt cx="1765800" cy="1339200"/>
          </a:xfrm>
        </p:grpSpPr>
        <p:sp>
          <p:nvSpPr>
            <p:cNvPr id="587" name=""/>
            <p:cNvSpPr/>
            <p:nvPr/>
          </p:nvSpPr>
          <p:spPr>
            <a:xfrm>
              <a:off x="6072120" y="266724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7720" y="3546720"/>
              <a:ext cx="17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strdup_r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25920" y="3174840"/>
              <a:ext cx="0" cy="4510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566960" y="1609920"/>
            <a:ext cx="1700640" cy="1157040"/>
            <a:chOff x="4566960" y="1609920"/>
            <a:chExt cx="1700640" cy="1157040"/>
          </a:xfrm>
        </p:grpSpPr>
        <p:sp>
          <p:nvSpPr>
            <p:cNvPr id="591" name=""/>
            <p:cNvSpPr/>
            <p:nvPr/>
          </p:nvSpPr>
          <p:spPr>
            <a:xfrm>
              <a:off x="4566960" y="1609920"/>
              <a:ext cx="129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78520" y="2035080"/>
              <a:ext cx="1189080" cy="73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223960" y="4056120"/>
            <a:ext cx="1106640" cy="840960"/>
            <a:chOff x="5223960" y="4056120"/>
            <a:chExt cx="1106640" cy="840960"/>
          </a:xfrm>
        </p:grpSpPr>
        <p:sp>
          <p:nvSpPr>
            <p:cNvPr id="594" name=""/>
            <p:cNvSpPr/>
            <p:nvPr/>
          </p:nvSpPr>
          <p:spPr>
            <a:xfrm>
              <a:off x="5223960" y="443736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555444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6329520" y="3176640"/>
            <a:ext cx="0" cy="45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6334200" y="1609920"/>
            <a:ext cx="1695600" cy="1158480"/>
            <a:chOff x="6334200" y="1609920"/>
            <a:chExt cx="1695600" cy="1158480"/>
          </a:xfrm>
        </p:grpSpPr>
        <p:sp>
          <p:nvSpPr>
            <p:cNvPr id="598" name=""/>
            <p:cNvSpPr/>
            <p:nvPr/>
          </p:nvSpPr>
          <p:spPr>
            <a:xfrm>
              <a:off x="6334200" y="1609920"/>
              <a:ext cx="169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Comic Sans MS"/>
                </a:rPr>
                <a:t>untain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465240" y="2036880"/>
              <a:ext cx="1189080" cy="731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459480" y="4056120"/>
            <a:ext cx="1100160" cy="840960"/>
            <a:chOff x="6459480" y="4056120"/>
            <a:chExt cx="1100160" cy="840960"/>
          </a:xfrm>
        </p:grpSpPr>
        <p:sp>
          <p:nvSpPr>
            <p:cNvPr id="601" name=""/>
            <p:cNvSpPr/>
            <p:nvPr/>
          </p:nvSpPr>
          <p:spPr>
            <a:xfrm>
              <a:off x="7185240" y="4437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9480" y="4056120"/>
              <a:ext cx="776160" cy="53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77920" y="2254680"/>
            <a:ext cx="475596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strdup(char *st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/ return a copy of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a = strdup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har *b = strdup(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untainted_string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02D9-48E2-43D5-B608-250C903E15B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’s Happening Here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qualifier o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ppears both covariantly and contravariantly in the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re stu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arametric polymorphis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ant to giv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 id (x:int):int = x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.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nt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A563-DE4A-4029-99A4-91E2CE595F0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lementing Polymorphism Efficientl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-style polymorphic type inference is EXPTIME-h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, it’s f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case can’t happen here, because we’re polymorphic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th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’s because we’ll apply this to 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eed polymorphically constrained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qt where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ny qualifier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re constraints C hold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typ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AC8E-84DA-4655-BF09-0405C3F33C7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Solution:  CFL Reachabil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duce constraint solving to CFL reach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s polymorphic recursion in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asy to impl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’s efficient (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ious best algorithm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 due to Horwitz, Reps, and Sagiv, and Rehof, Fahndrich, and 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425C8-5C45-4F9C-8A62-1F63858A069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icienc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aint generation yield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as bef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for scalab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xt-free language reachability i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(n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a few tricks make it practical (not much slowdown in analysis tim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 more details, s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hof + Fahndrich, POPL’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D964-9155-45FA-9E17-21684BDB02C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urity via Type Qualifie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Icky Stuff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t’s all the theory behind this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complicated system:  flow-sensitive qualifi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going to cover that 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Haven’t applied it to secur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want to apply this to a language like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oesn’t quite look like MinM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C707-6DFD-4EFE-A1AF-5F0DFD51BD2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cal Variables in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st (easiest) problem:  C doesn’t u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ha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memory on the he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local variables on the stack are also updatea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 types aren’t quite enou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: 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can’t update 3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E0AA-D5B6-4886-82A7-DF2EDC32B11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pping to MinM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will have ref typ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: ref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&lt;contents type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rhs of assignment, add deref of varia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oid foo(int x) {                foo (x:int):void 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et x = ref x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y;       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     let y = ref 0 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= x + 3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x) + 3;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++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y := (!y) + 1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= 42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 := 4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E97C-9AA1-4159-BE4A-8022A9A7667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at String Attack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3920" y="1523880"/>
            <a:ext cx="8688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sary-controlled format spec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ame := &lt;data-from-network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ntf(name);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/* Oops *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sets name = “%s%s%s” to crash pro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tempts to read from next 3 addresses on the stack, one of which is probably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t, name = “%s%s%s%s%s%s%s%s%s%s%s%s%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read any addre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&lt;address&gt;_%08x.%08x.%08x.%08x.%08x.|%s|"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acker can write any address and execute co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 = “…… %n ……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ts of these bugs in the wi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 restrictive to forbid variable format str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F61B-69E4-4D11-9050-A136A9645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applications have multiple source code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do inference on one file without the others, won’t get complete inform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lem: In left file, we’re assum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y have any qualifier (we make a fresh variab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3723480"/>
            <a:ext cx="2436840" cy="10159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xtern int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= 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3683160"/>
            <a:ext cx="2841840" cy="459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ainted int 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B470-CEE6-43C2-BBDB-15BBFC755D4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analyze programs with multiple fil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use CIL merger from Necula to turn a multi-file app into a single-file ap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I have a merged version of the linux kernel, 470432 l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Want to present results to u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 to map information back to original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6D42-22E8-4D28-843D-005487C628A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conservative assumptions about missing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nything globally exposed may b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i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Very conserva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ing to be hard to infer useful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B9C4-9F86-4226-86EF-08D943F3100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ltiple Files:  Solution #3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 tool all files at same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le-program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 files that give types to library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Qual, we have prelude.c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fy (or just equate) types of glob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D730-DD17-46DB-A589-03D732F4965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d 10 popular unix daemon pro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tations shared across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annotated header file for standard libr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es annotations for polymorphis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itical to practical usabi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nd several known vulner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ones we didn’t know abo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interface crit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ED54-F23A-475C-8A9A-CB0D4D54B91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s:  Format String Vulner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984320" y="1511280"/>
          <a:ext cx="4989240" cy="4889520"/>
        </p:xfrm>
        <a:graphic>
          <a:graphicData uri="http://schemas.openxmlformats.org/drawingml/2006/table">
            <a:tbl>
              <a:tblPr/>
              <a:tblGrid>
                <a:gridCol w="2830320"/>
                <a:gridCol w="1209600"/>
                <a:gridCol w="949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ntd-1.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ngetty-0.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ftpd-1.0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h-2.05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~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fengine-1.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a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popd-4.7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rs_nwe-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che-1.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enssh-2.3.0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F6F7-F4FD-4EAA-B4CC-B46C8378885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:  User/kernel Vulnerabilities (Johnson + Wagner 0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Linux kernel, the kernel and user/mode programs share address sp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op 1GB is reserved for the ker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kernel runs, it doesn’t need to change VM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st enable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37080" indent="-187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kernel returns, prevent access to top 1G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311640"/>
            <a:ext cx="176868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2895480"/>
            <a:ext cx="1768680" cy="4161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124080" y="3603600"/>
            <a:ext cx="1768680" cy="623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1200" y="4224240"/>
            <a:ext cx="1768320" cy="301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1200" y="29016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30600" y="324144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610080" y="412560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260880" y="352548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unm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66720" y="272052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4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52320" y="3092040"/>
            <a:ext cx="6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3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4360" y="4228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21CAB-4789-4BC7-BD71-94EE1317C96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deoffs of This Memory Mod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 lot of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rnel has direct acces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ves the door open to attacks from untrusted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in for programmers to put in che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6C82-FEDF-4A37-B6F8-C6B2595B4C5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we add two new system ca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setint(int *p) { memcpy(&amp;x, p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sys_getint(int *p) { memcpy(p, &amp;x, sizeof(x)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se a user calls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etint(buf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-behaved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user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licious program: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kernel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ve just written to kernel space!  Oop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44999-934E-486C-96E8-246FF3E53DD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other Attac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we compromise security with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tint(buf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ints to private kernel data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file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 can be read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eti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D1AC-9156-48C4-AA49-D7BA1521887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dpw</cp:lastModifiedBy>
  <cp:lastPrinted>2004-01-06T01:52:22Z</cp:lastPrinted>
  <dcterms:modified xsi:type="dcterms:W3CDTF">2004-11-03T19:36:35Z</dcterms:modified>
  <cp:revision>429</cp:revision>
  <dc:subject/>
  <dc:title>Programmer-Specified Aliasing</dc:title>
</cp:coreProperties>
</file>