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74.xml.rels" ContentType="application/vnd.openxmlformats-package.relationships+xml"/>
  <Override PartName="/ppt/slides/_rels/slide104.xml.rels" ContentType="application/vnd.openxmlformats-package.relationships+xml"/>
  <Override PartName="/ppt/slides/_rels/slide103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110.xml.rels" ContentType="application/vnd.openxmlformats-package.relationships+xml"/>
  <Override PartName="/ppt/slides/_rels/slide80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13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52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92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76.xml.rels" ContentType="application/vnd.openxmlformats-package.relationships+xml"/>
  <Override PartName="/ppt/slides/_rels/slide106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9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113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11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8CE6DA-F950-4478-9003-6C072C33C7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0852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9F7343-C0B6-424F-AE38-27DCE46C35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13480" y="15998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085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13480" y="39085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81C3E7-0E0D-4037-B42A-2692ADFCB4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5920" y="15998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4280" y="15998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085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5920" y="39085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4280" y="39085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9C49A9-5F59-482A-9DF3-480643F664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74593E-BBD8-4D4B-A1F7-96416FE5E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2AF529-BAE6-4FA3-B9D4-FF3CB1A50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3A7A5C-0D52-4839-834B-FBA4DD906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13480" y="15998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7D11D8-54AF-484B-BAFC-54E670A00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06E16E-DA07-4B19-924E-B9BC6B681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6840" y="457200"/>
            <a:ext cx="80773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AD7FD3-C799-4818-B2AB-23000FE2A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13480" y="15998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085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748B21-2BC6-41C6-AA2B-424BE90C4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4B1586-546C-45E1-8605-E8A0828320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13480" y="15998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13480" y="39085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141D0E-0E4E-41EC-ADE5-1811CB66B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3480" y="15998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0852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4B6841-E5B9-49A2-9C08-33FBA26FA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0852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08D861-B1A9-4A70-A940-457E43EE7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13480" y="15998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085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13480" y="39085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C20396-CE68-41DE-85CE-220C0CA72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65920" y="15998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4280" y="15998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085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65920" y="39085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4280" y="39085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42F4EC-FA2F-483D-8223-7629D3FAE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93EE39-1157-4F9C-8848-C773FE04A8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13480" y="15998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CDB9BE-8C18-466F-BD6F-C4AC957CD0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152373-F05F-490D-822B-9C85EC66B4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457200"/>
            <a:ext cx="80773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EB36D9-4AF6-48FF-ACBC-63A83D4B0C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13480" y="15998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085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D29EE4-CB88-4039-9318-0E6B804E0D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3480" y="15998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13480" y="39085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52A7B5-E800-4DDB-9981-F9579DAA12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3480" y="15998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0852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79C6F4-EBF4-47B1-BF90-B8541F765B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456840" y="6172200"/>
            <a:ext cx="5791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c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c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3244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5D16B-192D-487D-A7E0-6732225F9D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57200" y="1371600"/>
            <a:ext cx="807732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3"/>
          </p:nvPr>
        </p:nvSpPr>
        <p:spPr>
          <a:xfrm>
            <a:off x="5331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4"/>
          </p:nvPr>
        </p:nvSpPr>
        <p:spPr>
          <a:xfrm>
            <a:off x="2514600" y="6248520"/>
            <a:ext cx="4114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5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53F58-1D0D-4201-AB90-3A72F48925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ecurity via Type Qualifiers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avid Walk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lides from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Jeff Foster, University of Marylan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ork by Alex Aiken, Jeff Foster, Rob Johnson, John Kodumal, Tachio Terauchi, and David Wagn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Using Tainted and Untainted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dd qualifier annotation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int printf(</a:t>
            </a:r>
            <a:r>
              <a:rPr b="0" lang="en-US" sz="2000" spc="-1" strike="noStrike">
                <a:solidFill>
                  <a:srgbClr val="00ff00"/>
                </a:solidFill>
                <a:latin typeface="Comic Sans MS"/>
              </a:rPr>
              <a:t>untainted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char *fmt, ...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tainted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char *getenv(const char *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ainted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= may be controlled by adversar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Comic Sans MS"/>
              </a:rPr>
              <a:t>untainted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= must not be controlled by adversar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3D5F8C-B4D2-43C2-80FB-C68A0BC7448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296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e Solution:  </a:t>
            </a: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copy_from_user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copy_to_user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5136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ur example should be writte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Comic Sans MS"/>
              </a:rPr>
              <a:t>int x;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Comic Sans MS"/>
              </a:rPr>
              <a:t>void sys_setint(int *p) { copy_from_user(&amp;x, p, sizeof(x)); }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Comic Sans MS"/>
              </a:rPr>
              <a:t>void sys_getint(int *p) { copy_to_user(p, &amp;x, sizeof(x)); }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se perform the required safety check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turn number of bytes that couldn’t be copie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from_use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pads destination with 0’s if couldn’t cop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C71751-8A86-4B8B-B4FE-D07E7B910F45}" type="slidenum">
              <a:t>1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t’s Easy to Forget These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523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ointers to kernel and user space look the sam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at’s part of the point of the desig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inux 2.4.20 has 129 syscalls with pointers to user spac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l 129 of those need to use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opy_from/t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ioctl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mplementation passes user pointers to device drivers (without sanitizing them first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result:  Hundreds of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opy_from/_t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ne (small) kernel version:  389 from, 428 t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nd there’s no check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7A1772-2D7E-4BED-B9BA-A5287B3ABE70}" type="slidenum">
              <a:t>10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User/Kernel Type Qualifiers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e can use type qualifiers to distinguish the two kinds of pointer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kernel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-- This pointer must be under kernel contro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use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-- This pointer may be under user contro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ubtyping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kernel &lt; us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4F29CB-FEF5-4DCA-BDC7-52BFFB3BEE4F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ype Signatures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524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e add signatures for the appropriate fns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Comic Sans MS"/>
              </a:rPr>
              <a:t>int copy_from_user(void *</a:t>
            </a:r>
            <a:r>
              <a:rPr b="0" lang="en-US" sz="2200" spc="-1" strike="noStrike">
                <a:solidFill>
                  <a:srgbClr val="cc0099"/>
                </a:solidFill>
                <a:latin typeface="Comic Sans MS"/>
              </a:rPr>
              <a:t>kernel</a:t>
            </a:r>
            <a:r>
              <a:rPr b="0" lang="en-US" sz="2200" spc="-1" strike="noStrike">
                <a:solidFill>
                  <a:srgbClr val="3333cc"/>
                </a:solidFill>
                <a:latin typeface="Comic Sans MS"/>
              </a:rPr>
              <a:t> to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Comic Sans MS"/>
              </a:rPr>
              <a:t>                                 </a:t>
            </a:r>
            <a:r>
              <a:rPr b="0" lang="en-US" sz="2200" spc="-1" strike="noStrike">
                <a:solidFill>
                  <a:srgbClr val="3333cc"/>
                </a:solidFill>
                <a:latin typeface="Comic Sans MS"/>
              </a:rPr>
              <a:t>void *</a:t>
            </a:r>
            <a:r>
              <a:rPr b="0" lang="en-US" sz="2200" spc="-1" strike="noStrike">
                <a:solidFill>
                  <a:srgbClr val="cc0099"/>
                </a:solidFill>
                <a:latin typeface="Comic Sans MS"/>
              </a:rPr>
              <a:t>user</a:t>
            </a:r>
            <a:r>
              <a:rPr b="0" lang="en-US" sz="2200" spc="-1" strike="noStrike">
                <a:solidFill>
                  <a:srgbClr val="3333cc"/>
                </a:solidFill>
                <a:latin typeface="Comic Sans MS"/>
              </a:rPr>
              <a:t> from, int len)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Comic Sans MS"/>
              </a:rPr>
              <a:t>int memcpy(void *</a:t>
            </a:r>
            <a:r>
              <a:rPr b="0" lang="en-US" sz="2200" spc="-1" strike="noStrike">
                <a:solidFill>
                  <a:srgbClr val="cc0099"/>
                </a:solidFill>
                <a:latin typeface="Comic Sans MS"/>
              </a:rPr>
              <a:t>kernel</a:t>
            </a:r>
            <a:r>
              <a:rPr b="0" lang="en-US" sz="2200" spc="-1" strike="noStrike">
                <a:solidFill>
                  <a:srgbClr val="3333cc"/>
                </a:solidFill>
                <a:latin typeface="Comic Sans MS"/>
              </a:rPr>
              <a:t> to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Comic Sans MS"/>
              </a:rPr>
              <a:t>                    </a:t>
            </a:r>
            <a:r>
              <a:rPr b="0" lang="en-US" sz="2200" spc="-1" strike="noStrike">
                <a:solidFill>
                  <a:srgbClr val="3333cc"/>
                </a:solidFill>
                <a:latin typeface="Comic Sans MS"/>
              </a:rPr>
              <a:t>void *</a:t>
            </a:r>
            <a:r>
              <a:rPr b="0" lang="en-US" sz="2200" spc="-1" strike="noStrike">
                <a:solidFill>
                  <a:srgbClr val="cc0099"/>
                </a:solidFill>
                <a:latin typeface="Comic Sans MS"/>
              </a:rPr>
              <a:t>kernel</a:t>
            </a:r>
            <a:r>
              <a:rPr b="0" lang="en-US" sz="2200" spc="-1" strike="noStrike">
                <a:solidFill>
                  <a:srgbClr val="3333cc"/>
                </a:solidFill>
                <a:latin typeface="Comic Sans MS"/>
              </a:rPr>
              <a:t> from, int len)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Comic Sans MS"/>
              </a:rPr>
              <a:t>int x;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Comic Sans MS"/>
              </a:rPr>
              <a:t>void sys_setint(int *</a:t>
            </a:r>
            <a:r>
              <a:rPr b="0" lang="en-US" sz="2200" spc="-1" strike="noStrike">
                <a:solidFill>
                  <a:srgbClr val="cc0099"/>
                </a:solidFill>
                <a:latin typeface="Comic Sans MS"/>
              </a:rPr>
              <a:t>user</a:t>
            </a:r>
            <a:r>
              <a:rPr b="0" lang="en-US" sz="2200" spc="-1" strike="noStrike">
                <a:solidFill>
                  <a:srgbClr val="3333cc"/>
                </a:solidFill>
                <a:latin typeface="Comic Sans MS"/>
              </a:rPr>
              <a:t> p) {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Comic Sans MS"/>
              </a:rPr>
              <a:t>    </a:t>
            </a:r>
            <a:r>
              <a:rPr b="0" lang="en-US" sz="2200" spc="-1" strike="noStrike">
                <a:solidFill>
                  <a:srgbClr val="3333cc"/>
                </a:solidFill>
                <a:latin typeface="Comic Sans MS"/>
              </a:rPr>
              <a:t>copy_from_user(&amp;x, p, sizeof(x)); }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Comic Sans MS"/>
              </a:rPr>
              <a:t>void sys_getint(int *</a:t>
            </a:r>
            <a:r>
              <a:rPr b="0" lang="en-US" sz="2200" spc="-1" strike="noStrike">
                <a:solidFill>
                  <a:srgbClr val="cc0099"/>
                </a:solidFill>
                <a:latin typeface="Comic Sans MS"/>
              </a:rPr>
              <a:t>user</a:t>
            </a:r>
            <a:r>
              <a:rPr b="0" lang="en-US" sz="2200" spc="-1" strike="noStrike">
                <a:solidFill>
                  <a:srgbClr val="3333cc"/>
                </a:solidFill>
                <a:latin typeface="Comic Sans MS"/>
              </a:rPr>
              <a:t> p) {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Comic Sans MS"/>
              </a:rPr>
              <a:t>    </a:t>
            </a:r>
            <a:r>
              <a:rPr b="0" lang="en-US" sz="2200" spc="-1" strike="noStrike">
                <a:solidFill>
                  <a:srgbClr val="3333cc"/>
                </a:solidFill>
                <a:latin typeface="Comic Sans MS"/>
              </a:rPr>
              <a:t>memcpy(p, &amp;x, sizeof(x)); }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1" name=""/>
          <p:cNvSpPr/>
          <p:nvPr/>
        </p:nvSpPr>
        <p:spPr>
          <a:xfrm rot="16200000">
            <a:off x="-487800" y="3840480"/>
            <a:ext cx="1966680" cy="457200"/>
          </a:xfrm>
          <a:prstGeom prst="wedgeRectCallout">
            <a:avLst>
              <a:gd name="adj1" fmla="val -4967"/>
              <a:gd name="adj2" fmla="val 109370"/>
            </a:avLst>
          </a:prstGeom>
          <a:noFill/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Comic Sans MS"/>
              </a:rPr>
              <a:t>Lives in kern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5621400" y="3462480"/>
            <a:ext cx="1311120" cy="425160"/>
          </a:xfrm>
          <a:prstGeom prst="wedgeRectCallout">
            <a:avLst>
              <a:gd name="adj1" fmla="val -179055"/>
              <a:gd name="adj2" fmla="val 160819"/>
            </a:avLst>
          </a:prstGeom>
          <a:noFill/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Comic Sans MS"/>
              </a:rPr>
              <a:t>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7157880" y="3552840"/>
            <a:ext cx="1311480" cy="425520"/>
          </a:xfrm>
          <a:prstGeom prst="wedgeRectCallout">
            <a:avLst>
              <a:gd name="adj1" fmla="val -269611"/>
              <a:gd name="adj2" fmla="val 145893"/>
            </a:avLst>
          </a:prstGeom>
          <a:noFill/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Comic Sans MS"/>
              </a:rPr>
              <a:t>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4433760" y="5578560"/>
            <a:ext cx="1311480" cy="425520"/>
          </a:xfrm>
          <a:prstGeom prst="wedgeRectCallout">
            <a:avLst>
              <a:gd name="adj1" fmla="val -157750"/>
              <a:gd name="adj2" fmla="val -98509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Err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2096E1-D49A-424A-80B2-37B0ABB90CD9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Qualifiers and Type Structure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sider the following example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200" spc="-1" strike="noStrike">
                <a:solidFill>
                  <a:srgbClr val="3333cc"/>
                </a:solidFill>
                <a:latin typeface="Comic Sans MS"/>
              </a:rPr>
              <a:t>void ioctl(void *user arg) {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200" spc="-1" strike="noStrike">
                <a:solidFill>
                  <a:srgbClr val="3333cc"/>
                </a:solidFill>
                <a:latin typeface="Comic Sans MS"/>
              </a:rPr>
              <a:t>  </a:t>
            </a:r>
            <a:r>
              <a:rPr b="0" lang="en-US" sz="2200" spc="-1" strike="noStrike">
                <a:solidFill>
                  <a:srgbClr val="3333cc"/>
                </a:solidFill>
                <a:latin typeface="Comic Sans MS"/>
              </a:rPr>
              <a:t>struct cmd { char *datap; } c;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200" spc="-1" strike="noStrike">
                <a:solidFill>
                  <a:srgbClr val="3333cc"/>
                </a:solidFill>
                <a:latin typeface="Comic Sans MS"/>
              </a:rPr>
              <a:t>  </a:t>
            </a:r>
            <a:r>
              <a:rPr b="0" lang="en-US" sz="2200" spc="-1" strike="noStrike">
                <a:solidFill>
                  <a:srgbClr val="3333cc"/>
                </a:solidFill>
                <a:latin typeface="Comic Sans MS"/>
              </a:rPr>
              <a:t>copy_from_user(&amp;c, arg, sizeof©);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200" spc="-1" strike="noStrike">
                <a:solidFill>
                  <a:srgbClr val="3333cc"/>
                </a:solidFill>
                <a:latin typeface="Comic Sans MS"/>
              </a:rPr>
              <a:t>  </a:t>
            </a:r>
            <a:r>
              <a:rPr b="0" lang="en-US" sz="2200" spc="-1" strike="noStrike">
                <a:solidFill>
                  <a:srgbClr val="3333cc"/>
                </a:solidFill>
                <a:latin typeface="Comic Sans MS"/>
              </a:rPr>
              <a:t>c.datap[0] = 0;    // not a good idea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200" spc="-1" strike="noStrike">
                <a:solidFill>
                  <a:srgbClr val="3333cc"/>
                </a:solidFill>
                <a:latin typeface="Comic Sans MS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pointer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rg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comes from the us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o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datap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n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also comes from the us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e shouldn’t deference it without a check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4FE272-D33F-4975-921C-D87DC01973BD}" type="slidenum">
              <a:t>10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Well-Formedness Constraints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mpler exampl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har **user p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ointer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is under user contro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refore so is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*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e want a rule like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 type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ref</a:t>
            </a:r>
            <a:r>
              <a:rPr b="0" lang="en-US" sz="2400" spc="-1" strike="noStrike" baseline="30000">
                <a:solidFill>
                  <a:srgbClr val="3333cc"/>
                </a:solidFill>
                <a:latin typeface="Comic Sans MS"/>
              </a:rPr>
              <a:t>user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(Q s)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it must be that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Q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us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s is a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well-formednes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condition on typ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534C56-2D2C-4461-9234-E9F51E24A24C}" type="slidenum">
              <a:t>10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Well-Formedness Constraints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s a type rul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e implicitly require all types to be well-forme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ut what about other qualifiers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t all qualifiers have these structural constrain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r maybe other quals want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Q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Q’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671" name=""/>
          <p:cNvGrpSpPr/>
          <p:nvPr/>
        </p:nvGrpSpPr>
        <p:grpSpPr>
          <a:xfrm>
            <a:off x="1670040" y="2450520"/>
            <a:ext cx="6149880" cy="1015920"/>
            <a:chOff x="1670040" y="2450520"/>
            <a:chExt cx="6149880" cy="1015920"/>
          </a:xfrm>
        </p:grpSpPr>
        <p:sp>
          <p:nvSpPr>
            <p:cNvPr id="672" name=""/>
            <p:cNvSpPr/>
            <p:nvPr/>
          </p:nvSpPr>
          <p:spPr>
            <a:xfrm>
              <a:off x="1670040" y="2450520"/>
              <a:ext cx="614988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|--wf (Q’ s)     Q’ </a:t>
              </a:r>
              <a:r>
                <a:rPr b="0" lang="en-US" sz="2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</a:t>
              </a: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 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|--wf ref</a:t>
              </a:r>
              <a:r>
                <a:rPr b="0" lang="en-US" sz="2400" spc="-1" strike="noStrike" baseline="30000">
                  <a:solidFill>
                    <a:srgbClr val="3333cc"/>
                  </a:solidFill>
                  <a:latin typeface="Comic Sans MS"/>
                </a:rPr>
                <a:t>Q</a:t>
              </a: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 (Q’ s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3082680" y="2933640"/>
              <a:ext cx="326340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134377-5124-4037-98BD-11A98E0FDFFB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Well-Formedness Constraints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se conditional constraint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must be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use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then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Q’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must be also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pecify on a per-qualifier level whether to generate this constrain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t hard to add to constraint resolu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6" name=""/>
          <p:cNvSpPr/>
          <p:nvPr/>
        </p:nvSpPr>
        <p:spPr>
          <a:xfrm>
            <a:off x="1670040" y="2311560"/>
            <a:ext cx="61498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|--wf (Q’ s)     Q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user ==&gt; Q’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u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|--wf ref</a:t>
            </a:r>
            <a:r>
              <a:rPr b="0" lang="en-US" sz="2400" spc="-1" strike="noStrike" baseline="30000">
                <a:solidFill>
                  <a:srgbClr val="3333cc"/>
                </a:solidFill>
                <a:latin typeface="Comic Sans MS"/>
              </a:rPr>
              <a:t>Q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(Q’ 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1906560" y="2793960"/>
            <a:ext cx="560556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92730F-CF8A-482A-AFCE-67D89138180D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Well-Formedness Constraints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milar constraints for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struc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yp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gain, can specify this per-qualifi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0" name=""/>
          <p:cNvSpPr/>
          <p:nvPr/>
        </p:nvSpPr>
        <p:spPr>
          <a:xfrm>
            <a:off x="1190520" y="2550960"/>
            <a:ext cx="7399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For all i,   |--wf (Qi si)     Q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user ==&gt; Qi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u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|--wf struct</a:t>
            </a:r>
            <a:r>
              <a:rPr b="0" lang="en-US" sz="2400" spc="-1" strike="noStrike" baseline="30000">
                <a:solidFill>
                  <a:srgbClr val="3333cc"/>
                </a:solidFill>
                <a:latin typeface="Comic Sans MS"/>
              </a:rPr>
              <a:t>Q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(Q1 s1, …, Qn s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1384200" y="3033720"/>
            <a:ext cx="704376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43CD79-5278-421B-91A1-33F939B6BBA3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xperimental Results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an on two Linux kernel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.4.20 -- 11 bugs foun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.4.23 -- 10 bugs foun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eeded to add 245 annotation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py_from/to, kmalloc, kfree, …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l Linux syscalls take user args (221 calls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uld have be done automagically (All begin with sys_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an both single file (unsound) and whole-kern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A291B5-576A-43C3-8FD1-86AF12232EEB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ubtyping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3384720" cy="18226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void f(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ainted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int)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Comic Sans MS"/>
              </a:rPr>
              <a:t>untainted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int a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f(a)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"/>
          <p:cNvSpPr/>
          <p:nvPr/>
        </p:nvSpPr>
        <p:spPr>
          <a:xfrm>
            <a:off x="5029200" y="1676520"/>
            <a:ext cx="3352680" cy="182880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void g(</a:t>
            </a:r>
            <a:r>
              <a:rPr b="0" lang="en-US" sz="2400" spc="-1" strike="noStrike">
                <a:solidFill>
                  <a:srgbClr val="00ff00"/>
                </a:solidFill>
                <a:latin typeface="Comic Sans MS"/>
              </a:rPr>
              <a:t>untainted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int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ainted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int b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g(b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85800" y="3505320"/>
            <a:ext cx="33526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 accepts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ainted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or </a:t>
            </a:r>
            <a:r>
              <a:rPr b="0" lang="en-US" sz="2400" spc="-1" strike="noStrike">
                <a:solidFill>
                  <a:srgbClr val="00ff00"/>
                </a:solidFill>
                <a:latin typeface="Comic Sans MS"/>
              </a:rPr>
              <a:t>untainted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029200" y="3505320"/>
            <a:ext cx="37339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rr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 accepts only </a:t>
            </a:r>
            <a:r>
              <a:rPr b="0" lang="en-US" sz="2400" spc="-1" strike="noStrike">
                <a:solidFill>
                  <a:srgbClr val="00ff00"/>
                </a:solidFill>
                <a:latin typeface="Comic Sans MS"/>
              </a:rPr>
              <a:t>untainted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510552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Comic Sans MS"/>
              </a:rPr>
              <a:t>untainted 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ain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5029200" y="5105520"/>
            <a:ext cx="3352680" cy="459720"/>
            <a:chOff x="5029200" y="5105520"/>
            <a:chExt cx="3352680" cy="459720"/>
          </a:xfrm>
        </p:grpSpPr>
        <p:sp>
          <p:nvSpPr>
            <p:cNvPr id="123" name=""/>
            <p:cNvSpPr/>
            <p:nvPr/>
          </p:nvSpPr>
          <p:spPr>
            <a:xfrm>
              <a:off x="5029200" y="5105520"/>
              <a:ext cx="3352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tainted</a:t>
              </a:r>
              <a:r>
                <a:rPr b="0" lang="en-US" sz="2400" spc="-1" strike="noStrike">
                  <a:solidFill>
                    <a:srgbClr val="00ff00"/>
                  </a:solidFill>
                  <a:latin typeface="Comic Sans MS"/>
                </a:rPr>
                <a:t> </a:t>
              </a:r>
              <a:r>
                <a:rPr b="1" lang="en-US" sz="2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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n-US" sz="2400" spc="-1" strike="noStrike">
                  <a:solidFill>
                    <a:srgbClr val="00ff00"/>
                  </a:solidFill>
                  <a:latin typeface="Comic Sans MS"/>
                </a:rPr>
                <a:t>untaint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172200" y="51055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/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3048120" y="571500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Comic Sans MS"/>
              </a:rPr>
              <a:t>untainted 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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ain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C4F4D8-40E4-4CBE-978C-25123FF4C8C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More Detailed Results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.4.20, full config, single fil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512 raw warnings, 275 unique, </a:t>
            </a:r>
            <a:r>
              <a:rPr b="0" lang="en-US" sz="2400" spc="-1" strike="noStrike">
                <a:solidFill>
                  <a:srgbClr val="cc0099"/>
                </a:solidFill>
                <a:latin typeface="Comic Sans MS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exploitable bug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ique = combine msgs for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user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qual from same lin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.4.23, full config, single fil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571 raw warnings, 264 unique, </a:t>
            </a:r>
            <a:r>
              <a:rPr b="0" lang="en-US" sz="2400" spc="-1" strike="noStrike">
                <a:solidFill>
                  <a:srgbClr val="cc0099"/>
                </a:solidFill>
                <a:latin typeface="Comic Sans MS"/>
              </a:rPr>
              <a:t>6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ploitable bug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.4.23, default config, single fil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71 raw warnings, 76 unique, </a:t>
            </a:r>
            <a:r>
              <a:rPr b="0" lang="en-US" sz="2400" spc="-1" strike="noStrike">
                <a:solidFill>
                  <a:srgbClr val="cc0099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exploitable bu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.4.23, default config, whole kern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27 raw warnings, 53 unique, </a:t>
            </a:r>
            <a:r>
              <a:rPr b="0" lang="en-US" sz="2400" spc="-1" strike="noStrike">
                <a:solidFill>
                  <a:srgbClr val="cc0099"/>
                </a:solidFill>
                <a:latin typeface="Comic Sans MS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exploitable bug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9C861D-D8A4-4EAD-A238-0C70D4CACD45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Observations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Quite a few false positiv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arge code base magnifies false positive ra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veral bugs persisted through a few kernel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8 bugs found in 2.4.23 that persisted to 2.5.63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n unsound tool, MECA, found 2 of 8 bug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=&gt; Soundness matters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0C5441-429B-4C1C-8276-E875BC82A4EE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Observations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f 11 bugs in 2.4.23…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9 are in device driver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ood place to look for bugs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te:  errors found in “core” device driver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4 bugs in PCMCIA subsystem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ots of churn between kernel version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etween 2.4.20 and 2.4.23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7 bugs fixe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5 more introduce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0FD82B-3257-4CDD-804D-DF953FE007A5}" type="slidenum">
              <a:t>1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onclusion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ype qualifiers are specifications that…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ogrammers will accep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ightweigh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cale to large program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olve many different problem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 the works:  ccqual, jqual, Eclipse interfac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0D65ED-0FF4-4886-A0A8-005CB8F6DB6B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e Plan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Nice Theor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Icky Stuff in C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FECFC3-479E-4B89-BBBD-5857D18F12E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ype Qualifiers for MinM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e’ll add type qualifiers to MinM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ame approach works for other languages (like C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tandard type systems define types a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 ::= c0(t, …, t) | … | cn(t, …, t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here </a:t>
            </a:r>
            <a:r>
              <a:rPr b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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= c0…cn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is a set of 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type constructor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call the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type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of MinM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 ::= int | bool | t 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ere </a:t>
            </a:r>
            <a:r>
              <a:rPr b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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= int, bool,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written infix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064D49-FD44-4020-AC01-70AFD19A3D9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ype Qualifiers for MinML (cont’d)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et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be the set of type qualifier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ssumed to be chosen in advance and fixe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.g.,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Q = {tainted, untainted}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n the 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qualified type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re jus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qt ::= Q 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s ::= c0(qt, …, qt) | … | cn(qt, …, qt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llow a type qualifier to appear on each type constructo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or MinM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qt ::= int</a:t>
            </a:r>
            <a:r>
              <a:rPr b="0" lang="en-US" sz="2400" spc="-1" strike="noStrike" baseline="30000">
                <a:solidFill>
                  <a:srgbClr val="3333cc"/>
                </a:solidFill>
                <a:latin typeface="Comic Sans MS"/>
              </a:rPr>
              <a:t>Q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| bool</a:t>
            </a:r>
            <a:r>
              <a:rPr b="0" lang="en-US" sz="2400" spc="-1" strike="noStrike" baseline="30000">
                <a:solidFill>
                  <a:srgbClr val="3333cc"/>
                </a:solidFill>
                <a:latin typeface="Comic Sans MS"/>
              </a:rPr>
              <a:t>Q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| qt 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 baseline="30000">
                <a:solidFill>
                  <a:srgbClr val="3333cc"/>
                </a:solidFill>
                <a:latin typeface="Comic Sans MS"/>
              </a:rPr>
              <a:t>Q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q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4368CF-FF5A-4206-BFFB-E38DA91E50D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bstract Syntax of MinML with Qualifiers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7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e ::= x | n | true | false | if e then e else e                  | fun f</a:t>
            </a:r>
            <a:r>
              <a:rPr b="0" lang="en-US" sz="2400" spc="-1" strike="noStrike" baseline="30000">
                <a:solidFill>
                  <a:srgbClr val="cc0099"/>
                </a:solidFill>
                <a:latin typeface="Comic Sans MS"/>
              </a:rPr>
              <a:t>Q</a:t>
            </a:r>
            <a:r>
              <a:rPr b="0" lang="en-US" sz="2400" spc="-1" strike="noStrike" baseline="30000">
                <a:solidFill>
                  <a:srgbClr val="ff00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x:</a:t>
            </a:r>
            <a:r>
              <a:rPr b="0" lang="en-US" sz="2400" spc="-1" strike="noStrike">
                <a:solidFill>
                  <a:srgbClr val="cc0099"/>
                </a:solidFill>
                <a:latin typeface="Comic Sans MS"/>
              </a:rPr>
              <a:t>qt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):</a:t>
            </a:r>
            <a:r>
              <a:rPr b="0" lang="en-US" sz="2400" spc="-1" strike="noStrike">
                <a:solidFill>
                  <a:srgbClr val="cc0099"/>
                </a:solidFill>
                <a:latin typeface="Comic Sans MS"/>
              </a:rPr>
              <a:t>qt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= e | e e </a:t>
            </a:r>
            <a:r>
              <a:rPr b="0" lang="en-US" sz="2400" spc="-1" strike="noStrike">
                <a:solidFill>
                  <a:srgbClr val="cc0099"/>
                </a:solidFill>
                <a:latin typeface="Comic Sans MS"/>
              </a:rPr>
              <a:t>| annot(Q, e) | check(Q, e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annot(Q, e)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= “expression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has qualifier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heck(Q, e)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= “fail if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does not have qualifier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hecks only the top-level qualifi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fun fread (x:qt):int</a:t>
            </a:r>
            <a:r>
              <a:rPr b="0" lang="en-US" sz="2400" spc="-1" strike="noStrike" baseline="30000">
                <a:solidFill>
                  <a:srgbClr val="3333cc"/>
                </a:solidFill>
                <a:latin typeface="Comic Sans MS"/>
              </a:rPr>
              <a:t>tainted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= …annot(tainted,42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fun printf (x:qt):qt’ = check(untainted, x), …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53968C-A89E-40F3-B775-D0AC79179D4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yping Rules:  Qualifier Introduction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ewly-constructed values have “bare” typ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nnotation adds an outermost qualifi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"/>
          <p:cNvSpPr/>
          <p:nvPr/>
        </p:nvSpPr>
        <p:spPr>
          <a:xfrm>
            <a:off x="3390840" y="2311560"/>
            <a:ext cx="325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G |-- n : 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994200" y="2303640"/>
            <a:ext cx="201924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442880" y="3048120"/>
            <a:ext cx="325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G |-- true : b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681200" y="3040200"/>
            <a:ext cx="297648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881600" y="3069000"/>
            <a:ext cx="325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G |-- false : b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119560" y="3060720"/>
            <a:ext cx="297684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731960" y="4869000"/>
            <a:ext cx="61498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G |-- e1 : 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G |-- annot(Q, e) : Q 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144960" y="5351400"/>
            <a:ext cx="326376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DC1017-9C4C-48B9-A167-36E6F3570B9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yping Rules:  Qualifier Elimination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y default, discard qualifier at destructor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heck(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constrains the qualifier allowed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"/>
          <p:cNvSpPr/>
          <p:nvPr/>
        </p:nvSpPr>
        <p:spPr>
          <a:xfrm>
            <a:off x="1785960" y="4630680"/>
            <a:ext cx="61498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G |-- e1 : Q 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G |-- check(Q, e) : Q 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8960" y="5113440"/>
            <a:ext cx="326376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527120" y="2330280"/>
            <a:ext cx="6470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G |-- e1 : bool</a:t>
            </a:r>
            <a:r>
              <a:rPr b="0" lang="en-US" sz="2400" spc="-1" strike="noStrike" baseline="30000">
                <a:solidFill>
                  <a:srgbClr val="3333cc"/>
                </a:solidFill>
                <a:latin typeface="Comic Sans MS"/>
              </a:rPr>
              <a:t>Q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G |-- e2 : qt   G |-- e3 : q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G |-- if e1 then e2 else e3 : q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85880" y="2808360"/>
            <a:ext cx="629280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3738FD-347F-4FED-B310-E7FCC64BEA1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ubtyping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ur example used 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subtyping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anyone expecting a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can be given an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nstead, then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s a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subtyp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of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lows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untainted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to be passed to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ainted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ositio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.e.,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heck(tainted, annot(untainted, 42))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hould typecheck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ow do we add that to our system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508D3B-8762-4941-8850-9117E611E4F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artial Orders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Qualifiers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come with a partial order 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q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q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reflexive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q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p, p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q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q = p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anti-symmetric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q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p, p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r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q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transitive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Qualifiers introduce subtyping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 our example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untainted &lt; tainte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9D1CF2-1609-4AAD-B7DA-FCDA17B8046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ntroduction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nsuring that software is secure is har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tandard practice for software quality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est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ake sure program runs correctly on set of input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de audit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nvince yourself and others that your code is correc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DB590E-B663-4D94-8D05-4E2AA7D61D4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xample Partial Orders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4171680"/>
            <a:ext cx="8305920" cy="18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ower in picture = lower in partial ord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dges show 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relation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"/>
          <p:cNvSpPr/>
          <p:nvPr/>
        </p:nvSpPr>
        <p:spPr>
          <a:xfrm>
            <a:off x="1612800" y="2144880"/>
            <a:ext cx="0" cy="70776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47840" y="1679760"/>
            <a:ext cx="53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365120" y="2830680"/>
            <a:ext cx="53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9880" y="1705320"/>
            <a:ext cx="53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352680" y="2391120"/>
            <a:ext cx="53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19720" y="2391120"/>
            <a:ext cx="53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809880" y="3076920"/>
            <a:ext cx="53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3654360" y="2112840"/>
            <a:ext cx="365040" cy="37008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4222800" y="2816280"/>
            <a:ext cx="365040" cy="36972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181400" y="2119320"/>
            <a:ext cx="365040" cy="36972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666960" y="2803680"/>
            <a:ext cx="365400" cy="36972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562720" y="2467080"/>
            <a:ext cx="53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095880" y="2467080"/>
            <a:ext cx="53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705720" y="2467080"/>
            <a:ext cx="53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41200" y="3489120"/>
            <a:ext cx="299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2-point latt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105520" y="3528720"/>
            <a:ext cx="299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Discrete partial or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CF12D1-A796-4534-9534-A32A3D2E158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ombining Partial Orders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et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(Q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, 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(Q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, 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be partial order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e can form a new partial order, their cross-product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(Q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, 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) x (Q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, 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) = (Q, 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Q = Q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1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x Q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a, b)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(c, d) if a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c and b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ACCDCE-9AA7-45CC-B1B6-7A3FC4656DF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4838400"/>
            <a:ext cx="830592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kes sense with orthogonal sets of qualifier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lows us to write type rules assuming only one set of qualifier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"/>
          <p:cNvSpPr/>
          <p:nvPr/>
        </p:nvSpPr>
        <p:spPr>
          <a:xfrm>
            <a:off x="447840" y="2079720"/>
            <a:ext cx="215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ain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65120" y="3230640"/>
            <a:ext cx="215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untain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77800" y="2550960"/>
            <a:ext cx="0" cy="70812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619360" y="2044800"/>
            <a:ext cx="215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on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637000" y="3195720"/>
            <a:ext cx="215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oncon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649680" y="2516040"/>
            <a:ext cx="0" cy="70812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652760" y="2732760"/>
            <a:ext cx="215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711760" y="1722600"/>
            <a:ext cx="215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ainted  con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770360" y="2754360"/>
            <a:ext cx="2154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untainted con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253280" y="2771640"/>
            <a:ext cx="189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ainted noncon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62680" y="3770280"/>
            <a:ext cx="2154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untainted noncon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782880" y="2926080"/>
            <a:ext cx="215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>
            <a:off x="5870160" y="2414520"/>
            <a:ext cx="520920" cy="30024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7230600" y="3462480"/>
            <a:ext cx="520920" cy="29988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875200" y="3594240"/>
            <a:ext cx="520920" cy="29988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245360" y="2424240"/>
            <a:ext cx="520560" cy="29988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DEAC2F-5720-42F8-98CB-04DE5CD629D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xtending the Qualifier Order to Types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3077640"/>
            <a:ext cx="830592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dd one new rule 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subsumption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o type system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"/>
          <p:cNvSpPr/>
          <p:nvPr/>
        </p:nvSpPr>
        <p:spPr>
          <a:xfrm>
            <a:off x="954000" y="1716120"/>
            <a:ext cx="3214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Q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Q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bool</a:t>
            </a:r>
            <a:r>
              <a:rPr b="0" lang="en-US" sz="2400" spc="-1" strike="noStrike" baseline="30000">
                <a:solidFill>
                  <a:srgbClr val="3333cc"/>
                </a:solidFill>
                <a:latin typeface="Comic Sans MS"/>
              </a:rPr>
              <a:t>Q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bool</a:t>
            </a:r>
            <a:r>
              <a:rPr b="0" lang="en-US" sz="2400" spc="-1" strike="noStrike" baseline="30000">
                <a:solidFill>
                  <a:srgbClr val="3333cc"/>
                </a:solidFill>
                <a:latin typeface="Comic Sans MS"/>
              </a:rPr>
              <a:t>Q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440000" y="2198520"/>
            <a:ext cx="2300040" cy="180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648320" y="1746360"/>
            <a:ext cx="3214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Q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Q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int</a:t>
            </a:r>
            <a:r>
              <a:rPr b="0" lang="en-US" sz="2400" spc="-1" strike="noStrike" baseline="30000">
                <a:solidFill>
                  <a:srgbClr val="3333cc"/>
                </a:solidFill>
                <a:latin typeface="Comic Sans MS"/>
              </a:rPr>
              <a:t>Q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int</a:t>
            </a:r>
            <a:r>
              <a:rPr b="0" lang="en-US" sz="2400" spc="-1" strike="noStrike" baseline="30000">
                <a:solidFill>
                  <a:srgbClr val="3333cc"/>
                </a:solidFill>
                <a:latin typeface="Comic Sans MS"/>
              </a:rPr>
              <a:t>Q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133960" y="2228760"/>
            <a:ext cx="2300400" cy="180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33520" y="5257800"/>
            <a:ext cx="830556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eans:  If any position requires an expression of type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qt’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it is safe to provide it a subtype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q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782720" y="3962520"/>
            <a:ext cx="61498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G |-- e : qt   qt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qt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G |-- e : qt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195720" y="4444920"/>
            <a:ext cx="326376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33A289-9333-4C51-9693-1A61CEA456C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Use of Subsumption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"/>
          <p:cNvSpPr/>
          <p:nvPr/>
        </p:nvSpPr>
        <p:spPr>
          <a:xfrm>
            <a:off x="159480" y="2056680"/>
            <a:ext cx="8858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|-- 42 : int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|-- annot(untainted, 42) : </a:t>
            </a:r>
            <a:r>
              <a:rPr b="0" lang="en-US" sz="2400" spc="-1" strike="noStrike">
                <a:solidFill>
                  <a:srgbClr val="cc0099"/>
                </a:solidFill>
                <a:latin typeface="Comic Sans MS"/>
              </a:rPr>
              <a:t>untainted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int     </a:t>
            </a:r>
            <a:r>
              <a:rPr b="0" lang="en-US" sz="2400" spc="-1" strike="noStrike">
                <a:solidFill>
                  <a:srgbClr val="cc0099"/>
                </a:solidFill>
                <a:latin typeface="Comic Sans MS"/>
              </a:rPr>
              <a:t>untainted </a:t>
            </a:r>
            <a:r>
              <a:rPr b="0" lang="en-US" sz="2400" spc="-1" strike="noStrike">
                <a:solidFill>
                  <a:srgbClr val="cc0099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cc0099"/>
                </a:solidFill>
                <a:latin typeface="Comic Sans MS"/>
              </a:rPr>
              <a:t> tain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|-- annot(untainted, 42) : </a:t>
            </a:r>
            <a:r>
              <a:rPr b="0" lang="en-US" sz="2400" spc="-1" strike="noStrike">
                <a:solidFill>
                  <a:srgbClr val="cc0099"/>
                </a:solidFill>
                <a:latin typeface="Comic Sans MS"/>
              </a:rPr>
              <a:t>tainted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|-- check(tainted, annot(untainted, 42)) : tainted 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87200" y="3289320"/>
            <a:ext cx="869796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19240" y="2871720"/>
            <a:ext cx="869760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5360" y="2409840"/>
            <a:ext cx="560700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CA2730-2378-46BE-935F-16AFEDDB976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ubtyping on Function Types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0000"/>
          </a:bodyPr>
          <a:p>
            <a:pPr marL="68400" indent="-6840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at about function types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8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8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8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8400" indent="-6840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call: 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s a subtype of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f an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can be used anywhere a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s expecte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148320" indent="-5688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en can we replace a call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“f x”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with a call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“g x”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"/>
          <p:cNvSpPr/>
          <p:nvPr/>
        </p:nvSpPr>
        <p:spPr>
          <a:xfrm>
            <a:off x="2932200" y="2373480"/>
            <a:ext cx="41623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qt1 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 baseline="30000">
                <a:solidFill>
                  <a:srgbClr val="3333cc"/>
                </a:solidFill>
                <a:latin typeface="Comic Sans MS"/>
              </a:rPr>
              <a:t>Q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qt2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qt1’ 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 baseline="30000">
                <a:solidFill>
                  <a:srgbClr val="3333cc"/>
                </a:solidFill>
                <a:latin typeface="Comic Sans MS"/>
              </a:rPr>
              <a:t>Q’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qt2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062160" y="2855880"/>
            <a:ext cx="3957840" cy="180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7D7EEB-D9D7-4990-8D6B-DEAF5F447F63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Replacing “f x” by “g x”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en is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qt1’ 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 baseline="30000">
                <a:solidFill>
                  <a:srgbClr val="3333cc"/>
                </a:solidFill>
                <a:latin typeface="Comic Sans MS"/>
              </a:rPr>
              <a:t>Q’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qt2’ 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qt1 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 baseline="30000">
                <a:solidFill>
                  <a:srgbClr val="3333cc"/>
                </a:solidFill>
                <a:latin typeface="Comic Sans MS"/>
              </a:rPr>
              <a:t>Q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qt2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turn type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e are expecting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qt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(f’s return type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o we can only return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at mos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qt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qt2’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qt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ample:  A function that returns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tainte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can be replaced with one that returns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untainte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229C89-FBB9-43BD-8709-D3DCDFD3816E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Replacing “f x” by “g x” (cont’d)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en is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qt1’ 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 baseline="30000">
                <a:solidFill>
                  <a:srgbClr val="3333cc"/>
                </a:solidFill>
                <a:latin typeface="Comic Sans MS"/>
              </a:rPr>
              <a:t>Q’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qt2’ 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qt1 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 baseline="30000">
                <a:solidFill>
                  <a:srgbClr val="3333cc"/>
                </a:solidFill>
                <a:latin typeface="Comic Sans MS"/>
              </a:rPr>
              <a:t>Q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qt2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rgument type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e are supposed to accept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qt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(f’s argument type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o we must accept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at leas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qt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qt1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qt1’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ample:  A function that accepts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untainte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can be replaced with one that accepts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tainte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D55EB7-1839-4C11-ACC5-83CCE181A8FC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ubtyping on Function Types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87440" y="3506400"/>
            <a:ext cx="8337600" cy="22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e say that 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Covarian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n the range (subtyping dir the same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Contravarian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n the domain (subtyping dir flips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"/>
          <p:cNvSpPr/>
          <p:nvPr/>
        </p:nvSpPr>
        <p:spPr>
          <a:xfrm>
            <a:off x="2630520" y="1895400"/>
            <a:ext cx="48499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qt1’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qt1    qt2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qt2’   Q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Q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qt1 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 baseline="30000">
                <a:solidFill>
                  <a:srgbClr val="3333cc"/>
                </a:solidFill>
                <a:latin typeface="Comic Sans MS"/>
              </a:rPr>
              <a:t>Q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qt2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qt1’ 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 baseline="30000">
                <a:solidFill>
                  <a:srgbClr val="3333cc"/>
                </a:solidFill>
                <a:latin typeface="Comic Sans MS"/>
              </a:rPr>
              <a:t>Q’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qt2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741760" y="2378160"/>
            <a:ext cx="4652640" cy="144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E5F13B-CE69-459C-A5E6-BD10553F0D58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Dynamic Semantics with Qualifiers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perational semantics tags values with qualifier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v ::= x | n</a:t>
            </a:r>
            <a:r>
              <a:rPr b="0" lang="en-US" sz="2400" spc="-1" strike="noStrike" baseline="30000">
                <a:solidFill>
                  <a:srgbClr val="cc0099"/>
                </a:solidFill>
                <a:latin typeface="Comic Sans MS"/>
              </a:rPr>
              <a:t>Q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| true</a:t>
            </a:r>
            <a:r>
              <a:rPr b="0" lang="en-US" sz="2400" spc="-1" strike="noStrike" baseline="30000">
                <a:solidFill>
                  <a:srgbClr val="cc0099"/>
                </a:solidFill>
                <a:latin typeface="Comic Sans MS"/>
              </a:rPr>
              <a:t>Q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| false</a:t>
            </a:r>
            <a:r>
              <a:rPr b="0" lang="en-US" sz="2400" spc="-1" strike="noStrike" baseline="30000">
                <a:solidFill>
                  <a:srgbClr val="cc0099"/>
                </a:solidFill>
                <a:latin typeface="Comic Sans MS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| fun f</a:t>
            </a:r>
            <a:r>
              <a:rPr b="0" lang="en-US" sz="2400" spc="-1" strike="noStrike" baseline="30000">
                <a:solidFill>
                  <a:srgbClr val="cc0099"/>
                </a:solidFill>
                <a:latin typeface="Comic Sans MS"/>
              </a:rPr>
              <a:t>Q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(x : qt1) : qt2 = 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valuation rules same as before, carrying the qualifiers along, e.g.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"/>
          <p:cNvSpPr/>
          <p:nvPr/>
        </p:nvSpPr>
        <p:spPr>
          <a:xfrm>
            <a:off x="1454040" y="4954680"/>
            <a:ext cx="6470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if true</a:t>
            </a:r>
            <a:r>
              <a:rPr b="0" lang="en-US" sz="2400" spc="-1" strike="noStrike" baseline="30000">
                <a:solidFill>
                  <a:srgbClr val="3333cc"/>
                </a:solidFill>
                <a:latin typeface="Comic Sans MS"/>
              </a:rPr>
              <a:t>Q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then e1 else e2 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e1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612800" y="5432400"/>
            <a:ext cx="629280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64029A-1402-4F23-9181-77DAA9B54CE7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Drawbacks to Standard Approaches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pensiv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complet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alicious adversary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s trying to exploit anything you miss!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5EE7C8-6524-4DBF-9FCB-91634902B68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Dynamic Semantics with Qualifiers (cont’d)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ne new rule checks a qualifier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valuation at a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heck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can continue only if the qualifier matches what is expecte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therwise the program gets 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stuck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Also need rule to evaluate under a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heck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"/>
          <p:cNvSpPr/>
          <p:nvPr/>
        </p:nvSpPr>
        <p:spPr>
          <a:xfrm>
            <a:off x="1785960" y="2278080"/>
            <a:ext cx="6470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Q’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heck(Q, v</a:t>
            </a:r>
            <a:r>
              <a:rPr b="0" lang="en-US" sz="2400" spc="-1" strike="noStrike" baseline="30000">
                <a:solidFill>
                  <a:srgbClr val="3333cc"/>
                </a:solidFill>
                <a:latin typeface="Comic Sans MS"/>
              </a:rPr>
              <a:t>Q’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) 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v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703680" y="2755800"/>
            <a:ext cx="272268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D8DCB5-4F83-47C5-85AB-E159D219EF0B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oundness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e want to prov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eservation:  Evaluation preserves typ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ogress:  Well-typed programs don’t get stuck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oof:  Exercis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e if you can adapt proofs to this syste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Not too much work; really just need to show that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heck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doesn’t get stuck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8894D2-0176-4E78-8D29-7EB13F441B90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Updateable References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ur MinML language is missing 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side-effect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re’s no way to write to memor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call that this doesn’t limit expressivenes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ut side-effects sure are hand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775CFA-FD80-4BEA-8796-40ADFB14708E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Language Extension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2372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e’ll add ML-style referenc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e ::= … | ref</a:t>
            </a:r>
            <a:r>
              <a:rPr b="0" lang="en-US" sz="2400" spc="-1" strike="noStrike" baseline="30000">
                <a:solidFill>
                  <a:srgbClr val="3333cc"/>
                </a:solidFill>
                <a:latin typeface="Comic Sans MS"/>
              </a:rPr>
              <a:t>Q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e | !e | e := 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ref</a:t>
            </a:r>
            <a:r>
              <a:rPr b="0" lang="en-US" sz="2000" spc="-1" strike="noStrike" baseline="30000">
                <a:solidFill>
                  <a:srgbClr val="3333cc"/>
                </a:solidFill>
                <a:latin typeface="Comic Sans MS"/>
              </a:rPr>
              <a:t>Q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-- Allocate memory and set its contents to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turns memory locati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499"/>
              </a:spcBef>
              <a:buClr>
                <a:srgbClr val="3333cc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is qualifier on pointer (not on contents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!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-- Return the contents of memory location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e1 := e2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-- Update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e1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’s contents to contain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e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ngs to notic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o null pointers (memory always initialized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o mutable local variables (only pointers to heap allowed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2FE9AB-C10F-4366-B67B-E0F4A873DC4E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tatic Semantics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tend type language with references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qt ::= … | ref</a:t>
            </a:r>
            <a:r>
              <a:rPr b="0" lang="en-US" sz="2400" spc="-1" strike="noStrike" baseline="30000">
                <a:solidFill>
                  <a:srgbClr val="3333cc"/>
                </a:solidFill>
                <a:latin typeface="Comic Sans MS"/>
              </a:rPr>
              <a:t>Q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q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ote:  In ML the ref appears on the righ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1690560" y="3195720"/>
            <a:ext cx="6150240" cy="1015920"/>
            <a:chOff x="1690560" y="3195720"/>
            <a:chExt cx="6150240" cy="1015920"/>
          </a:xfrm>
        </p:grpSpPr>
        <p:sp>
          <p:nvSpPr>
            <p:cNvPr id="235" name=""/>
            <p:cNvSpPr/>
            <p:nvPr/>
          </p:nvSpPr>
          <p:spPr>
            <a:xfrm>
              <a:off x="1690560" y="3195720"/>
              <a:ext cx="615024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G |-- e : q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G |-- ref</a:t>
              </a:r>
              <a:r>
                <a:rPr b="0" lang="en-US" sz="2400" spc="-1" strike="noStrike" baseline="30000">
                  <a:solidFill>
                    <a:srgbClr val="3333cc"/>
                  </a:solidFill>
                  <a:latin typeface="Comic Sans MS"/>
                </a:rPr>
                <a:t>Q</a:t>
              </a: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 e : ref</a:t>
              </a:r>
              <a:r>
                <a:rPr b="0" lang="en-US" sz="2400" spc="-1" strike="noStrike" baseline="30000">
                  <a:solidFill>
                    <a:srgbClr val="3333cc"/>
                  </a:solidFill>
                  <a:latin typeface="Comic Sans MS"/>
                </a:rPr>
                <a:t>Q</a:t>
              </a: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 q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103560" y="3678120"/>
              <a:ext cx="326376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80880" y="4794120"/>
            <a:ext cx="3443400" cy="1015920"/>
            <a:chOff x="380880" y="4794120"/>
            <a:chExt cx="3443400" cy="1015920"/>
          </a:xfrm>
        </p:grpSpPr>
        <p:sp>
          <p:nvSpPr>
            <p:cNvPr id="238" name=""/>
            <p:cNvSpPr/>
            <p:nvPr/>
          </p:nvSpPr>
          <p:spPr>
            <a:xfrm>
              <a:off x="380880" y="4794120"/>
              <a:ext cx="344340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G |-- e : ref</a:t>
              </a:r>
              <a:r>
                <a:rPr b="0" lang="en-US" sz="2400" spc="-1" strike="noStrike" baseline="30000">
                  <a:solidFill>
                    <a:srgbClr val="3333cc"/>
                  </a:solidFill>
                  <a:latin typeface="Comic Sans MS"/>
                </a:rPr>
                <a:t>Q</a:t>
              </a: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 q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G |-- !e : q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82760" y="5265720"/>
              <a:ext cx="326376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124160" y="4794120"/>
            <a:ext cx="4667400" cy="1015920"/>
            <a:chOff x="4124160" y="4794120"/>
            <a:chExt cx="4667400" cy="1015920"/>
          </a:xfrm>
        </p:grpSpPr>
        <p:sp>
          <p:nvSpPr>
            <p:cNvPr id="241" name=""/>
            <p:cNvSpPr/>
            <p:nvPr/>
          </p:nvSpPr>
          <p:spPr>
            <a:xfrm>
              <a:off x="4124160" y="4794120"/>
              <a:ext cx="464040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G |-- e1 : ref</a:t>
              </a:r>
              <a:r>
                <a:rPr b="0" lang="en-US" sz="2400" spc="-1" strike="noStrike" baseline="30000">
                  <a:solidFill>
                    <a:srgbClr val="3333cc"/>
                  </a:solidFill>
                  <a:latin typeface="Comic Sans MS"/>
                </a:rPr>
                <a:t>Q</a:t>
              </a: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 qt    G |-- e2 : q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G |-- e1 := e2 : q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141800" y="5265720"/>
              <a:ext cx="464976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01B8BF-D33A-4E97-A678-784095680710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Operational Semantics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dd a level of indirection to semantic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dd locations to set of valu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v ::= … | loc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stor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s a mapping from locations to valu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ew reduction relation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&lt;S, e&gt; 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&lt;S’, e’&gt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 initial store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, expression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evaluates to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e’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, resulting in new store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S’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D65FEA-5309-45D7-B538-530B9AE0F65F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ubtyping References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wrong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rule for subtyping references i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unterexampl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let x = ref 0</a:t>
            </a:r>
            <a:r>
              <a:rPr b="0" lang="en-US" sz="2400" spc="-1" strike="noStrike" baseline="30000">
                <a:solidFill>
                  <a:srgbClr val="3333cc"/>
                </a:solidFill>
                <a:latin typeface="Comic Sans MS"/>
              </a:rPr>
              <a:t>untainted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i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let y = x i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y := 3</a:t>
            </a:r>
            <a:r>
              <a:rPr b="0" lang="en-US" sz="2400" spc="-1" strike="noStrike" baseline="30000">
                <a:solidFill>
                  <a:srgbClr val="3333cc"/>
                </a:solidFill>
                <a:latin typeface="Comic Sans MS"/>
              </a:rPr>
              <a:t>tainted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heck(untainted, !x)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ops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" name=""/>
          <p:cNvSpPr/>
          <p:nvPr/>
        </p:nvSpPr>
        <p:spPr>
          <a:xfrm>
            <a:off x="2995560" y="2509920"/>
            <a:ext cx="3943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Q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Q’    qt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qt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ref</a:t>
            </a:r>
            <a:r>
              <a:rPr b="0" lang="en-US" sz="2400" spc="-1" strike="noStrike" baseline="30000">
                <a:solidFill>
                  <a:srgbClr val="ff0000"/>
                </a:solidFill>
                <a:latin typeface="Comic Sans MS"/>
              </a:rPr>
              <a:t>Q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qt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ref</a:t>
            </a:r>
            <a:r>
              <a:rPr b="0" lang="en-US" sz="2400" spc="-1" strike="noStrike" baseline="30000">
                <a:solidFill>
                  <a:srgbClr val="ff0000"/>
                </a:solidFill>
                <a:latin typeface="Comic Sans MS"/>
              </a:rPr>
              <a:t>Q’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qt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928960" y="2992320"/>
            <a:ext cx="408132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722E0D-2BD0-4BC1-9285-0DAA7A01C6DE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You’ve Got Aliasing!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e have multiple names for the same memory loca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ut they have different typ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we can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writ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nto memory at different typ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" name=""/>
          <p:cNvSpPr/>
          <p:nvPr/>
        </p:nvSpPr>
        <p:spPr>
          <a:xfrm>
            <a:off x="2209680" y="4448520"/>
            <a:ext cx="55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57800" y="4448520"/>
            <a:ext cx="55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733920" y="5105520"/>
            <a:ext cx="609480" cy="53316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602080" y="4737240"/>
            <a:ext cx="979200" cy="368280"/>
          </a:xfrm>
          <a:prstGeom prst="line">
            <a:avLst/>
          </a:prstGeom>
          <a:ln w="255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H="1">
            <a:off x="4495320" y="4809960"/>
            <a:ext cx="771480" cy="295560"/>
          </a:xfrm>
          <a:prstGeom prst="line">
            <a:avLst/>
          </a:prstGeom>
          <a:ln w="255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rot="1059600">
            <a:off x="2757240" y="4529520"/>
            <a:ext cx="88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Comic Sans MS"/>
              </a:rPr>
              <a:t>taint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rot="20434800">
            <a:off x="4376520" y="4599000"/>
            <a:ext cx="109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Comic Sans MS"/>
              </a:rPr>
              <a:t>untaint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39F329-4409-4FCB-846C-C6174A2E0CF5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olution #1:  Java’s Approach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Java uses this subtyping rul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s a subclass of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then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S[]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s a subclass of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[]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unterexample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Foo[] a = new Foo[5]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Object[] b = a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b[0] = new Object();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/ forbidden at runtim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a[0].foo();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/ …so this can’t happe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8C07AD-5D70-4530-87AA-8B26CA5D00FA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olution #2:  Purely Static Approach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ason from rules for function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reference is like an object with two method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get    : unit 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q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set    :  qt 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uni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tice that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q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occurs both co- and contravariantl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right rule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" name=""/>
          <p:cNvSpPr/>
          <p:nvPr/>
        </p:nvSpPr>
        <p:spPr>
          <a:xfrm>
            <a:off x="819000" y="4903920"/>
            <a:ext cx="3943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Q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Q’    qt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qt’   qt’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q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ref</a:t>
            </a:r>
            <a:r>
              <a:rPr b="0" lang="en-US" sz="2400" spc="-1" strike="noStrike" baseline="30000">
                <a:solidFill>
                  <a:srgbClr val="3333cc"/>
                </a:solidFill>
                <a:latin typeface="Comic Sans MS"/>
              </a:rPr>
              <a:t>Q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qt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ref</a:t>
            </a:r>
            <a:r>
              <a:rPr b="0" lang="en-US" sz="2400" spc="-1" strike="noStrike" baseline="30000">
                <a:solidFill>
                  <a:srgbClr val="3333cc"/>
                </a:solidFill>
                <a:latin typeface="Comic Sans MS"/>
              </a:rPr>
              <a:t>Q’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qt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52400" y="5386320"/>
            <a:ext cx="4081680" cy="180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129280" y="4905360"/>
            <a:ext cx="3943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Q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Q’    qt = qt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ref</a:t>
            </a:r>
            <a:r>
              <a:rPr b="0" lang="en-US" sz="2400" spc="-1" strike="noStrike" baseline="30000">
                <a:solidFill>
                  <a:srgbClr val="3333cc"/>
                </a:solidFill>
                <a:latin typeface="Comic Sans MS"/>
              </a:rPr>
              <a:t>Q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qt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ref</a:t>
            </a:r>
            <a:r>
              <a:rPr b="0" lang="en-US" sz="2400" spc="-1" strike="noStrike" baseline="30000">
                <a:solidFill>
                  <a:srgbClr val="3333cc"/>
                </a:solidFill>
                <a:latin typeface="Comic Sans MS"/>
              </a:rPr>
              <a:t>Q’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qt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719680" y="5388120"/>
            <a:ext cx="2754360" cy="144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051520" y="5126400"/>
            <a:ext cx="55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7A8BA7-869E-4AEF-805B-E4089A1AFCB7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ools for Security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at more can we do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uild tools that analyze source cod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ason about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all possible run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of the progra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heck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limited but very useful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properti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liminate categories of error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et people concentrate on the deep reasoning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velop programming model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void mistakes in the first plac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ncourage programmers to think about securit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68F16E-2A81-4CFA-8A64-C57AC2E1001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oundness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e want to prov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eservation:  Evaluation preserves typ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ogress:  Well-typed programs don’t get stuck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n you prove it with updateable references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int:  You’ll need a stronger induction hypothesi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You’ll need to reason about types in the stor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.g., so that if you retrieve a value out of the store, you know what type it ha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E9DA69-EFB6-477D-94E6-FEFD9DA4583D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ype Qualifier Inference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call our motivating exampl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e gave a legacy C program that had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no informatio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about qualifier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gular C-style types in most places unless the programmer chooses to add extra annotation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e added signatures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only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for the standard library functio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n we checked whether there were any contradictio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is requires 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type qualifier inferenc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4225C9-0D40-4083-A247-4466FD165FE7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ype Qualifier Inference Statement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iven a program with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ualifier annotatio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ome qualifier check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nd no other information about qualifier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oes there exist a valid typing of the program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e want an algorithm to solve this problem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0FA85B-5D3D-4D8E-BC49-2D629FBADA5F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 Qualifier Inference Algorithm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. </a:t>
            </a:r>
            <a:r>
              <a:rPr b="0" lang="en-US" sz="2800" spc="-1" strike="noStrike">
                <a:solidFill>
                  <a:srgbClr val="00cc99"/>
                </a:solidFill>
                <a:latin typeface="Comic Sans MS"/>
              </a:rPr>
              <a:t>Apply syntax-directed type inference rul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yntax-directed means 1 rule per syntactic construc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yntax-directed rules will generate fresh unknowns and constraints among the unknow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. </a:t>
            </a:r>
            <a:r>
              <a:rPr b="0" lang="en-US" sz="2800" spc="-1" strike="noStrike">
                <a:solidFill>
                  <a:srgbClr val="00cc99"/>
                </a:solidFill>
                <a:latin typeface="Comic Sans MS"/>
              </a:rPr>
              <a:t>Solve the constraint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ither compute a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r fail, if there is no solu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mplies the program has a type erro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mplies the program 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may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have a security vulnerabilit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D5A3A8-E088-4E2E-A059-5D12A2CCCFAE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irst Problem:  Subsumption Rule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e’re allowed to apply this rule at any tim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kes it hard to develop a deterministic algorith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ype checking is not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syntax drive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ortunately, we don’t have that many choic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r each expression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we need to decid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o we apply the “regular” rule for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r do we apply subsumption (how many times)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7" name=""/>
          <p:cNvSpPr/>
          <p:nvPr/>
        </p:nvSpPr>
        <p:spPr>
          <a:xfrm>
            <a:off x="1773360" y="1619280"/>
            <a:ext cx="61498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G |-- e : qt   qt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qt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G |-- e : qt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186000" y="2101680"/>
            <a:ext cx="326412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6EC4F1-56C2-4EA6-BC84-0A838B3F4321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emma:  Multiple sequential uses of subsumption can be collapsed into a single us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oof: Transitivity of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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Getting Rid of Subsumption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46080" y="3271680"/>
            <a:ext cx="7064280" cy="1572120"/>
            <a:chOff x="46080" y="3271680"/>
            <a:chExt cx="7064280" cy="1572120"/>
          </a:xfrm>
        </p:grpSpPr>
        <p:sp>
          <p:nvSpPr>
            <p:cNvPr id="282" name=""/>
            <p:cNvSpPr/>
            <p:nvPr/>
          </p:nvSpPr>
          <p:spPr>
            <a:xfrm>
              <a:off x="46080" y="3271680"/>
              <a:ext cx="7064280" cy="157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G |-- e : qt   qt </a:t>
              </a:r>
              <a:r>
                <a:rPr b="0" lang="en-US" sz="2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</a:t>
              </a: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 qt’</a:t>
              </a:r>
              <a:r>
                <a:rPr b="1" lang="en-US" sz="2400" spc="-1" strike="noStrike">
                  <a:solidFill>
                    <a:srgbClr val="3333cc"/>
                  </a:solidFill>
                  <a:latin typeface="Comic Sans MS"/>
                </a:rPr>
                <a:t>  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                           </a:t>
              </a: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G |-- e : qt’            qt’ </a:t>
              </a:r>
              <a:r>
                <a:rPr b="0" lang="en-US" sz="2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</a:t>
              </a: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 qt’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                              </a:t>
              </a: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G |-- e : qt’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186000" y="4324320"/>
              <a:ext cx="3264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44600" y="3790800"/>
              <a:ext cx="279396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5" name=""/>
          <p:cNvGrpSpPr/>
          <p:nvPr/>
        </p:nvGrpSpPr>
        <p:grpSpPr>
          <a:xfrm>
            <a:off x="-662040" y="4824360"/>
            <a:ext cx="7064280" cy="1572120"/>
            <a:chOff x="-662040" y="4824360"/>
            <a:chExt cx="7064280" cy="1572120"/>
          </a:xfrm>
        </p:grpSpPr>
        <p:sp>
          <p:nvSpPr>
            <p:cNvPr id="286" name=""/>
            <p:cNvSpPr/>
            <p:nvPr/>
          </p:nvSpPr>
          <p:spPr>
            <a:xfrm>
              <a:off x="-662040" y="4824360"/>
              <a:ext cx="7064280" cy="157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                           </a:t>
              </a: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G |-- e : qt            qt </a:t>
              </a:r>
              <a:r>
                <a:rPr b="0" lang="en-US" sz="2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</a:t>
              </a: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 qt’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                              </a:t>
              </a: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G |-- e : qt’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405160" y="5889600"/>
              <a:ext cx="326376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8" name=""/>
          <p:cNvSpPr/>
          <p:nvPr/>
        </p:nvSpPr>
        <p:spPr>
          <a:xfrm>
            <a:off x="806400" y="3849840"/>
            <a:ext cx="998640" cy="2238120"/>
          </a:xfrm>
          <a:custGeom>
            <a:avLst/>
            <a:gdLst>
              <a:gd name="textAreaLeft" fmla="*/ 133560 w 998640"/>
              <a:gd name="textAreaRight" fmla="*/ 865080 w 998640"/>
              <a:gd name="textAreaTop" fmla="*/ 455040 h 2238120"/>
              <a:gd name="textAreaBottom" fmla="*/ 1559160 h 2238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786" stAng="-5400000" swAng="-5400000"/>
                <a:lnTo>
                  <a:pt x="0" y="10655"/>
                </a:lnTo>
                <a:arcTo wR="21600" hR="8786" stAng="10800000" swAng="-2940081"/>
                <a:lnTo>
                  <a:pt x="14400" y="21098"/>
                </a:lnTo>
                <a:lnTo>
                  <a:pt x="21600" y="18506"/>
                </a:lnTo>
                <a:lnTo>
                  <a:pt x="14400" y="14909"/>
                </a:lnTo>
                <a:lnTo>
                  <a:pt x="14400" y="17069"/>
                </a:lnTo>
                <a:arcTo wR="21600" hR="8786" stAng="7859919" swAng="2790597"/>
                <a:lnTo>
                  <a:pt x="123" y="9720"/>
                </a:lnTo>
                <a:arcTo wR="21600" hR="8786" stAng="-10650515" swAng="5250515"/>
                <a:close/>
              </a:path>
              <a:path fill="darkenLess" w="21600" h="21600">
                <a:moveTo>
                  <a:pt x="21600" y="0"/>
                </a:moveTo>
                <a:arcTo wR="21600" hR="8786" stAng="-5400000" swAng="-5400000"/>
                <a:lnTo>
                  <a:pt x="0" y="8786"/>
                </a:lnTo>
                <a:arcTo wR="21600" hR="8786" stAng="10800000" swAng="-149485"/>
                <a:lnTo>
                  <a:pt x="123" y="9720"/>
                </a:lnTo>
                <a:arcTo wR="21600" hR="8786" stAng="-10650515" swAng="5250515"/>
                <a:close/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85EEEA-AF6D-49E6-85A7-76886A51F310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2064240" y="4595760"/>
            <a:ext cx="5500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 ……     </a:t>
            </a:r>
            <a:r>
              <a:rPr b="1" lang="en-US" sz="2000" spc="-1" strike="noStrike">
                <a:solidFill>
                  <a:srgbClr val="3333cc"/>
                </a:solidFill>
                <a:latin typeface="Comic Sans MS"/>
              </a:rPr>
              <a:t>qt1 &lt;= q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ordinary prem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   </a:t>
            </a: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ordinary conclusion           </a:t>
            </a:r>
            <a:r>
              <a:rPr b="1" lang="en-US" sz="2000" spc="-1" strike="noStrike">
                <a:solidFill>
                  <a:srgbClr val="3333cc"/>
                </a:solidFill>
                <a:latin typeface="Comic Sans MS"/>
              </a:rPr>
              <a:t>qt3 &lt;=qt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             </a:t>
            </a: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ordinary prem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               </a:t>
            </a: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conclu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305920" cy="29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emma:  Multiple sequential uses of subsumption can be collapsed into a single us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sequence: All typing derivations can be structured as exactly one subsumption rule followed by an ordinary rule 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Getting Rid of Subsumption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2038320" y="5003640"/>
            <a:ext cx="2449440" cy="1296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2038320" y="5358960"/>
            <a:ext cx="3083040" cy="2556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flipV="1">
            <a:off x="2292480" y="5754240"/>
            <a:ext cx="5467320" cy="1116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 flipV="1">
            <a:off x="3613320" y="6095880"/>
            <a:ext cx="2449440" cy="1296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689960" y="5541840"/>
            <a:ext cx="81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mic Sans MS"/>
              </a:rPr>
              <a:t>(su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997240" y="5859360"/>
            <a:ext cx="1448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mic Sans MS"/>
              </a:rPr>
              <a:t>(ordinar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044680" y="5135400"/>
            <a:ext cx="1448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mic Sans MS"/>
              </a:rPr>
              <a:t>(ordinar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438440" y="4767120"/>
            <a:ext cx="81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mic Sans MS"/>
              </a:rPr>
              <a:t>(su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D241C9-2C05-408C-8287-F4C22882CB61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Getting Rid of Subsumption (cont’d)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ext: Get rid of separate subsumption rul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corporate it directly into the other rul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2" name=""/>
          <p:cNvSpPr/>
          <p:nvPr/>
        </p:nvSpPr>
        <p:spPr>
          <a:xfrm>
            <a:off x="536400" y="3981240"/>
            <a:ext cx="8251920" cy="253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      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G |-- e1 : qt’ 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 baseline="30000">
                <a:solidFill>
                  <a:srgbClr val="3333cc"/>
                </a:solidFill>
                <a:latin typeface="Comic Sans MS"/>
              </a:rPr>
              <a:t>Q’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qt’’           G |-- e2 : q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qt’ 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 baseline="30000">
                <a:solidFill>
                  <a:srgbClr val="3333cc"/>
                </a:solidFill>
                <a:latin typeface="Comic Sans MS"/>
              </a:rPr>
              <a:t>Q’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qt’’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qt1 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 baseline="30000">
                <a:solidFill>
                  <a:srgbClr val="3333cc"/>
                </a:solidFill>
                <a:latin typeface="Comic Sans MS"/>
              </a:rPr>
              <a:t>Q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qt2            qt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qt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G |-- e1 : qt1 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 baseline="30000">
                <a:solidFill>
                  <a:srgbClr val="3333cc"/>
                </a:solidFill>
                <a:latin typeface="Comic Sans MS"/>
              </a:rPr>
              <a:t>Q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qt2       G |-- e2 : qt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G |-- e1 e2 : qt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767560" y="4933800"/>
            <a:ext cx="243828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flipV="1">
            <a:off x="2208240" y="5432040"/>
            <a:ext cx="5441760" cy="2556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flipV="1">
            <a:off x="1852560" y="4902120"/>
            <a:ext cx="3328920" cy="1296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7590960" y="5186520"/>
            <a:ext cx="83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mic Sans MS"/>
              </a:rPr>
              <a:t>(ap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8197920" y="4716360"/>
            <a:ext cx="81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mic Sans MS"/>
              </a:rPr>
              <a:t>(su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035000" y="4678200"/>
            <a:ext cx="81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mic Sans MS"/>
              </a:rPr>
              <a:t>(su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1132E4-7613-4ADC-B079-75408F870F8A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Getting Rid of Subsumption (cont’d)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. Fold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e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subsumption into rule &amp; breakdown function subtyping rul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"/>
          <p:cNvSpPr/>
          <p:nvPr/>
        </p:nvSpPr>
        <p:spPr>
          <a:xfrm>
            <a:off x="536400" y="3422520"/>
            <a:ext cx="8251920" cy="253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      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G |-- e1 : qt’ 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 baseline="30000">
                <a:solidFill>
                  <a:srgbClr val="3333cc"/>
                </a:solidFill>
                <a:latin typeface="Comic Sans MS"/>
              </a:rPr>
              <a:t>Q’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qt’’    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cc0099"/>
                </a:solidFill>
                <a:latin typeface="Comic Sans MS"/>
              </a:rPr>
              <a:t>qt1 </a:t>
            </a:r>
            <a:r>
              <a:rPr b="0" lang="en-US" sz="2400" spc="-1" strike="noStrike">
                <a:solidFill>
                  <a:srgbClr val="cc0099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cc0099"/>
                </a:solidFill>
                <a:latin typeface="Comic Sans MS"/>
              </a:rPr>
              <a:t> qt’ Q’ </a:t>
            </a:r>
            <a:r>
              <a:rPr b="0" lang="en-US" sz="2400" spc="-1" strike="noStrike">
                <a:solidFill>
                  <a:srgbClr val="cc0099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cc0099"/>
                </a:solidFill>
                <a:latin typeface="Comic Sans MS"/>
              </a:rPr>
              <a:t> Q qt’’ </a:t>
            </a:r>
            <a:r>
              <a:rPr b="0" lang="en-US" sz="2400" spc="-1" strike="noStrike">
                <a:solidFill>
                  <a:srgbClr val="cc0099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cc0099"/>
                </a:solidFill>
                <a:latin typeface="Comic Sans MS"/>
              </a:rPr>
              <a:t> qt2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G |-- e1 : qt1 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 baseline="30000">
                <a:solidFill>
                  <a:srgbClr val="3333cc"/>
                </a:solidFill>
                <a:latin typeface="Comic Sans MS"/>
              </a:rPr>
              <a:t>Q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qt2       G |-- e2 : </a:t>
            </a:r>
            <a:r>
              <a:rPr b="0" lang="en-US" sz="2400" spc="-1" strike="noStrike">
                <a:solidFill>
                  <a:srgbClr val="cc0099"/>
                </a:solidFill>
                <a:latin typeface="Comic Sans MS"/>
              </a:rPr>
              <a:t>qt   qt </a:t>
            </a:r>
            <a:r>
              <a:rPr b="0" lang="en-US" sz="2400" spc="-1" strike="noStrike">
                <a:solidFill>
                  <a:srgbClr val="cc0099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cc0099"/>
                </a:solidFill>
                <a:latin typeface="Comic Sans MS"/>
              </a:rPr>
              <a:t> qt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G |-- e1 e2 : qt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49520" y="4898880"/>
            <a:ext cx="629280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649520" y="4343400"/>
            <a:ext cx="353196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5642E5-043E-4BEF-86C1-CD6358AA1CFB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Getting Rid of Subsumption (cont’d)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. Fold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e1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subsumption into rul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" name=""/>
          <p:cNvSpPr/>
          <p:nvPr/>
        </p:nvSpPr>
        <p:spPr>
          <a:xfrm>
            <a:off x="536400" y="3422160"/>
            <a:ext cx="8251920" cy="253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qt1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qt’ Q’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Q qt’’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qt2 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G |-- e1 : </a:t>
            </a:r>
            <a:r>
              <a:rPr b="0" lang="en-US" sz="2400" spc="-1" strike="noStrike">
                <a:solidFill>
                  <a:srgbClr val="cc0099"/>
                </a:solidFill>
                <a:latin typeface="Comic Sans MS"/>
              </a:rPr>
              <a:t>qt’ </a:t>
            </a:r>
            <a:r>
              <a:rPr b="1" lang="en-US" sz="2400" spc="-1" strike="noStrike">
                <a:solidFill>
                  <a:srgbClr val="cc0099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 baseline="30000">
                <a:solidFill>
                  <a:srgbClr val="cc0099"/>
                </a:solidFill>
                <a:latin typeface="Comic Sans MS"/>
              </a:rPr>
              <a:t>Q’</a:t>
            </a:r>
            <a:r>
              <a:rPr b="0" lang="en-US" sz="2400" spc="-1" strike="noStrike">
                <a:solidFill>
                  <a:srgbClr val="cc0099"/>
                </a:solidFill>
                <a:latin typeface="Comic Sans MS"/>
              </a:rPr>
              <a:t> qt’’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    G |-- e2 : qt   qt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qt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G |-- e1 e2 : qt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649520" y="4898880"/>
            <a:ext cx="629280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5B5ED6-FABD-4265-98E1-84C2EC1F0AA5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ools Need Specifications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"/>
          <p:cNvSpPr/>
          <p:nvPr/>
        </p:nvSpPr>
        <p:spPr>
          <a:xfrm>
            <a:off x="460440" y="1770120"/>
            <a:ext cx="822636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oal:  Add specifications to progra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 a way that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ogrammers will acce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ightwe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cales to large 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olves many different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8183E0-A60D-4FEC-995D-4889C754F69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Getting Rid of Subsumption (cont’d)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3. We don’t use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so remove that constraint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" name=""/>
          <p:cNvSpPr/>
          <p:nvPr/>
        </p:nvSpPr>
        <p:spPr>
          <a:xfrm>
            <a:off x="536400" y="3422160"/>
            <a:ext cx="8251920" cy="253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qt1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qt’            qt’’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qt2 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G |-- e1 : qt’ 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 baseline="30000">
                <a:solidFill>
                  <a:srgbClr val="3333cc"/>
                </a:solidFill>
                <a:latin typeface="Comic Sans MS"/>
              </a:rPr>
              <a:t>Q’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qt’’       G |-- e2 : qt   qt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qt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G |-- e1 e2 : qt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649520" y="4898880"/>
            <a:ext cx="629280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1999C6-5935-4A2A-B6A2-5A6EE4B48825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Getting Rid of Subsumption (cont’d)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4. Apply transitivity of 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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move intermediate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qt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" name=""/>
          <p:cNvSpPr/>
          <p:nvPr/>
        </p:nvSpPr>
        <p:spPr>
          <a:xfrm>
            <a:off x="536400" y="3422160"/>
            <a:ext cx="8251920" cy="253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qt’’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qt2 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G |-- e1 : qt’ 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 baseline="30000">
                <a:solidFill>
                  <a:srgbClr val="3333cc"/>
                </a:solidFill>
                <a:latin typeface="Comic Sans MS"/>
              </a:rPr>
              <a:t>Q’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qt’’       G |-- e2 : qt   qt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cc0099"/>
                </a:solidFill>
                <a:latin typeface="Comic Sans MS"/>
              </a:rPr>
              <a:t>qt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G |-- e1 e2 : qt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649520" y="4898880"/>
            <a:ext cx="629280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9F7B72-9046-4601-86E0-C674245D3F35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Getting Rid of Subsumption (cont’d)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5. We’re going to apply subsumption afterward, so no need to weaken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qt’’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8" name=""/>
          <p:cNvSpPr/>
          <p:nvPr/>
        </p:nvSpPr>
        <p:spPr>
          <a:xfrm>
            <a:off x="536400" y="3422160"/>
            <a:ext cx="8251920" cy="253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G |-- e1 : qt’ 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 baseline="30000">
                <a:solidFill>
                  <a:srgbClr val="3333cc"/>
                </a:solidFill>
                <a:latin typeface="Comic Sans MS"/>
              </a:rPr>
              <a:t>Q’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qt’’       G |-- e2 : qt   qt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qt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G |-- e1 e2 : </a:t>
            </a:r>
            <a:r>
              <a:rPr b="0" lang="en-US" sz="2400" spc="-1" strike="noStrike">
                <a:solidFill>
                  <a:srgbClr val="cc0099"/>
                </a:solidFill>
                <a:latin typeface="Comic Sans MS"/>
              </a:rPr>
              <a:t>qt’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649520" y="4898880"/>
            <a:ext cx="629280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0C7956-ED09-4889-A727-9F9E096C8620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Getting Rid of Subsumption (cont’d)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1" name=""/>
          <p:cNvSpPr/>
          <p:nvPr/>
        </p:nvSpPr>
        <p:spPr>
          <a:xfrm>
            <a:off x="1847880" y="1679400"/>
            <a:ext cx="614988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G |-- e : Q’ s     Q’ s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Q 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G |-- e : Q 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G |-- check(Q, e) : Q 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230640" y="2728800"/>
            <a:ext cx="326376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2955960" y="2152800"/>
            <a:ext cx="420192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057400" y="4780080"/>
            <a:ext cx="6149880" cy="94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G |-- e : Q’ s  Q’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G |-- check(Q, e) : Q 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505320" y="5257800"/>
            <a:ext cx="326376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881600" y="3497400"/>
            <a:ext cx="719280" cy="874440"/>
          </a:xfrm>
          <a:prstGeom prst="downArrow">
            <a:avLst>
              <a:gd name="adj1" fmla="val 50000"/>
              <a:gd name="adj2" fmla="val 30393"/>
            </a:avLst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DA6117-F761-4C0F-9CAB-FE2A19FF12A1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Getting Rid of Subsumption (cont’d)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e apply the same reasoning to the other rul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e’re left with a purely syntax-directed syste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ood!  Now we’re half-way to an algorithm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8769DF-83CE-4FEC-800E-8B20935174D1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econd Problem:  Assumptions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et’s take a look at the rule for functions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re’s a problem with applying this rul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e’re assuming that we’re given the argument type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qt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and the result type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qt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ut in the problem statement, we said we only have annotations and check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1" name=""/>
          <p:cNvSpPr/>
          <p:nvPr/>
        </p:nvSpPr>
        <p:spPr>
          <a:xfrm>
            <a:off x="1566720" y="2371680"/>
            <a:ext cx="6890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G, f: qt1 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 baseline="30000">
                <a:solidFill>
                  <a:srgbClr val="3333cc"/>
                </a:solidFill>
                <a:latin typeface="Comic Sans MS"/>
              </a:rPr>
              <a:t>Q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qt2, x:qt1 |-- e : qt2’   qt2’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qt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G |-- fun f</a:t>
            </a:r>
            <a:r>
              <a:rPr b="0" lang="en-US" sz="2400" spc="-1" strike="noStrike" baseline="30000">
                <a:solidFill>
                  <a:srgbClr val="3333cc"/>
                </a:solidFill>
                <a:latin typeface="Comic Sans MS"/>
              </a:rPr>
              <a:t>Q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(x:qt1):qt2 = e : qt1 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 baseline="30000">
                <a:solidFill>
                  <a:srgbClr val="3333cc"/>
                </a:solidFill>
                <a:latin typeface="Comic Sans MS"/>
              </a:rPr>
              <a:t>Q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qt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898640" y="2854440"/>
            <a:ext cx="628164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E11C3A-3CE3-4908-B424-8A741EC7D9BB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0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Unknowns in Qualifier Inference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58868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e’ve got 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regular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ype annotations for function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We could even get away without these…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ow do we pick the qualifiers for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e generate fresh, unknown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qualifier variable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and then solve for the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5" name=""/>
          <p:cNvSpPr/>
          <p:nvPr/>
        </p:nvSpPr>
        <p:spPr>
          <a:xfrm>
            <a:off x="1046160" y="3244320"/>
            <a:ext cx="6805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G, f: ? 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 baseline="30000">
                <a:solidFill>
                  <a:srgbClr val="3333cc"/>
                </a:solidFill>
                <a:latin typeface="Comic Sans MS"/>
              </a:rPr>
              <a:t>Q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?, x:? |-- e : qt2’    qt2’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qt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G |-- fun f</a:t>
            </a:r>
            <a:r>
              <a:rPr b="0" lang="en-US" sz="2400" spc="-1" strike="noStrike" baseline="30000">
                <a:solidFill>
                  <a:srgbClr val="3333cc"/>
                </a:solidFill>
                <a:latin typeface="Comic Sans MS"/>
              </a:rPr>
              <a:t>Q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(x:</a:t>
            </a:r>
            <a:r>
              <a:rPr b="0" lang="en-US" sz="2400" spc="-1" strike="noStrike">
                <a:solidFill>
                  <a:srgbClr val="cc0099"/>
                </a:solidFill>
                <a:latin typeface="Comic Sans MS"/>
              </a:rPr>
              <a:t>t1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):</a:t>
            </a:r>
            <a:r>
              <a:rPr b="0" lang="en-US" sz="2400" spc="-1" strike="noStrike">
                <a:solidFill>
                  <a:srgbClr val="cc0099"/>
                </a:solidFill>
                <a:latin typeface="Comic Sans MS"/>
              </a:rPr>
              <a:t>t2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= e : qt1 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 baseline="30000">
                <a:solidFill>
                  <a:srgbClr val="3333cc"/>
                </a:solidFill>
                <a:latin typeface="Comic Sans MS"/>
              </a:rPr>
              <a:t>Q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qt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378080" y="3727440"/>
            <a:ext cx="628164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AA7E29-CC5A-4763-A650-76D0F7BE54C9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0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dding Fresh Qualifiers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e’ll add qualifier variables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… to our set of qualifier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Letters closer to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will stand for constants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fine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fresh : t 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q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fresh(int) = int</a:t>
            </a:r>
            <a:r>
              <a:rPr b="0" lang="en-US" sz="2400" spc="-1" strike="noStrike" baseline="30000">
                <a:solidFill>
                  <a:srgbClr val="3333cc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fresh(bool) = bool</a:t>
            </a:r>
            <a:r>
              <a:rPr b="0" lang="en-US" sz="2400" spc="-1" strike="noStrike" baseline="30000">
                <a:solidFill>
                  <a:srgbClr val="3333cc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fresh(ref</a:t>
            </a:r>
            <a:r>
              <a:rPr b="0" lang="en-US" sz="2400" spc="-1" strike="noStrike" baseline="30000">
                <a:solidFill>
                  <a:srgbClr val="3333cc"/>
                </a:solidFill>
                <a:latin typeface="Comic Sans MS"/>
              </a:rPr>
              <a:t>Q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t) = ref</a:t>
            </a:r>
            <a:r>
              <a:rPr b="0" lang="en-US" sz="2400" spc="-1" strike="noStrike" baseline="30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fresh(t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fresh(t1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2) = fresh(t1) 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 baseline="30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fresh(t2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here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is fresh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222065-DEC7-43AA-8E98-0D81A94D4707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Rule for Functions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3420720"/>
            <a:ext cx="8305920" cy="259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1" name=""/>
          <p:cNvSpPr/>
          <p:nvPr/>
        </p:nvSpPr>
        <p:spPr>
          <a:xfrm>
            <a:off x="1452600" y="1593720"/>
            <a:ext cx="68054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Comic Sans MS"/>
              </a:rPr>
              <a:t>qt1 = fresh(t1)   qt2 = fresh(t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G, f: qt1 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 baseline="30000">
                <a:solidFill>
                  <a:srgbClr val="3333cc"/>
                </a:solidFill>
                <a:latin typeface="Comic Sans MS"/>
              </a:rPr>
              <a:t>Q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qt2, x:qt1 |-- e : qt2’    qt2’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qt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G |-- fun f</a:t>
            </a:r>
            <a:r>
              <a:rPr b="0" lang="en-US" sz="2400" spc="-1" strike="noStrike" baseline="30000">
                <a:solidFill>
                  <a:srgbClr val="3333cc"/>
                </a:solidFill>
                <a:latin typeface="Comic Sans MS"/>
              </a:rPr>
              <a:t>Q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(x:</a:t>
            </a:r>
            <a:r>
              <a:rPr b="0" lang="en-US" sz="2400" spc="-1" strike="noStrike">
                <a:solidFill>
                  <a:srgbClr val="cc0099"/>
                </a:solidFill>
                <a:latin typeface="Comic Sans MS"/>
              </a:rPr>
              <a:t>t1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):</a:t>
            </a:r>
            <a:r>
              <a:rPr b="0" lang="en-US" sz="2400" spc="-1" strike="noStrike">
                <a:solidFill>
                  <a:srgbClr val="cc0099"/>
                </a:solidFill>
                <a:latin typeface="Comic Sans MS"/>
              </a:rPr>
              <a:t>t2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= e : qt1 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 baseline="30000">
                <a:solidFill>
                  <a:srgbClr val="3333cc"/>
                </a:solidFill>
                <a:latin typeface="Comic Sans MS"/>
              </a:rPr>
              <a:t>Q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qt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752480" y="2749680"/>
            <a:ext cx="628200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AA0B52-DE38-4428-9B51-57262F10662C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0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 Picture of Fresh Qualifiers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54" name=""/>
          <p:cNvGrpSpPr/>
          <p:nvPr/>
        </p:nvGrpSpPr>
        <p:grpSpPr>
          <a:xfrm>
            <a:off x="762120" y="2209680"/>
            <a:ext cx="3429000" cy="1752840"/>
            <a:chOff x="762120" y="2209680"/>
            <a:chExt cx="3429000" cy="1752840"/>
          </a:xfrm>
        </p:grpSpPr>
        <p:sp>
          <p:nvSpPr>
            <p:cNvPr id="355" name=""/>
            <p:cNvSpPr/>
            <p:nvPr/>
          </p:nvSpPr>
          <p:spPr>
            <a:xfrm>
              <a:off x="762120" y="2209680"/>
              <a:ext cx="3429000" cy="175284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2514600" y="236232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pt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2441160" y="3276720"/>
              <a:ext cx="813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cha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819520" y="2819520"/>
              <a:ext cx="0" cy="4572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9" name=""/>
          <p:cNvGrpSpPr/>
          <p:nvPr/>
        </p:nvGrpSpPr>
        <p:grpSpPr>
          <a:xfrm>
            <a:off x="1295280" y="2362320"/>
            <a:ext cx="1284120" cy="1374120"/>
            <a:chOff x="1295280" y="2362320"/>
            <a:chExt cx="1284120" cy="1374120"/>
          </a:xfrm>
        </p:grpSpPr>
        <p:sp>
          <p:nvSpPr>
            <p:cNvPr id="360" name=""/>
            <p:cNvSpPr/>
            <p:nvPr/>
          </p:nvSpPr>
          <p:spPr>
            <a:xfrm>
              <a:off x="1295280" y="327672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0099"/>
                  </a:solidFill>
                  <a:latin typeface="Comic Sans MS"/>
                </a:rPr>
                <a:t>taint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206800" y="236232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99"/>
                  </a:solidFill>
                  <a:latin typeface="Symbol"/>
                  <a:ea typeface="Symbol"/>
                </a:rPr>
                <a:t>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2" name=""/>
          <p:cNvGrpSpPr/>
          <p:nvPr/>
        </p:nvGrpSpPr>
        <p:grpSpPr>
          <a:xfrm>
            <a:off x="5410080" y="2198520"/>
            <a:ext cx="3048120" cy="2743200"/>
            <a:chOff x="5410080" y="2198520"/>
            <a:chExt cx="3048120" cy="2743200"/>
          </a:xfrm>
        </p:grpSpPr>
        <p:sp>
          <p:nvSpPr>
            <p:cNvPr id="363" name=""/>
            <p:cNvSpPr/>
            <p:nvPr/>
          </p:nvSpPr>
          <p:spPr>
            <a:xfrm>
              <a:off x="5410080" y="2198520"/>
              <a:ext cx="3048120" cy="27432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6705720" y="235116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238880" y="318924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pt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238880" y="4038480"/>
              <a:ext cx="114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i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6095880" y="318924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i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 flipH="1">
              <a:off x="6402240" y="2806560"/>
              <a:ext cx="457200" cy="4572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7086600" y="2808360"/>
              <a:ext cx="457200" cy="4572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7620120" y="3657600"/>
              <a:ext cx="0" cy="4572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1" name=""/>
          <p:cNvSpPr/>
          <p:nvPr/>
        </p:nvSpPr>
        <p:spPr>
          <a:xfrm>
            <a:off x="6325200" y="2387520"/>
            <a:ext cx="473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 baseline="-25000">
                <a:solidFill>
                  <a:srgbClr val="cc0099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694840" y="3225960"/>
            <a:ext cx="473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 baseline="-25000">
                <a:solidFill>
                  <a:srgbClr val="cc0099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871320" y="4013280"/>
            <a:ext cx="473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 baseline="-25000">
                <a:solidFill>
                  <a:srgbClr val="cc0099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578640" y="32130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Comic Sans MS"/>
              </a:rPr>
              <a:t>u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219320" y="167652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ptr(             cha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752480" y="167652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Comic Sans MS"/>
              </a:rPr>
              <a:t>tain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334120" y="160020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int 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      ptr(i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095880" y="1600200"/>
            <a:ext cx="111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cc0099"/>
                </a:solidFill>
                <a:latin typeface="Comic Sans MS"/>
              </a:rPr>
              <a:t>u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E565AC-F968-4DA9-8CAF-11598FBAB11B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Qua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n extension of C with lightweight specs in the form of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type qualifier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ployed on serious applications (Linux) to find security vulnerabilities and simple coding error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nd Cqual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t </a:t>
            </a:r>
            <a:r>
              <a:rPr b="0" lang="en-US" sz="2000" spc="-1" strike="noStrike">
                <a:solidFill>
                  <a:srgbClr val="00cc99"/>
                </a:solidFill>
                <a:latin typeface="Comic Sans MS"/>
              </a:rPr>
              <a:t>http://sourceforge.net/projects/cqual/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t </a:t>
            </a:r>
            <a:r>
              <a:rPr b="0" lang="en-US" sz="2000" spc="-1" strike="noStrike">
                <a:solidFill>
                  <a:srgbClr val="00cc99"/>
                </a:solidFill>
                <a:latin typeface="Comic Sans MS"/>
              </a:rPr>
              <a:t>http://www.cs.umd.edu/~jfoster/cqual/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1304CC-08D1-445E-BFC3-68BF5990671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Where Are We?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290160" y="1599840"/>
            <a:ext cx="87217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syntax-directed system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r each expression, clear which rule to appl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stant qualifier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ariable qualifier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ant to find a valid assignment to constant qualifier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straints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qt 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qt’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Q 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Q’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se restrict our use of qualifier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se will limit solutions for qualifier variabl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28AFC4-1EBE-49CF-841C-BA956F2B1005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olving Constraints:  Step 1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straints of the form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qt 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qt’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nd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Q 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Q’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qt ::= int</a:t>
            </a:r>
            <a:r>
              <a:rPr b="0" lang="en-US" sz="2400" spc="-1" strike="noStrike" baseline="30000">
                <a:solidFill>
                  <a:srgbClr val="3333cc"/>
                </a:solidFill>
                <a:latin typeface="Comic Sans MS"/>
              </a:rPr>
              <a:t>Q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| bool</a:t>
            </a:r>
            <a:r>
              <a:rPr b="0" lang="en-US" sz="2400" spc="-1" strike="noStrike" baseline="30000">
                <a:solidFill>
                  <a:srgbClr val="3333cc"/>
                </a:solidFill>
                <a:latin typeface="Comic Sans MS"/>
              </a:rPr>
              <a:t>Q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| qt 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 baseline="30000">
                <a:solidFill>
                  <a:srgbClr val="3333cc"/>
                </a:solidFill>
                <a:latin typeface="Comic Sans MS"/>
              </a:rPr>
              <a:t>Q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qt | ref</a:t>
            </a:r>
            <a:r>
              <a:rPr b="0" lang="en-US" sz="2400" spc="-1" strike="noStrike" baseline="30000">
                <a:solidFill>
                  <a:srgbClr val="3333cc"/>
                </a:solidFill>
                <a:latin typeface="Comic Sans MS"/>
              </a:rPr>
              <a:t>Q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q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olve by simplifying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n read solution off of simplified constrain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e’ll present algorithm as a rewrite system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S ==&gt; S’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means constraints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rewrite to (simpler) constraints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S’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149763-EF2E-48D0-B95C-3A746F1492BA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olving Constraints:  Step 1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S + { int</a:t>
            </a:r>
            <a:r>
              <a:rPr b="0" lang="en-US" sz="2800" spc="-1" strike="noStrike" baseline="30000">
                <a:solidFill>
                  <a:srgbClr val="3333cc"/>
                </a:solidFill>
                <a:latin typeface="Comic Sans MS"/>
              </a:rPr>
              <a:t>Q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int</a:t>
            </a:r>
            <a:r>
              <a:rPr b="0" lang="en-US" sz="2800" spc="-1" strike="noStrike" baseline="30000">
                <a:solidFill>
                  <a:srgbClr val="3333cc"/>
                </a:solidFill>
                <a:latin typeface="Comic Sans MS"/>
              </a:rPr>
              <a:t>Q’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} ==&gt; S + { Q 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Q’ }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DF1A9E-1877-4BF0-9151-1F8D252A0F5C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olving Constraints:  Step 1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Comic Sans MS"/>
              </a:rPr>
              <a:t>S + { int</a:t>
            </a:r>
            <a:r>
              <a:rPr b="0" lang="en-US" sz="2800" spc="-1" strike="noStrike" baseline="30000">
                <a:solidFill>
                  <a:srgbClr val="b2b2b2"/>
                </a:solidFill>
                <a:latin typeface="Comic Sans MS"/>
              </a:rPr>
              <a:t>Q</a:t>
            </a:r>
            <a:r>
              <a:rPr b="0" lang="en-US" sz="2800" spc="-1" strike="noStrike">
                <a:solidFill>
                  <a:srgbClr val="b2b2b2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b2b2b2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b2b2b2"/>
                </a:solidFill>
                <a:latin typeface="Comic Sans MS"/>
              </a:rPr>
              <a:t> int</a:t>
            </a:r>
            <a:r>
              <a:rPr b="0" lang="en-US" sz="2800" spc="-1" strike="noStrike" baseline="30000">
                <a:solidFill>
                  <a:srgbClr val="b2b2b2"/>
                </a:solidFill>
                <a:latin typeface="Comic Sans MS"/>
              </a:rPr>
              <a:t>Q’</a:t>
            </a:r>
            <a:r>
              <a:rPr b="0" lang="en-US" sz="2800" spc="-1" strike="noStrike">
                <a:solidFill>
                  <a:srgbClr val="b2b2b2"/>
                </a:solidFill>
                <a:latin typeface="Comic Sans MS"/>
              </a:rPr>
              <a:t> } ==&gt; S + { Q </a:t>
            </a:r>
            <a:r>
              <a:rPr b="0" lang="en-US" sz="2800" spc="-1" strike="noStrike">
                <a:solidFill>
                  <a:srgbClr val="b2b2b2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b2b2b2"/>
                </a:solidFill>
                <a:latin typeface="Comic Sans MS"/>
              </a:rPr>
              <a:t> Q’ }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S + { bool</a:t>
            </a:r>
            <a:r>
              <a:rPr b="0" lang="en-US" sz="2800" spc="-1" strike="noStrike" baseline="30000">
                <a:solidFill>
                  <a:srgbClr val="3333cc"/>
                </a:solidFill>
                <a:latin typeface="Comic Sans MS"/>
              </a:rPr>
              <a:t>Q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bool</a:t>
            </a:r>
            <a:r>
              <a:rPr b="0" lang="en-US" sz="2800" spc="-1" strike="noStrike" baseline="30000">
                <a:solidFill>
                  <a:srgbClr val="3333cc"/>
                </a:solidFill>
                <a:latin typeface="Comic Sans MS"/>
              </a:rPr>
              <a:t>Q’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} ==&gt; S + { Q 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Q’ }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6BB3D6-ECE3-4171-996F-03358B6CD374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olving Constraints:  Step 1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Comic Sans MS"/>
              </a:rPr>
              <a:t>S + { int</a:t>
            </a:r>
            <a:r>
              <a:rPr b="0" lang="en-US" sz="2800" spc="-1" strike="noStrike" baseline="30000">
                <a:solidFill>
                  <a:srgbClr val="b2b2b2"/>
                </a:solidFill>
                <a:latin typeface="Comic Sans MS"/>
              </a:rPr>
              <a:t>Q</a:t>
            </a:r>
            <a:r>
              <a:rPr b="0" lang="en-US" sz="2800" spc="-1" strike="noStrike">
                <a:solidFill>
                  <a:srgbClr val="b2b2b2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b2b2b2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b2b2b2"/>
                </a:solidFill>
                <a:latin typeface="Comic Sans MS"/>
              </a:rPr>
              <a:t> int</a:t>
            </a:r>
            <a:r>
              <a:rPr b="0" lang="en-US" sz="2800" spc="-1" strike="noStrike" baseline="30000">
                <a:solidFill>
                  <a:srgbClr val="b2b2b2"/>
                </a:solidFill>
                <a:latin typeface="Comic Sans MS"/>
              </a:rPr>
              <a:t>Q’</a:t>
            </a:r>
            <a:r>
              <a:rPr b="0" lang="en-US" sz="2800" spc="-1" strike="noStrike">
                <a:solidFill>
                  <a:srgbClr val="b2b2b2"/>
                </a:solidFill>
                <a:latin typeface="Comic Sans MS"/>
              </a:rPr>
              <a:t> } ==&gt; S + { Q </a:t>
            </a:r>
            <a:r>
              <a:rPr b="0" lang="en-US" sz="2800" spc="-1" strike="noStrike">
                <a:solidFill>
                  <a:srgbClr val="b2b2b2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b2b2b2"/>
                </a:solidFill>
                <a:latin typeface="Comic Sans MS"/>
              </a:rPr>
              <a:t> Q’ }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Comic Sans MS"/>
              </a:rPr>
              <a:t>S + { bool</a:t>
            </a:r>
            <a:r>
              <a:rPr b="0" lang="en-US" sz="2800" spc="-1" strike="noStrike" baseline="30000">
                <a:solidFill>
                  <a:srgbClr val="b2b2b2"/>
                </a:solidFill>
                <a:latin typeface="Comic Sans MS"/>
              </a:rPr>
              <a:t>Q</a:t>
            </a:r>
            <a:r>
              <a:rPr b="0" lang="en-US" sz="2800" spc="-1" strike="noStrike">
                <a:solidFill>
                  <a:srgbClr val="b2b2b2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b2b2b2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b2b2b2"/>
                </a:solidFill>
                <a:latin typeface="Comic Sans MS"/>
              </a:rPr>
              <a:t> bool</a:t>
            </a:r>
            <a:r>
              <a:rPr b="0" lang="en-US" sz="2800" spc="-1" strike="noStrike" baseline="30000">
                <a:solidFill>
                  <a:srgbClr val="b2b2b2"/>
                </a:solidFill>
                <a:latin typeface="Comic Sans MS"/>
              </a:rPr>
              <a:t>Q’</a:t>
            </a:r>
            <a:r>
              <a:rPr b="0" lang="en-US" sz="2800" spc="-1" strike="noStrike">
                <a:solidFill>
                  <a:srgbClr val="b2b2b2"/>
                </a:solidFill>
                <a:latin typeface="Comic Sans MS"/>
              </a:rPr>
              <a:t> } ==&gt; S + { Q </a:t>
            </a:r>
            <a:r>
              <a:rPr b="0" lang="en-US" sz="2800" spc="-1" strike="noStrike">
                <a:solidFill>
                  <a:srgbClr val="b2b2b2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b2b2b2"/>
                </a:solidFill>
                <a:latin typeface="Comic Sans MS"/>
              </a:rPr>
              <a:t> Q’ }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S + { qt1 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 baseline="30000">
                <a:solidFill>
                  <a:srgbClr val="3333cc"/>
                </a:solidFill>
                <a:latin typeface="Comic Sans MS"/>
              </a:rPr>
              <a:t>Q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qt2 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qt1’ 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 baseline="30000">
                <a:solidFill>
                  <a:srgbClr val="3333cc"/>
                </a:solidFill>
                <a:latin typeface="Comic Sans MS"/>
              </a:rPr>
              <a:t>Q’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qt2’ } ==&gt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    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S + { qt1’ 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qt1 } + { qt2 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qt2’ } + { Q 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Q’ }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7EC2F7-0B1F-4E2A-BFF6-BD9C871DF9D7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olving Constraints:  Step 1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Comic Sans MS"/>
              </a:rPr>
              <a:t>S + { int</a:t>
            </a:r>
            <a:r>
              <a:rPr b="0" lang="en-US" sz="2800" spc="-1" strike="noStrike" baseline="30000">
                <a:solidFill>
                  <a:srgbClr val="b2b2b2"/>
                </a:solidFill>
                <a:latin typeface="Comic Sans MS"/>
              </a:rPr>
              <a:t>Q</a:t>
            </a:r>
            <a:r>
              <a:rPr b="0" lang="en-US" sz="2800" spc="-1" strike="noStrike">
                <a:solidFill>
                  <a:srgbClr val="b2b2b2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b2b2b2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b2b2b2"/>
                </a:solidFill>
                <a:latin typeface="Comic Sans MS"/>
              </a:rPr>
              <a:t> int</a:t>
            </a:r>
            <a:r>
              <a:rPr b="0" lang="en-US" sz="2800" spc="-1" strike="noStrike" baseline="30000">
                <a:solidFill>
                  <a:srgbClr val="b2b2b2"/>
                </a:solidFill>
                <a:latin typeface="Comic Sans MS"/>
              </a:rPr>
              <a:t>Q’</a:t>
            </a:r>
            <a:r>
              <a:rPr b="0" lang="en-US" sz="2800" spc="-1" strike="noStrike">
                <a:solidFill>
                  <a:srgbClr val="b2b2b2"/>
                </a:solidFill>
                <a:latin typeface="Comic Sans MS"/>
              </a:rPr>
              <a:t> } ==&gt; S + { Q </a:t>
            </a:r>
            <a:r>
              <a:rPr b="0" lang="en-US" sz="2800" spc="-1" strike="noStrike">
                <a:solidFill>
                  <a:srgbClr val="b2b2b2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b2b2b2"/>
                </a:solidFill>
                <a:latin typeface="Comic Sans MS"/>
              </a:rPr>
              <a:t> Q’ }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Comic Sans MS"/>
              </a:rPr>
              <a:t>S + { bool</a:t>
            </a:r>
            <a:r>
              <a:rPr b="0" lang="en-US" sz="2800" spc="-1" strike="noStrike" baseline="30000">
                <a:solidFill>
                  <a:srgbClr val="b2b2b2"/>
                </a:solidFill>
                <a:latin typeface="Comic Sans MS"/>
              </a:rPr>
              <a:t>Q</a:t>
            </a:r>
            <a:r>
              <a:rPr b="0" lang="en-US" sz="2800" spc="-1" strike="noStrike">
                <a:solidFill>
                  <a:srgbClr val="b2b2b2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b2b2b2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b2b2b2"/>
                </a:solidFill>
                <a:latin typeface="Comic Sans MS"/>
              </a:rPr>
              <a:t> bool</a:t>
            </a:r>
            <a:r>
              <a:rPr b="0" lang="en-US" sz="2800" spc="-1" strike="noStrike" baseline="30000">
                <a:solidFill>
                  <a:srgbClr val="b2b2b2"/>
                </a:solidFill>
                <a:latin typeface="Comic Sans MS"/>
              </a:rPr>
              <a:t>Q’</a:t>
            </a:r>
            <a:r>
              <a:rPr b="0" lang="en-US" sz="2800" spc="-1" strike="noStrike">
                <a:solidFill>
                  <a:srgbClr val="b2b2b2"/>
                </a:solidFill>
                <a:latin typeface="Comic Sans MS"/>
              </a:rPr>
              <a:t> } ==&gt; S + { Q </a:t>
            </a:r>
            <a:r>
              <a:rPr b="0" lang="en-US" sz="2800" spc="-1" strike="noStrike">
                <a:solidFill>
                  <a:srgbClr val="b2b2b2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b2b2b2"/>
                </a:solidFill>
                <a:latin typeface="Comic Sans MS"/>
              </a:rPr>
              <a:t> Q’ }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Comic Sans MS"/>
              </a:rPr>
              <a:t>S + { qt1 </a:t>
            </a:r>
            <a:r>
              <a:rPr b="1" lang="en-US" sz="2800" spc="-1" strike="noStrike">
                <a:solidFill>
                  <a:srgbClr val="b2b2b2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 baseline="30000">
                <a:solidFill>
                  <a:srgbClr val="b2b2b2"/>
                </a:solidFill>
                <a:latin typeface="Comic Sans MS"/>
              </a:rPr>
              <a:t>Q</a:t>
            </a:r>
            <a:r>
              <a:rPr b="0" lang="en-US" sz="2800" spc="-1" strike="noStrike">
                <a:solidFill>
                  <a:srgbClr val="b2b2b2"/>
                </a:solidFill>
                <a:latin typeface="Comic Sans MS"/>
              </a:rPr>
              <a:t> qt2 </a:t>
            </a:r>
            <a:r>
              <a:rPr b="0" lang="en-US" sz="2800" spc="-1" strike="noStrike">
                <a:solidFill>
                  <a:srgbClr val="b2b2b2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b2b2b2"/>
                </a:solidFill>
                <a:latin typeface="Comic Sans MS"/>
              </a:rPr>
              <a:t> qt1’ </a:t>
            </a:r>
            <a:r>
              <a:rPr b="1" lang="en-US" sz="2800" spc="-1" strike="noStrike">
                <a:solidFill>
                  <a:srgbClr val="b2b2b2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 baseline="30000">
                <a:solidFill>
                  <a:srgbClr val="b2b2b2"/>
                </a:solidFill>
                <a:latin typeface="Comic Sans MS"/>
              </a:rPr>
              <a:t>Q’</a:t>
            </a:r>
            <a:r>
              <a:rPr b="0" lang="en-US" sz="2800" spc="-1" strike="noStrike">
                <a:solidFill>
                  <a:srgbClr val="b2b2b2"/>
                </a:solidFill>
                <a:latin typeface="Comic Sans MS"/>
              </a:rPr>
              <a:t> qt2’ } ==&gt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Comic Sans MS"/>
              </a:rPr>
              <a:t>      </a:t>
            </a:r>
            <a:r>
              <a:rPr b="0" lang="en-US" sz="2800" spc="-1" strike="noStrike">
                <a:solidFill>
                  <a:srgbClr val="b2b2b2"/>
                </a:solidFill>
                <a:latin typeface="Comic Sans MS"/>
              </a:rPr>
              <a:t>S + { qt1’ </a:t>
            </a:r>
            <a:r>
              <a:rPr b="0" lang="en-US" sz="2800" spc="-1" strike="noStrike">
                <a:solidFill>
                  <a:srgbClr val="b2b2b2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b2b2b2"/>
                </a:solidFill>
                <a:latin typeface="Comic Sans MS"/>
              </a:rPr>
              <a:t> qt1 } + { qt2 </a:t>
            </a:r>
            <a:r>
              <a:rPr b="0" lang="en-US" sz="2800" spc="-1" strike="noStrike">
                <a:solidFill>
                  <a:srgbClr val="b2b2b2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b2b2b2"/>
                </a:solidFill>
                <a:latin typeface="Comic Sans MS"/>
              </a:rPr>
              <a:t> qt2’ } + { Q </a:t>
            </a:r>
            <a:r>
              <a:rPr b="0" lang="en-US" sz="2800" spc="-1" strike="noStrike">
                <a:solidFill>
                  <a:srgbClr val="b2b2b2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b2b2b2"/>
                </a:solidFill>
                <a:latin typeface="Comic Sans MS"/>
              </a:rPr>
              <a:t> Q’ }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S + { ref</a:t>
            </a:r>
            <a:r>
              <a:rPr b="0" lang="en-US" sz="2800" spc="-1" strike="noStrike" baseline="30000">
                <a:solidFill>
                  <a:srgbClr val="3333cc"/>
                </a:solidFill>
                <a:latin typeface="Comic Sans MS"/>
              </a:rPr>
              <a:t>Q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qt1 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ref</a:t>
            </a:r>
            <a:r>
              <a:rPr b="0" lang="en-US" sz="2800" spc="-1" strike="noStrike" baseline="30000">
                <a:solidFill>
                  <a:srgbClr val="3333cc"/>
                </a:solidFill>
                <a:latin typeface="Comic Sans MS"/>
              </a:rPr>
              <a:t>Q’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qt2 } ==&gt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    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S + { qt1 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qt2 } + { qt2 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qt1 } + { Q 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Q’ }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71575D-1E01-4FD2-A4CF-A3DB89B0C24F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olving Constraints:  Step 1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Comic Sans MS"/>
              </a:rPr>
              <a:t>S + { int</a:t>
            </a:r>
            <a:r>
              <a:rPr b="0" lang="en-US" sz="2800" spc="-1" strike="noStrike" baseline="30000">
                <a:solidFill>
                  <a:srgbClr val="b2b2b2"/>
                </a:solidFill>
                <a:latin typeface="Comic Sans MS"/>
              </a:rPr>
              <a:t>Q</a:t>
            </a:r>
            <a:r>
              <a:rPr b="0" lang="en-US" sz="2800" spc="-1" strike="noStrike">
                <a:solidFill>
                  <a:srgbClr val="b2b2b2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b2b2b2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b2b2b2"/>
                </a:solidFill>
                <a:latin typeface="Comic Sans MS"/>
              </a:rPr>
              <a:t> int</a:t>
            </a:r>
            <a:r>
              <a:rPr b="0" lang="en-US" sz="2800" spc="-1" strike="noStrike" baseline="30000">
                <a:solidFill>
                  <a:srgbClr val="b2b2b2"/>
                </a:solidFill>
                <a:latin typeface="Comic Sans MS"/>
              </a:rPr>
              <a:t>Q’</a:t>
            </a:r>
            <a:r>
              <a:rPr b="0" lang="en-US" sz="2800" spc="-1" strike="noStrike">
                <a:solidFill>
                  <a:srgbClr val="b2b2b2"/>
                </a:solidFill>
                <a:latin typeface="Comic Sans MS"/>
              </a:rPr>
              <a:t> } ==&gt; S + { Q </a:t>
            </a:r>
            <a:r>
              <a:rPr b="0" lang="en-US" sz="2800" spc="-1" strike="noStrike">
                <a:solidFill>
                  <a:srgbClr val="b2b2b2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b2b2b2"/>
                </a:solidFill>
                <a:latin typeface="Comic Sans MS"/>
              </a:rPr>
              <a:t> Q’ }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Comic Sans MS"/>
              </a:rPr>
              <a:t>S + { bool</a:t>
            </a:r>
            <a:r>
              <a:rPr b="0" lang="en-US" sz="2800" spc="-1" strike="noStrike" baseline="30000">
                <a:solidFill>
                  <a:srgbClr val="b2b2b2"/>
                </a:solidFill>
                <a:latin typeface="Comic Sans MS"/>
              </a:rPr>
              <a:t>Q</a:t>
            </a:r>
            <a:r>
              <a:rPr b="0" lang="en-US" sz="2800" spc="-1" strike="noStrike">
                <a:solidFill>
                  <a:srgbClr val="b2b2b2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b2b2b2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b2b2b2"/>
                </a:solidFill>
                <a:latin typeface="Comic Sans MS"/>
              </a:rPr>
              <a:t> bool</a:t>
            </a:r>
            <a:r>
              <a:rPr b="0" lang="en-US" sz="2800" spc="-1" strike="noStrike" baseline="30000">
                <a:solidFill>
                  <a:srgbClr val="b2b2b2"/>
                </a:solidFill>
                <a:latin typeface="Comic Sans MS"/>
              </a:rPr>
              <a:t>Q’</a:t>
            </a:r>
            <a:r>
              <a:rPr b="0" lang="en-US" sz="2800" spc="-1" strike="noStrike">
                <a:solidFill>
                  <a:srgbClr val="b2b2b2"/>
                </a:solidFill>
                <a:latin typeface="Comic Sans MS"/>
              </a:rPr>
              <a:t> } ==&gt; S + { Q </a:t>
            </a:r>
            <a:r>
              <a:rPr b="0" lang="en-US" sz="2800" spc="-1" strike="noStrike">
                <a:solidFill>
                  <a:srgbClr val="b2b2b2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b2b2b2"/>
                </a:solidFill>
                <a:latin typeface="Comic Sans MS"/>
              </a:rPr>
              <a:t> Q’ }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Comic Sans MS"/>
              </a:rPr>
              <a:t>S + { qt1 </a:t>
            </a:r>
            <a:r>
              <a:rPr b="1" lang="en-US" sz="2800" spc="-1" strike="noStrike">
                <a:solidFill>
                  <a:srgbClr val="b2b2b2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 baseline="30000">
                <a:solidFill>
                  <a:srgbClr val="b2b2b2"/>
                </a:solidFill>
                <a:latin typeface="Comic Sans MS"/>
              </a:rPr>
              <a:t>Q</a:t>
            </a:r>
            <a:r>
              <a:rPr b="0" lang="en-US" sz="2800" spc="-1" strike="noStrike">
                <a:solidFill>
                  <a:srgbClr val="b2b2b2"/>
                </a:solidFill>
                <a:latin typeface="Comic Sans MS"/>
              </a:rPr>
              <a:t> qt2 </a:t>
            </a:r>
            <a:r>
              <a:rPr b="0" lang="en-US" sz="2800" spc="-1" strike="noStrike">
                <a:solidFill>
                  <a:srgbClr val="b2b2b2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b2b2b2"/>
                </a:solidFill>
                <a:latin typeface="Comic Sans MS"/>
              </a:rPr>
              <a:t> qt1’ </a:t>
            </a:r>
            <a:r>
              <a:rPr b="1" lang="en-US" sz="2800" spc="-1" strike="noStrike">
                <a:solidFill>
                  <a:srgbClr val="b2b2b2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 baseline="30000">
                <a:solidFill>
                  <a:srgbClr val="b2b2b2"/>
                </a:solidFill>
                <a:latin typeface="Comic Sans MS"/>
              </a:rPr>
              <a:t>Q’</a:t>
            </a:r>
            <a:r>
              <a:rPr b="0" lang="en-US" sz="2800" spc="-1" strike="noStrike">
                <a:solidFill>
                  <a:srgbClr val="b2b2b2"/>
                </a:solidFill>
                <a:latin typeface="Comic Sans MS"/>
              </a:rPr>
              <a:t> qt2’ } ==&gt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Comic Sans MS"/>
              </a:rPr>
              <a:t>      </a:t>
            </a:r>
            <a:r>
              <a:rPr b="0" lang="en-US" sz="2800" spc="-1" strike="noStrike">
                <a:solidFill>
                  <a:srgbClr val="b2b2b2"/>
                </a:solidFill>
                <a:latin typeface="Comic Sans MS"/>
              </a:rPr>
              <a:t>S + { qt1’ </a:t>
            </a:r>
            <a:r>
              <a:rPr b="0" lang="en-US" sz="2800" spc="-1" strike="noStrike">
                <a:solidFill>
                  <a:srgbClr val="b2b2b2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b2b2b2"/>
                </a:solidFill>
                <a:latin typeface="Comic Sans MS"/>
              </a:rPr>
              <a:t> qt1 } + { qt2 </a:t>
            </a:r>
            <a:r>
              <a:rPr b="0" lang="en-US" sz="2800" spc="-1" strike="noStrike">
                <a:solidFill>
                  <a:srgbClr val="b2b2b2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b2b2b2"/>
                </a:solidFill>
                <a:latin typeface="Comic Sans MS"/>
              </a:rPr>
              <a:t> qt2’ } + { Q </a:t>
            </a:r>
            <a:r>
              <a:rPr b="0" lang="en-US" sz="2800" spc="-1" strike="noStrike">
                <a:solidFill>
                  <a:srgbClr val="b2b2b2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b2b2b2"/>
                </a:solidFill>
                <a:latin typeface="Comic Sans MS"/>
              </a:rPr>
              <a:t> Q’ }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Comic Sans MS"/>
              </a:rPr>
              <a:t>S + { ref</a:t>
            </a:r>
            <a:r>
              <a:rPr b="0" lang="en-US" sz="2800" spc="-1" strike="noStrike" baseline="30000">
                <a:solidFill>
                  <a:srgbClr val="b2b2b2"/>
                </a:solidFill>
                <a:latin typeface="Comic Sans MS"/>
              </a:rPr>
              <a:t>Q</a:t>
            </a:r>
            <a:r>
              <a:rPr b="0" lang="en-US" sz="2800" spc="-1" strike="noStrike">
                <a:solidFill>
                  <a:srgbClr val="b2b2b2"/>
                </a:solidFill>
                <a:latin typeface="Comic Sans MS"/>
              </a:rPr>
              <a:t> qt1 </a:t>
            </a:r>
            <a:r>
              <a:rPr b="0" lang="en-US" sz="2800" spc="-1" strike="noStrike">
                <a:solidFill>
                  <a:srgbClr val="b2b2b2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b2b2b2"/>
                </a:solidFill>
                <a:latin typeface="Comic Sans MS"/>
              </a:rPr>
              <a:t> ref</a:t>
            </a:r>
            <a:r>
              <a:rPr b="0" lang="en-US" sz="2800" spc="-1" strike="noStrike" baseline="30000">
                <a:solidFill>
                  <a:srgbClr val="b2b2b2"/>
                </a:solidFill>
                <a:latin typeface="Comic Sans MS"/>
              </a:rPr>
              <a:t>Q’</a:t>
            </a:r>
            <a:r>
              <a:rPr b="0" lang="en-US" sz="2800" spc="-1" strike="noStrike">
                <a:solidFill>
                  <a:srgbClr val="b2b2b2"/>
                </a:solidFill>
                <a:latin typeface="Comic Sans MS"/>
              </a:rPr>
              <a:t> qt2 } ==&gt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Comic Sans MS"/>
              </a:rPr>
              <a:t>      </a:t>
            </a:r>
            <a:r>
              <a:rPr b="0" lang="en-US" sz="2800" spc="-1" strike="noStrike">
                <a:solidFill>
                  <a:srgbClr val="b2b2b2"/>
                </a:solidFill>
                <a:latin typeface="Comic Sans MS"/>
              </a:rPr>
              <a:t>S + { qt1 </a:t>
            </a:r>
            <a:r>
              <a:rPr b="0" lang="en-US" sz="2800" spc="-1" strike="noStrike">
                <a:solidFill>
                  <a:srgbClr val="b2b2b2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b2b2b2"/>
                </a:solidFill>
                <a:latin typeface="Comic Sans MS"/>
              </a:rPr>
              <a:t> qt2 } + { qt2 </a:t>
            </a:r>
            <a:r>
              <a:rPr b="0" lang="en-US" sz="2800" spc="-1" strike="noStrike">
                <a:solidFill>
                  <a:srgbClr val="b2b2b2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b2b2b2"/>
                </a:solidFill>
                <a:latin typeface="Comic Sans MS"/>
              </a:rPr>
              <a:t> qt1 } + { Q </a:t>
            </a:r>
            <a:r>
              <a:rPr b="0" lang="en-US" sz="2800" spc="-1" strike="noStrike">
                <a:solidFill>
                  <a:srgbClr val="b2b2b2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b2b2b2"/>
                </a:solidFill>
                <a:latin typeface="Comic Sans MS"/>
              </a:rPr>
              <a:t> Q’ }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S + { mismatched constructors } ==&gt; erro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n’t happen if program correct w.r.t. std typ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C791B1-0AD9-4771-A00E-38EC99DE3E03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olving Constriants:  Step 2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ur type system is called a 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structural subtyping system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qt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qt’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then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q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qt’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have the same shap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en we’re done with step 1, we’re left with constraints of the form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Q 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Q’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ere either of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Q’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may be an unknow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s is called an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atomic subtyping syste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at’s because qualifiers don’t have any “structure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8D3A8C-AAF2-49E4-BB41-8615F9D1E2DB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5" name=""/>
          <p:cNvGrpSpPr/>
          <p:nvPr/>
        </p:nvGrpSpPr>
        <p:grpSpPr>
          <a:xfrm>
            <a:off x="762120" y="2286000"/>
            <a:ext cx="6705360" cy="3124080"/>
            <a:chOff x="762120" y="2286000"/>
            <a:chExt cx="6705360" cy="3124080"/>
          </a:xfrm>
        </p:grpSpPr>
        <p:sp>
          <p:nvSpPr>
            <p:cNvPr id="396" name=""/>
            <p:cNvSpPr/>
            <p:nvPr/>
          </p:nvSpPr>
          <p:spPr>
            <a:xfrm>
              <a:off x="990720" y="2286000"/>
              <a:ext cx="2361960" cy="312408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2057400" y="281952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2590920" y="365760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pt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2666880" y="4495680"/>
              <a:ext cx="6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i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1447920" y="365760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i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 flipH="1">
              <a:off x="1754280" y="3274920"/>
              <a:ext cx="457200" cy="4572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438280" y="3276720"/>
              <a:ext cx="457200" cy="4572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971800" y="4114800"/>
              <a:ext cx="0" cy="4572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62120" y="2286000"/>
              <a:ext cx="3047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4191120" y="2286000"/>
              <a:ext cx="1371600" cy="304812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724280" y="3657600"/>
              <a:ext cx="83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pt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731480" y="4572000"/>
              <a:ext cx="55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i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5029200" y="4114800"/>
              <a:ext cx="0" cy="4572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4191120" y="2286000"/>
              <a:ext cx="137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095880" y="2286000"/>
              <a:ext cx="1371600" cy="304812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636600" y="3657600"/>
              <a:ext cx="55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i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6172200" y="2286000"/>
              <a:ext cx="129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z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onstraint Generation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tr(int) f(x : int) = { ... }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 := f(z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1054800" y="2819520"/>
            <a:ext cx="5599080" cy="2262600"/>
            <a:chOff x="1054800" y="2819520"/>
            <a:chExt cx="5599080" cy="2262600"/>
          </a:xfrm>
        </p:grpSpPr>
        <p:sp>
          <p:nvSpPr>
            <p:cNvPr id="416" name=""/>
            <p:cNvSpPr/>
            <p:nvPr/>
          </p:nvSpPr>
          <p:spPr>
            <a:xfrm>
              <a:off x="1685160" y="2819520"/>
              <a:ext cx="473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99"/>
                  </a:solidFill>
                  <a:latin typeface="Symbol"/>
                  <a:ea typeface="Symbol"/>
                </a:rPr>
                <a:t></a:t>
              </a:r>
              <a:r>
                <a:rPr b="1" lang="en-US" sz="2400" spc="-1" strike="noStrike" baseline="-25000">
                  <a:solidFill>
                    <a:srgbClr val="cc0099"/>
                  </a:solidFill>
                  <a:latin typeface="Comic Sans MS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054800" y="3657600"/>
              <a:ext cx="473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99"/>
                  </a:solidFill>
                  <a:latin typeface="Symbol"/>
                  <a:ea typeface="Symbol"/>
                </a:rPr>
                <a:t></a:t>
              </a:r>
              <a:r>
                <a:rPr b="1" lang="en-US" sz="2400" spc="-1" strike="noStrike" baseline="-25000">
                  <a:solidFill>
                    <a:srgbClr val="cc0099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18320" y="3657600"/>
              <a:ext cx="473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99"/>
                  </a:solidFill>
                  <a:latin typeface="Symbol"/>
                  <a:ea typeface="Symbol"/>
                </a:rPr>
                <a:t></a:t>
              </a:r>
              <a:r>
                <a:rPr b="1" lang="en-US" sz="2400" spc="-1" strike="noStrike" baseline="-25000">
                  <a:solidFill>
                    <a:srgbClr val="cc0099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209680" y="44197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99"/>
                  </a:solidFill>
                  <a:latin typeface="Symbol"/>
                  <a:ea typeface="Symbol"/>
                </a:rPr>
                <a:t></a:t>
              </a:r>
              <a:r>
                <a:rPr b="1" lang="en-US" sz="2400" spc="-1" strike="noStrike" baseline="-25000">
                  <a:solidFill>
                    <a:srgbClr val="cc0099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4275720" y="3657600"/>
              <a:ext cx="473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99"/>
                  </a:solidFill>
                  <a:latin typeface="Symbol"/>
                  <a:ea typeface="Symbol"/>
                </a:rPr>
                <a:t></a:t>
              </a:r>
              <a:r>
                <a:rPr b="1" lang="en-US" sz="2400" spc="-1" strike="noStrike" baseline="-25000">
                  <a:solidFill>
                    <a:srgbClr val="cc0099"/>
                  </a:solidFill>
                  <a:latin typeface="Comic Sans MS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4275720" y="4572000"/>
              <a:ext cx="473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99"/>
                  </a:solidFill>
                  <a:latin typeface="Symbol"/>
                  <a:ea typeface="Symbol"/>
                </a:rPr>
                <a:t></a:t>
              </a:r>
              <a:r>
                <a:rPr b="1" lang="en-US" sz="2400" spc="-1" strike="noStrike" baseline="-25000">
                  <a:solidFill>
                    <a:srgbClr val="cc0099"/>
                  </a:solidFill>
                  <a:latin typeface="Comic Sans MS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6180840" y="3657600"/>
              <a:ext cx="473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99"/>
                  </a:solidFill>
                  <a:latin typeface="Symbol"/>
                  <a:ea typeface="Symbol"/>
                </a:rPr>
                <a:t></a:t>
              </a:r>
              <a:r>
                <a:rPr b="1" lang="en-US" sz="2400" spc="-1" strike="noStrike" baseline="-25000">
                  <a:solidFill>
                    <a:srgbClr val="cc0099"/>
                  </a:solidFill>
                  <a:latin typeface="Comic Sans MS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3" name=""/>
          <p:cNvGrpSpPr/>
          <p:nvPr/>
        </p:nvGrpSpPr>
        <p:grpSpPr>
          <a:xfrm>
            <a:off x="1371600" y="2590920"/>
            <a:ext cx="7620120" cy="3467160"/>
            <a:chOff x="1371600" y="2590920"/>
            <a:chExt cx="7620120" cy="3467160"/>
          </a:xfrm>
        </p:grpSpPr>
        <p:sp>
          <p:nvSpPr>
            <p:cNvPr id="424" name=""/>
            <p:cNvSpPr/>
            <p:nvPr/>
          </p:nvSpPr>
          <p:spPr>
            <a:xfrm>
              <a:off x="7848720" y="2590920"/>
              <a:ext cx="1143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99"/>
                  </a:solidFill>
                  <a:latin typeface="Symbol"/>
                  <a:ea typeface="Symbol"/>
                </a:rPr>
                <a:t></a:t>
              </a:r>
              <a:r>
                <a:rPr b="1" lang="en-US" sz="2400" spc="-1" strike="noStrike" baseline="-25000">
                  <a:solidFill>
                    <a:srgbClr val="cc0099"/>
                  </a:solidFill>
                  <a:latin typeface="Comic Sans MS"/>
                </a:rPr>
                <a:t>6</a:t>
              </a:r>
              <a:r>
                <a:rPr b="1" lang="en-US" sz="2400" spc="-1" strike="noStrike" baseline="-25000">
                  <a:solidFill>
                    <a:srgbClr val="cc0099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</a:t>
              </a:r>
              <a:r>
                <a:rPr b="1" lang="en-US" sz="2400" spc="-1" strike="noStrike" baseline="-25000">
                  <a:solidFill>
                    <a:srgbClr val="cc0099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cc0099"/>
                  </a:solidFill>
                  <a:latin typeface="Symbol"/>
                  <a:ea typeface="Symbol"/>
                </a:rPr>
                <a:t></a:t>
              </a:r>
              <a:r>
                <a:rPr b="1" lang="en-US" sz="2400" spc="-1" strike="noStrike" baseline="-25000">
                  <a:solidFill>
                    <a:srgbClr val="cc0099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1371600" y="4114800"/>
              <a:ext cx="5029200" cy="1943280"/>
            </a:xfrm>
            <a:custGeom>
              <a:avLst/>
              <a:gdLst/>
              <a:ahLst/>
              <a:rect l="l" t="t" r="r" b="b"/>
              <a:pathLst>
                <a:path w="3168" h="1224">
                  <a:moveTo>
                    <a:pt x="3168" y="0"/>
                  </a:moveTo>
                  <a:cubicBezTo>
                    <a:pt x="2840" y="444"/>
                    <a:pt x="2512" y="888"/>
                    <a:pt x="2064" y="1056"/>
                  </a:cubicBezTo>
                  <a:cubicBezTo>
                    <a:pt x="1616" y="1224"/>
                    <a:pt x="824" y="1176"/>
                    <a:pt x="480" y="1008"/>
                  </a:cubicBezTo>
                  <a:cubicBezTo>
                    <a:pt x="136" y="840"/>
                    <a:pt x="68" y="444"/>
                    <a:pt x="0" y="48"/>
                  </a:cubicBezTo>
                </a:path>
              </a:pathLst>
            </a:custGeom>
            <a:noFill/>
            <a:ln w="38160">
              <a:solidFill>
                <a:srgbClr val="cc00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6" name=""/>
          <p:cNvGrpSpPr/>
          <p:nvPr/>
        </p:nvGrpSpPr>
        <p:grpSpPr>
          <a:xfrm>
            <a:off x="2590920" y="3200400"/>
            <a:ext cx="6400800" cy="609480"/>
            <a:chOff x="2590920" y="3200400"/>
            <a:chExt cx="6400800" cy="609480"/>
          </a:xfrm>
        </p:grpSpPr>
        <p:sp>
          <p:nvSpPr>
            <p:cNvPr id="427" name=""/>
            <p:cNvSpPr/>
            <p:nvPr/>
          </p:nvSpPr>
          <p:spPr>
            <a:xfrm>
              <a:off x="2590920" y="3276720"/>
              <a:ext cx="1828800" cy="533160"/>
            </a:xfrm>
            <a:custGeom>
              <a:avLst/>
              <a:gdLst/>
              <a:ahLst/>
              <a:rect l="l" t="t" r="r" b="b"/>
              <a:pathLst>
                <a:path w="1152" h="336">
                  <a:moveTo>
                    <a:pt x="0" y="336"/>
                  </a:moveTo>
                  <a:cubicBezTo>
                    <a:pt x="192" y="168"/>
                    <a:pt x="384" y="0"/>
                    <a:pt x="576" y="0"/>
                  </a:cubicBezTo>
                  <a:cubicBezTo>
                    <a:pt x="768" y="0"/>
                    <a:pt x="960" y="168"/>
                    <a:pt x="1152" y="336"/>
                  </a:cubicBezTo>
                </a:path>
              </a:pathLst>
            </a:custGeom>
            <a:noFill/>
            <a:ln w="38160">
              <a:solidFill>
                <a:srgbClr val="cc00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7848720" y="3200400"/>
              <a:ext cx="1143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99"/>
                  </a:solidFill>
                  <a:latin typeface="Symbol"/>
                  <a:ea typeface="Symbol"/>
                </a:rPr>
                <a:t></a:t>
              </a:r>
              <a:r>
                <a:rPr b="1" lang="en-US" sz="2400" spc="-1" strike="noStrike" baseline="-25000">
                  <a:solidFill>
                    <a:srgbClr val="cc0099"/>
                  </a:solidFill>
                  <a:latin typeface="Comic Sans MS"/>
                </a:rPr>
                <a:t>2</a:t>
              </a:r>
              <a:r>
                <a:rPr b="1" lang="en-US" sz="2400" spc="-1" strike="noStrike" baseline="-25000">
                  <a:solidFill>
                    <a:srgbClr val="cc0099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</a:t>
              </a:r>
              <a:r>
                <a:rPr b="1" lang="en-US" sz="2400" spc="-1" strike="noStrike" baseline="-25000">
                  <a:solidFill>
                    <a:srgbClr val="cc0099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cc0099"/>
                  </a:solidFill>
                  <a:latin typeface="Symbol"/>
                  <a:ea typeface="Symbol"/>
                </a:rPr>
                <a:t></a:t>
              </a:r>
              <a:r>
                <a:rPr b="1" lang="en-US" sz="2400" spc="-1" strike="noStrike" baseline="-25000">
                  <a:solidFill>
                    <a:srgbClr val="cc0099"/>
                  </a:solidFill>
                  <a:latin typeface="Comic Sans MS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9" name=""/>
          <p:cNvGrpSpPr/>
          <p:nvPr/>
        </p:nvGrpSpPr>
        <p:grpSpPr>
          <a:xfrm>
            <a:off x="2514600" y="3809880"/>
            <a:ext cx="6477120" cy="1866960"/>
            <a:chOff x="2514600" y="3809880"/>
            <a:chExt cx="6477120" cy="1866960"/>
          </a:xfrm>
        </p:grpSpPr>
        <p:sp>
          <p:nvSpPr>
            <p:cNvPr id="430" name=""/>
            <p:cNvSpPr/>
            <p:nvPr/>
          </p:nvSpPr>
          <p:spPr>
            <a:xfrm>
              <a:off x="2590920" y="4876920"/>
              <a:ext cx="1828800" cy="482400"/>
            </a:xfrm>
            <a:custGeom>
              <a:avLst/>
              <a:gdLst/>
              <a:ahLst/>
              <a:rect l="l" t="t" r="r" b="b"/>
              <a:pathLst>
                <a:path w="1152" h="304">
                  <a:moveTo>
                    <a:pt x="0" y="0"/>
                  </a:moveTo>
                  <a:cubicBezTo>
                    <a:pt x="216" y="136"/>
                    <a:pt x="432" y="272"/>
                    <a:pt x="624" y="288"/>
                  </a:cubicBezTo>
                  <a:cubicBezTo>
                    <a:pt x="816" y="304"/>
                    <a:pt x="984" y="200"/>
                    <a:pt x="1152" y="96"/>
                  </a:cubicBezTo>
                </a:path>
              </a:pathLst>
            </a:custGeom>
            <a:noFill/>
            <a:ln w="38160">
              <a:solidFill>
                <a:srgbClr val="cc00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2514600" y="4952880"/>
              <a:ext cx="1981080" cy="723960"/>
            </a:xfrm>
            <a:custGeom>
              <a:avLst/>
              <a:gdLst/>
              <a:ahLst/>
              <a:rect l="l" t="t" r="r" b="b"/>
              <a:pathLst>
                <a:path w="1248" h="456">
                  <a:moveTo>
                    <a:pt x="1248" y="144"/>
                  </a:moveTo>
                  <a:cubicBezTo>
                    <a:pt x="1064" y="300"/>
                    <a:pt x="880" y="456"/>
                    <a:pt x="672" y="432"/>
                  </a:cubicBezTo>
                  <a:cubicBezTo>
                    <a:pt x="464" y="408"/>
                    <a:pt x="232" y="204"/>
                    <a:pt x="0" y="0"/>
                  </a:cubicBezTo>
                </a:path>
              </a:pathLst>
            </a:custGeom>
            <a:noFill/>
            <a:ln w="38160">
              <a:solidFill>
                <a:srgbClr val="cc00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7848720" y="3809880"/>
              <a:ext cx="1143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99"/>
                  </a:solidFill>
                  <a:latin typeface="Symbol"/>
                  <a:ea typeface="Symbol"/>
                </a:rPr>
                <a:t></a:t>
              </a:r>
              <a:r>
                <a:rPr b="1" lang="en-US" sz="2400" spc="-1" strike="noStrike" baseline="-25000">
                  <a:solidFill>
                    <a:srgbClr val="cc0099"/>
                  </a:solidFill>
                  <a:latin typeface="Comic Sans MS"/>
                </a:rPr>
                <a:t>3</a:t>
              </a:r>
              <a:r>
                <a:rPr b="1" lang="en-US" sz="2400" spc="-1" strike="noStrike" baseline="-25000">
                  <a:solidFill>
                    <a:srgbClr val="cc0099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3333cc"/>
                  </a:solidFill>
                  <a:latin typeface="Comic Sans MS"/>
                </a:rPr>
                <a:t>=</a:t>
              </a:r>
              <a:r>
                <a:rPr b="1" lang="en-US" sz="2400" spc="-1" strike="noStrike" baseline="-25000">
                  <a:solidFill>
                    <a:srgbClr val="cc0099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cc0099"/>
                  </a:solidFill>
                  <a:latin typeface="Symbol"/>
                  <a:ea typeface="Symbol"/>
                </a:rPr>
                <a:t></a:t>
              </a:r>
              <a:r>
                <a:rPr b="1" lang="en-US" sz="2400" spc="-1" strike="noStrike" baseline="-25000">
                  <a:solidFill>
                    <a:srgbClr val="cc0099"/>
                  </a:solidFill>
                  <a:latin typeface="Comic Sans MS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19A6CD-7216-4371-A2D4-2B7F242E487C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onstraints as Graphs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34" name=""/>
          <p:cNvGrpSpPr/>
          <p:nvPr/>
        </p:nvGrpSpPr>
        <p:grpSpPr>
          <a:xfrm>
            <a:off x="1054800" y="2819520"/>
            <a:ext cx="5599080" cy="2262600"/>
            <a:chOff x="1054800" y="2819520"/>
            <a:chExt cx="5599080" cy="2262600"/>
          </a:xfrm>
        </p:grpSpPr>
        <p:sp>
          <p:nvSpPr>
            <p:cNvPr id="435" name=""/>
            <p:cNvSpPr/>
            <p:nvPr/>
          </p:nvSpPr>
          <p:spPr>
            <a:xfrm>
              <a:off x="1685160" y="2819520"/>
              <a:ext cx="473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99"/>
                  </a:solidFill>
                  <a:latin typeface="Symbol"/>
                  <a:ea typeface="Symbol"/>
                </a:rPr>
                <a:t></a:t>
              </a:r>
              <a:r>
                <a:rPr b="1" lang="en-US" sz="2400" spc="-1" strike="noStrike" baseline="-25000">
                  <a:solidFill>
                    <a:srgbClr val="cc0099"/>
                  </a:solidFill>
                  <a:latin typeface="Comic Sans MS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1054800" y="3657600"/>
              <a:ext cx="473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99"/>
                  </a:solidFill>
                  <a:latin typeface="Symbol"/>
                  <a:ea typeface="Symbol"/>
                </a:rPr>
                <a:t></a:t>
              </a:r>
              <a:r>
                <a:rPr b="1" lang="en-US" sz="2400" spc="-1" strike="noStrike" baseline="-25000">
                  <a:solidFill>
                    <a:srgbClr val="cc0099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2218320" y="3657600"/>
              <a:ext cx="473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99"/>
                  </a:solidFill>
                  <a:latin typeface="Symbol"/>
                  <a:ea typeface="Symbol"/>
                </a:rPr>
                <a:t></a:t>
              </a:r>
              <a:r>
                <a:rPr b="1" lang="en-US" sz="2400" spc="-1" strike="noStrike" baseline="-25000">
                  <a:solidFill>
                    <a:srgbClr val="cc0099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209680" y="44197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99"/>
                  </a:solidFill>
                  <a:latin typeface="Symbol"/>
                  <a:ea typeface="Symbol"/>
                </a:rPr>
                <a:t></a:t>
              </a:r>
              <a:r>
                <a:rPr b="1" lang="en-US" sz="2400" spc="-1" strike="noStrike" baseline="-25000">
                  <a:solidFill>
                    <a:srgbClr val="cc0099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275720" y="3657600"/>
              <a:ext cx="473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99"/>
                  </a:solidFill>
                  <a:latin typeface="Symbol"/>
                  <a:ea typeface="Symbol"/>
                </a:rPr>
                <a:t></a:t>
              </a:r>
              <a:r>
                <a:rPr b="1" lang="en-US" sz="2400" spc="-1" strike="noStrike" baseline="-25000">
                  <a:solidFill>
                    <a:srgbClr val="cc0099"/>
                  </a:solidFill>
                  <a:latin typeface="Comic Sans MS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275720" y="4572000"/>
              <a:ext cx="473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99"/>
                  </a:solidFill>
                  <a:latin typeface="Symbol"/>
                  <a:ea typeface="Symbol"/>
                </a:rPr>
                <a:t></a:t>
              </a:r>
              <a:r>
                <a:rPr b="1" lang="en-US" sz="2400" spc="-1" strike="noStrike" baseline="-25000">
                  <a:solidFill>
                    <a:srgbClr val="cc0099"/>
                  </a:solidFill>
                  <a:latin typeface="Comic Sans MS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80840" y="3657600"/>
              <a:ext cx="473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99"/>
                  </a:solidFill>
                  <a:latin typeface="Symbol"/>
                  <a:ea typeface="Symbol"/>
                </a:rPr>
                <a:t></a:t>
              </a:r>
              <a:r>
                <a:rPr b="1" lang="en-US" sz="2400" spc="-1" strike="noStrike" baseline="-25000">
                  <a:solidFill>
                    <a:srgbClr val="cc0099"/>
                  </a:solidFill>
                  <a:latin typeface="Comic Sans MS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2" name=""/>
          <p:cNvSpPr/>
          <p:nvPr/>
        </p:nvSpPr>
        <p:spPr>
          <a:xfrm>
            <a:off x="7848720" y="259092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 baseline="-25000">
                <a:solidFill>
                  <a:srgbClr val="cc0099"/>
                </a:solidFill>
                <a:latin typeface="Comic Sans MS"/>
              </a:rPr>
              <a:t>6</a:t>
            </a:r>
            <a:r>
              <a:rPr b="1" lang="en-US" sz="2400" spc="-1" strike="noStrike" baseline="-25000">
                <a:solidFill>
                  <a:srgbClr val="cc00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</a:t>
            </a:r>
            <a:r>
              <a:rPr b="1" lang="en-US" sz="2400" spc="-1" strike="noStrike" baseline="-25000">
                <a:solidFill>
                  <a:srgbClr val="cc00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cc0099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 baseline="-25000">
                <a:solidFill>
                  <a:srgbClr val="cc0099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371600" y="4114800"/>
            <a:ext cx="5029200" cy="1943280"/>
          </a:xfrm>
          <a:custGeom>
            <a:avLst/>
            <a:gdLst/>
            <a:ahLst/>
            <a:rect l="l" t="t" r="r" b="b"/>
            <a:pathLst>
              <a:path w="3168" h="1224">
                <a:moveTo>
                  <a:pt x="3168" y="0"/>
                </a:moveTo>
                <a:cubicBezTo>
                  <a:pt x="2840" y="444"/>
                  <a:pt x="2512" y="888"/>
                  <a:pt x="2064" y="1056"/>
                </a:cubicBezTo>
                <a:cubicBezTo>
                  <a:pt x="1616" y="1224"/>
                  <a:pt x="824" y="1176"/>
                  <a:pt x="480" y="1008"/>
                </a:cubicBezTo>
                <a:cubicBezTo>
                  <a:pt x="136" y="840"/>
                  <a:pt x="68" y="444"/>
                  <a:pt x="0" y="48"/>
                </a:cubicBezTo>
              </a:path>
            </a:pathLst>
          </a:custGeom>
          <a:noFill/>
          <a:ln w="38160">
            <a:solidFill>
              <a:srgbClr val="cc00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4" name=""/>
          <p:cNvGrpSpPr/>
          <p:nvPr/>
        </p:nvGrpSpPr>
        <p:grpSpPr>
          <a:xfrm>
            <a:off x="2590920" y="3200400"/>
            <a:ext cx="6400800" cy="609480"/>
            <a:chOff x="2590920" y="3200400"/>
            <a:chExt cx="6400800" cy="609480"/>
          </a:xfrm>
        </p:grpSpPr>
        <p:sp>
          <p:nvSpPr>
            <p:cNvPr id="445" name=""/>
            <p:cNvSpPr/>
            <p:nvPr/>
          </p:nvSpPr>
          <p:spPr>
            <a:xfrm>
              <a:off x="2590920" y="3276720"/>
              <a:ext cx="1828800" cy="533160"/>
            </a:xfrm>
            <a:custGeom>
              <a:avLst/>
              <a:gdLst/>
              <a:ahLst/>
              <a:rect l="l" t="t" r="r" b="b"/>
              <a:pathLst>
                <a:path w="1152" h="336">
                  <a:moveTo>
                    <a:pt x="0" y="336"/>
                  </a:moveTo>
                  <a:cubicBezTo>
                    <a:pt x="192" y="168"/>
                    <a:pt x="384" y="0"/>
                    <a:pt x="576" y="0"/>
                  </a:cubicBezTo>
                  <a:cubicBezTo>
                    <a:pt x="768" y="0"/>
                    <a:pt x="960" y="168"/>
                    <a:pt x="1152" y="336"/>
                  </a:cubicBezTo>
                </a:path>
              </a:pathLst>
            </a:custGeom>
            <a:noFill/>
            <a:ln w="38160">
              <a:solidFill>
                <a:srgbClr val="cc00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848720" y="3200400"/>
              <a:ext cx="1143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99"/>
                  </a:solidFill>
                  <a:latin typeface="Symbol"/>
                  <a:ea typeface="Symbol"/>
                </a:rPr>
                <a:t></a:t>
              </a:r>
              <a:r>
                <a:rPr b="1" lang="en-US" sz="2400" spc="-1" strike="noStrike" baseline="-25000">
                  <a:solidFill>
                    <a:srgbClr val="cc0099"/>
                  </a:solidFill>
                  <a:latin typeface="Comic Sans MS"/>
                </a:rPr>
                <a:t>2</a:t>
              </a:r>
              <a:r>
                <a:rPr b="1" lang="en-US" sz="2400" spc="-1" strike="noStrike" baseline="-25000">
                  <a:solidFill>
                    <a:srgbClr val="cc0099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</a:t>
              </a:r>
              <a:r>
                <a:rPr b="1" lang="en-US" sz="2400" spc="-1" strike="noStrike" baseline="-25000">
                  <a:solidFill>
                    <a:srgbClr val="cc0099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cc0099"/>
                  </a:solidFill>
                  <a:latin typeface="Symbol"/>
                  <a:ea typeface="Symbol"/>
                </a:rPr>
                <a:t></a:t>
              </a:r>
              <a:r>
                <a:rPr b="1" lang="en-US" sz="2400" spc="-1" strike="noStrike" baseline="-25000">
                  <a:solidFill>
                    <a:srgbClr val="cc0099"/>
                  </a:solidFill>
                  <a:latin typeface="Comic Sans MS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7" name=""/>
          <p:cNvGrpSpPr/>
          <p:nvPr/>
        </p:nvGrpSpPr>
        <p:grpSpPr>
          <a:xfrm>
            <a:off x="2514600" y="3809880"/>
            <a:ext cx="6477120" cy="1866960"/>
            <a:chOff x="2514600" y="3809880"/>
            <a:chExt cx="6477120" cy="1866960"/>
          </a:xfrm>
        </p:grpSpPr>
        <p:sp>
          <p:nvSpPr>
            <p:cNvPr id="448" name=""/>
            <p:cNvSpPr/>
            <p:nvPr/>
          </p:nvSpPr>
          <p:spPr>
            <a:xfrm>
              <a:off x="2590920" y="4876920"/>
              <a:ext cx="1828800" cy="482400"/>
            </a:xfrm>
            <a:custGeom>
              <a:avLst/>
              <a:gdLst/>
              <a:ahLst/>
              <a:rect l="l" t="t" r="r" b="b"/>
              <a:pathLst>
                <a:path w="1152" h="304">
                  <a:moveTo>
                    <a:pt x="0" y="0"/>
                  </a:moveTo>
                  <a:cubicBezTo>
                    <a:pt x="216" y="136"/>
                    <a:pt x="432" y="272"/>
                    <a:pt x="624" y="288"/>
                  </a:cubicBezTo>
                  <a:cubicBezTo>
                    <a:pt x="816" y="304"/>
                    <a:pt x="984" y="200"/>
                    <a:pt x="1152" y="96"/>
                  </a:cubicBezTo>
                </a:path>
              </a:pathLst>
            </a:custGeom>
            <a:noFill/>
            <a:ln w="38160">
              <a:solidFill>
                <a:srgbClr val="cc00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2514600" y="4952880"/>
              <a:ext cx="1981080" cy="723960"/>
            </a:xfrm>
            <a:custGeom>
              <a:avLst/>
              <a:gdLst/>
              <a:ahLst/>
              <a:rect l="l" t="t" r="r" b="b"/>
              <a:pathLst>
                <a:path w="1248" h="456">
                  <a:moveTo>
                    <a:pt x="1248" y="144"/>
                  </a:moveTo>
                  <a:cubicBezTo>
                    <a:pt x="1064" y="300"/>
                    <a:pt x="880" y="456"/>
                    <a:pt x="672" y="432"/>
                  </a:cubicBezTo>
                  <a:cubicBezTo>
                    <a:pt x="464" y="408"/>
                    <a:pt x="232" y="204"/>
                    <a:pt x="0" y="0"/>
                  </a:cubicBezTo>
                </a:path>
              </a:pathLst>
            </a:custGeom>
            <a:noFill/>
            <a:ln w="38160">
              <a:solidFill>
                <a:srgbClr val="cc00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848720" y="3809880"/>
              <a:ext cx="1143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99"/>
                  </a:solidFill>
                  <a:latin typeface="Symbol"/>
                  <a:ea typeface="Symbol"/>
                </a:rPr>
                <a:t></a:t>
              </a:r>
              <a:r>
                <a:rPr b="1" lang="en-US" sz="2400" spc="-1" strike="noStrike" baseline="-25000">
                  <a:solidFill>
                    <a:srgbClr val="cc0099"/>
                  </a:solidFill>
                  <a:latin typeface="Comic Sans MS"/>
                </a:rPr>
                <a:t>3</a:t>
              </a:r>
              <a:r>
                <a:rPr b="1" lang="en-US" sz="2400" spc="-1" strike="noStrike" baseline="-25000">
                  <a:solidFill>
                    <a:srgbClr val="cc0099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3333cc"/>
                  </a:solidFill>
                  <a:latin typeface="Comic Sans MS"/>
                </a:rPr>
                <a:t>=</a:t>
              </a:r>
              <a:r>
                <a:rPr b="1" lang="en-US" sz="2400" spc="-1" strike="noStrike" baseline="-25000">
                  <a:solidFill>
                    <a:srgbClr val="cc0099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cc0099"/>
                  </a:solidFill>
                  <a:latin typeface="Symbol"/>
                  <a:ea typeface="Symbol"/>
                </a:rPr>
                <a:t></a:t>
              </a:r>
              <a:r>
                <a:rPr b="1" lang="en-US" sz="2400" spc="-1" strike="noStrike" baseline="-25000">
                  <a:solidFill>
                    <a:srgbClr val="cc0099"/>
                  </a:solidFill>
                  <a:latin typeface="Comic Sans MS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1" name=""/>
          <p:cNvGrpSpPr/>
          <p:nvPr/>
        </p:nvGrpSpPr>
        <p:grpSpPr>
          <a:xfrm>
            <a:off x="1447920" y="1981080"/>
            <a:ext cx="7086600" cy="3939120"/>
            <a:chOff x="1447920" y="1981080"/>
            <a:chExt cx="7086600" cy="3939120"/>
          </a:xfrm>
        </p:grpSpPr>
        <p:sp>
          <p:nvSpPr>
            <p:cNvPr id="452" name=""/>
            <p:cNvSpPr/>
            <p:nvPr/>
          </p:nvSpPr>
          <p:spPr>
            <a:xfrm>
              <a:off x="1447920" y="4038480"/>
              <a:ext cx="761760" cy="533520"/>
            </a:xfrm>
            <a:prstGeom prst="line">
              <a:avLst/>
            </a:prstGeom>
            <a:ln w="38160">
              <a:solidFill>
                <a:srgbClr val="cc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3" name=""/>
            <p:cNvGrpSpPr/>
            <p:nvPr/>
          </p:nvGrpSpPr>
          <p:grpSpPr>
            <a:xfrm>
              <a:off x="2514600" y="1981080"/>
              <a:ext cx="6019920" cy="3939120"/>
              <a:chOff x="2514600" y="1981080"/>
              <a:chExt cx="6019920" cy="3939120"/>
            </a:xfrm>
          </p:grpSpPr>
          <p:sp>
            <p:nvSpPr>
              <p:cNvPr id="454" name=""/>
              <p:cNvSpPr/>
              <p:nvPr/>
            </p:nvSpPr>
            <p:spPr>
              <a:xfrm>
                <a:off x="6095880" y="5410080"/>
                <a:ext cx="7621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cc0099"/>
                    </a:solidFill>
                    <a:latin typeface="Symbol"/>
                    <a:ea typeface="Symbol"/>
                  </a:rPr>
                  <a:t></a:t>
                </a:r>
                <a:r>
                  <a:rPr b="1" lang="en-US" sz="2400" spc="-1" strike="noStrike" baseline="-25000">
                    <a:solidFill>
                      <a:srgbClr val="cc0099"/>
                    </a:solidFill>
                    <a:latin typeface="Comic Sans MS"/>
                  </a:rPr>
                  <a:t>8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6172200" y="1981080"/>
                <a:ext cx="1600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ff00"/>
                    </a:solidFill>
                    <a:latin typeface="Comic Sans MS"/>
                  </a:rPr>
                  <a:t>untainte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6781680" y="4648320"/>
                <a:ext cx="1219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Comic Sans MS"/>
                  </a:rPr>
                  <a:t>tainte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5715000" y="2971800"/>
                <a:ext cx="7621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cc0099"/>
                    </a:solidFill>
                    <a:latin typeface="Symbol"/>
                    <a:ea typeface="Symbol"/>
                  </a:rPr>
                  <a:t></a:t>
                </a:r>
                <a:r>
                  <a:rPr b="1" lang="en-US" sz="2400" spc="-1" strike="noStrike" baseline="-25000">
                    <a:solidFill>
                      <a:srgbClr val="cc0099"/>
                    </a:solidFill>
                    <a:latin typeface="Comic Sans MS"/>
                  </a:rPr>
                  <a:t>7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2895480" y="4114800"/>
                <a:ext cx="7621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cc0099"/>
                    </a:solidFill>
                    <a:latin typeface="Symbol"/>
                    <a:ea typeface="Symbol"/>
                  </a:rPr>
                  <a:t></a:t>
                </a:r>
                <a:r>
                  <a:rPr b="1" lang="en-US" sz="2400" spc="-1" strike="noStrike" baseline="-25000">
                    <a:solidFill>
                      <a:srgbClr val="cc0099"/>
                    </a:solidFill>
                    <a:latin typeface="Comic Sans MS"/>
                  </a:rPr>
                  <a:t>9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H="1" flipV="1">
                <a:off x="6552720" y="4114800"/>
                <a:ext cx="685800" cy="533520"/>
              </a:xfrm>
              <a:prstGeom prst="line">
                <a:avLst/>
              </a:prstGeom>
              <a:ln w="38160">
                <a:solidFill>
                  <a:srgbClr val="cc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 flipH="1">
                <a:off x="6324480" y="4186080"/>
                <a:ext cx="155520" cy="1298880"/>
              </a:xfrm>
              <a:prstGeom prst="line">
                <a:avLst/>
              </a:prstGeom>
              <a:ln w="38160">
                <a:solidFill>
                  <a:srgbClr val="cc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 flipV="1">
                <a:off x="4724280" y="3429000"/>
                <a:ext cx="1143000" cy="1295280"/>
              </a:xfrm>
              <a:prstGeom prst="line">
                <a:avLst/>
              </a:prstGeom>
              <a:ln w="38160">
                <a:solidFill>
                  <a:srgbClr val="cc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2590920" y="4038480"/>
                <a:ext cx="380880" cy="228600"/>
              </a:xfrm>
              <a:prstGeom prst="line">
                <a:avLst/>
              </a:prstGeom>
              <a:ln w="38160">
                <a:solidFill>
                  <a:srgbClr val="cc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2514600" y="4191120"/>
                <a:ext cx="1828800" cy="685800"/>
              </a:xfrm>
              <a:custGeom>
                <a:avLst/>
                <a:gdLst/>
                <a:ahLst/>
                <a:rect l="l" t="t" r="r" b="b"/>
                <a:pathLst>
                  <a:path w="1152" h="432">
                    <a:moveTo>
                      <a:pt x="1152" y="432"/>
                    </a:moveTo>
                    <a:cubicBezTo>
                      <a:pt x="816" y="420"/>
                      <a:pt x="480" y="408"/>
                      <a:pt x="288" y="336"/>
                    </a:cubicBezTo>
                    <a:cubicBezTo>
                      <a:pt x="96" y="264"/>
                      <a:pt x="48" y="132"/>
                      <a:pt x="0" y="0"/>
                    </a:cubicBezTo>
                  </a:path>
                </a:pathLst>
              </a:custGeom>
              <a:noFill/>
              <a:ln w="38160">
                <a:solidFill>
                  <a:srgbClr val="cc0099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8229600" y="4114800"/>
                <a:ext cx="30492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3333cc"/>
                    </a:solidFill>
                    <a:latin typeface="Comic Sans MS"/>
                  </a:rPr>
                  <a:t>•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3333cc"/>
                    </a:solidFill>
                    <a:latin typeface="Comic Sans MS"/>
                  </a:rPr>
                  <a:t>•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3333cc"/>
                    </a:solidFill>
                    <a:latin typeface="Comic Sans MS"/>
                  </a:rPr>
                  <a:t>•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V="1">
                <a:off x="6095880" y="2362320"/>
                <a:ext cx="762120" cy="761760"/>
              </a:xfrm>
              <a:prstGeom prst="line">
                <a:avLst/>
              </a:prstGeom>
              <a:ln w="38160">
                <a:solidFill>
                  <a:srgbClr val="cc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6B373B-6CB2-4758-9C6B-AB95E8152211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1131840" y="4637160"/>
            <a:ext cx="3656160" cy="1004040"/>
            <a:chOff x="1131840" y="4637160"/>
            <a:chExt cx="3656160" cy="1004040"/>
          </a:xfrm>
        </p:grpSpPr>
        <p:sp>
          <p:nvSpPr>
            <p:cNvPr id="95" name=""/>
            <p:cNvSpPr/>
            <p:nvPr/>
          </p:nvSpPr>
          <p:spPr>
            <a:xfrm>
              <a:off x="1131840" y="4637160"/>
              <a:ext cx="3429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ptr(             char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109600" y="5181480"/>
              <a:ext cx="2678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ptr(char) </a:t>
              </a:r>
              <a:r>
                <a:rPr b="1" lang="en-US" sz="2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cha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ype Qualifiers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83059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tend standard type systems (C, Java, ML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ogrammers already use typ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ogrammers understand typ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et programmers to write down a little more..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" name=""/>
          <p:cNvSpPr/>
          <p:nvPr/>
        </p:nvSpPr>
        <p:spPr>
          <a:xfrm>
            <a:off x="2046240" y="4103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1131840" y="4103640"/>
            <a:ext cx="6629400" cy="459720"/>
            <a:chOff x="1131840" y="4103640"/>
            <a:chExt cx="6629400" cy="459720"/>
          </a:xfrm>
        </p:grpSpPr>
        <p:sp>
          <p:nvSpPr>
            <p:cNvPr id="101" name=""/>
            <p:cNvSpPr/>
            <p:nvPr/>
          </p:nvSpPr>
          <p:spPr>
            <a:xfrm>
              <a:off x="1131840" y="4103640"/>
              <a:ext cx="106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0099"/>
                  </a:solidFill>
                  <a:latin typeface="Comic Sans MS"/>
                </a:rPr>
                <a:t>cons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713120" y="4103640"/>
              <a:ext cx="304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ANSI 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1147680" y="4637160"/>
            <a:ext cx="7844040" cy="1050120"/>
            <a:chOff x="1147680" y="4637160"/>
            <a:chExt cx="7844040" cy="1050120"/>
          </a:xfrm>
        </p:grpSpPr>
        <p:sp>
          <p:nvSpPr>
            <p:cNvPr id="104" name=""/>
            <p:cNvSpPr/>
            <p:nvPr/>
          </p:nvSpPr>
          <p:spPr>
            <a:xfrm>
              <a:off x="4713120" y="4637160"/>
              <a:ext cx="427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Format-string vulnerabiliti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1147680" y="4637160"/>
              <a:ext cx="7596360" cy="1050120"/>
              <a:chOff x="1147680" y="4637160"/>
              <a:chExt cx="7596360" cy="1050120"/>
            </a:xfrm>
          </p:grpSpPr>
          <p:sp>
            <p:nvSpPr>
              <p:cNvPr id="106" name=""/>
              <p:cNvSpPr/>
              <p:nvPr/>
            </p:nvSpPr>
            <p:spPr>
              <a:xfrm>
                <a:off x="1665360" y="4637160"/>
                <a:ext cx="2971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c0099"/>
                    </a:solidFill>
                    <a:latin typeface="Comic Sans MS"/>
                  </a:rPr>
                  <a:t>tainte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7" name=""/>
              <p:cNvGrpSpPr/>
              <p:nvPr/>
            </p:nvGrpSpPr>
            <p:grpSpPr>
              <a:xfrm>
                <a:off x="1147680" y="5197320"/>
                <a:ext cx="7596360" cy="489960"/>
                <a:chOff x="1147680" y="5197320"/>
                <a:chExt cx="7596360" cy="489960"/>
              </a:xfrm>
            </p:grpSpPr>
            <p:sp>
              <p:nvSpPr>
                <p:cNvPr id="108" name=""/>
                <p:cNvSpPr/>
                <p:nvPr/>
              </p:nvSpPr>
              <p:spPr>
                <a:xfrm>
                  <a:off x="1147680" y="5197320"/>
                  <a:ext cx="29718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cc0099"/>
                      </a:solidFill>
                      <a:latin typeface="Comic Sans MS"/>
                    </a:rPr>
                    <a:t>kernel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4705200" y="5227560"/>
                  <a:ext cx="40388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Comic Sans MS"/>
                    </a:rPr>
                    <a:t>User/kernel vulnerabilities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6AA143-F330-4FF6-AE4C-54572AEE887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ome Bad News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olving atomic subtyping constraints is NP-hard in the general cas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problem comes up with some really weird partial order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9" name=""/>
          <p:cNvSpPr/>
          <p:nvPr/>
        </p:nvSpPr>
        <p:spPr>
          <a:xfrm>
            <a:off x="4075200" y="4761000"/>
            <a:ext cx="0" cy="70776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3809880" y="4295880"/>
            <a:ext cx="53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3827520" y="5446800"/>
            <a:ext cx="53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4989600" y="4761000"/>
            <a:ext cx="0" cy="70776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4724280" y="4295880"/>
            <a:ext cx="53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4741920" y="5446800"/>
            <a:ext cx="53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4059360" y="4745160"/>
            <a:ext cx="914400" cy="68580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 flipH="1">
            <a:off x="4056120" y="4753080"/>
            <a:ext cx="914400" cy="68580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DD91C0-3419-40D4-B14C-E2D22B21C8B4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But That’s OK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se partial orders don’t seem to come up in practic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t very natura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st qualifier partial orders have one of two desirable properties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y either always have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least upper bound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or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greatest lower bound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for any pair of qualifier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60EB05-4294-4E3E-B3AC-EB61898348E2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Lubs and Glbs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ub = Least upper boun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p lub q = 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uch tha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p </a:t>
            </a:r>
            <a:r>
              <a:rPr b="0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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r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q </a:t>
            </a:r>
            <a:r>
              <a:rPr b="0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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f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p </a:t>
            </a:r>
            <a:r>
              <a:rPr b="0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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q </a:t>
            </a:r>
            <a:r>
              <a:rPr b="0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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, then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r </a:t>
            </a:r>
            <a:r>
              <a:rPr b="0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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lb = Greatest lower bound, defined duall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ub and glb may not exist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2448C6-DB75-41CD-A687-62080A3BE17F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Lattices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lattic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s a partial order such that lubs and glbs always exis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f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s a lattice, it turns out we can use a really simple algorithm to check satisfiability of constraints over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4F79DD-9971-4351-BACF-FF6EDFF3171F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atisfiability via Graph Reachability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84" name=""/>
          <p:cNvGrpSpPr/>
          <p:nvPr/>
        </p:nvGrpSpPr>
        <p:grpSpPr>
          <a:xfrm>
            <a:off x="1054800" y="2819520"/>
            <a:ext cx="5599080" cy="2262600"/>
            <a:chOff x="1054800" y="2819520"/>
            <a:chExt cx="5599080" cy="2262600"/>
          </a:xfrm>
        </p:grpSpPr>
        <p:sp>
          <p:nvSpPr>
            <p:cNvPr id="485" name=""/>
            <p:cNvSpPr/>
            <p:nvPr/>
          </p:nvSpPr>
          <p:spPr>
            <a:xfrm>
              <a:off x="1685160" y="2819520"/>
              <a:ext cx="473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99"/>
                  </a:solidFill>
                  <a:latin typeface="Symbol"/>
                  <a:ea typeface="Symbol"/>
                </a:rPr>
                <a:t></a:t>
              </a:r>
              <a:r>
                <a:rPr b="1" lang="en-US" sz="2400" spc="-1" strike="noStrike" baseline="-25000">
                  <a:solidFill>
                    <a:srgbClr val="cc0099"/>
                  </a:solidFill>
                  <a:latin typeface="Comic Sans MS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1054800" y="3657600"/>
              <a:ext cx="473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99"/>
                  </a:solidFill>
                  <a:latin typeface="Symbol"/>
                  <a:ea typeface="Symbol"/>
                </a:rPr>
                <a:t></a:t>
              </a:r>
              <a:r>
                <a:rPr b="1" lang="en-US" sz="2400" spc="-1" strike="noStrike" baseline="-25000">
                  <a:solidFill>
                    <a:srgbClr val="cc0099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218320" y="3657600"/>
              <a:ext cx="473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99"/>
                  </a:solidFill>
                  <a:latin typeface="Symbol"/>
                  <a:ea typeface="Symbol"/>
                </a:rPr>
                <a:t></a:t>
              </a:r>
              <a:r>
                <a:rPr b="1" lang="en-US" sz="2400" spc="-1" strike="noStrike" baseline="-25000">
                  <a:solidFill>
                    <a:srgbClr val="cc0099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209680" y="44197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99"/>
                  </a:solidFill>
                  <a:latin typeface="Symbol"/>
                  <a:ea typeface="Symbol"/>
                </a:rPr>
                <a:t></a:t>
              </a:r>
              <a:r>
                <a:rPr b="1" lang="en-US" sz="2400" spc="-1" strike="noStrike" baseline="-25000">
                  <a:solidFill>
                    <a:srgbClr val="cc0099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275720" y="3657600"/>
              <a:ext cx="473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99"/>
                  </a:solidFill>
                  <a:latin typeface="Symbol"/>
                  <a:ea typeface="Symbol"/>
                </a:rPr>
                <a:t></a:t>
              </a:r>
              <a:r>
                <a:rPr b="1" lang="en-US" sz="2400" spc="-1" strike="noStrike" baseline="-25000">
                  <a:solidFill>
                    <a:srgbClr val="cc0099"/>
                  </a:solidFill>
                  <a:latin typeface="Comic Sans MS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275720" y="4572000"/>
              <a:ext cx="473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99"/>
                  </a:solidFill>
                  <a:latin typeface="Symbol"/>
                  <a:ea typeface="Symbol"/>
                </a:rPr>
                <a:t></a:t>
              </a:r>
              <a:r>
                <a:rPr b="1" lang="en-US" sz="2400" spc="-1" strike="noStrike" baseline="-25000">
                  <a:solidFill>
                    <a:srgbClr val="cc0099"/>
                  </a:solidFill>
                  <a:latin typeface="Comic Sans MS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6180840" y="3657600"/>
              <a:ext cx="473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99"/>
                  </a:solidFill>
                  <a:latin typeface="Symbol"/>
                  <a:ea typeface="Symbol"/>
                </a:rPr>
                <a:t></a:t>
              </a:r>
              <a:r>
                <a:rPr b="1" lang="en-US" sz="2400" spc="-1" strike="noStrike" baseline="-25000">
                  <a:solidFill>
                    <a:srgbClr val="cc0099"/>
                  </a:solidFill>
                  <a:latin typeface="Comic Sans MS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2" name=""/>
          <p:cNvSpPr/>
          <p:nvPr/>
        </p:nvSpPr>
        <p:spPr>
          <a:xfrm>
            <a:off x="7848720" y="259092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 baseline="-25000">
                <a:solidFill>
                  <a:srgbClr val="cc0099"/>
                </a:solidFill>
                <a:latin typeface="Comic Sans MS"/>
              </a:rPr>
              <a:t>6</a:t>
            </a:r>
            <a:r>
              <a:rPr b="1" lang="en-US" sz="2400" spc="-1" strike="noStrike" baseline="-25000">
                <a:solidFill>
                  <a:srgbClr val="cc00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</a:t>
            </a:r>
            <a:r>
              <a:rPr b="1" lang="en-US" sz="2400" spc="-1" strike="noStrike" baseline="-25000">
                <a:solidFill>
                  <a:srgbClr val="cc00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cc0099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 baseline="-25000">
                <a:solidFill>
                  <a:srgbClr val="cc0099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1371600" y="4114800"/>
            <a:ext cx="5029200" cy="1943280"/>
          </a:xfrm>
          <a:custGeom>
            <a:avLst/>
            <a:gdLst/>
            <a:ahLst/>
            <a:rect l="l" t="t" r="r" b="b"/>
            <a:pathLst>
              <a:path w="3168" h="1224">
                <a:moveTo>
                  <a:pt x="3168" y="0"/>
                </a:moveTo>
                <a:cubicBezTo>
                  <a:pt x="2840" y="444"/>
                  <a:pt x="2512" y="888"/>
                  <a:pt x="2064" y="1056"/>
                </a:cubicBezTo>
                <a:cubicBezTo>
                  <a:pt x="1616" y="1224"/>
                  <a:pt x="824" y="1176"/>
                  <a:pt x="480" y="1008"/>
                </a:cubicBezTo>
                <a:cubicBezTo>
                  <a:pt x="136" y="840"/>
                  <a:pt x="68" y="444"/>
                  <a:pt x="0" y="48"/>
                </a:cubicBezTo>
              </a:path>
            </a:pathLst>
          </a:custGeom>
          <a:noFill/>
          <a:ln w="38160">
            <a:solidFill>
              <a:srgbClr val="cc00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4" name=""/>
          <p:cNvGrpSpPr/>
          <p:nvPr/>
        </p:nvGrpSpPr>
        <p:grpSpPr>
          <a:xfrm>
            <a:off x="2590920" y="3200400"/>
            <a:ext cx="6400800" cy="609480"/>
            <a:chOff x="2590920" y="3200400"/>
            <a:chExt cx="6400800" cy="609480"/>
          </a:xfrm>
        </p:grpSpPr>
        <p:sp>
          <p:nvSpPr>
            <p:cNvPr id="495" name=""/>
            <p:cNvSpPr/>
            <p:nvPr/>
          </p:nvSpPr>
          <p:spPr>
            <a:xfrm>
              <a:off x="2590920" y="3276720"/>
              <a:ext cx="1828800" cy="533160"/>
            </a:xfrm>
            <a:custGeom>
              <a:avLst/>
              <a:gdLst/>
              <a:ahLst/>
              <a:rect l="l" t="t" r="r" b="b"/>
              <a:pathLst>
                <a:path w="1152" h="336">
                  <a:moveTo>
                    <a:pt x="0" y="336"/>
                  </a:moveTo>
                  <a:cubicBezTo>
                    <a:pt x="192" y="168"/>
                    <a:pt x="384" y="0"/>
                    <a:pt x="576" y="0"/>
                  </a:cubicBezTo>
                  <a:cubicBezTo>
                    <a:pt x="768" y="0"/>
                    <a:pt x="960" y="168"/>
                    <a:pt x="1152" y="336"/>
                  </a:cubicBezTo>
                </a:path>
              </a:pathLst>
            </a:custGeom>
            <a:noFill/>
            <a:ln w="38160">
              <a:solidFill>
                <a:srgbClr val="cc00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7848720" y="3200400"/>
              <a:ext cx="1143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99"/>
                  </a:solidFill>
                  <a:latin typeface="Symbol"/>
                  <a:ea typeface="Symbol"/>
                </a:rPr>
                <a:t></a:t>
              </a:r>
              <a:r>
                <a:rPr b="1" lang="en-US" sz="2400" spc="-1" strike="noStrike" baseline="-25000">
                  <a:solidFill>
                    <a:srgbClr val="cc0099"/>
                  </a:solidFill>
                  <a:latin typeface="Comic Sans MS"/>
                </a:rPr>
                <a:t>2</a:t>
              </a:r>
              <a:r>
                <a:rPr b="1" lang="en-US" sz="2400" spc="-1" strike="noStrike" baseline="-25000">
                  <a:solidFill>
                    <a:srgbClr val="cc0099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</a:t>
              </a:r>
              <a:r>
                <a:rPr b="1" lang="en-US" sz="2400" spc="-1" strike="noStrike" baseline="-25000">
                  <a:solidFill>
                    <a:srgbClr val="cc0099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cc0099"/>
                  </a:solidFill>
                  <a:latin typeface="Symbol"/>
                  <a:ea typeface="Symbol"/>
                </a:rPr>
                <a:t></a:t>
              </a:r>
              <a:r>
                <a:rPr b="1" lang="en-US" sz="2400" spc="-1" strike="noStrike" baseline="-25000">
                  <a:solidFill>
                    <a:srgbClr val="cc0099"/>
                  </a:solidFill>
                  <a:latin typeface="Comic Sans MS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7" name=""/>
          <p:cNvSpPr/>
          <p:nvPr/>
        </p:nvSpPr>
        <p:spPr>
          <a:xfrm>
            <a:off x="2590920" y="4876920"/>
            <a:ext cx="1828800" cy="482400"/>
          </a:xfrm>
          <a:custGeom>
            <a:avLst/>
            <a:gdLst/>
            <a:ahLst/>
            <a:rect l="l" t="t" r="r" b="b"/>
            <a:pathLst>
              <a:path w="1152" h="304">
                <a:moveTo>
                  <a:pt x="0" y="0"/>
                </a:moveTo>
                <a:cubicBezTo>
                  <a:pt x="216" y="136"/>
                  <a:pt x="432" y="272"/>
                  <a:pt x="624" y="288"/>
                </a:cubicBezTo>
                <a:cubicBezTo>
                  <a:pt x="816" y="304"/>
                  <a:pt x="984" y="200"/>
                  <a:pt x="1152" y="96"/>
                </a:cubicBezTo>
              </a:path>
            </a:pathLst>
          </a:custGeom>
          <a:noFill/>
          <a:ln w="38160">
            <a:solidFill>
              <a:srgbClr val="cc00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2514600" y="4952880"/>
            <a:ext cx="1981080" cy="723960"/>
          </a:xfrm>
          <a:custGeom>
            <a:avLst/>
            <a:gdLst/>
            <a:ahLst/>
            <a:rect l="l" t="t" r="r" b="b"/>
            <a:pathLst>
              <a:path w="1248" h="456">
                <a:moveTo>
                  <a:pt x="1248" y="144"/>
                </a:moveTo>
                <a:cubicBezTo>
                  <a:pt x="1064" y="300"/>
                  <a:pt x="880" y="456"/>
                  <a:pt x="672" y="432"/>
                </a:cubicBezTo>
                <a:cubicBezTo>
                  <a:pt x="464" y="408"/>
                  <a:pt x="232" y="204"/>
                  <a:pt x="0" y="0"/>
                </a:cubicBezTo>
              </a:path>
            </a:pathLst>
          </a:custGeom>
          <a:noFill/>
          <a:ln w="38160">
            <a:solidFill>
              <a:srgbClr val="cc00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7848720" y="380988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 baseline="-25000">
                <a:solidFill>
                  <a:srgbClr val="cc0099"/>
                </a:solidFill>
                <a:latin typeface="Comic Sans MS"/>
              </a:rPr>
              <a:t>3</a:t>
            </a:r>
            <a:r>
              <a:rPr b="1" lang="en-US" sz="2400" spc="-1" strike="noStrike" baseline="-25000">
                <a:solidFill>
                  <a:srgbClr val="cc00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=</a:t>
            </a:r>
            <a:r>
              <a:rPr b="1" lang="en-US" sz="2400" spc="-1" strike="noStrike" baseline="-25000">
                <a:solidFill>
                  <a:srgbClr val="cc00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cc0099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 baseline="-25000">
                <a:solidFill>
                  <a:srgbClr val="cc0099"/>
                </a:solidFill>
                <a:latin typeface="Comic Sans MS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1447920" y="4038480"/>
            <a:ext cx="761760" cy="5335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6095880" y="5410080"/>
            <a:ext cx="762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 baseline="-25000">
                <a:solidFill>
                  <a:srgbClr val="cc0099"/>
                </a:solidFill>
                <a:latin typeface="Comic Sans MS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6172200" y="1981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Comic Sans MS"/>
              </a:rPr>
              <a:t>untain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6781680" y="46483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ain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5715000" y="2971800"/>
            <a:ext cx="762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 baseline="-25000">
                <a:solidFill>
                  <a:srgbClr val="cc0099"/>
                </a:solidFill>
                <a:latin typeface="Comic Sans MS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2895480" y="4114800"/>
            <a:ext cx="762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 baseline="-25000">
                <a:solidFill>
                  <a:srgbClr val="cc0099"/>
                </a:solidFill>
                <a:latin typeface="Comic Sans MS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 flipH="1" flipV="1">
            <a:off x="6552720" y="4114800"/>
            <a:ext cx="685800" cy="5335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 flipH="1">
            <a:off x="6324480" y="4186080"/>
            <a:ext cx="155520" cy="129888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 flipV="1">
            <a:off x="4724280" y="3429000"/>
            <a:ext cx="1143000" cy="129528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2590920" y="4038480"/>
            <a:ext cx="380880" cy="22860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2514600" y="4191120"/>
            <a:ext cx="1828800" cy="685800"/>
          </a:xfrm>
          <a:custGeom>
            <a:avLst/>
            <a:gdLst/>
            <a:ahLst/>
            <a:rect l="l" t="t" r="r" b="b"/>
            <a:pathLst>
              <a:path w="1152" h="432">
                <a:moveTo>
                  <a:pt x="1152" y="432"/>
                </a:moveTo>
                <a:cubicBezTo>
                  <a:pt x="816" y="420"/>
                  <a:pt x="480" y="408"/>
                  <a:pt x="288" y="336"/>
                </a:cubicBezTo>
                <a:cubicBezTo>
                  <a:pt x="96" y="264"/>
                  <a:pt x="48" y="132"/>
                  <a:pt x="0" y="0"/>
                </a:cubicBezTo>
              </a:path>
            </a:pathLst>
          </a:custGeom>
          <a:noFill/>
          <a:ln w="38160">
            <a:solidFill>
              <a:srgbClr val="cc00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8229600" y="4114800"/>
            <a:ext cx="304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 flipV="1">
            <a:off x="6095880" y="2362320"/>
            <a:ext cx="762120" cy="76176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33520" y="1523520"/>
            <a:ext cx="83786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s there an inconsistent path through the graph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67C58E-B9EA-4DE6-8CDB-66BADA565E09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atisfiability via Graph Reachability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515" name=""/>
          <p:cNvGrpSpPr/>
          <p:nvPr/>
        </p:nvGrpSpPr>
        <p:grpSpPr>
          <a:xfrm>
            <a:off x="1054800" y="2819520"/>
            <a:ext cx="5599080" cy="2262600"/>
            <a:chOff x="1054800" y="2819520"/>
            <a:chExt cx="5599080" cy="2262600"/>
          </a:xfrm>
        </p:grpSpPr>
        <p:sp>
          <p:nvSpPr>
            <p:cNvPr id="516" name=""/>
            <p:cNvSpPr/>
            <p:nvPr/>
          </p:nvSpPr>
          <p:spPr>
            <a:xfrm>
              <a:off x="1685160" y="2819520"/>
              <a:ext cx="473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99"/>
                  </a:solidFill>
                  <a:latin typeface="Symbol"/>
                  <a:ea typeface="Symbol"/>
                </a:rPr>
                <a:t></a:t>
              </a:r>
              <a:r>
                <a:rPr b="1" lang="en-US" sz="2400" spc="-1" strike="noStrike" baseline="-25000">
                  <a:solidFill>
                    <a:srgbClr val="cc0099"/>
                  </a:solidFill>
                  <a:latin typeface="Comic Sans MS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1054800" y="3657600"/>
              <a:ext cx="473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99"/>
                  </a:solidFill>
                  <a:latin typeface="Symbol"/>
                  <a:ea typeface="Symbol"/>
                </a:rPr>
                <a:t></a:t>
              </a:r>
              <a:r>
                <a:rPr b="1" lang="en-US" sz="2400" spc="-1" strike="noStrike" baseline="-25000">
                  <a:solidFill>
                    <a:srgbClr val="cc0099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2218320" y="3657600"/>
              <a:ext cx="473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99"/>
                  </a:solidFill>
                  <a:latin typeface="Symbol"/>
                  <a:ea typeface="Symbol"/>
                </a:rPr>
                <a:t></a:t>
              </a:r>
              <a:r>
                <a:rPr b="1" lang="en-US" sz="2400" spc="-1" strike="noStrike" baseline="-25000">
                  <a:solidFill>
                    <a:srgbClr val="cc0099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2209680" y="44197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99"/>
                  </a:solidFill>
                  <a:latin typeface="Symbol"/>
                  <a:ea typeface="Symbol"/>
                </a:rPr>
                <a:t></a:t>
              </a:r>
              <a:r>
                <a:rPr b="1" lang="en-US" sz="2400" spc="-1" strike="noStrike" baseline="-25000">
                  <a:solidFill>
                    <a:srgbClr val="cc0099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4275720" y="3657600"/>
              <a:ext cx="473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99"/>
                  </a:solidFill>
                  <a:latin typeface="Symbol"/>
                  <a:ea typeface="Symbol"/>
                </a:rPr>
                <a:t></a:t>
              </a:r>
              <a:r>
                <a:rPr b="1" lang="en-US" sz="2400" spc="-1" strike="noStrike" baseline="-25000">
                  <a:solidFill>
                    <a:srgbClr val="cc0099"/>
                  </a:solidFill>
                  <a:latin typeface="Comic Sans MS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275720" y="4572000"/>
              <a:ext cx="473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99"/>
                  </a:solidFill>
                  <a:latin typeface="Symbol"/>
                  <a:ea typeface="Symbol"/>
                </a:rPr>
                <a:t></a:t>
              </a:r>
              <a:r>
                <a:rPr b="1" lang="en-US" sz="2400" spc="-1" strike="noStrike" baseline="-25000">
                  <a:solidFill>
                    <a:srgbClr val="cc0099"/>
                  </a:solidFill>
                  <a:latin typeface="Comic Sans MS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6180840" y="3657600"/>
              <a:ext cx="473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99"/>
                  </a:solidFill>
                  <a:latin typeface="Symbol"/>
                  <a:ea typeface="Symbol"/>
                </a:rPr>
                <a:t></a:t>
              </a:r>
              <a:r>
                <a:rPr b="1" lang="en-US" sz="2400" spc="-1" strike="noStrike" baseline="-25000">
                  <a:solidFill>
                    <a:srgbClr val="cc0099"/>
                  </a:solidFill>
                  <a:latin typeface="Comic Sans MS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3" name=""/>
          <p:cNvSpPr/>
          <p:nvPr/>
        </p:nvSpPr>
        <p:spPr>
          <a:xfrm>
            <a:off x="7848720" y="259092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 baseline="-25000">
                <a:solidFill>
                  <a:srgbClr val="cc0099"/>
                </a:solidFill>
                <a:latin typeface="Comic Sans MS"/>
              </a:rPr>
              <a:t>6</a:t>
            </a:r>
            <a:r>
              <a:rPr b="1" lang="en-US" sz="2400" spc="-1" strike="noStrike" baseline="-25000">
                <a:solidFill>
                  <a:srgbClr val="cc00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</a:t>
            </a:r>
            <a:r>
              <a:rPr b="1" lang="en-US" sz="2400" spc="-1" strike="noStrike" baseline="-25000">
                <a:solidFill>
                  <a:srgbClr val="cc00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cc0099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 baseline="-25000">
                <a:solidFill>
                  <a:srgbClr val="cc0099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1371600" y="4114800"/>
            <a:ext cx="5029200" cy="1943280"/>
          </a:xfrm>
          <a:custGeom>
            <a:avLst/>
            <a:gdLst/>
            <a:ahLst/>
            <a:rect l="l" t="t" r="r" b="b"/>
            <a:pathLst>
              <a:path w="3168" h="1224">
                <a:moveTo>
                  <a:pt x="3168" y="0"/>
                </a:moveTo>
                <a:cubicBezTo>
                  <a:pt x="2840" y="444"/>
                  <a:pt x="2512" y="888"/>
                  <a:pt x="2064" y="1056"/>
                </a:cubicBezTo>
                <a:cubicBezTo>
                  <a:pt x="1616" y="1224"/>
                  <a:pt x="824" y="1176"/>
                  <a:pt x="480" y="1008"/>
                </a:cubicBezTo>
                <a:cubicBezTo>
                  <a:pt x="136" y="840"/>
                  <a:pt x="68" y="444"/>
                  <a:pt x="0" y="48"/>
                </a:cubicBezTo>
              </a:path>
            </a:pathLst>
          </a:custGeom>
          <a:noFill/>
          <a:ln w="7632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5" name=""/>
          <p:cNvGrpSpPr/>
          <p:nvPr/>
        </p:nvGrpSpPr>
        <p:grpSpPr>
          <a:xfrm>
            <a:off x="2590920" y="3200400"/>
            <a:ext cx="6400800" cy="609480"/>
            <a:chOff x="2590920" y="3200400"/>
            <a:chExt cx="6400800" cy="609480"/>
          </a:xfrm>
        </p:grpSpPr>
        <p:sp>
          <p:nvSpPr>
            <p:cNvPr id="526" name=""/>
            <p:cNvSpPr/>
            <p:nvPr/>
          </p:nvSpPr>
          <p:spPr>
            <a:xfrm>
              <a:off x="2590920" y="3276720"/>
              <a:ext cx="1828800" cy="533160"/>
            </a:xfrm>
            <a:custGeom>
              <a:avLst/>
              <a:gdLst/>
              <a:ahLst/>
              <a:rect l="l" t="t" r="r" b="b"/>
              <a:pathLst>
                <a:path w="1152" h="336">
                  <a:moveTo>
                    <a:pt x="0" y="336"/>
                  </a:moveTo>
                  <a:cubicBezTo>
                    <a:pt x="192" y="168"/>
                    <a:pt x="384" y="0"/>
                    <a:pt x="576" y="0"/>
                  </a:cubicBezTo>
                  <a:cubicBezTo>
                    <a:pt x="768" y="0"/>
                    <a:pt x="960" y="168"/>
                    <a:pt x="1152" y="336"/>
                  </a:cubicBezTo>
                </a:path>
              </a:pathLst>
            </a:custGeom>
            <a:noFill/>
            <a:ln w="38160">
              <a:solidFill>
                <a:srgbClr val="cc00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7848720" y="3200400"/>
              <a:ext cx="1143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99"/>
                  </a:solidFill>
                  <a:latin typeface="Symbol"/>
                  <a:ea typeface="Symbol"/>
                </a:rPr>
                <a:t></a:t>
              </a:r>
              <a:r>
                <a:rPr b="1" lang="en-US" sz="2400" spc="-1" strike="noStrike" baseline="-25000">
                  <a:solidFill>
                    <a:srgbClr val="cc0099"/>
                  </a:solidFill>
                  <a:latin typeface="Comic Sans MS"/>
                </a:rPr>
                <a:t>2</a:t>
              </a:r>
              <a:r>
                <a:rPr b="1" lang="en-US" sz="2400" spc="-1" strike="noStrike" baseline="-25000">
                  <a:solidFill>
                    <a:srgbClr val="cc0099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</a:t>
              </a:r>
              <a:r>
                <a:rPr b="1" lang="en-US" sz="2400" spc="-1" strike="noStrike" baseline="-25000">
                  <a:solidFill>
                    <a:srgbClr val="cc0099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cc0099"/>
                  </a:solidFill>
                  <a:latin typeface="Symbol"/>
                  <a:ea typeface="Symbol"/>
                </a:rPr>
                <a:t></a:t>
              </a:r>
              <a:r>
                <a:rPr b="1" lang="en-US" sz="2400" spc="-1" strike="noStrike" baseline="-25000">
                  <a:solidFill>
                    <a:srgbClr val="cc0099"/>
                  </a:solidFill>
                  <a:latin typeface="Comic Sans MS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8" name=""/>
          <p:cNvSpPr/>
          <p:nvPr/>
        </p:nvSpPr>
        <p:spPr>
          <a:xfrm>
            <a:off x="2590920" y="4876920"/>
            <a:ext cx="1828800" cy="482400"/>
          </a:xfrm>
          <a:custGeom>
            <a:avLst/>
            <a:gdLst/>
            <a:ahLst/>
            <a:rect l="l" t="t" r="r" b="b"/>
            <a:pathLst>
              <a:path w="1152" h="304">
                <a:moveTo>
                  <a:pt x="0" y="0"/>
                </a:moveTo>
                <a:cubicBezTo>
                  <a:pt x="216" y="136"/>
                  <a:pt x="432" y="272"/>
                  <a:pt x="624" y="288"/>
                </a:cubicBezTo>
                <a:cubicBezTo>
                  <a:pt x="816" y="304"/>
                  <a:pt x="984" y="200"/>
                  <a:pt x="1152" y="96"/>
                </a:cubicBezTo>
              </a:path>
            </a:pathLst>
          </a:custGeom>
          <a:noFill/>
          <a:ln w="7632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514600" y="4952880"/>
            <a:ext cx="1981080" cy="723960"/>
          </a:xfrm>
          <a:custGeom>
            <a:avLst/>
            <a:gdLst/>
            <a:ahLst/>
            <a:rect l="l" t="t" r="r" b="b"/>
            <a:pathLst>
              <a:path w="1248" h="456">
                <a:moveTo>
                  <a:pt x="1248" y="144"/>
                </a:moveTo>
                <a:cubicBezTo>
                  <a:pt x="1064" y="300"/>
                  <a:pt x="880" y="456"/>
                  <a:pt x="672" y="432"/>
                </a:cubicBezTo>
                <a:cubicBezTo>
                  <a:pt x="464" y="408"/>
                  <a:pt x="232" y="204"/>
                  <a:pt x="0" y="0"/>
                </a:cubicBezTo>
              </a:path>
            </a:pathLst>
          </a:custGeom>
          <a:noFill/>
          <a:ln w="38160">
            <a:solidFill>
              <a:srgbClr val="cc00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7848720" y="380988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 baseline="-25000">
                <a:solidFill>
                  <a:srgbClr val="cc0099"/>
                </a:solidFill>
                <a:latin typeface="Comic Sans MS"/>
              </a:rPr>
              <a:t>3</a:t>
            </a:r>
            <a:r>
              <a:rPr b="1" lang="en-US" sz="2400" spc="-1" strike="noStrike" baseline="-25000">
                <a:solidFill>
                  <a:srgbClr val="cc00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=</a:t>
            </a:r>
            <a:r>
              <a:rPr b="1" lang="en-US" sz="2400" spc="-1" strike="noStrike" baseline="-25000">
                <a:solidFill>
                  <a:srgbClr val="cc00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cc0099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 baseline="-25000">
                <a:solidFill>
                  <a:srgbClr val="cc0099"/>
                </a:solidFill>
                <a:latin typeface="Comic Sans MS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1447920" y="4038480"/>
            <a:ext cx="761760" cy="53352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6095880" y="5410080"/>
            <a:ext cx="762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 baseline="-25000">
                <a:solidFill>
                  <a:srgbClr val="cc0099"/>
                </a:solidFill>
                <a:latin typeface="Comic Sans MS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6172200" y="1981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Comic Sans MS"/>
              </a:rPr>
              <a:t>untain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6781680" y="46483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ain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5715000" y="2971800"/>
            <a:ext cx="762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 baseline="-25000">
                <a:solidFill>
                  <a:srgbClr val="cc0099"/>
                </a:solidFill>
                <a:latin typeface="Comic Sans MS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2895480" y="4114800"/>
            <a:ext cx="762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 baseline="-25000">
                <a:solidFill>
                  <a:srgbClr val="cc0099"/>
                </a:solidFill>
                <a:latin typeface="Comic Sans MS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 flipH="1" flipV="1">
            <a:off x="6552720" y="4114800"/>
            <a:ext cx="685800" cy="53352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 flipH="1">
            <a:off x="6324480" y="4186080"/>
            <a:ext cx="155520" cy="129888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 flipV="1">
            <a:off x="4724280" y="3429000"/>
            <a:ext cx="1143000" cy="129528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2590920" y="4038480"/>
            <a:ext cx="380880" cy="22860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2514600" y="4191120"/>
            <a:ext cx="1828800" cy="685800"/>
          </a:xfrm>
          <a:custGeom>
            <a:avLst/>
            <a:gdLst/>
            <a:ahLst/>
            <a:rect l="l" t="t" r="r" b="b"/>
            <a:pathLst>
              <a:path w="1152" h="432">
                <a:moveTo>
                  <a:pt x="1152" y="432"/>
                </a:moveTo>
                <a:cubicBezTo>
                  <a:pt x="816" y="420"/>
                  <a:pt x="480" y="408"/>
                  <a:pt x="288" y="336"/>
                </a:cubicBezTo>
                <a:cubicBezTo>
                  <a:pt x="96" y="264"/>
                  <a:pt x="48" y="132"/>
                  <a:pt x="0" y="0"/>
                </a:cubicBezTo>
              </a:path>
            </a:pathLst>
          </a:custGeom>
          <a:noFill/>
          <a:ln w="38160">
            <a:solidFill>
              <a:srgbClr val="cc00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8229600" y="4114800"/>
            <a:ext cx="304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 flipV="1">
            <a:off x="6095880" y="2362320"/>
            <a:ext cx="762120" cy="76176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33520" y="1523520"/>
            <a:ext cx="83786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s there an inconsistent path through the graph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B960D0-20C7-4964-A38A-DC1C5DCEDD75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atisfiability via Graph Reachability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546" name=""/>
          <p:cNvGrpSpPr/>
          <p:nvPr/>
        </p:nvGrpSpPr>
        <p:grpSpPr>
          <a:xfrm>
            <a:off x="1054800" y="2819520"/>
            <a:ext cx="5599080" cy="2262600"/>
            <a:chOff x="1054800" y="2819520"/>
            <a:chExt cx="5599080" cy="2262600"/>
          </a:xfrm>
        </p:grpSpPr>
        <p:sp>
          <p:nvSpPr>
            <p:cNvPr id="547" name=""/>
            <p:cNvSpPr/>
            <p:nvPr/>
          </p:nvSpPr>
          <p:spPr>
            <a:xfrm>
              <a:off x="1685160" y="2819520"/>
              <a:ext cx="473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99"/>
                  </a:solidFill>
                  <a:latin typeface="Symbol"/>
                  <a:ea typeface="Symbol"/>
                </a:rPr>
                <a:t></a:t>
              </a:r>
              <a:r>
                <a:rPr b="1" lang="en-US" sz="2400" spc="-1" strike="noStrike" baseline="-25000">
                  <a:solidFill>
                    <a:srgbClr val="cc0099"/>
                  </a:solidFill>
                  <a:latin typeface="Comic Sans MS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1054800" y="3657600"/>
              <a:ext cx="473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99"/>
                  </a:solidFill>
                  <a:latin typeface="Symbol"/>
                  <a:ea typeface="Symbol"/>
                </a:rPr>
                <a:t></a:t>
              </a:r>
              <a:r>
                <a:rPr b="1" lang="en-US" sz="2400" spc="-1" strike="noStrike" baseline="-25000">
                  <a:solidFill>
                    <a:srgbClr val="cc0099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2218320" y="3657600"/>
              <a:ext cx="473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99"/>
                  </a:solidFill>
                  <a:latin typeface="Symbol"/>
                  <a:ea typeface="Symbol"/>
                </a:rPr>
                <a:t></a:t>
              </a:r>
              <a:r>
                <a:rPr b="1" lang="en-US" sz="2400" spc="-1" strike="noStrike" baseline="-25000">
                  <a:solidFill>
                    <a:srgbClr val="cc0099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2209680" y="44197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99"/>
                  </a:solidFill>
                  <a:latin typeface="Symbol"/>
                  <a:ea typeface="Symbol"/>
                </a:rPr>
                <a:t></a:t>
              </a:r>
              <a:r>
                <a:rPr b="1" lang="en-US" sz="2400" spc="-1" strike="noStrike" baseline="-25000">
                  <a:solidFill>
                    <a:srgbClr val="cc0099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4275720" y="3657600"/>
              <a:ext cx="473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99"/>
                  </a:solidFill>
                  <a:latin typeface="Symbol"/>
                  <a:ea typeface="Symbol"/>
                </a:rPr>
                <a:t></a:t>
              </a:r>
              <a:r>
                <a:rPr b="1" lang="en-US" sz="2400" spc="-1" strike="noStrike" baseline="-25000">
                  <a:solidFill>
                    <a:srgbClr val="cc0099"/>
                  </a:solidFill>
                  <a:latin typeface="Comic Sans MS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275720" y="4572000"/>
              <a:ext cx="473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99"/>
                  </a:solidFill>
                  <a:latin typeface="Symbol"/>
                  <a:ea typeface="Symbol"/>
                </a:rPr>
                <a:t></a:t>
              </a:r>
              <a:r>
                <a:rPr b="1" lang="en-US" sz="2400" spc="-1" strike="noStrike" baseline="-25000">
                  <a:solidFill>
                    <a:srgbClr val="cc0099"/>
                  </a:solidFill>
                  <a:latin typeface="Comic Sans MS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6180840" y="3657600"/>
              <a:ext cx="473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99"/>
                  </a:solidFill>
                  <a:latin typeface="Symbol"/>
                  <a:ea typeface="Symbol"/>
                </a:rPr>
                <a:t></a:t>
              </a:r>
              <a:r>
                <a:rPr b="1" lang="en-US" sz="2400" spc="-1" strike="noStrike" baseline="-25000">
                  <a:solidFill>
                    <a:srgbClr val="cc0099"/>
                  </a:solidFill>
                  <a:latin typeface="Comic Sans MS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4" name=""/>
          <p:cNvSpPr/>
          <p:nvPr/>
        </p:nvSpPr>
        <p:spPr>
          <a:xfrm>
            <a:off x="7848720" y="259092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 baseline="-25000">
                <a:solidFill>
                  <a:srgbClr val="cc0099"/>
                </a:solidFill>
                <a:latin typeface="Comic Sans MS"/>
              </a:rPr>
              <a:t>6</a:t>
            </a:r>
            <a:r>
              <a:rPr b="1" lang="en-US" sz="2400" spc="-1" strike="noStrike" baseline="-25000">
                <a:solidFill>
                  <a:srgbClr val="cc00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</a:t>
            </a:r>
            <a:r>
              <a:rPr b="1" lang="en-US" sz="2400" spc="-1" strike="noStrike" baseline="-25000">
                <a:solidFill>
                  <a:srgbClr val="cc00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cc0099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 baseline="-25000">
                <a:solidFill>
                  <a:srgbClr val="cc0099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1371600" y="4114800"/>
            <a:ext cx="5029200" cy="1943280"/>
          </a:xfrm>
          <a:custGeom>
            <a:avLst/>
            <a:gdLst/>
            <a:ahLst/>
            <a:rect l="l" t="t" r="r" b="b"/>
            <a:pathLst>
              <a:path w="3168" h="1224">
                <a:moveTo>
                  <a:pt x="3168" y="0"/>
                </a:moveTo>
                <a:cubicBezTo>
                  <a:pt x="2840" y="444"/>
                  <a:pt x="2512" y="888"/>
                  <a:pt x="2064" y="1056"/>
                </a:cubicBezTo>
                <a:cubicBezTo>
                  <a:pt x="1616" y="1224"/>
                  <a:pt x="824" y="1176"/>
                  <a:pt x="480" y="1008"/>
                </a:cubicBezTo>
                <a:cubicBezTo>
                  <a:pt x="136" y="840"/>
                  <a:pt x="68" y="444"/>
                  <a:pt x="0" y="48"/>
                </a:cubicBezTo>
              </a:path>
            </a:pathLst>
          </a:custGeom>
          <a:noFill/>
          <a:ln w="7632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2590920" y="3200400"/>
            <a:ext cx="6400800" cy="609480"/>
            <a:chOff x="2590920" y="3200400"/>
            <a:chExt cx="6400800" cy="609480"/>
          </a:xfrm>
        </p:grpSpPr>
        <p:sp>
          <p:nvSpPr>
            <p:cNvPr id="557" name=""/>
            <p:cNvSpPr/>
            <p:nvPr/>
          </p:nvSpPr>
          <p:spPr>
            <a:xfrm>
              <a:off x="2590920" y="3276720"/>
              <a:ext cx="1828800" cy="533160"/>
            </a:xfrm>
            <a:custGeom>
              <a:avLst/>
              <a:gdLst/>
              <a:ahLst/>
              <a:rect l="l" t="t" r="r" b="b"/>
              <a:pathLst>
                <a:path w="1152" h="336">
                  <a:moveTo>
                    <a:pt x="0" y="336"/>
                  </a:moveTo>
                  <a:cubicBezTo>
                    <a:pt x="192" y="168"/>
                    <a:pt x="384" y="0"/>
                    <a:pt x="576" y="0"/>
                  </a:cubicBezTo>
                  <a:cubicBezTo>
                    <a:pt x="768" y="0"/>
                    <a:pt x="960" y="168"/>
                    <a:pt x="1152" y="336"/>
                  </a:cubicBezTo>
                </a:path>
              </a:pathLst>
            </a:custGeom>
            <a:noFill/>
            <a:ln w="38160">
              <a:solidFill>
                <a:srgbClr val="cc00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848720" y="3200400"/>
              <a:ext cx="1143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99"/>
                  </a:solidFill>
                  <a:latin typeface="Symbol"/>
                  <a:ea typeface="Symbol"/>
                </a:rPr>
                <a:t></a:t>
              </a:r>
              <a:r>
                <a:rPr b="1" lang="en-US" sz="2400" spc="-1" strike="noStrike" baseline="-25000">
                  <a:solidFill>
                    <a:srgbClr val="cc0099"/>
                  </a:solidFill>
                  <a:latin typeface="Comic Sans MS"/>
                </a:rPr>
                <a:t>2</a:t>
              </a:r>
              <a:r>
                <a:rPr b="1" lang="en-US" sz="2400" spc="-1" strike="noStrike" baseline="-25000">
                  <a:solidFill>
                    <a:srgbClr val="cc0099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</a:t>
              </a:r>
              <a:r>
                <a:rPr b="1" lang="en-US" sz="2400" spc="-1" strike="noStrike" baseline="-25000">
                  <a:solidFill>
                    <a:srgbClr val="cc0099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cc0099"/>
                  </a:solidFill>
                  <a:latin typeface="Symbol"/>
                  <a:ea typeface="Symbol"/>
                </a:rPr>
                <a:t></a:t>
              </a:r>
              <a:r>
                <a:rPr b="1" lang="en-US" sz="2400" spc="-1" strike="noStrike" baseline="-25000">
                  <a:solidFill>
                    <a:srgbClr val="cc0099"/>
                  </a:solidFill>
                  <a:latin typeface="Comic Sans MS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9" name=""/>
          <p:cNvSpPr/>
          <p:nvPr/>
        </p:nvSpPr>
        <p:spPr>
          <a:xfrm>
            <a:off x="2590920" y="4876920"/>
            <a:ext cx="1828800" cy="482400"/>
          </a:xfrm>
          <a:custGeom>
            <a:avLst/>
            <a:gdLst/>
            <a:ahLst/>
            <a:rect l="l" t="t" r="r" b="b"/>
            <a:pathLst>
              <a:path w="1152" h="304">
                <a:moveTo>
                  <a:pt x="0" y="0"/>
                </a:moveTo>
                <a:cubicBezTo>
                  <a:pt x="216" y="136"/>
                  <a:pt x="432" y="272"/>
                  <a:pt x="624" y="288"/>
                </a:cubicBezTo>
                <a:cubicBezTo>
                  <a:pt x="816" y="304"/>
                  <a:pt x="984" y="200"/>
                  <a:pt x="1152" y="96"/>
                </a:cubicBezTo>
              </a:path>
            </a:pathLst>
          </a:custGeom>
          <a:noFill/>
          <a:ln w="7632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2514600" y="4952880"/>
            <a:ext cx="1981080" cy="723960"/>
          </a:xfrm>
          <a:custGeom>
            <a:avLst/>
            <a:gdLst/>
            <a:ahLst/>
            <a:rect l="l" t="t" r="r" b="b"/>
            <a:pathLst>
              <a:path w="1248" h="456">
                <a:moveTo>
                  <a:pt x="1248" y="144"/>
                </a:moveTo>
                <a:cubicBezTo>
                  <a:pt x="1064" y="300"/>
                  <a:pt x="880" y="456"/>
                  <a:pt x="672" y="432"/>
                </a:cubicBezTo>
                <a:cubicBezTo>
                  <a:pt x="464" y="408"/>
                  <a:pt x="232" y="204"/>
                  <a:pt x="0" y="0"/>
                </a:cubicBezTo>
              </a:path>
            </a:pathLst>
          </a:custGeom>
          <a:noFill/>
          <a:ln w="38160">
            <a:solidFill>
              <a:srgbClr val="cc00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7848720" y="380988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 baseline="-25000">
                <a:solidFill>
                  <a:srgbClr val="cc0099"/>
                </a:solidFill>
                <a:latin typeface="Comic Sans MS"/>
              </a:rPr>
              <a:t>3</a:t>
            </a:r>
            <a:r>
              <a:rPr b="1" lang="en-US" sz="2400" spc="-1" strike="noStrike" baseline="-25000">
                <a:solidFill>
                  <a:srgbClr val="cc00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=</a:t>
            </a:r>
            <a:r>
              <a:rPr b="1" lang="en-US" sz="2400" spc="-1" strike="noStrike" baseline="-25000">
                <a:solidFill>
                  <a:srgbClr val="cc00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cc0099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 baseline="-25000">
                <a:solidFill>
                  <a:srgbClr val="cc0099"/>
                </a:solidFill>
                <a:latin typeface="Comic Sans MS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1447920" y="4038480"/>
            <a:ext cx="761760" cy="53352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6095880" y="5410080"/>
            <a:ext cx="762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 baseline="-25000">
                <a:solidFill>
                  <a:srgbClr val="cc0099"/>
                </a:solidFill>
                <a:latin typeface="Comic Sans MS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6172200" y="1981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Comic Sans MS"/>
              </a:rPr>
              <a:t>untain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6781680" y="46483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ain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5715000" y="2971800"/>
            <a:ext cx="762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 baseline="-25000">
                <a:solidFill>
                  <a:srgbClr val="cc0099"/>
                </a:solidFill>
                <a:latin typeface="Comic Sans MS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2895480" y="4114800"/>
            <a:ext cx="762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 baseline="-25000">
                <a:solidFill>
                  <a:srgbClr val="cc0099"/>
                </a:solidFill>
                <a:latin typeface="Comic Sans MS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 flipH="1" flipV="1">
            <a:off x="6552720" y="4114800"/>
            <a:ext cx="685800" cy="53352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 flipH="1">
            <a:off x="6324480" y="4186080"/>
            <a:ext cx="155520" cy="129888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 flipV="1">
            <a:off x="4724280" y="3429000"/>
            <a:ext cx="1143000" cy="129528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2590920" y="4038480"/>
            <a:ext cx="380880" cy="22860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2514600" y="4191120"/>
            <a:ext cx="1828800" cy="685800"/>
          </a:xfrm>
          <a:custGeom>
            <a:avLst/>
            <a:gdLst/>
            <a:ahLst/>
            <a:rect l="l" t="t" r="r" b="b"/>
            <a:pathLst>
              <a:path w="1152" h="432">
                <a:moveTo>
                  <a:pt x="1152" y="432"/>
                </a:moveTo>
                <a:cubicBezTo>
                  <a:pt x="816" y="420"/>
                  <a:pt x="480" y="408"/>
                  <a:pt x="288" y="336"/>
                </a:cubicBezTo>
                <a:cubicBezTo>
                  <a:pt x="96" y="264"/>
                  <a:pt x="48" y="132"/>
                  <a:pt x="0" y="0"/>
                </a:cubicBezTo>
              </a:path>
            </a:pathLst>
          </a:custGeom>
          <a:noFill/>
          <a:ln w="38160">
            <a:solidFill>
              <a:srgbClr val="cc00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8229600" y="4114800"/>
            <a:ext cx="304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 flipV="1">
            <a:off x="6095880" y="2362320"/>
            <a:ext cx="762120" cy="76176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33520" y="1523520"/>
            <a:ext cx="83786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tainted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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cc0099"/>
                </a:solidFill>
                <a:latin typeface="Symbol"/>
                <a:ea typeface="Symbol"/>
              </a:rPr>
              <a:t></a:t>
            </a:r>
            <a:r>
              <a:rPr b="1" lang="en-US" sz="1800" spc="-1" strike="noStrike" baseline="-25000">
                <a:solidFill>
                  <a:srgbClr val="cc0099"/>
                </a:solidFill>
                <a:latin typeface="Comic Sans MS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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cc0099"/>
                </a:solidFill>
                <a:latin typeface="Symbol"/>
                <a:ea typeface="Symbol"/>
              </a:rPr>
              <a:t></a:t>
            </a:r>
            <a:r>
              <a:rPr b="1" lang="en-US" sz="1800" spc="-1" strike="noStrike" baseline="-25000">
                <a:solidFill>
                  <a:srgbClr val="cc0099"/>
                </a:solidFill>
                <a:latin typeface="Comic Sans MS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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cc0099"/>
                </a:solidFill>
                <a:latin typeface="Symbol"/>
                <a:ea typeface="Symbol"/>
              </a:rPr>
              <a:t></a:t>
            </a:r>
            <a:r>
              <a:rPr b="1" lang="en-US" sz="1800" spc="-1" strike="noStrike" baseline="-25000">
                <a:solidFill>
                  <a:srgbClr val="cc0099"/>
                </a:solidFill>
                <a:latin typeface="Comic Sans MS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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cc0099"/>
                </a:solidFill>
                <a:latin typeface="Symbol"/>
                <a:ea typeface="Symbol"/>
              </a:rPr>
              <a:t></a:t>
            </a:r>
            <a:r>
              <a:rPr b="1" lang="en-US" sz="1800" spc="-1" strike="noStrike" baseline="-25000">
                <a:solidFill>
                  <a:srgbClr val="cc0099"/>
                </a:solidFill>
                <a:latin typeface="Comic Sans MS"/>
              </a:rPr>
              <a:t>5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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cc0099"/>
                </a:solidFill>
                <a:latin typeface="Symbol"/>
                <a:ea typeface="Symbol"/>
              </a:rPr>
              <a:t></a:t>
            </a:r>
            <a:r>
              <a:rPr b="1" lang="en-US" sz="1800" spc="-1" strike="noStrike" baseline="-25000">
                <a:solidFill>
                  <a:srgbClr val="cc0099"/>
                </a:solidFill>
                <a:latin typeface="Comic Sans MS"/>
              </a:rPr>
              <a:t>7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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ff00"/>
                </a:solidFill>
                <a:latin typeface="Comic Sans MS"/>
              </a:rPr>
              <a:t>untainted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C86BF5-9676-48D4-A754-646276510DC6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atisfiability in Linear Time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itial program of size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xed set of qualifiers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ainted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400" spc="-1" strike="noStrike">
                <a:solidFill>
                  <a:srgbClr val="00ff00"/>
                </a:solidFill>
                <a:latin typeface="Comic Sans MS"/>
              </a:rPr>
              <a:t>untainted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..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straint generation yields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O(n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constraint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cursive abstract syntax tree walk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raph reachability takes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O(n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im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orks for semi-lattices, discrete p.o., produc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EC4830-4211-43BF-9CEC-67C9A062C66C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Limitations of Subtyping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ubtyping gives us a kind of 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polymorphism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polymorphic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ype represents multiple typ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 a subtyping system,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q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represents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q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and all of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q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’s subtyp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s we saw, this flexibility helps make the analysis more precis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ut it isn’t always enough…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79B38A-D685-49D9-92F7-2D9554AEA7CC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Limitations of Subtype Polymorphism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sider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tainte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untainte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gai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untainted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tainte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et’s look at the identity func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fun id (x:int):int = x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at qualified types can we infer for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i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FA9B29-F050-4CA4-A8A6-FCC9959D6E06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pplication: Format String Vulnerabilities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/O functions in C use format string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printf("Hello!");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cc0099"/>
                </a:solidFill>
                <a:latin typeface="Comic Sans MS"/>
              </a:rPr>
              <a:t>Hello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printf("Hello, %s!", name);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cc0099"/>
                </a:solidFill>
                <a:latin typeface="Comic Sans MS"/>
              </a:rPr>
              <a:t>Hello,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i="1" lang="en-US" sz="2400" spc="-1" strike="noStrike">
                <a:solidFill>
                  <a:srgbClr val="3333cc"/>
                </a:solidFill>
                <a:latin typeface="Comic Sans MS"/>
              </a:rPr>
              <a:t>name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cc0099"/>
                </a:solidFill>
                <a:latin typeface="Comic Sans MS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stead of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printf("%s", name);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y no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printf(name);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A3D2DD-1615-4161-82E6-3D8C4AA1B54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ypes for id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fun id (x:int):int = x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ignoring int, qual on id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ainted 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tainte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ne but untainted data passed in becomes tainte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untainted 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untainte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ne but can’t pass in tainted dat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untainted 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tainte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ot too usefu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ainted 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untainte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mpossibl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F45279-A207-4BE2-B5B2-A32A7C5C2FCE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unction Calls and Context-Sensitivity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365040" y="4890600"/>
            <a:ext cx="8134560" cy="12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ll calls to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strdup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conflate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Monomorphic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or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context-insensitiv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586" name=""/>
          <p:cNvGrpSpPr/>
          <p:nvPr/>
        </p:nvGrpSpPr>
        <p:grpSpPr>
          <a:xfrm>
            <a:off x="5517720" y="2667240"/>
            <a:ext cx="1765800" cy="1339200"/>
            <a:chOff x="5517720" y="2667240"/>
            <a:chExt cx="1765800" cy="1339200"/>
          </a:xfrm>
        </p:grpSpPr>
        <p:sp>
          <p:nvSpPr>
            <p:cNvPr id="587" name=""/>
            <p:cNvSpPr/>
            <p:nvPr/>
          </p:nvSpPr>
          <p:spPr>
            <a:xfrm>
              <a:off x="6072120" y="2667240"/>
              <a:ext cx="60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ff"/>
                  </a:solidFill>
                  <a:latin typeface="Comic Sans MS"/>
                </a:rPr>
                <a:t>st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5517720" y="3546720"/>
              <a:ext cx="176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ff"/>
                  </a:solidFill>
                  <a:latin typeface="Comic Sans MS"/>
                </a:rPr>
                <a:t>strdup_re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6325920" y="3174840"/>
              <a:ext cx="0" cy="45108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0" name=""/>
          <p:cNvGrpSpPr/>
          <p:nvPr/>
        </p:nvGrpSpPr>
        <p:grpSpPr>
          <a:xfrm>
            <a:off x="4566960" y="1609920"/>
            <a:ext cx="1700640" cy="1157040"/>
            <a:chOff x="4566960" y="1609920"/>
            <a:chExt cx="1700640" cy="1157040"/>
          </a:xfrm>
        </p:grpSpPr>
        <p:sp>
          <p:nvSpPr>
            <p:cNvPr id="591" name=""/>
            <p:cNvSpPr/>
            <p:nvPr/>
          </p:nvSpPr>
          <p:spPr>
            <a:xfrm>
              <a:off x="4566960" y="1609920"/>
              <a:ext cx="129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Comic Sans MS"/>
                </a:rPr>
                <a:t>taint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5078520" y="2035080"/>
              <a:ext cx="1189080" cy="731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3" name=""/>
          <p:cNvGrpSpPr/>
          <p:nvPr/>
        </p:nvGrpSpPr>
        <p:grpSpPr>
          <a:xfrm>
            <a:off x="5223960" y="4056120"/>
            <a:ext cx="1106640" cy="840960"/>
            <a:chOff x="5223960" y="4056120"/>
            <a:chExt cx="1106640" cy="840960"/>
          </a:xfrm>
        </p:grpSpPr>
        <p:sp>
          <p:nvSpPr>
            <p:cNvPr id="594" name=""/>
            <p:cNvSpPr/>
            <p:nvPr/>
          </p:nvSpPr>
          <p:spPr>
            <a:xfrm>
              <a:off x="5223960" y="443736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ff"/>
                  </a:solidFill>
                  <a:latin typeface="Comic Sans MS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 flipH="1">
              <a:off x="5554440" y="4056120"/>
              <a:ext cx="776160" cy="5302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6" name=""/>
          <p:cNvSpPr/>
          <p:nvPr/>
        </p:nvSpPr>
        <p:spPr>
          <a:xfrm>
            <a:off x="6329520" y="3176640"/>
            <a:ext cx="0" cy="45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7" name=""/>
          <p:cNvGrpSpPr/>
          <p:nvPr/>
        </p:nvGrpSpPr>
        <p:grpSpPr>
          <a:xfrm>
            <a:off x="6334200" y="1609920"/>
            <a:ext cx="1695600" cy="1158480"/>
            <a:chOff x="6334200" y="1609920"/>
            <a:chExt cx="1695600" cy="1158480"/>
          </a:xfrm>
        </p:grpSpPr>
        <p:sp>
          <p:nvSpPr>
            <p:cNvPr id="598" name=""/>
            <p:cNvSpPr/>
            <p:nvPr/>
          </p:nvSpPr>
          <p:spPr>
            <a:xfrm>
              <a:off x="6334200" y="1609920"/>
              <a:ext cx="1695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ff00"/>
                  </a:solidFill>
                  <a:latin typeface="Comic Sans MS"/>
                </a:rPr>
                <a:t>untaint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 flipH="1">
              <a:off x="6465240" y="2036880"/>
              <a:ext cx="1189080" cy="73152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0" name=""/>
          <p:cNvGrpSpPr/>
          <p:nvPr/>
        </p:nvGrpSpPr>
        <p:grpSpPr>
          <a:xfrm>
            <a:off x="6459480" y="4056120"/>
            <a:ext cx="1100160" cy="840960"/>
            <a:chOff x="6459480" y="4056120"/>
            <a:chExt cx="1100160" cy="840960"/>
          </a:xfrm>
        </p:grpSpPr>
        <p:sp>
          <p:nvSpPr>
            <p:cNvPr id="601" name=""/>
            <p:cNvSpPr/>
            <p:nvPr/>
          </p:nvSpPr>
          <p:spPr>
            <a:xfrm>
              <a:off x="7185240" y="4437360"/>
              <a:ext cx="37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ff"/>
                  </a:solidFill>
                  <a:latin typeface="Comic Sans MS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6459480" y="4056120"/>
              <a:ext cx="776160" cy="5302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3" name=""/>
          <p:cNvSpPr/>
          <p:nvPr/>
        </p:nvSpPr>
        <p:spPr>
          <a:xfrm>
            <a:off x="277920" y="2254680"/>
            <a:ext cx="4755960" cy="17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lvl="1" marL="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char *strdup(char *str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// return a copy of st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char *a = strdup(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tainted_string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char *b = strdup(</a:t>
            </a:r>
            <a:r>
              <a:rPr b="0" lang="en-US" sz="2000" spc="-1" strike="noStrike">
                <a:solidFill>
                  <a:srgbClr val="00ff00"/>
                </a:solidFill>
                <a:latin typeface="Comic Sans MS"/>
              </a:rPr>
              <a:t>untainted_string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BA4121-5479-4BDE-B1D0-8A162ACE005F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0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What’s Happening Here?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qualifier on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ppears both covariantly and contravariantly in the typ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e’re stuck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e need 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parametric polymorphism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e want to give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fun id (x:int):int = x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typ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a.int</a:t>
            </a:r>
            <a:r>
              <a:rPr b="0" lang="en-US" sz="2400" spc="-1" strike="noStrike" baseline="30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int</a:t>
            </a:r>
            <a:r>
              <a:rPr b="0" lang="en-US" sz="2400" spc="-1" strike="noStrike" baseline="30000">
                <a:solidFill>
                  <a:srgbClr val="3333cc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D65E48-5DF2-4164-B1E3-E21634BBD540}" type="slidenum">
              <a:t>8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mplementing Polymorphism Efficiently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L-style polymorphic type inference is EXPTIME-har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 practice, it’s fin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ad case can’t happen here, because we’re polymorphic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only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n the qualifier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at’s because we’ll apply this to C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e need polymorphically constrained typ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x :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</a:t>
            </a: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.qt where C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r any qualifiers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where constraints C hold,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has type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q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230B40-81CA-4D67-A3F6-664D0DA2BD84}" type="slidenum">
              <a:t>8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 Solution:  CFL Reachability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n reduce constraint solving to CFL reachabilit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pports polymorphic recursion in qualifier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t’s easy to implemen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t’s efficient (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O(n</a:t>
            </a:r>
            <a:r>
              <a:rPr b="0" lang="en-US" sz="2400" spc="-1" strike="noStrike" baseline="30000">
                <a:solidFill>
                  <a:srgbClr val="3333cc"/>
                </a:solidFill>
                <a:latin typeface="Comic Sans MS"/>
              </a:rPr>
              <a:t>3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evious best algorithm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O(n</a:t>
            </a:r>
            <a:r>
              <a:rPr b="0" lang="en-US" sz="2000" spc="-1" strike="noStrike" baseline="30000">
                <a:solidFill>
                  <a:srgbClr val="3333cc"/>
                </a:solidFill>
                <a:latin typeface="Comic Sans MS"/>
              </a:rPr>
              <a:t>8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dea due to Horwitz, Reps, and Sagiv, and Rehof, Fahndrich, and Da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616669-E6EE-47ED-B05A-FD48DEE79C58}" type="slidenum">
              <a:t>8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fficiency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straint generation yields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O(n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constraint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ame as befor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mportant for scalabilit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text-free language reachability is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O(n</a:t>
            </a:r>
            <a:r>
              <a:rPr b="0" lang="en-US" sz="2400" spc="-1" strike="noStrike" baseline="30000">
                <a:solidFill>
                  <a:srgbClr val="3333cc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ut a few tricks make it practical (not much slowdown in analysis times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or more details, se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hof + Fahndrich, POPL’0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6CE226-71E5-454F-BC11-7B21999CEAE7}" type="slidenum">
              <a:t>8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ecurity via Type Qualifiers: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e Icky Stuff in C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ntroduction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at’s all the theory behind this system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re complicated system:  flow-sensitive qualifier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t going to cover that her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Haven’t applied it to security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uppose we want to apply this to a language like C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t doesn’t quite look like MinML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20F6CC-B34A-43EF-87AA-6650D5AB5A84}" type="slidenum">
              <a:t>8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Local Variables in C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first (easiest) problem:  C doesn’t use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ref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t has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malloc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for memory on the hea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ut local variables on the stack are also updateable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void foo(int x) {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int y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y = x + 3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y++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x = 42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C types aren’t quite enough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3 : in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but can’t update 3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CFE845-F825-4C7E-AC62-161067E44A39}" type="slidenum">
              <a:t>8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Mapping to MinM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ariables will have ref types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x : ref</a:t>
            </a:r>
            <a:r>
              <a:rPr b="0" lang="en-US" sz="2400" spc="-1" strike="noStrike" baseline="30000">
                <a:solidFill>
                  <a:srgbClr val="3333cc"/>
                </a:solidFill>
                <a:latin typeface="Comic Sans MS"/>
              </a:rPr>
              <a:t>Q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&lt;contents type&gt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n rhs of assignment, add deref of variabl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void foo(int x) {                foo (x:int):void =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     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let x = ref x i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int y;         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      let y = ref 0 i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y = x + 3;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y := (!x) + 3;  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y++;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y := (!y) + 1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x = 42;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x := 4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5CBE07-0B62-435A-892A-98D8FC479591}" type="slidenum">
              <a:t>8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ormat String Attacks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23920" y="1523880"/>
            <a:ext cx="86882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dversary-controlled format specifi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94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name := &lt;data-from-network&gt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994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printf(name);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/* Oops */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46200" indent="-248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ttacker sets name = “%s%s%s” to crash progra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994320" indent="-1987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ttempts to read from next 3 addresses on the stack, one of which is probably invali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994320" indent="-1987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f not, name = “%s%s%s%s%s%s%s%s%s%s%s%s%s”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46200" indent="-248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ttacker can read any addres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994320" indent="-198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ame =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“&lt;address&gt;_%08x.%08x.%08x.%08x.%08x.|%s|"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646200" indent="-248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ttacker can write any address and execute code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994320" indent="-1987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ame = “…… %n ……”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994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ots of these bugs in the wil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46200" indent="-248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oo restrictive to forbid variable format string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2D9F96-1D15-45AE-A10D-495738D3E68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Multiple Files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st applications have multiple source code fil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f we do inference on one file without the others, won’t get complete information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oblem: In left file, we’re assuming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may have any qualifier (we make a fresh variable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2" name=""/>
          <p:cNvSpPr/>
          <p:nvPr/>
        </p:nvSpPr>
        <p:spPr>
          <a:xfrm>
            <a:off x="1371600" y="3723480"/>
            <a:ext cx="2436840" cy="1015920"/>
          </a:xfrm>
          <a:prstGeom prst="rect">
            <a:avLst/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extern int 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x = 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4952880" y="3683160"/>
            <a:ext cx="2841840" cy="459720"/>
          </a:xfrm>
          <a:prstGeom prst="rect">
            <a:avLst/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$tainted int t = 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AF37D8-3B2B-4F47-9595-7B6C3A008FDA}" type="slidenum">
              <a:t>9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Multiple Files:  Solution #1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on’t analyze programs with multiple files!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n use CIL merger from Necula to turn a multi-file app into a single-file app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.g., I have a merged version of the linux kernel, 470432 lin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oblem:  Want to present results to us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ard to map information back to original sourc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0091A5-63C0-40A4-A95B-BE9395DE33CF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Multiple Files:  Solution #2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ke conservative assumptions about missing fil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.g., anything globally exposed may be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ainte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oblem:  Very conservativ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oing to be hard to infer useful typ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44F2A1-14EC-452A-91AC-487C051D7078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Multiple Files:  Solution #3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ive tool all files at same tim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ole-program analysi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clude files that give types to library function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 CQual, we have prelude.cq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nify (or just equate) types of global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3DE8B9-1D85-4EF1-949E-3D77D676E809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xperiment: Format String Vulnerabilities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nalyzed 10 popular unix daemon program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nnotations shared across applicatio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ne annotated header file for standard librari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cludes annotations for polymorphis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ritical to practical usabilit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ound several known vulnerabiliti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cluding ones we didn’t know abou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ser interface critica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E4E394-D32D-4985-A64D-26CA5A416554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Results:  Format String Vulnerabilities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633" name=""/>
          <p:cNvGraphicFramePr/>
          <p:nvPr/>
        </p:nvGraphicFramePr>
        <p:xfrm>
          <a:off x="1984320" y="1511280"/>
          <a:ext cx="4989240" cy="4889520"/>
        </p:xfrm>
        <a:graphic>
          <a:graphicData uri="http://schemas.openxmlformats.org/drawingml/2006/table">
            <a:tbl>
              <a:tblPr/>
              <a:tblGrid>
                <a:gridCol w="2830320"/>
                <a:gridCol w="1209600"/>
                <a:gridCol w="949320"/>
              </a:tblGrid>
              <a:tr h="444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War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ug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dentd-1.0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4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ingetty-0.9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4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ftpd-1.0.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4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uh-2.05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~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fengine-1.5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4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mapd-4.7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4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popd-4.7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ars_nwe-0.9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4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pache-1.3.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4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penssh-2.3.0p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9DDDF6-E18C-4993-B12B-7F4B6657D238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xperiment:  User/kernel Vulnerabilities (Johnson + Wagner 04)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 the Linux kernel, the kernel and user/mode programs share address spac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81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81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81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top 1GB is reserved for the kern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en the kernel runs, it doesn’t need to change VM mapping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937080" indent="-1872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Just enable access to top 1GB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937080" indent="-1872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hen kernel returns, prevent access to top 1GB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6" name=""/>
          <p:cNvSpPr/>
          <p:nvPr/>
        </p:nvSpPr>
        <p:spPr>
          <a:xfrm>
            <a:off x="3124080" y="3311640"/>
            <a:ext cx="1768680" cy="30168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3124080" y="2895480"/>
            <a:ext cx="1768680" cy="41616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3124080" y="3603600"/>
            <a:ext cx="1768680" cy="62388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3121200" y="4224240"/>
            <a:ext cx="1768320" cy="30168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3481200" y="2901600"/>
            <a:ext cx="9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kern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3630600" y="3241440"/>
            <a:ext cx="70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us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3610080" y="4125600"/>
            <a:ext cx="70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us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3260880" y="3525480"/>
            <a:ext cx="147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unmapp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2466720" y="2720520"/>
            <a:ext cx="67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4G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2452320" y="3092040"/>
            <a:ext cx="67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3G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2754360" y="422856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F61613-4CF1-45FE-9154-B7F947847451}" type="slidenum">
              <a:t>9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radeoffs of This Memory Mod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os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t a lot of overhea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Kernel has direct access to user spac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s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eaves the door open to attacks from untrusted user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pain for programmers to put in check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5C9B8D-A80F-4329-97D8-FA4077EA3791}" type="slidenum">
              <a:t>9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n Attack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uppose we add two new system call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int x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void sys_setint(int *p) { memcpy(&amp;x, p, sizeof(x)); }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void sys_getint(int *p) { memcpy(p, &amp;x, sizeof(x)); }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uppose a user calls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getint(buf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ell-behaved program: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buf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points to user spac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licious program: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buf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points to kernel memor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e’ve just written to kernel space!  Oops!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7F8B44-5A4A-4590-9B49-D52896DDBA91}" type="slidenum">
              <a:t>9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nother Attack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n we compromise security with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setint(buf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at if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buf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points to private kernel data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.g., file buffer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sult can be read with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getin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266C9D-776B-4356-A594-54C283F71CF0}" type="slidenum">
              <a:t>9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0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7T18:56:23Z</dcterms:created>
  <dc:creator>Valued Gateway Customer</dc:creator>
  <dc:description/>
  <dc:language>en-US</dc:language>
  <cp:lastModifiedBy>dpw</cp:lastModifiedBy>
  <cp:lastPrinted>2004-01-06T01:52:22Z</cp:lastPrinted>
  <dcterms:modified xsi:type="dcterms:W3CDTF">2004-11-03T19:36:35Z</dcterms:modified>
  <cp:revision>429</cp:revision>
  <dc:subject/>
  <dc:title>Programmer-Specified Aliasing</dc:title>
</cp:coreProperties>
</file>