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BF3B-A978-4716-B39D-71CF51195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4F77-8E53-49F8-B140-2BF15DC37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DB8D-30C1-4BC8-B285-D3A4E1553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1375-3095-408E-A7F6-3DCE85B89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00BBE-A6AA-42DF-A5C7-9C226C55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5E5DA-6AE7-42E8-82BE-C9547FB4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EE68-6901-4004-BBEA-E137BAE1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5DF88-1561-44DB-9CA8-DB6BFEF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9A46-8142-49F4-BE1C-8EF02A3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278E-1566-44FB-9D42-F7A432AA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22A1C-BA5B-46BC-9092-87270A3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7993-9D4C-4288-A7CF-FB5DB9AD8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32B39-69FD-444C-A097-E3D8A0A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BF6C-14AD-462A-828B-A95AD23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75550-2961-4C7B-9772-914894D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F164-28F9-495C-A85B-AC0FB2DF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BA513-8EC9-4CFA-A0A8-0C5752E1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2172-6C23-4F1A-8C88-5830602AB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6A17-2F94-4914-96BB-FE1B6897F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93CB-E703-4527-8947-07A954A00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FF04-85D8-4778-A1EB-0E2FE5AA4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A1D6-12D8-4AC4-8874-03181B383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93ED-E405-4742-A47C-B7BCB12EA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3618-4560-43CF-B1DA-3B65D6595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7911-1D29-4C0D-8849-65EF456B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146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5B25-0D76-4451-91AE-7C27CBB8A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ity via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vid Wal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s from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ff Foster, University of Mary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by Alex Aiken, Jeff Foster, Rob Johnson, John Kodumal, Tachio Terauchi, and David Wag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ing Tainted and Untaint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qualifier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printf(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har *fmt, ..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getenv(const char *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may be controlled by adver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must not be controlled by adver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3129-1486-4D00-8858-B2A2CE203D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9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olution: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py_from_us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py_to_us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1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xample should be writ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setint(int *p) { copy_from_user(&amp;x, p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getint(int *p) { copy_to_user(p, &amp;x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rform the required safety che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number of bytes that couldn’t be cop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om_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ds destination with 0’s if couldn’t 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391F-D248-4702-9022-23CAD92CAC1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Easy to Forget The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ers to kernel and user space look the s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part of the point of the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ux 2.4.20 has 129 syscalls with pointers to use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129 of those need to u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py_from/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oc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lementation passes user pointers to device drivers (without sanitizing them firs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:  Hundreds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py_from/_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(small) kernel version:  389 from, 428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re’s no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F5F1-3861-4C37-A37B-EED5B4BEF00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r/Kernel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use type qualifiers to distinguish the two kinds of poin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rn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- This pointer must be under kernel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- This pointer may be under user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yping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ernel &lt;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51EE-C889-4C6C-9088-80EB709ADEB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Signatur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2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dd signatures for the appropriate f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copy_from_user(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t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             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from, int le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memcpy(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t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from, int le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setint(int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opy_from_user(&amp;x, p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getint(int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memcpy(p, &amp;x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-487800" y="3840480"/>
            <a:ext cx="1966680" cy="457200"/>
          </a:xfrm>
          <a:prstGeom prst="wedgeRectCallout">
            <a:avLst>
              <a:gd name="adj1" fmla="val -4967"/>
              <a:gd name="adj2" fmla="val 109370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Lives in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21400" y="3462480"/>
            <a:ext cx="1311120" cy="425160"/>
          </a:xfrm>
          <a:prstGeom prst="wedgeRectCallout">
            <a:avLst>
              <a:gd name="adj1" fmla="val -179055"/>
              <a:gd name="adj2" fmla="val 160819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57880" y="3552840"/>
            <a:ext cx="1311480" cy="425520"/>
          </a:xfrm>
          <a:prstGeom prst="wedgeRectCallout">
            <a:avLst>
              <a:gd name="adj1" fmla="val -269611"/>
              <a:gd name="adj2" fmla="val 145893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33760" y="5578560"/>
            <a:ext cx="1311480" cy="425520"/>
          </a:xfrm>
          <a:prstGeom prst="wedgeRectCallout">
            <a:avLst>
              <a:gd name="adj1" fmla="val -157750"/>
              <a:gd name="adj2" fmla="val -9850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0756-C47C-456C-AFA5-39D0A99A3D1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lifiers and Type Structu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ioctl(void *user arg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truct cmd { char *datap; } c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opy_from_user(&amp;c, arg, sizeof©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.datap[0] = 0;    // not a good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int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es from the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ta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so comes from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shouldn’t deference it without a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FFAF-EF7D-4BA2-873E-0EE91C21C63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r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r **user 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e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under user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fore so i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*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a rule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 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t must b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ell-formed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dition on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AA5D-2644-4C09-9F33-EA1DC18D753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type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implicitly require all types to be well-form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about other qualifi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qualifiers have these structural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maybe other quals wa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670040" y="2450520"/>
            <a:ext cx="6149880" cy="1015920"/>
            <a:chOff x="1670040" y="2450520"/>
            <a:chExt cx="6149880" cy="1015920"/>
          </a:xfrm>
        </p:grpSpPr>
        <p:sp>
          <p:nvSpPr>
            <p:cNvPr id="672" name=""/>
            <p:cNvSpPr/>
            <p:nvPr/>
          </p:nvSpPr>
          <p:spPr>
            <a:xfrm>
              <a:off x="1670040" y="2450520"/>
              <a:ext cx="6149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|--wf (Q’ s)     Q’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|--wf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(Q’ 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82680" y="2933640"/>
              <a:ext cx="3263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F706-1490-4D6B-B46D-6823FB2BF19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onditional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be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be als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y on a per-qualifier level whether to generate this constra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hard to add to constraint 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670040" y="231156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(Q’ s)  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 ==&gt;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’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06560" y="2793960"/>
            <a:ext cx="5605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BBC6-7D57-413F-AECB-378826D9B29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ar constraints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, can specify this per-qualif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190520" y="2550960"/>
            <a:ext cx="739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,   |--wf (Qi si)  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 ==&gt; Q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struc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1 s1, …, Qn 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84200" y="3033720"/>
            <a:ext cx="704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7B41-B94B-40F4-9944-B8E860AEB0C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al Resul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 on two Linux ker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.20 -- 11 bugs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.23 -- 10 bugs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ed to add 245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py_from/to, kmalloc, kfre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Linux syscalls take user args (221 cal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ld have be done automagically (All begin with sys_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 both single file (unsound) and whole-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5D29-9439-4811-A310-D4827302D65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384720" cy="1822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f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676520"/>
            <a:ext cx="3352680" cy="1828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g(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50532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accept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0532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 accepts only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029200" y="5105520"/>
            <a:ext cx="3352680" cy="459720"/>
            <a:chOff x="5029200" y="5105520"/>
            <a:chExt cx="3352680" cy="459720"/>
          </a:xfrm>
        </p:grpSpPr>
        <p:sp>
          <p:nvSpPr>
            <p:cNvPr id="123" name=""/>
            <p:cNvSpPr/>
            <p:nvPr/>
          </p:nvSpPr>
          <p:spPr>
            <a:xfrm>
              <a:off x="5029200" y="5105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ainted</a:t>
              </a: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un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7220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81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A446-0C8B-4917-B437-EBC9330EDB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Detailed Resul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0, full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12 raw warnings, 275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que = combine msgs f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l from sam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full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71 raw warnings, 264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default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1 raw warnings, 76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default config, whole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27 raw warnings, 53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F880-2960-4D78-BDFC-DF2529E1DFF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te a few false posi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code base magnifies false positive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bugs persisted through a few ker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bugs found in 2.4.23 that persisted to 2.5.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unsound tool, MECA, found 2 of 8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Soundness matt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CB2E-2C94-4A43-BF62-3BD33EADACD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11 bugs in 2.4.23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are in device dr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lace to look for bug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errors found in “core” device dr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 bugs in PCMCIA sub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churn between kernel ver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2.4.20 and 2.4.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bugs fix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more intro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1143-17B7-466A-958D-B38B08EFB91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qualifiers are specifications that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will ac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to large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many different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works:  ccqual, jqual, Eclipse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83FE-76C1-45DD-A8B4-902D38813FF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la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ice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cky Stuff in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72DD-2484-43A2-87EA-2D846C1EF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 for MinM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type qualifiers to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pproach works for other languages (like 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type systems define types 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 ::= c0(t, …, t) | … | cn(t, …, 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c0…c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set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ype construc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 ::= int | bool | 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int, bool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ritten inf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A70A-A45B-4B20-9918-6471BEDFA1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 for MinML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set of typ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d to be chosen in advance and fix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= {tainted, untainte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qualified 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j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Q 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::= c0(qt, …, qt) | … | cn(qt, …, q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 type qualifier to appear on each type constru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D35F-AF34-4DF1-B025-D467EE79C5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ract Syntax of MinML wit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7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 ::= x | n | true | false | if e then e else e                  | fun f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 baseline="30000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| e e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| annot(Q, e) | check(Q, 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not(Q, 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express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qualifie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Q, 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fail 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 not have qualifie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 only the top-level qual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fread (x:qt):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…annot(tainted,4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printf (x:qt):qt’ = check(untainted, x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40A6-A148-4EFD-AA86-299044724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ng Rules:  Qualifier 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ly-constructed values have “bare”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 adds an outermost qual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390840" y="231156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4200" y="2303640"/>
            <a:ext cx="2019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2880" y="30481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tru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81200" y="3040200"/>
            <a:ext cx="2976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1600" y="306900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als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19560" y="3060720"/>
            <a:ext cx="2976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1960" y="486900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annot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4960" y="53514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5682-7AFC-488C-A740-E09B514F6A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ng Rules:  Qualifier Elimin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default, discard qualifier at destruc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heck(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s the qualifier allow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785960" y="463068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8960" y="511344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3302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G |-- e2 : qt   G |-- e3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if e1 then e2 else e3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5880" y="280836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92AA-2016-4022-AC5B-240DE74C4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xample us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nyone expecting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given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ead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b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be passed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e.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tainted, annot(untainted, 42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type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dd that to our syste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56BF-2731-42F4-A1B7-EDECB2361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fier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e with a partial ord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reflex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,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=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nti-symmetr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,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ransi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fiers introduce subty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ur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&lt;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8320-F9B1-4B22-8E3D-0C731EDA6F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ing that software is secure is 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practice for software quali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sure program runs correctly on set of in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de aud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ince yourself and others that your code is corr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4DC2-812C-42B4-A9C0-94C84893E3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171680"/>
            <a:ext cx="83059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r in picture = lower in partial or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ges show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214488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167976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5120" y="2830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7053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3911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3911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0769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654360" y="2112840"/>
            <a:ext cx="365040" cy="370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22800" y="2816280"/>
            <a:ext cx="36504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81400" y="2119320"/>
            <a:ext cx="36504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66960" y="2803680"/>
            <a:ext cx="36540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200" y="3489120"/>
            <a:ext cx="29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-poin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5287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iscrete parti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5AA9-FE1B-4FF0-A745-FCFAA5A41E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bining 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partial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form a new partial order, their cross-produ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x 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(Q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=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a, b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c, d) if 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 and b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1E52-69AC-4339-9D9C-0ACEF8F85D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838400"/>
            <a:ext cx="83059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sense with orthogonal sets of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us to write type rules assuming only one set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47840" y="2079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" y="3230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7800" y="2550960"/>
            <a:ext cx="0" cy="708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19360" y="20448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37000" y="3195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49680" y="2516040"/>
            <a:ext cx="0" cy="708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2760" y="27327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1760" y="17226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70360" y="275436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3280" y="277164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377028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2880" y="29260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70160" y="2414520"/>
            <a:ext cx="520920" cy="300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0600" y="3462480"/>
            <a:ext cx="52092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0" y="3594240"/>
            <a:ext cx="52092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45360" y="2424240"/>
            <a:ext cx="52056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8297-F6D6-44BE-B8E1-9370DBC521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tending the Qualifier Order to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077640"/>
            <a:ext cx="8305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one new rul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ubsump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yp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54000" y="1716120"/>
            <a:ext cx="32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0000" y="2198520"/>
            <a:ext cx="23000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746360"/>
            <a:ext cx="321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33960" y="2228760"/>
            <a:ext cx="230040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257800"/>
            <a:ext cx="83055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s:  If any position requires an expression of typ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it is safe to provide it a subtyp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2720" y="396252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95720" y="444492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36C5-6C2F-40C6-B1BA-06D57C89D9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59480" y="2056680"/>
            <a:ext cx="88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42 : int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annot(untainted, 42)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ntainted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annot(untainted, 42)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check(tainted, annot(untainted, 42)) : tainted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200" y="3289320"/>
            <a:ext cx="8697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240" y="2871720"/>
            <a:ext cx="86976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2409840"/>
            <a:ext cx="5607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80E9-FF45-489E-AA9F-CDBB2CE64F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on Function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bout function typ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: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ubtyp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a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used anywhere 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48320" indent="-568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an we replace a cal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f x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a cal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g x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932200" y="2373480"/>
            <a:ext cx="41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62160" y="2855880"/>
            <a:ext cx="39578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241F-F3EC-4319-9A36-09BB53C2E2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cing “f x” by “g x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expect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’s return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e can only retur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A function that return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replaced with one that return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249F-238B-4573-AEC2-FC2AFFF5AD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cing “f x” by “g x”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supposed to accep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’s argument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e must accep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le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A function that accep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replaced with one that accep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A14D-F6AF-474C-9FE8-B10C727C6C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on Function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7440" y="3506400"/>
            <a:ext cx="83376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a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vari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range (subtyping dir the sa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travari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domain (subtyping dir fli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2630520" y="1895400"/>
            <a:ext cx="48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   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1760" y="2378160"/>
            <a:ext cx="465264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9E28-F347-480C-9C55-3950BE7871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ynamic Semantics wit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semantics tags values with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 ::= x | n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true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false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 fun f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 : qt1) : qt2 = 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rules same as before, carrying the qualifiers along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54040" y="49546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rue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1 else e2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12800" y="543240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B401-F8DA-41E1-B241-EE29328A57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awbacks to Standard Approach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licious advers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rying to exploit anything you mis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AD3C-F063-42D6-A14E-4C65F9B63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ynamic Semantics with Qualifiers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new rule checks a qualifi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on at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continue only if the qualifier matches what is exp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 the program g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u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lso need rule to evaluate under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785960" y="22780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Q, v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3680" y="2755800"/>
            <a:ext cx="2722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D34E-6A50-4B93-8BA4-2D6ADE4EFC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to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ation:  Evaluation preserves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:  Well-typed programs don’t get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:  Exer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if you can adapt proofs to thi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 too much work; really just need to show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n’t get stu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E0AA-ED0D-4623-9BBD-A4093AD4E6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pdateable Refere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MinML language is miss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ide-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’s no way to write to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this doesn’t limit expressiv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de-effects sure are han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C07B-94E8-4944-BD9B-C801EDA930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nguage Exten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ML-style 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 ::= …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e | !e | e := 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-- Allocate memory and set its contents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emory lo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qualifier on pointer (not on conte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!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-- Return the contents of memory locati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1 := 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- Updat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s contents to conta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gs to no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null pointers (memory always initializ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utable local variables (only pointers to heap allow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7DAB-5354-440C-ABA3-F04B79E507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ic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type language with referen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…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 In ML the ref appears on the r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90560" y="3195720"/>
            <a:ext cx="6150240" cy="1015920"/>
            <a:chOff x="1690560" y="3195720"/>
            <a:chExt cx="6150240" cy="1015920"/>
          </a:xfrm>
        </p:grpSpPr>
        <p:sp>
          <p:nvSpPr>
            <p:cNvPr id="235" name=""/>
            <p:cNvSpPr/>
            <p:nvPr/>
          </p:nvSpPr>
          <p:spPr>
            <a:xfrm>
              <a:off x="1690560" y="3195720"/>
              <a:ext cx="6150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e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03560" y="367812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80880" y="4794120"/>
            <a:ext cx="3443400" cy="1015920"/>
            <a:chOff x="380880" y="4794120"/>
            <a:chExt cx="3443400" cy="1015920"/>
          </a:xfrm>
        </p:grpSpPr>
        <p:sp>
          <p:nvSpPr>
            <p:cNvPr id="238" name=""/>
            <p:cNvSpPr/>
            <p:nvPr/>
          </p:nvSpPr>
          <p:spPr>
            <a:xfrm>
              <a:off x="380880" y="4794120"/>
              <a:ext cx="3443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!e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760" y="526572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24160" y="4794120"/>
            <a:ext cx="4667400" cy="1015920"/>
            <a:chOff x="4124160" y="4794120"/>
            <a:chExt cx="4667400" cy="1015920"/>
          </a:xfrm>
        </p:grpSpPr>
        <p:sp>
          <p:nvSpPr>
            <p:cNvPr id="241" name=""/>
            <p:cNvSpPr/>
            <p:nvPr/>
          </p:nvSpPr>
          <p:spPr>
            <a:xfrm>
              <a:off x="4124160" y="4794120"/>
              <a:ext cx="464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1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    G |-- e2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1 := e2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1800" y="5265720"/>
              <a:ext cx="4649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1DC7-A2B8-4023-85C9-7081876F76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rational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 level of indirection to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locations to set of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 ::= … | l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mapping from locations to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reduction relat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lt;S, e&gt;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&lt;S’, e’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initial sto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xpressi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valuates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sulting in new sto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F9A0-7C3B-4C1E-A635-651E260C84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Refere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le for subtyping references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er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x = ref 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y = x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:= 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untainted, !x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995560" y="250992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’    q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28960" y="2992320"/>
            <a:ext cx="40813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E68A-838B-496F-9275-FC1FE8C33E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’ve Got Aliasing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multiple names for the same memory lo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y have differe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e c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memory at differe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4485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4485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5105520"/>
            <a:ext cx="609480" cy="533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02080" y="4737240"/>
            <a:ext cx="979200" cy="368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95320" y="4809960"/>
            <a:ext cx="771480" cy="295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59600">
            <a:off x="2757240" y="4529520"/>
            <a:ext cx="8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20434800">
            <a:off x="4376520" y="45990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5C5B-1271-48CD-A4D3-25BAAEFABF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 #1:  Java’s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ses this subtyping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class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[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class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[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er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o[] a = new Foo[5]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bject[] b = 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[0] = new Object(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forbidden at run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[0].foo(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…so this can’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BCC0-1002-42DA-93D6-40921B3CDC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 #2:  Purely Static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 from rules for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ference is like an object with two metho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et    : uni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t    : 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un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ccurs both co- and contravaria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ight ru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490392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  qt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00" y="5386320"/>
            <a:ext cx="408168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490536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   qt =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9680" y="5388120"/>
            <a:ext cx="27543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51520" y="51264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0F4F-2767-4A17-9D84-9C6B7F3356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ls for Secur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ore can we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tools that analyze source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son about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possible ru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mited but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iminate categories of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people concentrate on the deep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programming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mistakes in the first p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urage programmers to think about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FF79-6B7A-4E4D-9EBD-C0F02B1B6B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to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ation:  Evaluation preserves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:  Well-typed programs don’t get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prove it with updateable referenc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nt:  You’ll need a stronger induction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’ll need to reason about types in the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so that if you retrieve a value out of the store, you know what type it h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823C-B18A-425B-B4DB-1F7B3F3DAD0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our motivating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ave a legacy C program that ha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 C-style types in most places unless the programmer chooses to add extra anno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dded signatu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the standard library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we checked whether there were any contradi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ype qualifier in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6FEB-5A89-44D6-9346-2FE163EE52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 Inference Statemen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program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ifier an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qualifier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no other information abou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there exist a valid typing of the progr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an algorithm to 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7444-A589-4964-AF59-60463AD0E2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Qualifier Inference Algorith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Apply syntax-directed type inference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-directed means 1 rule per syntactic constr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-directed rules will generate fresh unknowns and constraints among the unknow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Solve the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ther compute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fail, if there is no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the program has a type err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the program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ve a security vulner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BFE4-6BF1-49CC-9607-97E1F5D192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Problem:  Subsumption Ru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re allowed to apply this rule at any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s it hard to develop a deterministic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checking is no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yntax dr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tunately, we don’t have that many cho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express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e need to dec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we apply the “regular” rule f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do we apply subsumption (how many times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1773360" y="161928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6000" y="2101680"/>
            <a:ext cx="3264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B2F9-15CF-4C62-AF49-CBFB693C84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mma:  Multiple sequential uses of subsumption can be collapsed into a single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: Transitivity o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080" y="3271680"/>
            <a:ext cx="7064280" cy="1572120"/>
            <a:chOff x="46080" y="3271680"/>
            <a:chExt cx="7064280" cy="1572120"/>
          </a:xfrm>
        </p:grpSpPr>
        <p:sp>
          <p:nvSpPr>
            <p:cNvPr id="282" name=""/>
            <p:cNvSpPr/>
            <p:nvPr/>
          </p:nvSpPr>
          <p:spPr>
            <a:xfrm>
              <a:off x="46080" y="3271680"/>
              <a:ext cx="7064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   qt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            qt’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6000" y="4324320"/>
              <a:ext cx="3264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4600" y="3790800"/>
              <a:ext cx="2793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-662040" y="4824360"/>
            <a:ext cx="7064280" cy="1572120"/>
            <a:chOff x="-662040" y="4824360"/>
            <a:chExt cx="7064280" cy="1572120"/>
          </a:xfrm>
        </p:grpSpPr>
        <p:sp>
          <p:nvSpPr>
            <p:cNvPr id="286" name=""/>
            <p:cNvSpPr/>
            <p:nvPr/>
          </p:nvSpPr>
          <p:spPr>
            <a:xfrm>
              <a:off x="-662040" y="4824360"/>
              <a:ext cx="7064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            qt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05160" y="588960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06400" y="3849840"/>
            <a:ext cx="998640" cy="2238120"/>
          </a:xfrm>
          <a:custGeom>
            <a:avLst/>
            <a:gdLst>
              <a:gd name="textAreaLeft" fmla="*/ 133560 w 998640"/>
              <a:gd name="textAreaRight" fmla="*/ 865080 w 998640"/>
              <a:gd name="textAreaTop" fmla="*/ 455040 h 2238120"/>
              <a:gd name="textAreaBottom" fmla="*/ 1559160 h 223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86" stAng="-5400000" swAng="-5400000"/>
                <a:lnTo>
                  <a:pt x="0" y="10655"/>
                </a:lnTo>
                <a:arcTo wR="21600" hR="8786" stAng="10800000" swAng="-2940081"/>
                <a:lnTo>
                  <a:pt x="14400" y="21098"/>
                </a:lnTo>
                <a:lnTo>
                  <a:pt x="21600" y="18506"/>
                </a:lnTo>
                <a:lnTo>
                  <a:pt x="14400" y="14909"/>
                </a:lnTo>
                <a:lnTo>
                  <a:pt x="14400" y="17069"/>
                </a:lnTo>
                <a:arcTo wR="21600" hR="8786" stAng="7859919" swAng="2790597"/>
                <a:lnTo>
                  <a:pt x="123" y="9720"/>
                </a:lnTo>
                <a:arcTo wR="21600" hR="8786" stAng="-10650515" swAng="5250515"/>
                <a:close/>
              </a:path>
              <a:path fill="darkenLess" w="21600" h="21600">
                <a:moveTo>
                  <a:pt x="21600" y="0"/>
                </a:moveTo>
                <a:arcTo wR="21600" hR="8786" stAng="-5400000" swAng="-5400000"/>
                <a:lnTo>
                  <a:pt x="0" y="8786"/>
                </a:lnTo>
                <a:arcTo wR="21600" hR="8786" stAng="10800000" swAng="-149485"/>
                <a:lnTo>
                  <a:pt x="123" y="9720"/>
                </a:lnTo>
                <a:arcTo wR="21600" hR="8786" stAng="-10650515" swAng="5250515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745B-A6DA-4564-BF04-168F3D8C03B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064240" y="4595760"/>
            <a:ext cx="55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……  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qt1 &lt;= q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conclusion        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qt3 &lt;=q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mma:  Multiple sequential uses of subsumption can be collapsed into a single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quence: All typing derivations can be structured as exactly one subsumption rule followed by an ordinary ru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38320" y="5003640"/>
            <a:ext cx="244944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38320" y="5358960"/>
            <a:ext cx="3083040" cy="25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92480" y="5754240"/>
            <a:ext cx="5467320" cy="11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613320" y="6095880"/>
            <a:ext cx="244944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89960" y="554184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97240" y="585936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ord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44680" y="5135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ord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38440" y="476712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3DFE-F0A1-4C5C-B8B9-61F94F259D7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: Get rid of separate subsumption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rporate it directly into the other ru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" y="398124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    G |-- e2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  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G |-- e2 :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67560" y="4933800"/>
            <a:ext cx="2438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208240" y="5432040"/>
            <a:ext cx="5441760" cy="25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852560" y="4902120"/>
            <a:ext cx="332892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90960" y="51865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97920" y="47163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35000" y="467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23B5-E2B1-479C-9C87-026276B76B8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Fol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bsumption into rule &amp; breakdown function subtyping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536400" y="342252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’ Q’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 qt’’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G |-- e2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   qt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49520" y="4343400"/>
            <a:ext cx="353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3225-AD90-4408-81A8-4A811840DB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Fol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bsumption into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’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BC65-22E2-4B64-9378-B46DA3C058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ls Need Specifi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460440" y="1770120"/>
            <a:ext cx="8226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 Add specifications to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way tha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will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s to larg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s many differen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C166-36A2-4514-AB5D-C2D977DE09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We don’t u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o remove that constrai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          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6854-D4E4-45B7-831C-32CDF051636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Apply transitivity o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intermedi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58DF-D58A-4B64-AD9B-B9DA851408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We’re going to apply subsumption afterward, so no need to weak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’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67CC-2F85-47C5-9BCE-E20C5F41D5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847880" y="1679400"/>
            <a:ext cx="61498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’ s     Q’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30640" y="27288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55960" y="2152800"/>
            <a:ext cx="4201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4780080"/>
            <a:ext cx="6149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’ s 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52578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81600" y="3497400"/>
            <a:ext cx="719280" cy="874440"/>
          </a:xfrm>
          <a:prstGeom prst="downArrow">
            <a:avLst>
              <a:gd name="adj1" fmla="val 50000"/>
              <a:gd name="adj2" fmla="val 30393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5BEF-6E9A-4E8B-9A48-B2A416810B7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pply the same reasoning to the other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left with a purely syntax-directe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Now we’re half-way to an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853C-4A26-44AC-AA1F-57C46B79B60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Problem:  Assump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take a look at the rule for func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’s a problem with applying this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assuming that we’re given the argument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 result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n the problem statement, we said we only have annotations and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566720" y="2371680"/>
            <a:ext cx="689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, x:qt1 |-- e : qt2’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qt1):qt2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8640" y="2854440"/>
            <a:ext cx="62816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D276-1A35-4A7E-8ACE-91B104CE5F2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knowns in Qualifier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8868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ve go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 annotations for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e could even get away without thes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pick the qualifiers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enerate fresh, unknow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qualifier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n solve for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046160" y="3244320"/>
            <a:ext cx="68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?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?, x:? |-- e : qt2’ 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8080" y="3727440"/>
            <a:ext cx="62816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11F4-C3AA-4CBE-A2EC-45964CD666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ng Fres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qualifier variabl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… to our set of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tters closer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stand for consta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resh : 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int) 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bool) =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) =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esh(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t1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2) = fresh(t1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esh(t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fre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BB01-29F2-40AE-803B-533EBF43C7C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le for Func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3420720"/>
            <a:ext cx="830592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452600" y="1593720"/>
            <a:ext cx="680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1 = fresh(t1)   qt2 = fresh(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, x:qt1 |-- e : qt2’ 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749680"/>
            <a:ext cx="6282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AA4B-F63B-4357-8AE5-41B5B4FFD65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icture of Fres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120" y="2209680"/>
            <a:ext cx="3429000" cy="1752840"/>
            <a:chOff x="762120" y="2209680"/>
            <a:chExt cx="3429000" cy="1752840"/>
          </a:xfrm>
        </p:grpSpPr>
        <p:sp>
          <p:nvSpPr>
            <p:cNvPr id="355" name=""/>
            <p:cNvSpPr/>
            <p:nvPr/>
          </p:nvSpPr>
          <p:spPr>
            <a:xfrm>
              <a:off x="762120" y="2209680"/>
              <a:ext cx="3429000" cy="1752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14600" y="2362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41160" y="32767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9520" y="281952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295280" y="2362320"/>
            <a:ext cx="1284120" cy="1374120"/>
            <a:chOff x="1295280" y="2362320"/>
            <a:chExt cx="1284120" cy="1374120"/>
          </a:xfrm>
        </p:grpSpPr>
        <p:sp>
          <p:nvSpPr>
            <p:cNvPr id="360" name=""/>
            <p:cNvSpPr/>
            <p:nvPr/>
          </p:nvSpPr>
          <p:spPr>
            <a:xfrm>
              <a:off x="1295280" y="3276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Comic Sans MS"/>
                </a:rPr>
                <a:t>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06800" y="2362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410080" y="2198520"/>
            <a:ext cx="3048120" cy="2743200"/>
            <a:chOff x="5410080" y="2198520"/>
            <a:chExt cx="3048120" cy="2743200"/>
          </a:xfrm>
        </p:grpSpPr>
        <p:sp>
          <p:nvSpPr>
            <p:cNvPr id="363" name=""/>
            <p:cNvSpPr/>
            <p:nvPr/>
          </p:nvSpPr>
          <p:spPr>
            <a:xfrm>
              <a:off x="5410080" y="2198520"/>
              <a:ext cx="3048120" cy="2743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5720" y="2351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38880" y="3189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38880" y="4038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3189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402240" y="280656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0836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0120" y="36576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325200" y="238752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94840" y="322596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71320" y="4013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78640" y="321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tr(            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ptr(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160020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DA90-CC15-4FA8-A1EF-243E54494B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Qua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tension of C with lightweight specs in the form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yp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ed on serious applications (Linux) to find security vulnerabilities and simple coding err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Cqu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http://sourceforge.net/projects/cqua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http://www.cs.umd.edu/~jfoster/cqua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9401-CBA4-4F1B-8F0E-FC3F7E4E4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Are W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90160" y="1599840"/>
            <a:ext cx="872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ntax-directed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expression, clear which rule to app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ant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 to find a valid assignment to constan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restrict our use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will limit solutions for qualifier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0903-2EB2-45CC-BA10-8D436B28221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s of the for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by simplif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read solution off of simplified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present algorithm as a rewrit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==&gt;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means constrai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write to (simpler) constrai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D7D4-55EB-4BDD-A6F9-F45A95BBDC9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18FC-F693-4D8B-9EC0-1FFF9C40EA2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CA0F-EF19-4424-8104-7209B9BAB3D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9619-0C67-46B1-912A-0EC378B0430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ref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} + {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}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5545-3FA0-47DA-AE8F-10040B1E699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ref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ref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mismatched constructors } ==&gt;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happen if program correct w.r.t. std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041E-A7A0-44F7-BD49-02DB6FC630B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iants:  Step 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type syste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tructural subtyp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the same sha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’re done with step 1, we’re left with constraints of the for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either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be an unkn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omic subtyping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because qualifiers don’t have any “structu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B3A0-2538-43A7-8AD0-2D3ACD9D581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762120" y="2286000"/>
            <a:ext cx="6705360" cy="3124080"/>
            <a:chOff x="762120" y="2286000"/>
            <a:chExt cx="6705360" cy="3124080"/>
          </a:xfrm>
        </p:grpSpPr>
        <p:sp>
          <p:nvSpPr>
            <p:cNvPr id="396" name=""/>
            <p:cNvSpPr/>
            <p:nvPr/>
          </p:nvSpPr>
          <p:spPr>
            <a:xfrm>
              <a:off x="990720" y="2286000"/>
              <a:ext cx="2361960" cy="3124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7400" y="2819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909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66880" y="4495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79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754280" y="327492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327672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1800" y="4114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120" y="22860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1120" y="2286000"/>
              <a:ext cx="1371600" cy="304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242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31480" y="45720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29200" y="4114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91120" y="2286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5880" y="2286000"/>
              <a:ext cx="1371600" cy="304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36600" y="36576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2200" y="2286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aint Gener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tr(int) f(x : int) = { ...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:= f(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16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371600" y="2590920"/>
            <a:ext cx="7620120" cy="3467160"/>
            <a:chOff x="1371600" y="2590920"/>
            <a:chExt cx="7620120" cy="3467160"/>
          </a:xfrm>
        </p:grpSpPr>
        <p:sp>
          <p:nvSpPr>
            <p:cNvPr id="424" name=""/>
            <p:cNvSpPr/>
            <p:nvPr/>
          </p:nvSpPr>
          <p:spPr>
            <a:xfrm>
              <a:off x="7848720" y="25909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4114800"/>
              <a:ext cx="5029200" cy="1943280"/>
            </a:xfrm>
            <a:custGeom>
              <a:avLst/>
              <a:gdLst/>
              <a:ahLst/>
              <a:rect l="l" t="t" r="r" b="b"/>
              <a:pathLst>
                <a:path w="3168" h="1224">
                  <a:moveTo>
                    <a:pt x="3168" y="0"/>
                  </a:moveTo>
                  <a:cubicBezTo>
                    <a:pt x="2840" y="444"/>
                    <a:pt x="2512" y="888"/>
                    <a:pt x="2064" y="1056"/>
                  </a:cubicBezTo>
                  <a:cubicBezTo>
                    <a:pt x="1616" y="1224"/>
                    <a:pt x="824" y="1176"/>
                    <a:pt x="480" y="1008"/>
                  </a:cubicBezTo>
                  <a:cubicBezTo>
                    <a:pt x="136" y="840"/>
                    <a:pt x="68" y="444"/>
                    <a:pt x="0" y="48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27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514600" y="3809880"/>
            <a:ext cx="6477120" cy="1866960"/>
            <a:chOff x="2514600" y="3809880"/>
            <a:chExt cx="6477120" cy="1866960"/>
          </a:xfrm>
        </p:grpSpPr>
        <p:sp>
          <p:nvSpPr>
            <p:cNvPr id="430" name=""/>
            <p:cNvSpPr/>
            <p:nvPr/>
          </p:nvSpPr>
          <p:spPr>
            <a:xfrm>
              <a:off x="2590920" y="4876920"/>
              <a:ext cx="1828800" cy="482400"/>
            </a:xfrm>
            <a:custGeom>
              <a:avLst/>
              <a:gdLst/>
              <a:ahLst/>
              <a:rect l="l" t="t" r="r" b="b"/>
              <a:pathLst>
                <a:path w="1152" h="304">
                  <a:moveTo>
                    <a:pt x="0" y="0"/>
                  </a:moveTo>
                  <a:cubicBezTo>
                    <a:pt x="216" y="136"/>
                    <a:pt x="432" y="272"/>
                    <a:pt x="624" y="288"/>
                  </a:cubicBezTo>
                  <a:cubicBezTo>
                    <a:pt x="816" y="304"/>
                    <a:pt x="984" y="200"/>
                    <a:pt x="1152" y="9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952880"/>
              <a:ext cx="1981080" cy="723960"/>
            </a:xfrm>
            <a:custGeom>
              <a:avLst/>
              <a:gdLst/>
              <a:ahLst/>
              <a:rect l="l" t="t" r="r" b="b"/>
              <a:pathLst>
                <a:path w="1248" h="456">
                  <a:moveTo>
                    <a:pt x="1248" y="144"/>
                  </a:moveTo>
                  <a:cubicBezTo>
                    <a:pt x="1064" y="300"/>
                    <a:pt x="880" y="456"/>
                    <a:pt x="672" y="432"/>
                  </a:cubicBezTo>
                  <a:cubicBezTo>
                    <a:pt x="464" y="408"/>
                    <a:pt x="232" y="204"/>
                    <a:pt x="0" y="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48720" y="3809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78C2-0F2E-4735-B543-3670B6FACE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aints as Graph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35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45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514600" y="3809880"/>
            <a:ext cx="6477120" cy="1866960"/>
            <a:chOff x="2514600" y="3809880"/>
            <a:chExt cx="6477120" cy="1866960"/>
          </a:xfrm>
        </p:grpSpPr>
        <p:sp>
          <p:nvSpPr>
            <p:cNvPr id="448" name=""/>
            <p:cNvSpPr/>
            <p:nvPr/>
          </p:nvSpPr>
          <p:spPr>
            <a:xfrm>
              <a:off x="2590920" y="4876920"/>
              <a:ext cx="1828800" cy="482400"/>
            </a:xfrm>
            <a:custGeom>
              <a:avLst/>
              <a:gdLst/>
              <a:ahLst/>
              <a:rect l="l" t="t" r="r" b="b"/>
              <a:pathLst>
                <a:path w="1152" h="304">
                  <a:moveTo>
                    <a:pt x="0" y="0"/>
                  </a:moveTo>
                  <a:cubicBezTo>
                    <a:pt x="216" y="136"/>
                    <a:pt x="432" y="272"/>
                    <a:pt x="624" y="288"/>
                  </a:cubicBezTo>
                  <a:cubicBezTo>
                    <a:pt x="816" y="304"/>
                    <a:pt x="984" y="200"/>
                    <a:pt x="1152" y="9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14600" y="4952880"/>
              <a:ext cx="1981080" cy="723960"/>
            </a:xfrm>
            <a:custGeom>
              <a:avLst/>
              <a:gdLst/>
              <a:ahLst/>
              <a:rect l="l" t="t" r="r" b="b"/>
              <a:pathLst>
                <a:path w="1248" h="456">
                  <a:moveTo>
                    <a:pt x="1248" y="144"/>
                  </a:moveTo>
                  <a:cubicBezTo>
                    <a:pt x="1064" y="300"/>
                    <a:pt x="880" y="456"/>
                    <a:pt x="672" y="432"/>
                  </a:cubicBezTo>
                  <a:cubicBezTo>
                    <a:pt x="464" y="408"/>
                    <a:pt x="232" y="204"/>
                    <a:pt x="0" y="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48720" y="3809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47920" y="1981080"/>
            <a:ext cx="7086600" cy="3939120"/>
            <a:chOff x="1447920" y="1981080"/>
            <a:chExt cx="7086600" cy="3939120"/>
          </a:xfrm>
        </p:grpSpPr>
        <p:sp>
          <p:nvSpPr>
            <p:cNvPr id="452" name=""/>
            <p:cNvSpPr/>
            <p:nvPr/>
          </p:nvSpPr>
          <p:spPr>
            <a:xfrm>
              <a:off x="1447920" y="4038480"/>
              <a:ext cx="761760" cy="533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514600" y="1981080"/>
              <a:ext cx="6019920" cy="3939120"/>
              <a:chOff x="2514600" y="1981080"/>
              <a:chExt cx="6019920" cy="393912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5880" y="54100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72200" y="19810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00"/>
                    </a:solidFill>
                    <a:latin typeface="Comic Sans MS"/>
                  </a:rPr>
                  <a:t>un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81680" y="464832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15000" y="29718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95480" y="41148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6552720" y="4114800"/>
                <a:ext cx="685800" cy="53352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324480" y="4186080"/>
                <a:ext cx="155520" cy="12988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4724280" y="3429000"/>
                <a:ext cx="1143000" cy="12952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4038480"/>
                <a:ext cx="380880" cy="22860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14600" y="41911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1152" y="432"/>
                    </a:moveTo>
                    <a:cubicBezTo>
                      <a:pt x="816" y="420"/>
                      <a:pt x="480" y="408"/>
                      <a:pt x="288" y="336"/>
                    </a:cubicBezTo>
                    <a:cubicBezTo>
                      <a:pt x="96" y="264"/>
                      <a:pt x="48" y="13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cc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29600" y="4114800"/>
                <a:ext cx="304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095880" y="2362320"/>
                <a:ext cx="762120" cy="76176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8F80-9718-4C84-A979-9D7F8BA26EE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1840" y="4637160"/>
            <a:ext cx="3656160" cy="1004040"/>
            <a:chOff x="1131840" y="4637160"/>
            <a:chExt cx="3656160" cy="1004040"/>
          </a:xfrm>
        </p:grpSpPr>
        <p:sp>
          <p:nvSpPr>
            <p:cNvPr id="95" name=""/>
            <p:cNvSpPr/>
            <p:nvPr/>
          </p:nvSpPr>
          <p:spPr>
            <a:xfrm>
              <a:off x="1131840" y="463716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(             ch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9600" y="5181480"/>
              <a:ext cx="267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(char)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standard type systems (C, Java, M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already use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understand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programmers to write down a little more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046240" y="410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31840" y="4103640"/>
            <a:ext cx="6629400" cy="459720"/>
            <a:chOff x="1131840" y="4103640"/>
            <a:chExt cx="6629400" cy="459720"/>
          </a:xfrm>
        </p:grpSpPr>
        <p:sp>
          <p:nvSpPr>
            <p:cNvPr id="101" name=""/>
            <p:cNvSpPr/>
            <p:nvPr/>
          </p:nvSpPr>
          <p:spPr>
            <a:xfrm>
              <a:off x="1131840" y="41036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Comic Sans MS"/>
                </a:rPr>
                <a:t>co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3120" y="4103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147680" y="4637160"/>
            <a:ext cx="7844040" cy="1050120"/>
            <a:chOff x="1147680" y="4637160"/>
            <a:chExt cx="7844040" cy="1050120"/>
          </a:xfrm>
        </p:grpSpPr>
        <p:sp>
          <p:nvSpPr>
            <p:cNvPr id="104" name=""/>
            <p:cNvSpPr/>
            <p:nvPr/>
          </p:nvSpPr>
          <p:spPr>
            <a:xfrm>
              <a:off x="4713120" y="4637160"/>
              <a:ext cx="427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rmat-string vulnerab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147680" y="4637160"/>
              <a:ext cx="7596360" cy="1050120"/>
              <a:chOff x="1147680" y="4637160"/>
              <a:chExt cx="7596360" cy="1050120"/>
            </a:xfrm>
          </p:grpSpPr>
          <p:sp>
            <p:nvSpPr>
              <p:cNvPr id="106" name=""/>
              <p:cNvSpPr/>
              <p:nvPr/>
            </p:nvSpPr>
            <p:spPr>
              <a:xfrm>
                <a:off x="1665360" y="463716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99"/>
                    </a:solidFill>
                    <a:latin typeface="Comic Sans MS"/>
                  </a:rPr>
                  <a:t>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147680" y="5197320"/>
                <a:ext cx="7596360" cy="489960"/>
                <a:chOff x="1147680" y="5197320"/>
                <a:chExt cx="7596360" cy="48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147680" y="519732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99"/>
                      </a:solidFill>
                      <a:latin typeface="Comic Sans MS"/>
                    </a:rPr>
                    <a:t>kern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05200" y="5227560"/>
                  <a:ext cx="4038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User/kernel vulnerabiliti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A977-0D6A-485D-837C-B2C47E294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 Bad New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atomic subtyping constraints is NP-hard in the general c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comes up with some really weird partial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4075200" y="476100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42958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27520" y="54468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89600" y="476100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24280" y="42958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41920" y="54468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59360" y="4745160"/>
            <a:ext cx="914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056120" y="4753080"/>
            <a:ext cx="914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F72F-C6A7-40DD-9125-5DD8AE8B648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 That’s O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artial orders don’t seem to come up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very natu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qualifier partial orders have one of two desirable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either always hav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ast upper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reatest lower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ny pair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8C9D-5BE0-42B2-B934-6CC6133C7BC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ubs and Glb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b = Least upper b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lub q =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b = Greatest lower bound, defined du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b and glb may not exi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FD06-C697-4BEA-A83A-C489E9A2155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ti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tt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partial order such that lubs and glbs always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lattice, it turns out we can use a really simple algorithm to check satisfiability of constraints ov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CD65-BF3F-4FC1-A395-AAFD9111B46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85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95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n inconsistent path through the grap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805E-A131-4971-B194-F9367316307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516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526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n inconsistent path through the grap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5FBD-AE70-46EA-AB95-464F0F4416D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547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557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86C4-5AB3-44DC-852A-6E84ADFD2E9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in Linear Ti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 program of siz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set of qual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 generation yiel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ve abstract syntax tree wal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reachability tak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s for semi-lattices, discrete p.o.,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80C8-7EED-42FA-9E1A-1618EBC0CAC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ations of 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yping gives us a kind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olymorph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represents multiple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subtyping system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all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sub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we saw, this flexibility helps make the analysis more pre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t isn’t always enough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9C1D-2586-4C77-B0B9-779EB99EEDE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ations of Subtype Polymorphis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look at the identity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id (x:int):int =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qualified types can we infer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4263-3E92-4A32-B452-198DB62D62B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: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functions in C use format str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Hello!"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Hello, %s!", name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Hello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ead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%s", name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name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C7CC-6493-4EFC-99CB-676FA37BC4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for i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un id (x:int):int = x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gnoring int, qual on i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e but untainted data passed in becomes tain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e but can’t pass in taint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oo usefu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n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5A74-F832-4B6C-AD07-9C436BB7357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tion Calls and Context-Sensitiv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65040" y="4890600"/>
            <a:ext cx="81345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alls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du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fl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nomorph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text-insens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17720" y="2667240"/>
            <a:ext cx="1765800" cy="1339200"/>
            <a:chOff x="5517720" y="2667240"/>
            <a:chExt cx="1765800" cy="1339200"/>
          </a:xfrm>
        </p:grpSpPr>
        <p:sp>
          <p:nvSpPr>
            <p:cNvPr id="587" name=""/>
            <p:cNvSpPr/>
            <p:nvPr/>
          </p:nvSpPr>
          <p:spPr>
            <a:xfrm>
              <a:off x="6072120" y="26672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s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7720" y="3546720"/>
              <a:ext cx="17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strdup_r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5920" y="3174840"/>
              <a:ext cx="0" cy="4510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566960" y="1609920"/>
            <a:ext cx="1700640" cy="1157040"/>
            <a:chOff x="4566960" y="1609920"/>
            <a:chExt cx="1700640" cy="1157040"/>
          </a:xfrm>
        </p:grpSpPr>
        <p:sp>
          <p:nvSpPr>
            <p:cNvPr id="591" name=""/>
            <p:cNvSpPr/>
            <p:nvPr/>
          </p:nvSpPr>
          <p:spPr>
            <a:xfrm>
              <a:off x="4566960" y="160992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78520" y="2035080"/>
              <a:ext cx="1189080" cy="73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223960" y="4056120"/>
            <a:ext cx="1106640" cy="840960"/>
            <a:chOff x="5223960" y="4056120"/>
            <a:chExt cx="1106640" cy="840960"/>
          </a:xfrm>
        </p:grpSpPr>
        <p:sp>
          <p:nvSpPr>
            <p:cNvPr id="594" name=""/>
            <p:cNvSpPr/>
            <p:nvPr/>
          </p:nvSpPr>
          <p:spPr>
            <a:xfrm>
              <a:off x="5223960" y="4437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554440" y="4056120"/>
              <a:ext cx="776160" cy="53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329520" y="3176640"/>
            <a:ext cx="0" cy="45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334200" y="1609920"/>
            <a:ext cx="1695600" cy="1158480"/>
            <a:chOff x="6334200" y="1609920"/>
            <a:chExt cx="1695600" cy="1158480"/>
          </a:xfrm>
        </p:grpSpPr>
        <p:sp>
          <p:nvSpPr>
            <p:cNvPr id="598" name=""/>
            <p:cNvSpPr/>
            <p:nvPr/>
          </p:nvSpPr>
          <p:spPr>
            <a:xfrm>
              <a:off x="6334200" y="16099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Comic Sans MS"/>
                </a:rPr>
                <a:t>un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465240" y="2036880"/>
              <a:ext cx="1189080" cy="731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459480" y="4056120"/>
            <a:ext cx="1100160" cy="840960"/>
            <a:chOff x="6459480" y="4056120"/>
            <a:chExt cx="1100160" cy="840960"/>
          </a:xfrm>
        </p:grpSpPr>
        <p:sp>
          <p:nvSpPr>
            <p:cNvPr id="601" name=""/>
            <p:cNvSpPr/>
            <p:nvPr/>
          </p:nvSpPr>
          <p:spPr>
            <a:xfrm>
              <a:off x="7185240" y="4437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9480" y="4056120"/>
              <a:ext cx="776160" cy="53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77920" y="2254680"/>
            <a:ext cx="475596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strdup(char *st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/ return a copy of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a = strdup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inted_string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b = strdup(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untainted_string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866D-B001-4066-BE83-D0B50DCB871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’s Happening Her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qualifier o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ppears both covariantly and contravariantly in the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arametric polymorph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giv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id (x:int):int = 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.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CCCB-6D04-4B47-AD70-51C91CDD8E6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ing Polymorphism Efficientl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-style polymorphic type inference is EXPTIME-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, it’s f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case can’t happen here, because we’re polymorphic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’s because we’ll apply this to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polymorphically constrained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qt where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ny qualifier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re constraints C hold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3A6B-1FC4-471D-B146-94D939D3557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olution:  CFL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duce constraint solving to CFL reach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polymorphic recursion in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easy to imp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efficient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 best algorithm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due to Horwitz, Reps, and Sagiv, and Rehof, Fahndrich, and 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BCE2-4160-4E2A-8A62-A7CC6041DCC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 generation yiel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s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for sca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-free language reachability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a few tricks make it practical (not much slowdown in analysis tim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ore details, s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hof + Fahndrich, POPL’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12F7-D054-49FC-9C62-57014395D76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ity via Type Qualifie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Icky Stuff in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’s all the theory behind this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complicated system:  flow-sensitive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going to cover that 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Haven’t applied it to secur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want to apply this to a language like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oesn’t quite look like MinM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9E33-B4B5-4B34-85B7-60E84F3ADE2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cal Variables in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 (easiest) problem:  C doesn’t u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memory on the he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local variables on the stack are also updateab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oid foo(int x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= x + 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= 4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 types aren’t quite enou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: 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 can’t update 3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D40F-EB4C-4804-BFF5-56FF5BDF630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pping to MinM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will have ref typ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: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&lt;contents type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rhs of assignment, add deref of var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oid foo(int x) {                foo (x:int):void 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t x = ref x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y;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let y = ref 0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= x + 3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:= (!x) + 3;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++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:= (!y) + 1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= 42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:=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CF12-0673-4A32-820E-2A5F8124654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mat String Attack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3920" y="1523880"/>
            <a:ext cx="8688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sary-controlled format spec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ame := &lt;data-from-network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ntf(name)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* Oops *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sets name = “%s%s%s” to crash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mpts to read from next 3 addresses on the stack, one of which is probably in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t, name = “%s%s%s%s%s%s%s%s%s%s%s%s%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can read any addres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=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&lt;address&gt;_%08x.%08x.%08x.%08x.%08x.|%s|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can write any address and execute co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= “…… %n ……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these bugs in the w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 restrictive to forbid variable format str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536C-7D2E-4BF0-B3F1-2ED207D58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pplications have multiple source code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do inference on one file without the others, won’t get complete inform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: In left file, we’re assum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have any qualifier (we make a fresh variab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3723480"/>
            <a:ext cx="2436840" cy="1015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tern 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3683160"/>
            <a:ext cx="2841840" cy="45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ainted int 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8DE5-00CB-4D46-ACB7-5564C667697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analyze programs with multiple fil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use CIL merger from Necula to turn a multi-file app into a single-file ap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I have a merged version of the linux kernel, 470432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Want to present results to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 to map information back to original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C96E-1A80-486F-BEC9-7ABD08FDFB0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conservative assumptions about missing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nything globally exposed may b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Very conserv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ing to be hard to infer useful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D22F-806A-4324-8803-615D2DF2B2D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tool all files at sam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le-program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files that give types to library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Qual, we have prelude.c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fy (or just equate) types of glob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702F-B2E8-4C52-A7BA-0BA37E5FA7C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: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10 popular unix daemon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tations shared across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nnotated header file for standard libr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annotations for polymorph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itical to practical us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several known vulner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ones we didn’t know ab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interface criti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7D93-09C2-41D6-9D83-079746DE147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s: 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4320" y="1511280"/>
          <a:ext cx="4989240" cy="4889520"/>
        </p:xfrm>
        <a:graphic>
          <a:graphicData uri="http://schemas.openxmlformats.org/drawingml/2006/table">
            <a:tbl>
              <a:tblPr/>
              <a:tblGrid>
                <a:gridCol w="2830320"/>
                <a:gridCol w="1209600"/>
                <a:gridCol w="949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ntd-1.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getty-0.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ftpd-1.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h-2.0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fengine-1.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apd-4.7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popd-4.7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s_nwe-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he-1.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ssh-2.3.0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7986-CF54-441A-9F78-25195D23453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:  User/kernel Vulnerabilities (Johnson + Wagner 0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Linux kernel, the kernel and user/mode programs share address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op 1GB is reserved for the ker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kernel runs, it doesn’t need to change VM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st enable access to top 1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kernel returns, prevent access to top 1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311640"/>
            <a:ext cx="1768680" cy="301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2895480"/>
            <a:ext cx="1768680" cy="4161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3603600"/>
            <a:ext cx="1768680" cy="623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1200" y="4224240"/>
            <a:ext cx="1768320" cy="301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1200" y="29016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0600" y="324144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10080" y="412560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60880" y="352548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nm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66720" y="2720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4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52320" y="309204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4360" y="4228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A4C5-F624-4A89-B9B1-D29A242E38D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deoffs of This Memory Mod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 lot of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rnel has direct access to us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ves the door open to attacks from untrusted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n for programmers to put in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50DA-3D4E-4BEA-A1E7-F2A98573950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Atta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add two new system ca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sys_setint(int *p) { memcpy(&amp;x, p, sizeof(x)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sys_getint(int *p) { memcpy(p, &amp;x, sizeof(x)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a user call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tint(buf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-behaved program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us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icious program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kerne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ve just written to kernel space!  Oop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D072-065A-4A8E-9D92-C62903940A7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other Atta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we compromise security with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tint(buf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private kernel dat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file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 can be read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et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8599-9DF0-4DEF-A97E-0A2F46C1204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8:56:23Z</dcterms:created>
  <dc:creator>Valued Gateway Customer</dc:creator>
  <dc:description/>
  <dc:language>en-US</dc:language>
  <cp:lastModifiedBy>dpw</cp:lastModifiedBy>
  <cp:lastPrinted>2004-01-06T01:52:22Z</cp:lastPrinted>
  <dcterms:modified xsi:type="dcterms:W3CDTF">2004-11-03T19:36:35Z</dcterms:modified>
  <cp:revision>429</cp:revision>
  <dc:subject/>
  <dc:title>Programmer-Specified Aliasing</dc:title>
</cp:coreProperties>
</file>