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7A8-E1F4-4FBD-A000-9E7075E2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43C-F7C9-475F-81FD-D79C3E1B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E4E-65FE-4590-BF40-AC95F6AB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F1A-8C25-47B3-9501-4ED83E57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B89-60D6-457A-A5F1-985E3B0B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B46-B4F8-47C6-9AF0-D700EB7F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C01-47CF-4D1D-9293-6745FD66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851-2848-4205-9D61-B79EE361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3AB-A0D8-4ACA-8268-57467E17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FC7-9C5C-463B-982C-1D0C7ACA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1DF-C0E1-4C80-AC08-C59F06DF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17B-A5FC-46AA-879C-86809410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B733-AEFB-430D-9E2E-CE13FCF2D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5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\y.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is simple to write non terminating computations i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can do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can be used as an “assembly langu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how how to compile useful, high-level operations and language features into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adding high-level operations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grammers, bu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 computational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make your compiler intermediate language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3434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= lambda calculus +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9436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= lambda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0292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3440" y="5218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/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the lambda calculus was developed as a logic by Alonzo Church in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urch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There may, indeed, be other applications of the system than its use as a log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ve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I’ll s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e2) 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x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\x.e) = \x.translat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e1 e2) = (translate e1) (translate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ncode boo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represent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functions name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fine these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how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by a test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b then 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true and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the implementa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going to be able to do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must distinguish themselves when they are a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ru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t.\f. t)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\x.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u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ls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4266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24480" y="41907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20360" y="487692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2 and e3 will both be evaluated regard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ether e1 is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he target program might not termi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when the source program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, 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encode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1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will b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unction is used in the fst or sec operation it should reveal its first or second component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= \fst.\sec.\bool. bool fst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= \p. p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 = \p. p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st (\bool. bool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bool. bool tru fls)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e can go 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expressions (+, -, *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, trees and 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, loop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will be functions – construct these functions so that they return the appropriate information when called by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be precise about the operational semantics of the lambda calculus, we need to defin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stit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primary evalua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98960" y="45100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510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is given inductiv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\y.t’ [t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x) [y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 in the body of (\x. x) refers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itution should not replace th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z) [x/z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\x.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 in the body of (\x. z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ubstitution, it does refer to the arg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fre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substitution properly, we must be able to calculate the free variables precis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\x.t) = FV(t) /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t1 t2) = FV(t1)  U  FV(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!  But the definition is not exhaus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ase for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every full-scale programming language has some notion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(pure) lambda calculus is a language compos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lambda calculus to study the essence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ust as fundamental as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s o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 are unimportant (as far as the meaning of the computation go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L, there is no differenc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x =&gt;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y =&gt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rea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x.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y.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f they are (absolutely and totally) indistinguishable so we can always use one in place of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we will adopt the convention that terms that differ only in the names of bound variables are interchan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: \x.t == \y. t[y/x]  (where this is the latest version of substit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name of a bound variable is called alpha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, 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05360" y="34290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18040" y="5334120"/>
            <a:ext cx="36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use alpha-equivalent terms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straint can always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d.  We pick y as we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is is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only possible operational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132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432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549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52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4720" y="3168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473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7720" y="5715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47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4440" y="5715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eta-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4720" y="36576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920" y="274320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      e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04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5160" y="5715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-order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3640" y="36576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04800" y="57150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to-left 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996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v --&gt; e1’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39960" y="45403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70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is a language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ng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encode many high-level languag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ional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: beta-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careful definition of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valu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,e ::=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var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\x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unction; in ML: fn x =&gt; 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e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nction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t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x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otational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ssociate to the left (like in ML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z x”     is   “(y z)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a lambda extends as far as possible to the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 \z.x z x”     is     “\x.(x \z.(x z x)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x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5235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7960" y="247500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 is the term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447920" y="4441680"/>
            <a:ext cx="2520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53080" y="527220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rm \x.x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854000" y="44737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7720" y="4890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erm \x.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V 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ep, call-by-value OS: t --&gt; 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    v ::= \x.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 (beta redu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 [v/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erm in which all free occurrences of x in t are replaced with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lacement operation is calle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fine it carefully later in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6840" y="36576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, evaluation is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13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320" y="2743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CS</cp:lastModifiedBy>
  <dcterms:modified xsi:type="dcterms:W3CDTF">2003-09-22T21:03:49Z</dcterms:modified>
  <cp:revision>8</cp:revision>
  <dc:subject/>
  <dc:title>the lambda calculus</dc:title>
</cp:coreProperties>
</file>