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E7A-0908-40DB-9492-5ACBB9F2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ECB7-7F2C-44DE-8726-5841009B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FF5-1E9D-4E1F-935A-109D9759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F06-F784-4CD5-9001-261326FA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6C2-BF36-42C6-97AF-787230AD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481-4B8D-4214-9D27-8803662E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C1A-93FD-41E5-982B-8067B762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996-4EA0-4A7A-953B-846BF23B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72C-73F6-4696-99A3-FB22C58D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5E7-460B-4093-A4FB-D09AB1B2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51D-8181-484D-AE0B-D4E5377F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82E-2B66-4C8D-9E05-653F039B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171E-C243-441F-AEAC-73A5E7096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5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y. y / 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y. y) (\y.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y [\y. y /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\y.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 x x [\x. x x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= (\x. x x) (\x. x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it is simple to write non terminating computations in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lse can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can do every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can be used as an “assembly languag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show how to compile useful, high-level operations and language features into the lambda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adding high-level operations 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ven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rogrammers, bu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 a computational neces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= make your compiler intermediate language 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3434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= lambda calculus +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5943600"/>
            <a:ext cx="3352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= lambda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02920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83440" y="52182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/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mbda calcu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the lambda calculus was developed as a logic by Alonzo Church in 19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urch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There may, indeed, be other applications of the system than its use as a logic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ve say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I’ll s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e2) 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ful to bind intermediate results of computations to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= e1 in 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 can we implement this idea in the lambda calcul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let x = e1 in e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\x. translate e2) (translate e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x)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\x.e) = \x.translate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late (e1 e2) = (translate e1) (translate e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encode bool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represent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s functions name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define these fun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how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be used by a testing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 b then 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true and retur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f b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thing the implementation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going to be able to do with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apply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s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must distinguish themselves when they are appl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co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= \x.\then.\else. x then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ru (\x.t1) (\x.t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t.\f. t) (\x.t1) (\x.t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\x.t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u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 = \t.\f. t             fls = \t.\f.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= \b.\c. b c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ls t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 tru f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rong with the following transl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true = tr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alse = f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(if e1 then e2 else e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test (translate e1) (translate e2) (translate e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42667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324480" y="419076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20360" y="4876920"/>
            <a:ext cx="494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e2 and e3 will both be evaluated regard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whether e1 is 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the target program might not termin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 when the source program w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ce, 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like to encode th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e1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t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 will b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unction is used in the fst or sec operation it should reveal its first or second component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= \fst.\sec.\bool. bool fst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t = \p. p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 = \p. p f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t (create tru f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fst (\bool. bool tru f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(\bool. bool tru fls)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&gt;* t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e can go 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expressions (+, -, *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, trees and data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, loops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tr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will be functions – construct these functions so that they return the appropriate information when called by an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be precise about the operational semantics of the lambda calculus, we need to define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ubstitu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e primary evaluation ru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98960" y="45100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4510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inition is given inductiv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\y.t’ [t/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well 50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miserably the rest of th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 x) [y/x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\x.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x in the body of (\x. x) refers to the argument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itution should not replace th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ot “unlucky” with our choice of variabl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: a first 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ks well 50% of th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s miserably the rest of the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\x. z) [x/z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\x.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z in the body of (\x. z)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 to the argument of th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ubstitution, it does refer to the arg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got “unlucky” with our choice of variable names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fre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fine substitution properly, we must be able to calculate the free variables precis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x) =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\x.t) = FV(t) / {x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V(t1 t2) = FV(t1)  U  FV(t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= t                       y [t/x] 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      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!  But the definition is not exhaus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ase for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      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ly every full-scale programming language has some notion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(pure) lambda calculus is a language compose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ir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lambda calculus to study the essence of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just as fundamental as Turing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s of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s are unimportant (as far as the meaning of the computation go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L, there is no difference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n x =&gt;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n y =&gt;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treat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\x.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\y.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f they are (absolutely and totally) indistinguishable so we can always use one in place of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pha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we will adopt the convention that terms that differ only in the names of bound variables are interchan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: \x.t == \y. t[y/x]  (where this is the latest version of substit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name of a bound variable is called alpha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tion, 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[t/x] = t                       y [t/x] = y    (if 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\y.t’) [t/x]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= \y.t’ [t/x]     (if 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≠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x and y </a:t>
            </a:r>
            <a:r>
              <a:rPr b="0" lang="en-US" sz="3200" spc="-1" strike="noStrike">
                <a:solidFill>
                  <a:srgbClr val="009999"/>
                </a:solidFill>
                <a:latin typeface="Symbol"/>
                <a:ea typeface="Symbol"/>
              </a:rPr>
              <a:t>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FV(t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1 t2 [t/x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t1 [t/x]) (t2 [t/x]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705360" y="342900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18040" y="5334120"/>
            <a:ext cx="36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use alpha-equivalent terms 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nstraint can always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d.  We pick y as we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is is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only possible operational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132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432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549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52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4720" y="31687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3473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27720" y="5715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747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04440" y="5715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beta-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4720" y="36576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920" y="274320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      e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048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1120" y="21337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e --&gt; t [e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133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05160" y="571500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-order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73640" y="36576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3962520"/>
            <a:ext cx="158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8880" y="47242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-&gt;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x.e --&gt; \x.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50440" y="324468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3549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38280" y="45403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12800" y="4844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64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35680" y="567540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04800" y="57150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to-left call-by-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49960" y="32446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v --&gt; e1’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39960" y="454032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4876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47080" y="2209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7220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mbda calculus is a language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ing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encode many high-level languag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perational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: beta-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upon careful definition of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valua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,e ::=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varia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\x.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unction; in ML: fn x =&gt; 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e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unction ap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ntity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\x.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notational conven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ssociate to the left (like in ML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z x”     is   “(y z)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of a lambda extends as far as possible to the r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\x.x \z.x z x”     is     “\x.(x \z.(x z x)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x.x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523520" y="20574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7960" y="247500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c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x is the term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447920" y="4441680"/>
            <a:ext cx="25200" cy="66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53080" y="5272200"/>
            <a:ext cx="19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rm \x.x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854000" y="44737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37720" y="48909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is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term \x.x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V 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tep, call-by-value OS: t --&gt; 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re     v ::= \x.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rule (beta reduc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 [v/x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term in which all free occurrences of x in t are replaced with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placement operation is called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define it carefully later in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6840" y="365760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\x.t) v --&gt; t [v/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3657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onal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, evaluation is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1320" y="27432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--&gt; e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 e2 --&gt; e1’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048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54320" y="274320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 --&gt;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e2 --&gt; v e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01:02:29Z</dcterms:created>
  <dc:creator>Preferred Customer</dc:creator>
  <dc:description/>
  <dc:language>en-US</dc:language>
  <cp:lastModifiedBy>CS</cp:lastModifiedBy>
  <dcterms:modified xsi:type="dcterms:W3CDTF">2003-09-22T21:03:49Z</dcterms:modified>
  <cp:revision>8</cp:revision>
  <dc:subject/>
  <dc:title>the lambda calculus</dc:title>
</cp:coreProperties>
</file>