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8B9-86D0-4ECF-8C2C-55234A0C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994D-D56B-4062-94AA-C9A3C0CD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2337-0DCE-495E-9A71-F366EFD6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A3D3-2134-4135-B54F-A54A5B94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3C0A-615F-4401-BEF7-E32994A7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C2D7-CFD1-4B55-A1E7-659EA53F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9A17-6A4F-4BF0-B2C6-6A13D676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671B-90E7-4C49-8468-B29DB2BF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B4C6-D16C-4400-B81B-287E08BF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2E23-A96E-492F-AB8B-C720947C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D12B-EB48-4780-A3C9-36197ABB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B6C5-9B3C-492E-895B-DEC908B0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47CD-5C0E-47C7-B530-61C1C0401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5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y [\y. y / 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y [\y. y / 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\y.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x. x x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x. x x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it is simple to write non terminating computations in the lambda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can w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can do every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mbda calculus can be used as an “assembly langua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show how to compile useful, high-level operations and language features into the lambda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= adding high-level operations 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ven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programmers, but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 a computational neces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= make your compiler intermediate language sim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343400"/>
            <a:ext cx="3352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= lambda calculus +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5943600"/>
            <a:ext cx="3352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= lambda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502920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83440" y="52182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/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, the lambda calculus was developed as a logic by Alonzo Church in 19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urch say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There may, indeed, be other applications of the system than its use as a logic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ve say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I’ll s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\x.e2) e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\x. translate e2) (translate e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\x. translate e2) (translate e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x)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\x.e) = \x.translate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e1 e2) = (translate e1) (translate e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encode bool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represent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s functions name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define these fun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how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n be used by a testing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st b then 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retur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f b is true and retur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f b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ly thing the implementation of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going to be able to do with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o apply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must distinguish themselves when they are appl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co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= \x.\then.\else. x then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= \x.\then.\else. x then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ru (\x.t1) (\x.t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(\t.\f. t) (\x.t1) (\x.t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\x.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= \b.\c. b c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ru t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 tru f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= \b.\c. b c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ls t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ls tru f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wrong with the following transl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true =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false =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test (translate e1) (translate e2) (translate e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wrong with the following transl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true =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false =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test (translate e1) (translate e2) (translate e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42667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324480" y="4190760"/>
            <a:ext cx="190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20360" y="487692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e2 and e3 will both be evaluated regard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whether e1 is 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the target program might not termin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ome cases when the source program w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ce, 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like to encode the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e1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t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s will b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function is used in the fst or sec operation it should reveal its first or second component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= \fst.\sec.\bool. bool fst 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t = \p. p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 = \p. p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t (create tru f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st (\bool. bool tru f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(\bool. bool tru fls)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we can go o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expressions (+, -, *,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, trees and data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s, loops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 tr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will be functions – construct these functions so that they return the appropriate information when called by an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be precise about the operational semantics of the lambda calculus, we need to defin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ubstitu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e primary evaluation r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98960" y="45100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4510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: a first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inition is given inductiv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y    (if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\y.t’ [t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 t2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t1 [t/x]) (t2 [t/x]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: a first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rks well 50% of th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s miserably the rest of the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 x) [y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x.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x in the body of (\x. x) refers to the argument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itution should not replace th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got “unlucky” with our choice of variable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: a first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rks well 50% of th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s miserably the rest of the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 z) [x/z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\x.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z in the body of (\x. z)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oes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 to the argument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ubstitution, it does refer to the argu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got “unlucky” with our choice of variable names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free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fine substitution properly, we must be able to calculate the free variables precis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x) = {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\x.t) = FV(t) / {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t1 t2) = FV(t1)  U  FV(t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[t/x] = t                       y [t/x] = y    (if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      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=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[t/x]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 t2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t1 [t/x]) (t2 [t/x]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!  But the definition is not exhaus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case for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      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=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[t/x]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ly every full-scale programming language has some notion of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(pure) lambda calculus is a language compose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tir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the lambda calculus to study the essence of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just as fundamental as Turing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pha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s of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ables are unimportant (as far as the meaning of the computation go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L, there is no difference 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n x =&gt;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n y =&gt;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treat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\x.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\y. 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if they are (absolutely and totally) indistinguishable so we can always use one in place of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pha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we will adopt the convention that terms that differ only in the names of bound variables are interchang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: \x.t == \y. t[y/x]  (where this is the latest version of substit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name of a bound variable is called alpha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, 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[t/x] = t                       y [t/x] = y    (if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[t/x]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 t2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t1 [t/x]) (t2 [t/x]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705360" y="342900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18040" y="5334120"/>
            <a:ext cx="364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use alpha-equivalent terms 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nstraint can always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isfied.  We pick y as we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is is tr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al semantics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the only possible operational seman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3132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4320" y="32446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3549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52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74720" y="31687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3473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71120" y="21337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e --&gt; t [e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27720" y="5715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74720" y="27432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71120" y="21337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e --&gt; t [e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588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04440" y="5715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beta-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74720" y="36576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962520"/>
            <a:ext cx="15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880" y="472428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--&gt;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x.e --&gt; \x.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920" y="274320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      e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3048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71120" y="21337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e --&gt; t [e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05160" y="571500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-order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73640" y="36576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3962520"/>
            <a:ext cx="15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48880" y="472428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--&gt;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x.e --&gt; \x.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04800" y="571500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to-left 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49960" y="32446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v --&gt; e1’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581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39960" y="45403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24480" y="4876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470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mbda calculus is a language of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ing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encode many high-level languag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perational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ule: beta-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upon careful definition of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valua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,e ::=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variab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\x.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unction; in ML: fn x =&gt; 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e 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unction ap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ntity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x.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notational conven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ssociate to the left (like in ML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z x”     is   “(y z) 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dy of a lambda extends as far as possible to the r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x.x \z.x z x”     is     “\x.(x \z.(x z x)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x.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x.x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523520" y="20574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7960" y="247500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co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x is the term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447920" y="4441680"/>
            <a:ext cx="25200" cy="66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53080" y="5272200"/>
            <a:ext cx="19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is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erm \x.x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854000" y="447372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37720" y="489096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is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term \x.x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BV operational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step, call-by-value OS: t --&gt; 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are     v ::= \x.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ule (beta reduc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 [v/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term in which all free occurrences of x in t are replaced with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lacement operation is called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define it carefully later in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6840" y="365760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3657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al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, evaluation is left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1320" y="27432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54320" y="27432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3048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01:02:29Z</dcterms:created>
  <dc:creator>Preferred Customer</dc:creator>
  <dc:description/>
  <dc:language>en-US</dc:language>
  <cp:lastModifiedBy>CS</cp:lastModifiedBy>
  <dcterms:modified xsi:type="dcterms:W3CDTF">2003-09-22T21:03:49Z</dcterms:modified>
  <cp:revision>8</cp:revision>
  <dc:subject/>
  <dc:title>the lambda calculus</dc:title>
</cp:coreProperties>
</file>