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0AE-00CD-4770-B5FA-656ABBE9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022-F304-4D45-ABCF-7F6CAD68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8FE-0C8B-47DF-879C-8CA73D3A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142-0D9E-459D-BE5B-BBB61C42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5612-1620-496B-85E3-65D17F95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8875-0DF1-4A01-99F4-C7DF1AC4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EE4F-74D7-48F5-977E-D000C9EE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5152-7903-436D-9DFD-2EB51F17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F3A5-84D4-4492-9A70-5E1F4FA7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8573-C507-49B0-BB61-D495DC92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AAB3-920E-4B63-92D0-819C12C3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880-9949-4894-B6AC-3E2E23CC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CE31-D956-4253-AFC3-122459FD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9F30-344B-43C9-A6CB-422A6EFD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6162-14E3-4368-833D-02F6410E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1973-A7CB-4D97-B09C-B1A3CEA9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13D0-FFEB-4793-A5BC-96235627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839-1891-446D-8B7F-5A24E7EA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496-D03D-4D1D-AE22-59AFE74B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9DC-5F5A-4142-8460-CDD1751E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F54-1748-49D4-9010-A60BA894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64C-A01C-4A89-9379-78B7F228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788-D2F4-44F7-8234-D4F792A4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BD2-A1E2-4CAF-8066-8D0598C0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A2E9-85B3-47BC-800D-08313AB3A68C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92E7-6442-4A90-83CC-4E6DCBE3C2D4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S 510, Fall 200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19160" y="3733920"/>
            <a:ext cx="212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a -&gt;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a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constrai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yntax-directed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rep. independ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ming so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+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56400" y="2362320"/>
            <a:ext cx="693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is u end ==&gt; fun f (x : a) : b is e 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(a,b are fresh type variables; not in G, t,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, T(c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8760" y="522144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62160" y="5180040"/>
            <a:ext cx="38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ype constraints from unannotated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imply-typ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 ML y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ierce 22: “Type Reconstruction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term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is e en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we know T &lt;= S and therefore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CS</cp:lastModifiedBy>
  <dcterms:modified xsi:type="dcterms:W3CDTF">2003-11-19T17:03:17Z</dcterms:modified>
  <cp:revision>37</cp:revision>
  <dc:subject/>
  <dc:title>Type Inference</dc:title>
</cp:coreProperties>
</file>