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325-05E1-45AC-AFD2-3ACCCA2E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F2E-B85F-4473-A013-4D6E642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72B-C27F-4FE6-9822-DA137328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38D-6D7F-41CC-89C1-D16563B6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2594-6B63-4F15-8E1F-21F49146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AF91-6497-4A62-ADE9-599EC32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FFB-032B-4AB0-A5BB-844B701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BB3C-7BD8-4930-A916-2147D65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E9AB-0CC2-4071-AAEF-D055BB3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7C6-92FB-445F-9AE6-EC95EFB2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4327-9F20-4729-815E-06B98FB3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480-F806-4909-9D8D-98FB66B4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7C7-8B0F-433F-B42E-EA93808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54B8-9F8A-4B1C-85B5-C2F89EA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C426-2B83-4E8A-B203-BD4BA9C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8FFB-0F91-47C0-9D7D-10C81D64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8F7F-F768-44AC-B540-C69EA9DB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E6A-8B54-4DC3-A2D6-E21731C4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DD0-6A3D-429B-8A9B-8729DAF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C15-6161-47AC-9F2B-6656D62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4D2-95DB-42CB-8FC0-386DADA8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A36-3CC8-44DB-B25F-0BD48753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F1A-065F-4869-BDE9-837219F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1D2-33DA-497E-A360-84C582E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EE9F-EE25-47A1-B66B-CBBE510FC49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31C-7E4D-445B-B4BF-44D12B74D3B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, Fall 200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CS</cp:lastModifiedBy>
  <dcterms:modified xsi:type="dcterms:W3CDTF">2003-11-19T17:03:17Z</dcterms:modified>
  <cp:revision>37</cp:revision>
  <dc:subject/>
  <dc:title>Type Inference</dc:title>
</cp:coreProperties>
</file>