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695-E6D3-417E-984B-9DD2A663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306-B266-4E04-AB05-4E8D74CA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DFB-17B4-428C-B4AE-DF569C5B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893-06B8-4DB2-8D03-FEB92431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94AF-F9E9-4578-A321-EF29CB7C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EA5E-920C-4AD7-852E-7C5A2A9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E55-616A-45BA-A50C-5B66D21E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CDFC-BE42-49F5-AF4D-EC63873D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7018-3F9C-4BCE-BDB2-D98E93C3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ABF3-F436-49DA-9F9F-C2780710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DDBC-16FA-425F-8382-11B99BCD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DD31-7C2A-473F-A675-E7C220B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A5FE-C9E8-467B-B5EF-D5043E8D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93AA-0587-47B6-8875-D94C1E24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329-65BF-4C17-8DA9-0FAE579B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290A-D27E-4B88-8304-7769927F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11F8-5556-4A5E-90D2-35385D7D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E91-9897-4CA0-A6C6-B98E4DFF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193-4290-42E7-B0A6-60650421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D8B-2170-4F9A-A5C4-354B8BE5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057-2C98-49BA-AC5D-B428BFD4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262-E7AA-414D-A6D9-7922B4E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7D9-7BD8-4F1C-9C8C-49389D8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715-2D9F-4F9D-8B74-FF714B5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6F2-D7C1-4F9D-8426-876638573F7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702E-8CE9-4599-9EAE-E5B6E03D7E5C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S 510, Fall 200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, map (f, tl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’ list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20720" y="160020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419360" y="2590920"/>
            <a:ext cx="2514600" cy="1828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086240" y="3200400"/>
            <a:ext cx="762120" cy="11430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59560" y="556272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5440" y="556272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791320" y="4952880"/>
            <a:ext cx="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7010280" y="4952880"/>
            <a:ext cx="152640" cy="457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20720" y="1600200"/>
            <a:ext cx="177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4880" y="556272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2971440" y="4876560"/>
            <a:ext cx="3049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9920" y="160020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80520" y="5562720"/>
            <a:ext cx="13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590920" y="4876560"/>
            <a:ext cx="4572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99920" y="1600200"/>
            <a:ext cx="177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2320" y="57913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447920" y="4952880"/>
            <a:ext cx="304560" cy="9144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960" y="3429000"/>
            <a:ext cx="1231920" cy="2362320"/>
          </a:xfrm>
          <a:custGeom>
            <a:avLst/>
            <a:gdLst/>
            <a:ahLst/>
            <a:rect l="l" t="t" r="r" b="b"/>
            <a:pathLst>
              <a:path w="776" h="1488">
                <a:moveTo>
                  <a:pt x="200" y="1488"/>
                </a:moveTo>
                <a:cubicBezTo>
                  <a:pt x="100" y="1236"/>
                  <a:pt x="0" y="984"/>
                  <a:pt x="8" y="768"/>
                </a:cubicBezTo>
                <a:cubicBezTo>
                  <a:pt x="16" y="552"/>
                  <a:pt x="120" y="320"/>
                  <a:pt x="248" y="192"/>
                </a:cubicBezTo>
                <a:cubicBezTo>
                  <a:pt x="376" y="64"/>
                  <a:pt x="576" y="32"/>
                  <a:pt x="776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b’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a’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, map (f, tl l)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: c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c’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: d lis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01720" y="1600200"/>
            <a:ext cx="1887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73840" y="601992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1599840" y="5257800"/>
            <a:ext cx="60948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2590920"/>
            <a:ext cx="1879560" cy="3657600"/>
          </a:xfrm>
          <a:custGeom>
            <a:avLst/>
            <a:gdLst/>
            <a:ahLst/>
            <a:rect l="l" t="t" r="r" b="b"/>
            <a:pathLst>
              <a:path w="1232" h="2160">
                <a:moveTo>
                  <a:pt x="0" y="2160"/>
                </a:moveTo>
                <a:cubicBezTo>
                  <a:pt x="308" y="2096"/>
                  <a:pt x="616" y="2032"/>
                  <a:pt x="816" y="1824"/>
                </a:cubicBezTo>
                <a:cubicBezTo>
                  <a:pt x="1016" y="1616"/>
                  <a:pt x="1232" y="1216"/>
                  <a:pt x="1200" y="912"/>
                </a:cubicBezTo>
                <a:cubicBezTo>
                  <a:pt x="1168" y="608"/>
                  <a:pt x="896" y="304"/>
                  <a:pt x="624" y="0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01720" y="1606680"/>
            <a:ext cx="188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’ -&gt; a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’ =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d list =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3:  Solv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8520" y="3581280"/>
            <a:ext cx="177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a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traint solution provides all possible solutions to type scheme annotations on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95120" y="4114800"/>
            <a:ext cx="155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a = b’ -&gt; c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 = c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19160" y="3733920"/>
            <a:ext cx="212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map (f : a -&gt; b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x : a list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86400" y="472428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abe9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4:  Generate typ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enerate types from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1: pick an instance of the most general type when we have completed type inference on the entire progra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(int -&gt; int) -&gt; int list -&gt; int list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ption 2: generate polymorphic types for program parts and continue (polymorphic) 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ap : All (a,b,c) (a -&gt; b) -&gt; a list -&gt; b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 Detai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constraints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are sets of equations between type schem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::= {s11 = s12, ..., sn1 = sn2}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g: {b = b’ list, a = b -&gt; c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yntax-directed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straint gener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ur algorithm crawls over abstract syntax of untyped expressions and generat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term sche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lgorithm defined as set of inference rules (as alway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u =&gt; e : t,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iticisms of Typed Languag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overly constrain functions &amp; dat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olymorphism makes typed constructs useful in more contex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versal polymorphism =&gt; code reus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stential polymorphism =&gt; rep. independenc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ubtyping =&gt; coming so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s clutter programs and slow down programmer productivit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ype inferenc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60120" indent="-1918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uninformative annotations may be omitt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straint Gene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ru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x ==&gt; x : s,  { }      (if G(x) = 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3 ==&gt; 3 : int, { }    (same for other int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true ==&gt; tru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 |-- false ==&gt; false : bool, { 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6960" y="2362320"/>
            <a:ext cx="833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+ u2 ==&gt; e1 + e2 : int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" y="4375080"/>
            <a:ext cx="858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             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&lt; u2 ==&gt; e1 + e2 : bool, q1 U q2 U {t1 = int, t2 = int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f stateme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30520" y="2362320"/>
            <a:ext cx="7468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3 ==&gt; e3 : t3, q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if u1 then u2 else u3 ==&gt; if e1 then e2 else e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q3 U {t1 = bool, a = t2, a = t3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Appl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10920" y="236232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==&gt; e1 : t1, q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2 ==&gt; e2 : t2, q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u1 u2==&gt; e1 e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, q1 U q2 U {t1 = t2 -&gt; a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unction Decl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56400" y="2362320"/>
            <a:ext cx="693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, f : a -&gt; b, x : a |-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-----------------------------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G |-- fun f(x) is u end ==&gt; fun f (x : a) : b is e en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: a -&gt; b, q U {t = b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(a,b are fresh type variables; not in G, t,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o a system of type constraints is 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ubstitution 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function from type variables to typ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because some things get simpler, we assume substitutions are defined on all type variable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a     (for almost all variables a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      (for some type scheme 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om(S) = set of variables s.t. S(a) </a:t>
            </a:r>
            <a:r>
              <a:rPr b="0" lang="en-US" sz="28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Given a substitution S, we can define a function S* from type schemes (as opposed to type variables) to type schem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int) = in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s1 -&gt; s2) = S*(s1) -&gt; S*(s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*(a) = S(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e to laziness, I will write S(s) instead of S*(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osi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U o S) applies the substitution S and then applies the substitution U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U o S)(a) = U(S(a)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ill need to compare substitu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more specific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 if T is “less general” than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mally: T &lt;= S if and only if T = U o S for some U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osition of Substit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1: any substitution is less general than the identity substitution I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&lt;= I because S = S o I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int, S(b) = c -&gt; c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(a) = int, T(b) = int -&gt; int, T(c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we conclude: T &lt;= 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17000" indent="-2034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f T(a) = int, T(b) = int -&gt; bool then T is unrelated to S (neither more nor less general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olving a Constrai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|= q if S is a solution to the constraint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83920" y="3200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s1) = S(s2)          S |=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---------------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s1 = s2} U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294560" y="3581280"/>
            <a:ext cx="12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----------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828800" y="4571640"/>
            <a:ext cx="7632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760" y="5221440"/>
            <a:ext cx="33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ny substitution i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for the empt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et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6095880" y="4647960"/>
            <a:ext cx="152640" cy="6094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62160" y="5180040"/>
            <a:ext cx="38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 solution to an equ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is a substitution that mak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eft and right side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da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of type constraints from unannotated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imply-typ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progra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not ML ye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solv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type constrai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xtboo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ierce 22: “Type Reconstruction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Most Gener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 is the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(most general) solution of a constraint q if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|= q                          (it is a solution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T |= q then T &lt;= S   (it is the most general on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Lemma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If q has a solution, then it has a most general on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re about principal solutions since they will give us the most general types for ter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a) = S(b) = in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(c) = c    (for all c other than a,b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= {a=int, b=a, b=bool}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incipal solution 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oes not exist (there is no solution to 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incipal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incipal solutions give rise to most general reconstruction of typing information for a te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a):a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a most general reconstruc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un f(x:int):int = 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no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An algorithm that provides the principal solution to a set of constraints (if one exis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one exists, it will be princip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Unifica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:  Unification systematically simplifies a set of constraints, yielding a substitu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during simplification, we maintain (S,q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the solution so fa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are the constraints left to simplify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tarting state of unification process: (I,q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al state of unification process: (S, { }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can specify unification as a transition syste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,q) -&gt; (S’,q’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ase types &amp; simple variabl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0800" y="4419720"/>
            <a:ext cx="335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45080" y="487692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Unification Mach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ction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Variable defini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41200" y="259092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30920" y="4419720"/>
            <a:ext cx="56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302560" y="56386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ype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contains type variables that may be filled in during type inferenc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 ::= a | int | bool | s1 -&gt; s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 term scheme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is a term that contains type schemes rather than proper typ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 ::= ... | fun f (x:s1) : s2 is e en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ccurs Check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hat is the solution to {a = a -&gt; a}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re is none!  (Remember your homework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e occurs check detects this situ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93080" y="4724280"/>
            <a:ext cx="55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=a} U q) -&gt; 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6781320" y="5181120"/>
            <a:ext cx="685800" cy="762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694920" y="594216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occurs check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rreducible Stat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Recall: final states have the form (S, { }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(S,q) are such that every equation in q has the form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t = boo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1 -&gt; s2 = s   (s not function typ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 = s              (s contains 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r is symmetric to one of the abo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uck states arise when constraints are unsolvab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want unification to terminate (to give us a type reconstruction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algorithm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we want to show that there is no infinite sequence of stat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(S1,q1) -&gt; (S2,q2) -&gt; ..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e associate an ordering with constrai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q &lt; q’ if and only if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fewer variables than q’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q contains the same number of variables as q’ but fewer type constructors (ie: fewer occurrences of int, bool, or “-&gt;”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his is a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exacographic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re is no infinite decreasing sequence of 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 prove termination, we must demonstrate that every step of the algorithm reduces the size of q according to this order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ermin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: Every step reduces the size of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roof:  By cases (ie: induction) on the definition of the reduction rela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5880" y="3581280"/>
            <a:ext cx="33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int=int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bool=bool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8520" y="5470560"/>
            <a:ext cx="258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a} U q) -&gt; (S,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479480" y="3581280"/>
            <a:ext cx="415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----------------------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s11 -&gt; s12= s21 -&gt; s22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 {s11 = s21, s12 = s22} U 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66960" y="518148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------------------------ (a not in FV(s)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S,{a=s} U q) -&gt;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([a=s] o S, [s/a]q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mplete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complete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or (S,q) is a substitution T such th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&lt;= 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 |= q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tuition: T  extends S and solves q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rincipal solution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T for (S,q) is complete for (S,q) a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or all T’ such that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hold, T’ &lt;= 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1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ry final state (S, { }) has a complete solution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S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&lt;= 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|= { 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o stuck state has a complete solution (or any solution at al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t is impossible for a substitution to make the necessary equations equ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boo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nt </a:t>
            </a:r>
            <a:r>
              <a:rPr b="0" lang="en-US" sz="2000" spc="-1" strike="noStrike">
                <a:solidFill>
                  <a:srgbClr val="8383ad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 t1 -&gt; t2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roperties of Solutio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mma 3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(S,q) -&gt; (S’,q’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complete for (S,q) iff T is complete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 is principal for (S,q) iff T is principal for (S’,q’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n the forward direction, this is the preservation theorem for the unification machin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, l)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Unific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By termination, (I,q) -&gt;* (S,q’) where (S,q’) is irreducible. 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= { }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’) is final (by defini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 is a principal solution for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Consider any T such that T is a solution to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Now notice, S is principal for (S,q’) (by lemma 1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 is principal for (I,q) (by lemma 3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nce S is principal for (I,q), we know T &lt;= S and therefore S is a principal solution for q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 Unification (cont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... Moreover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f q’ is not { } (and (I,q) -&gt;* (S,q’) where (S,q’) is irreducible) then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(S,q) is stuck.  Consequently, (S,q) has no complete solution.  By lemma 3, even (I,q) has no complete solution and therefore q has no solution at all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ummary: Type Inferen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ype inference algorithm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Given a context G, and untyped term u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e, t, q such that G |- u ==&gt; e : t, q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ind principal solution S of q via unif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if no solution exists, there is no reconstruc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y S to e, ie our solution is S(e)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(e) contains schematic type variables a,b,c, etc that may be instantiated with any typ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ince S is principal, S(e) characterizes all reconstructions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1:  Add Type Schem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799160" y="2585520"/>
            <a:ext cx="534960" cy="5382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4038480" y="2590560"/>
            <a:ext cx="1292400" cy="8413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74360" y="3040200"/>
            <a:ext cx="214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type schem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on functio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2514600" y="3162240"/>
            <a:ext cx="1371600" cy="5335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5684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tep 2:  Generate Constraint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un map (f : a, l : b) : c i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null (l) the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i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ns (f (hd l), map (f, tl l))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12200" y="320040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: d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20720" y="160020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733920" y="2209680"/>
            <a:ext cx="3200400" cy="68580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15040" y="55022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41960" y="54864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b = b’’’ list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5790960" y="4876560"/>
            <a:ext cx="228600" cy="53316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11:06:27Z</dcterms:created>
  <dc:creator>David Walker</dc:creator>
  <dc:description/>
  <dc:language>en-US</dc:language>
  <cp:lastModifiedBy>CS</cp:lastModifiedBy>
  <dcterms:modified xsi:type="dcterms:W3CDTF">2003-11-19T17:03:17Z</dcterms:modified>
  <cp:revision>37</cp:revision>
  <dc:subject/>
  <dc:title>Type Inference</dc:title>
</cp:coreProperties>
</file>