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97E-9088-48F4-B90F-D746D686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CE1-724A-43E9-BC18-FA52F028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37B-5706-4522-A57C-FA645B43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0F0-0E0F-4B0B-8BF8-0B33052B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357-29BF-4B08-968D-31EA2758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007-CE79-4B4C-9D58-5BAA0DFF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68B-5F3B-4318-8D4F-FBCC8120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733-5190-4357-812D-32C29D4F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FE8-4B09-47D9-B8FE-34E2B19D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226-3DBD-4974-9B68-22305542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1CF-7E38-4F13-8ADB-7DD1C5FF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A35-AFB5-4691-841B-76D4533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CBE-BAF9-49B3-8C98-00BD9772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M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dealized programming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5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bas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xecution entirely at the level of the languag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the most part) do not need to introduce new concepts to explain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r explanation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bas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take advantage of machine-specific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to suggest a compil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ore difficult to understand the time and spac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to MinML dynamic 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inML, we’re going to give the dynamic semantics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use a relation with th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::= n | b | fix f (x:t1) : t2 =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02760" y="293220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 + n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5360" y="335268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n, mathematic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n1 and n2 is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6880" y="29322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6416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1440" y="29005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’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2863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5120" y="332100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n n and n’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nu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640" y="4881600"/>
            <a:ext cx="29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ue then e1 else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11120" y="4844880"/>
            <a:ext cx="303228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2320" y="56530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alse then e1 else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87440" y="5616720"/>
            <a:ext cx="295596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6800" y="25146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v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[v1/f] [v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11120" y="281952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2480" y="33526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n v1 = fix f (x:t1) : t2 =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way, norm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rite the side conditions inside the body of th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them using mathematical notation rather tha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6800" y="5149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v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[v1/f] [v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066680" y="5454720"/>
            <a:ext cx="251460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5600" y="50734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1 = (fix f (x:t1) : t2 = e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3080" y="507348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= n1 + 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 + n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87840" y="5423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1440" y="5073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’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5423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, these rules specify the order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left-to-right, call-by-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20400" y="385452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op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 op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66680" y="4158720"/>
            <a:ext cx="251460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680" y="476892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op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1 op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6680" y="5073120"/>
            <a:ext cx="251460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4600" y="38545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4240" y="476892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568332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1 then e2 else 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e1’ then e2 else 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4680" y="6019920"/>
            <a:ext cx="457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gain, multi-step eval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560" y="236232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9360" y="2698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3320" y="236232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’     e’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887640" y="2666520"/>
            <a:ext cx="190512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1 (values are irreduc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v is a value then there is no e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 1 (values are irreduc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 is a value then there is no e such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?  By inspection of the operational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rule with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 call this proof “inductive” is technically correct, but misleading: we do not appeal to the inductive hypothesis.  We could also call it a proof “by case analysis of the operational rul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9680" y="380988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 premises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01840" y="4114800"/>
            <a:ext cx="19051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rce chapter 1,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ing of program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d lambda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per 5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 (determin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e’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 (determin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e’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By induction on the structure of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(fix f (x : t1) : t2 = e).  This is a value.  By prop 1, there are no such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 (determin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e’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By induction on the structure of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e1 e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se e1, e2 both not values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se e1 value, e2 not value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se e1, e2 both values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3 (determinacy of val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v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 3 (determinacy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e there is at most one v such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?  By induction on the multi-step relation + it helps to be more formal about the induction 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H:  If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v and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v’  then v = v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uses prop 1 &amp;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ck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 irreducible expression is a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7 then 1 el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+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(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that is not a value, but for which there exists no e’ such that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all stuck expressions are ill-ty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type check programs in MinML before running them, they will never get st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&amp; dynamic 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ML is an idealized language that models some of the basic concepts in functiona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ynamic semantics satisfies some nice properties: values are irreducible, evaluation is determin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up: typing Min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ML is an idealized programming language based o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of MinML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ntax for expressions involving recursive functions, booleans and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ynamic semantics similar to the call-by-value semantics of lambda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typing rules to prevent programs from incurring certain sorts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::= int | bool | t1 -&gt;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::= + | - | &lt; |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 | n | b | e op e | if e then e el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fun f (x:t):t = e | 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fact (x : int ) : in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 &lt;= 0 the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x * fact (x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e did for the lambda calculus, we will define the dynamic semantics as a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e have some choices to mak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least two general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 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execution by translating the language into some lower-leve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wed how to implement booleans, pairs in the lambda calculus by translating them into func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nguage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execution entirely in terms of languag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wed how to implement functions in the lambda calculu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-based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implementation strategy in terms of lower-level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simplifies complex language by translation into a smaller core that can be more easily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ranslation to machine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s low-level programming (writing device drivers; interfacing with garbage coll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low-level “hacks” that depend upon specific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-based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you understand how language is comp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tic if compilation is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hibit portability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time errors cannot necessarily be understood in terms of the source program, only in terms of how it is compiled and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17:14:18Z</dcterms:created>
  <dc:creator>CS</dc:creator>
  <dc:description/>
  <dc:language>en-US</dc:language>
  <cp:lastModifiedBy>CS</cp:lastModifiedBy>
  <dcterms:modified xsi:type="dcterms:W3CDTF">2003-09-29T14:51:05Z</dcterms:modified>
  <cp:revision>16</cp:revision>
  <dc:subject/>
  <dc:title>MinML: an idealized programming language</dc:title>
</cp:coreProperties>
</file>