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96E-16C5-49F1-8D02-16578F0E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B5E-5A60-4A83-B79A-A67FD3F2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AD2-E518-4F3C-AFF6-DD0CE705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3B9-609A-40F8-BAE0-D60C2DF6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760-137F-4B24-B252-42A0C64D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76F-59B1-4CAB-B494-54633BF3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A55-DAFF-4F8F-979D-99852DFE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22A-079A-4EB2-9C8A-E9FB19B9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C43-6279-4C7C-A7DC-14031A4D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E56-C41C-4B30-9851-32AF8262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B6D-2EE4-47EF-8B61-A2CB733E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F35-2B94-425D-BDE6-D4DC6746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BA50-52AC-43B4-BF4E-C58515BE9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M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dealized programming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5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bas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xecution entirely at the level of the languag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the most part) do not need to introduce new concepts to explain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r explanation of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-bas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take advantage of machine-specific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to suggest a compil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more difficult to understand the time and spac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 to MinML dynamic seman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inML, we’re going to give the dynamic semantics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use a relation with th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::= n | b | fix f (x:t1) : t2 =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tive 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02760" y="293220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 + n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5360" y="335268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n, mathematic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n1 and n2 is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6880" y="293220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6416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1440" y="29005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’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2863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5120" y="332100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n n and n’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nu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640" y="4881600"/>
            <a:ext cx="29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rue then e1 else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11120" y="4844880"/>
            <a:ext cx="303228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2320" y="565308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false then e1 else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87440" y="5616720"/>
            <a:ext cx="295596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itive 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16800" y="25146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v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[v1/f] [v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11120" y="281952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2480" y="33526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n v1 = fix f (x:t1) : t2 =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way, norm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rite the side conditions inside the body of the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them using mathematical notation rather than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6800" y="5149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v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[v1/f] [v2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066680" y="5454720"/>
            <a:ext cx="251460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5600" y="507348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1 = (fix f (x:t1) : t2 = e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3080" y="507348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 = n1 + n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 + n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87840" y="5423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1440" y="5073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n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n’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5423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, these rules specify the order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use left-to-right, call-by-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20400" y="385452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op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 op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66680" y="4158720"/>
            <a:ext cx="251460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680" y="4768920"/>
            <a:ext cx="23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op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1 op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066680" y="5073120"/>
            <a:ext cx="251460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4600" y="38545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4240" y="476892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 e2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568332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1 then e2 else e3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e1’ then e2 else e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4680" y="6019920"/>
            <a:ext cx="457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gain, multi-step eval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560" y="236232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9360" y="2698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3320" y="236232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’     e’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887640" y="2666520"/>
            <a:ext cx="1905120" cy="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1 (values are irreduc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v is a value then there is no e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 1 (values are irreduc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 is a value then there is no e such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?  By inspection of the operational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rule with the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 call this proof “inductive” is technically correct, but misleading: we do not appeal to the inductive hypothesis.  We could also call it a proof “by case analysis of the operational rul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9680" y="380988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.. premises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01840" y="4114800"/>
            <a:ext cx="190512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rce chapter 1,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ing of program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d lambda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per 5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2 (determin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e’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2 (determin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e’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By induction on the structure of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(fix f (x : t1) : t2 = e).  This is a value.  By prop 1, there are no such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2 (determinac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e’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By induction on the structure of 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e1 e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se e1, e2 both not values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se e1 value, e2 not value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se e1, e2 both values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 3 (determinacy of valu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e there is at most one v such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 3 (determinacy of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e there is at most one v such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?  By induction on the multi-step relation + it helps to be more formal about the induction hypoth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H:  If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v and 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v’  then v = v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uses prop 1 &amp;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ck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 irreducible expression is a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7 then 1 el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+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(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that is not a value, but for which there exists no e’ such that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’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all stuck expressions are ill-ty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type check programs in MinML before running them, they will never get st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ntax &amp; dynamic seman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ML is an idealized language that models some of the basic concepts in functional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ynamic semantics satisfies some nice properties: values are irreducible, evaluation is determin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up: typing Min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M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ML is an idealized programming language based o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of MinML 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yntax for expressions involving recursive functions, booleans and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ynamic semantics similar to the call-by-value semantics of lambda cal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typing rules to prevent programs from incurring certain sorts of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::= int | bool | t1 -&gt; 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::= + | - | &lt; |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::= x | n | b | e op e | if e then e el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fun f (x:t):t = e | 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 fact (x : int ) : in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x &lt;= 0 the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x * fact (x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e did for the lambda calculus, we will define the dynamic semantics as a 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e have some choices to mak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least two general approa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y 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execution by translating the language into some lower-leve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wed how to implement booleans, pairs in the lambda calculus by translating them into func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nguage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execution entirely in terms of language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wed how to implement functions in the lambda calculus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-based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implementation strategy in terms of lower-level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simplifies complex language by translation into a smaller core that can be more easily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ranslation to machine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s low-level programming (writing device drivers; interfacing with garbage coll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low-level “hacks” that depend upon specific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-based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you understand how language is comp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tic if compilation is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rohibit portability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-time errors cannot necessarily be understood in terms of the source program, only in terms of how it is compiled and exec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8T17:14:18Z</dcterms:created>
  <dc:creator>CS</dc:creator>
  <dc:description/>
  <dc:language>en-US</dc:language>
  <cp:lastModifiedBy>CS</cp:lastModifiedBy>
  <dcterms:modified xsi:type="dcterms:W3CDTF">2003-09-29T14:51:05Z</dcterms:modified>
  <cp:revision>16</cp:revision>
  <dc:subject/>
  <dc:title>MinML: an idealized programming language</dc:title>
</cp:coreProperties>
</file>