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CD41-2D07-4CB5-B5BD-783BA330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42C-5C3B-4C82-AFC9-1F8144CD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1080-9EF4-4DA9-BCA6-D129C8D0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F65D-097C-4DA8-B319-F3F78407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4A87-FFB2-442F-B078-FB67CF55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CCD9-1764-43B1-8F5E-718DD69D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9946-FE77-4E8E-B4D7-511CFE3D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551F-05D0-4EE2-8322-F0B73EAB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B981-9B4D-4AE4-B3FD-BBCB5F09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5AAC-5C9E-4C59-8B9C-596D2F52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BA2C-EC91-4A80-82C5-3855CE5C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DD81-3717-41F5-91FB-9589B88D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035B-6AA4-468C-946B-C58C1E8EF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ML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dealized programming langu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5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-bas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execution entirely at the level of the languag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the most part) do not need to introduce new concepts to explain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r explanation of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-bas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take advantage of machine-specific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to suggest a compila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more difficult to understand the time and space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 to MinML dynamic seman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inML, we’re going to give the dynamic semantics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use a relation with the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1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::= n | b | fix f (x:t1) : t2 =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ML dynamic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itive instru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02760" y="293220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 + n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5360" y="3352680"/>
            <a:ext cx="28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hen, mathematical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m of n1 and n2 is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6880" y="293220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6416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1440" y="29005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n’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2863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5120" y="3321000"/>
            <a:ext cx="21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hen n and n’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numb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95640" y="4881600"/>
            <a:ext cx="29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rue then e1 else 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11120" y="4844880"/>
            <a:ext cx="3032280" cy="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72320" y="5653080"/>
            <a:ext cx="30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alse then e1 else 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87440" y="5616720"/>
            <a:ext cx="2955960" cy="2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ML dynamic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itive instru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16800" y="251460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 v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[v1/f] [v2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11120" y="2819520"/>
            <a:ext cx="227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2480" y="335268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hen v1 = fix f (x:t1) : t2 =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ML dynamic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way, normal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rite the side conditions inside the body of the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 them using mathematical notation rather than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16800" y="514980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 v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[v1/f] [v2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066680" y="5454720"/>
            <a:ext cx="251460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5600" y="507348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1 = (fix f (x:t1) : t2 = e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3080" y="507348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 = n1 + n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 + n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87840" y="5423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1440" y="50734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n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n’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5423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ML dynamic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, these rules specify the order of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use left-to-right, call-by-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20400" y="3854520"/>
            <a:ext cx="23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op 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1’ op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66680" y="4158720"/>
            <a:ext cx="2514600" cy="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9680" y="4768920"/>
            <a:ext cx="23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 op 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1 op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066680" y="5073120"/>
            <a:ext cx="2514600" cy="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94600" y="385452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41911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94240" y="476892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 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1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14680" y="5683320"/>
            <a:ext cx="47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1 then e2 else e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e1’ then e2 else e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14680" y="6019920"/>
            <a:ext cx="457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ML dynamic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again, multi-step eval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7560" y="236232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9360" y="2698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83320" y="2362320"/>
            <a:ext cx="20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’     e’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e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e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887640" y="2666520"/>
            <a:ext cx="1905120" cy="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ition 1 (values are irreduc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v is a value then there is no e such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ition 1 (values are irreduci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 is a value then there is no e such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?  By inspection of the operational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rule with the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o call this proof “inductive” is technically correct, but misleading: we do not appeal to the inductive hypothesis.  We could also call it a proof “by case analysis of the operational rule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99680" y="3809880"/>
            <a:ext cx="200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 premises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201840" y="4114800"/>
            <a:ext cx="190512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M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erce chapter 1,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aning of program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yped lambda calc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per 5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ition 2 (determinac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e there is at most one e’ such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ition 2 (determinac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e there is at most one e’ such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?  By induction on the structure of 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(fix f (x : t1) : t2 = e).  This is a value.  By prop 1, there are no such e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ition 2 (determinac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e there is at most one e’ such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?  By induction on the structure of 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e1 e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case e1, e2 both not values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case e1 value, e2 not value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case e1, e2 both values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ition 3 (determinacy of valu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e there is at most one v such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ition 3 (determinacy of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very e there is at most one v such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?  By induction on the multi-step relation + it helps to be more formal about the induction hypothe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H:  If 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v and 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v’  then v = v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 uses prop 1 &amp;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ck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very irreducible expression is a 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7 then 1 el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e +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(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ression that is not a value, but for which there exists no e’ such that 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’ 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u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all stuck expressions are ill-ty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type check programs in MinML before running them, they will never get stu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&amp; dynamic seman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ML is an idealized language that models some of the basic concepts in functional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ynamic semantics satisfies some nice properties: values are irreducible, evaluation is determin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up: typing Min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M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ML is an idealized programming language based on the lambda 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finition of MinML incl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yntax for expressions involving recursive functions, booleans and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ynamic semantics similar to the call-by-value semantics of lambda calc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of typing rules to prevent programs from incurring certain sorts of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::= int | bool | t1 -&gt; 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::= + | - | &lt; |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::= x | n | b | e op e | if e then e els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fun f (x:t):t = e | 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mple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 fact (x : int ) : int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x &lt;= 0 the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 x * fact (x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e did for the lambda calculus, we will define the dynamic semantics as a re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--&gt; 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e have some choices to mak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t least two general approach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y trans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scribe execution by translating the language into some lower-leve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wed how to implement booleans, pairs in the lambda calculus by translating them into function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anguage-ba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scribe execution entirely in terms of language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wed how to implement functions in the lambda calculus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-based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implementation strategy in terms of lower-level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simplifies complex language by translation into a smaller core that can be more easily underst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ranslation to machine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s low-level programming (writing device drivers; interfacing with garbage coll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low-level “hacks” that depend upon specific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-based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you understand how language is comp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atic if compilation is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rohibit portability and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-time errors cannot necessarily be understood in terms of the source program, only in terms of how it is compiled and exec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8T17:14:18Z</dcterms:created>
  <dc:creator>CS</dc:creator>
  <dc:description/>
  <dc:language>en-US</dc:language>
  <cp:lastModifiedBy>CS</cp:lastModifiedBy>
  <dcterms:modified xsi:type="dcterms:W3CDTF">2003-09-29T14:51:05Z</dcterms:modified>
  <cp:revision>16</cp:revision>
  <dc:subject/>
  <dc:title>MinML: an idealized programming language</dc:title>
</cp:coreProperties>
</file>