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DA1C-A9A1-4316-B066-F470710C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09DB-BE8F-469D-A273-A5AB12A5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E58-2FE4-4669-ABC2-88F60240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4805-95DA-4AC9-AE0C-211753FB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6435-A963-4449-9403-30A98762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3208-5EBA-4198-B4B5-BF9B16FB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C70A-AEDC-4055-B0A0-E6BFDF1E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B6D4-B062-4E50-8CFC-FE339291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7776-5CE2-4B63-AF4E-7C68A79B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E0AF-5CE9-44EF-8842-97D146EA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20E2-1ED1-4BA6-A26A-30073CF5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2BF2-903F-499A-A54C-F1FC9252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BEB2-EDF7-4780-8ACE-D244EAE7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E773-CA02-49F9-8F9F-01DEEA3E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A46D-178A-4341-8BAE-8813E79A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CEF5-3F55-48DE-8361-EC731627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015D-6EA3-43BD-8221-BC977696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F31-6947-4C7D-8DCE-69B7801A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E3F-7BD4-42CA-835D-A94D34E9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D42-9EB4-443D-951B-5FEACB48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C34-A758-4B47-AA6B-9CEE6AB0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A54-368C-4D97-911A-91B6035F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D209-CB6A-4886-9EA4-594B2E16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CDCF-F37C-40C9-8B38-22BA2AC7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FAAE-281E-4000-ABDD-B5B56E50A1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FBB3-4832-44E1-8767-9077835CD8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ti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s: integers, Booleans, tuples,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 to data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ime, we continue writing an evaluator for a simpl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erce, Chapter 4 (in O’Ca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 how to u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789560" y="2514600"/>
            <a:ext cx="494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9640" y="4711680"/>
            <a:ext cx="44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ebug "hello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aught excep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d at: ex.sml:15.28-15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4200" y="4071960"/>
            <a:ext cx="28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ML interpr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816200" y="2514600"/>
            <a:ext cx="466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Zero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861920" y="2514600"/>
            <a:ext cx="587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Zero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Bool b,t2,t3) =&gt; (if b then t2 else 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t1,t2,t3) =&gt; If (eval1 t1,t2,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911240" y="1905120"/>
            <a:ext cx="360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sValue 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val t’ = eval1 t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715000" y="45720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71440" y="2895480"/>
            <a:ext cx="22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t expre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829520" y="1905120"/>
            <a:ext cx="3213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Prede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78360" y="3200400"/>
            <a:ext cx="19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ure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856520" y="1905120"/>
            <a:ext cx="287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601920" y="4572000"/>
            <a:ext cx="722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5.2-35.12 Warning: match non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ool _ | Zero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b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t1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56520" y="1905120"/>
            <a:ext cx="287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-step eval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530720" y="2548080"/>
            <a:ext cx="4575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loop t = loop (eval1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message = “Done\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(loop t) han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ule =&gt; print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Error s =&gt; print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343040" y="4419720"/>
            <a:ext cx="2895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31760" y="30481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se ext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e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ne with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is all about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different ways to define function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almost always use “fun f x = ..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I am only going to use a function once and it is not recursive, I write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onymous 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ittle language (LL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umber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uccessor of a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edecessor of a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832400" y="2362320"/>
            <a:ext cx="3931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t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t =&gt; isNumberValue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428640" y="2209680"/>
            <a:ext cx="2438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97160" y="190512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a value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43434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419360" y="3548160"/>
            <a:ext cx="144756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72680" y="3048120"/>
            <a:ext cx="244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s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7400" y="48006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the anonym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600200" y="4648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6240" y="5105520"/>
            <a:ext cx="18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81760" y="495288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pair of 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32280" y="205740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definition (very conven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419360" y="25909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572000" y="548640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629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(f,g)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x =&gt; f (g 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89548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10720" y="52578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sult is a 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4343040" y="41144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85920" y="41911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rgument is pair of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781000" y="392436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143000" y="43430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5560" y="4545000"/>
            <a:ext cx="10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gai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1270440" y="2730600"/>
            <a:ext cx="282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.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f = (fn x =&gt; ..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962520" y="5029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38040" y="5562720"/>
            <a:ext cx="56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vided the function is not recursi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 does not appear in 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196640" y="2959200"/>
            <a:ext cx="598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always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rec f = (fn x =&gt; ...f can be used here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8288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57040" y="5900760"/>
            <a:ext cx="69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eyword rec declares a recursive 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433520" y="2514600"/>
            <a:ext cx="585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Zero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Successor t2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_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61840" y="39625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just an abbrevi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1720" y="4648320"/>
            <a:ext cx="355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create a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1433520" y="1905120"/>
            <a:ext cx="585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0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Successor t2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_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1600" y="3352680"/>
            <a:ext cx="840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9.1-11.29 Error: parameter or result constrain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us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lause:      term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clauses:      int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NumberVal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0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90560" y="518148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+ 1) (fn x =&gt;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68880" y="52578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&lt; 17)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3812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A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866920" y="60958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5181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08320" y="6095880"/>
            <a:ext cx="55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te:  type variables are written with 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933960" y="47242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64480" y="3308400"/>
            <a:ext cx="227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nd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985680" y="2362320"/>
            <a:ext cx="38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ter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of te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Predecessor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39760" y="1981080"/>
            <a:ext cx="4251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you three th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a new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constructors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uilding objec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w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patterns for decompo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int -&gt; ‘b) -&gt; (‘c -&gt; int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(int * int) -&gt; ‘b) -&gt; (‘c -&gt; (int * int)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unit -&gt; int) -&gt; (int -&gt; unit) -&gt; (int -&gt; 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2057040" y="51811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78000" y="5410080"/>
            <a:ext cx="595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ype of compose’s argument must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type of n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-&gt; bool == (‘a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74320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41120" y="5410080"/>
            <a:ext cx="357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must be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must be bool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n this use of compo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14440" y="5410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6400440" y="1371240"/>
            <a:ext cx="304920" cy="335268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562360" y="3276720"/>
            <a:ext cx="99036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 rot="16200000">
            <a:off x="5333760" y="2742120"/>
            <a:ext cx="304920" cy="335304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18240" y="3462480"/>
            <a:ext cx="13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bool -&gt; b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879480" y="2209680"/>
            <a:ext cx="680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true, Zero, Successor (Successor Zer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“if true then 0 else succ(succ 0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2880" y="372888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33526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12720" y="37670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6440" y="4422600"/>
            <a:ext cx="19018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93920" y="404640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59040" y="51814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6708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54080" y="517680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219320" y="4724280"/>
            <a:ext cx="174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6860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73920" y="51814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76280" y="53388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6480" y="49528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4520" y="494820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47242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12320" y="54864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80000" y="548172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75200" y="52578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94520" y="5486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95720" y="5334120"/>
            <a:ext cx="76680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581280" y="480060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25840" y="572292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45280" y="5718240"/>
            <a:ext cx="76680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57150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5400000">
            <a:off x="2514240" y="4495680"/>
            <a:ext cx="152280" cy="3048120"/>
          </a:xfrm>
          <a:custGeom>
            <a:avLst/>
            <a:gdLst>
              <a:gd name="textAreaLeft" fmla="*/ 0 w 152280"/>
              <a:gd name="textAreaRight" fmla="*/ 55080 w 1522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2133720"/>
            <a:ext cx="39625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3200400"/>
            <a:ext cx="3556080" cy="3124080"/>
          </a:xfrm>
          <a:custGeom>
            <a:avLst/>
            <a:gdLst/>
            <a:ahLst/>
            <a:rect l="l" t="t" r="r" b="b"/>
            <a:pathLst>
              <a:path w="1808" h="1872">
                <a:moveTo>
                  <a:pt x="1344" y="0"/>
                </a:moveTo>
                <a:cubicBezTo>
                  <a:pt x="1576" y="372"/>
                  <a:pt x="1808" y="744"/>
                  <a:pt x="1584" y="1056"/>
                </a:cubicBezTo>
                <a:cubicBezTo>
                  <a:pt x="1360" y="1368"/>
                  <a:pt x="680" y="1620"/>
                  <a:pt x="0" y="1872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61080" y="609588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‘c -&gt; ‘d) -&gt; (‘c -&gt; ‘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: ‘a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: :   ‘a * ‘a list -&gt; ‘a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4 :: 5 :: nil :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x) :: nil : (‘a -&gt; ‘a)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] : ‘a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[4, 5] :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fn x =&gt; x] : (‘a -&gt; ‘a)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114440" y="335232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75800" y="391968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fferen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writing “ni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ctions over lists are usually defined by case analysis (induction) over the structure of 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ahoma"/>
              </a:rPr>
              <a:t>Hint: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often, the structure of a function i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guided by the type of the argument (recall eva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1989360" y="3429000"/>
            <a:ext cx="33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length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_ :: l =&gt; 1 + (length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37760" y="4572000"/>
            <a:ext cx="433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credibly useful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map (fn x =&gt; x+1) [1,2,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val it = [2,3,4] ; i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663560" y="2666880"/>
            <a:ext cx="340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fold f a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f (fold f a l)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89880" y="4876920"/>
            <a:ext cx="503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other incredibly usefu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does it do? what is its ty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to write m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Mod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ized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from structures to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2408040" y="3309840"/>
            <a:ext cx="54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isNumberValue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410080" y="27432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590920" y="5334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= (nil, ni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 (x, q)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remove q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ueue.insert (y, Queue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 =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.insert (y, Q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6248160" y="289548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ven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br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1911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open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insert (y, 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6266160" y="2895480"/>
            <a:ext cx="282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laz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- not encourag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41911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6486480" y="2228760"/>
            <a:ext cx="249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y defaul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ll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f the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ay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-- we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: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insert : ‘a * ‘a queue -&gt;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remove : ‘a queue -&gt; ‘a *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343400" y="25909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51800" y="1981080"/>
            <a:ext cx="315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- we don’t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 hi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2703600"/>
            <a:ext cx="384660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4764240" y="2170080"/>
            <a:ext cx="384624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71040" y="2590920"/>
            <a:ext cx="450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ure Queue :&gt; QUE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 empty = (nil,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76520" y="5640480"/>
            <a:ext cx="498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333760" y="51814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89000" y="4800600"/>
            <a:ext cx="17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A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aque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bstract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:&gt;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al case of opaque a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fields but does not make types 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_E :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Harper, chapters 18-22 for more on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 (functions from structures to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ences (mutable data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 e; !e; e1 := e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loops, for lo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* comments (* can be *) nested *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unch of other stuff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to program in SML can be tricky at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once you get used to it, you will never want to go back to imperative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ut the reference materials listed on the course home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749240" y="2514600"/>
            <a:ext cx="54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isNumberValue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6400" y="4724280"/>
            <a:ext cx="756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749240" y="2514600"/>
            <a:ext cx="54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isNumberValue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9440" y="4724280"/>
            <a:ext cx="81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zero is not 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ML treats it like a variable pattern (matches anyth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1776600" y="2514600"/>
            <a:ext cx="372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t =&gt; isNumberValu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789560" y="251460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CS</cp:lastModifiedBy>
  <dcterms:modified xsi:type="dcterms:W3CDTF">2003-09-16T20:42:09Z</dcterms:modified>
  <cp:revision>25</cp:revision>
  <dc:subject/>
  <dc:title>Introduction to ML</dc:title>
</cp:coreProperties>
</file>