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BEA-8D4A-446F-8026-42DC6D80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1F9-9619-441D-8042-2CB98BBC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E7C-815E-49C3-A1D7-2D98B91D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3DE-99BC-4512-B718-407B5BB0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F0D9-4606-4D76-9378-0FB615E4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7BE9-73CC-409B-89EC-1D78E22E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41F1-93AC-482B-997C-2DCD7BAE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4513-608B-4AED-B57B-8E10900E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593F-4570-4A2E-9B01-FEC215FF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96AD-424E-4642-B516-BD70E8B5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AD58-0712-4294-A9EA-0F44A358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2AE-092B-4F80-8A9B-31DA3DB4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12DE-E475-4FB0-9030-770D1BD8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26D9-B781-422C-8DAA-7CEB2A0D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ADB3-76C2-4815-B96D-BB34C093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CD69-35C0-4203-B669-59649756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0B6F-040A-4F00-9718-516448D4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BA1-BA23-4176-95C2-458D4FB0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6CF-E07C-4785-83F1-E173D03A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641-D05E-4243-B25F-75890CB5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9FF-4F43-4C9F-9FF2-057ED2BE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4F9-9C47-4E26-B91F-7E09B3C7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F70-C600-4DA7-84F3-26B2F5D2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7A21-6EAA-4CB3-9B11-71250D82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2842-371F-4BF5-92FB-A8A11A68A9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EBED-32F0-440D-9DB4-7839C5EACB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ti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s: integers, Booleans, tuples,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to data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ime, we continue writing an evaluator for a simpl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erce, Chapter 4 (in O’Ca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 how to u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789560" y="2514600"/>
            <a:ext cx="49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9640" y="4711680"/>
            <a:ext cx="44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4200" y="407196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816200" y="2514600"/>
            <a:ext cx="466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Zero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861920" y="2514600"/>
            <a:ext cx="587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Zero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Bool b,t2,t3) =&gt; (if b then t2 else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If (eval1 t1,t2,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911240" y="1905120"/>
            <a:ext cx="360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sValue 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val t’ = eval1 t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715000" y="45720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1440" y="2895480"/>
            <a:ext cx="22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 expre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829520" y="1905120"/>
            <a:ext cx="321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Prede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78360" y="320040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856520" y="1905120"/>
            <a:ext cx="287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01920" y="4572000"/>
            <a:ext cx="722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b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56520" y="1905120"/>
            <a:ext cx="287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-step 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530720" y="2548080"/>
            <a:ext cx="4575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loop t = loop (eval1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message = “Done\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(loop t) han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ule =&gt; print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Error s =&gt; print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343040" y="4419720"/>
            <a:ext cx="2895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31760" y="30481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se ext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ne with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is all about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different ways to define function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lmost always use “fun f x = 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 am only going to use a function once and it is not recursive, I write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onymous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umber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uccessor of a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edecessor of a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1832400" y="2362320"/>
            <a:ext cx="393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Val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isNumberValue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428640" y="220968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97160" y="190512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a value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43434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419360" y="3548160"/>
            <a:ext cx="144756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72680" y="3048120"/>
            <a:ext cx="24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s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7400" y="48006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the anonym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60020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6240" y="5105520"/>
            <a:ext cx="18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81760" y="49528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pair of 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32280" y="20574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definition (very conven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419360" y="25909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572000" y="548640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62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(f,g)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x =&gt; f (g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48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10720" y="52578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ult is a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4343040" y="4114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85920" y="41911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ment is pair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781000" y="392436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143000" y="43430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5560" y="4545000"/>
            <a:ext cx="10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270440" y="2730600"/>
            <a:ext cx="28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f = (fn x =&gt; ..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962520" y="5029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38040" y="556272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vided the function is not recurs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 does not appear in 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196640" y="2959200"/>
            <a:ext cx="598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ways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rec f = (fn x =&gt; ...f can be used here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8288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57040" y="590076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eyword rec declares a recursive 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433520" y="2514600"/>
            <a:ext cx="585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Zero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Successor t2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_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61840" y="39625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just an abbrevi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1720" y="4648320"/>
            <a:ext cx="355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create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1433520" y="1905120"/>
            <a:ext cx="585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0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Successor t2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_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1600" y="3352680"/>
            <a:ext cx="840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9.1-11.29 Error: parameter or result constrain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us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lause:      term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clauses:      int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NumberVal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0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90560" y="518148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+ 1) (fn x =&gt;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68880" y="52578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&lt; 17)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3812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866920" y="60958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5181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08320" y="609588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e:  type variables are written with 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933960" y="4724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64480" y="3308400"/>
            <a:ext cx="227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nd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985680" y="2362320"/>
            <a:ext cx="38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of te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Predecessor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39760" y="1981080"/>
            <a:ext cx="4251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you three thing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a new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constructors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uilding objec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w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patterns for decompo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int -&gt; ‘b) -&gt; (‘c -&gt; int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(int * int) -&gt; ‘b) -&gt; (‘c -&gt; (int * int)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5334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unit -&gt; int) -&gt; (int -&gt; unit) -&gt; (int -&gt; 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44956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as if it had the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2057040" y="51811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78000" y="5410080"/>
            <a:ext cx="595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ype of compose’s argument must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type of n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-&gt; bool == (‘a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7432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41120" y="5410080"/>
            <a:ext cx="357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must be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must be bool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n this use of compo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14440" y="5410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ref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6400440" y="1371240"/>
            <a:ext cx="304920" cy="335268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562360" y="3276720"/>
            <a:ext cx="9903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 rot="16200000">
            <a:off x="5333760" y="2742120"/>
            <a:ext cx="304920" cy="3353040"/>
          </a:xfrm>
          <a:custGeom>
            <a:avLst/>
            <a:gdLst>
              <a:gd name="textAreaLeft" fmla="*/ 0 w 304920"/>
              <a:gd name="textAreaRight" fmla="*/ 110160 w 30492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18240" y="3462480"/>
            <a:ext cx="13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bool -&gt; 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ompose not) not : ?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879480" y="2209680"/>
            <a:ext cx="68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Zero, Successor (Successor Zer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“if true then 0 else succ(succ 0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2880" y="372888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33526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12720" y="37670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6440" y="4422600"/>
            <a:ext cx="19018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93920" y="404640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9040" y="51814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6708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4080" y="517680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219320" y="4724280"/>
            <a:ext cx="174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686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73920" y="51814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76280" y="53388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6480" y="49528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4520" y="494820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47242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12320" y="54864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80000" y="548172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75200" y="52578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9452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95720" y="5334120"/>
            <a:ext cx="76680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581280" y="480060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25840" y="572292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45280" y="5718240"/>
            <a:ext cx="76680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57150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5400000">
            <a:off x="2514240" y="4495680"/>
            <a:ext cx="152280" cy="3048120"/>
          </a:xfrm>
          <a:custGeom>
            <a:avLst/>
            <a:gdLst>
              <a:gd name="textAreaLeft" fmla="*/ 0 w 152280"/>
              <a:gd name="textAreaRight" fmla="*/ 5508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213372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3200400"/>
            <a:ext cx="3556080" cy="3124080"/>
          </a:xfrm>
          <a:custGeom>
            <a:avLst/>
            <a:gdLst/>
            <a:ahLst/>
            <a:rect l="l" t="t" r="r" b="b"/>
            <a:pathLst>
              <a:path w="1808" h="1872">
                <a:moveTo>
                  <a:pt x="1344" y="0"/>
                </a:moveTo>
                <a:cubicBezTo>
                  <a:pt x="1576" y="372"/>
                  <a:pt x="1808" y="744"/>
                  <a:pt x="1584" y="1056"/>
                </a:cubicBezTo>
                <a:cubicBezTo>
                  <a:pt x="1360" y="1368"/>
                  <a:pt x="680" y="1620"/>
                  <a:pt x="0" y="1872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61080" y="60958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‘c -&gt; ‘d) -&gt; (‘c -&gt; ‘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: ‘a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: :   ‘a * ‘a list -&gt; ‘a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5 :: nil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x) :: nil : (‘a -&gt; ‘a)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] : ‘a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[4, 5]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fn x =&gt; x] : (‘a -&gt; ‘a)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11444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75800" y="391968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fferent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writing “ni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case analysis (induction) over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ahoma"/>
              </a:rPr>
              <a:t>Hint: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often, the structure of a function i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guided by the type of the argument (recall eva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989360" y="3429000"/>
            <a:ext cx="33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length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_ :: l =&gt; 1 + (length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37760" y="4572000"/>
            <a:ext cx="433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credibly useful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(fn x =&gt; x+1) [1,2,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; i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663560" y="2666880"/>
            <a:ext cx="340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fold f a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f (fold f a l)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89880" y="4876920"/>
            <a:ext cx="503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other incredibly usefu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does it do? what is its ty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to writ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2408040" y="3309840"/>
            <a:ext cx="54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isNumberValue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10080" y="27432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90920" y="5334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ueue.insert (y, Queue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 =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.insert (y, Q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6248160" y="289548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br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open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insert (y, 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6266160" y="2895480"/>
            <a:ext cx="282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laz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not encourag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6486480" y="2228760"/>
            <a:ext cx="24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y defau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l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f the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-- we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insert : ‘a * ‘a queue -&gt;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remove : ‘a queue -&gt; ‘a *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343400" y="25909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51800" y="1981080"/>
            <a:ext cx="315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we don’t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hi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2703600"/>
            <a:ext cx="38466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4764240" y="2170080"/>
            <a:ext cx="3846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271040" y="2590920"/>
            <a:ext cx="450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e Queue :&gt; QUE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 empty = (nil,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76520" y="5640480"/>
            <a:ext cx="49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333760" y="5181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89000" y="480060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 (functions from structures to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s (mutable data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 e; !e; e1 := e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loops, for lo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* comments (* can be *) nested *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unch of other stuff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749240" y="2514600"/>
            <a:ext cx="54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isNumberValue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6400" y="47242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1749240" y="2514600"/>
            <a:ext cx="54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isNumberValue 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9440" y="47242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zero is not 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1776600" y="2514600"/>
            <a:ext cx="372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isNumberValu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789560" y="251460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CS</cp:lastModifiedBy>
  <dcterms:modified xsi:type="dcterms:W3CDTF">2003-09-16T20:42:09Z</dcterms:modified>
  <cp:revision>25</cp:revision>
  <dc:subject/>
  <dc:title>Introduction to ML</dc:title>
</cp:coreProperties>
</file>