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A4DB-8819-4810-8161-F4B0F22E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C14A-5AA3-4AFB-AD57-86E562FE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F123-B7F7-49D3-9EEF-2B94C04A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60B3-0E43-4FE1-825C-0CA135001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65EC-0166-4B67-8DEC-544DBCB9D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92A8-4D14-4E3F-9FFA-A405681D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7268-7D1B-4F80-9838-EB63879B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7901-36A7-4D78-B352-FDB338D1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4E31-AB12-4705-A4D6-0953F964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9977-653C-4653-9F11-86220E3D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0DBF-0E6A-480F-9FD6-AC6A86DC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2D7A-3B7A-4E50-B6A4-5478A31F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05B4-0111-4811-B831-B58D8373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C05D-12DC-47FD-9DC0-F538A51C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032B-E6CB-4EB1-83B6-6FFFFCD9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8CEB-803F-4D94-9F73-7C1C53873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5BF5-B44A-406E-B105-E00D927E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2BDD-C1E7-4467-B281-A55F79E9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2243-F7C8-4A81-A1E2-A1DA0DD7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E882-B424-4695-8E27-E43AE8A3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0A15-6A23-43F5-B722-03D59793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A936-BFD6-41C0-845A-0369B9BA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88BF-57A4-42DD-B5C8-ACC06B04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240A-F9E0-4A99-A8B5-B6EA19A5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43C1-4E8E-4648-AC7E-9794CBD265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A1E9-2E84-4F2D-977C-039405D469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tim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s: integers, Booleans, tuples,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roduction to data typ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ime, we continue writing an evaluator for a simpl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ierce, Chapter 4 (in O’Ca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w how to u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e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1789560" y="2514600"/>
            <a:ext cx="494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Error of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debug s : unit = raise (Error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99640" y="4711680"/>
            <a:ext cx="440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debug "hello"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aught exception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ised at: ex.sml:15.28-15.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4200" y="4071960"/>
            <a:ext cx="286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ML interpre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1816200" y="2514600"/>
            <a:ext cx="4667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t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Zero =&gt; 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1861920" y="2514600"/>
            <a:ext cx="587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Zero =&gt; 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(Bool b,t2,t3) =&gt; (if b then t2 else t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(t1,t2,t3) =&gt; If (eval1 t1,t2,t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911240" y="1905120"/>
            <a:ext cx="3602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sValue 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val t’ = eval1 t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cessor t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715000" y="45720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71440" y="2895480"/>
            <a:ext cx="226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t expres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cla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1829520" y="1905120"/>
            <a:ext cx="3213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Predecessor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Zero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409720" y="38545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78360" y="3200400"/>
            <a:ext cx="198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sure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haus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856520" y="1905120"/>
            <a:ext cx="287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409720" y="38545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88800" y="320040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got a c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601920" y="4572000"/>
            <a:ext cx="7221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5.2-35.12 Warning: match nonexhaus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ool _ | Zero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Bool b,t2,t3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t1,t2,t3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cessor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56520" y="1905120"/>
            <a:ext cx="287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409720" y="38545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88800" y="320040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got a c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ulti-step evalu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1530720" y="2548080"/>
            <a:ext cx="4575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loop t = loop (eval1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message = “Done\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(loop t) hand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ule =&gt; print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Error s =&gt; print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343040" y="4419720"/>
            <a:ext cx="2895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31760" y="3048120"/>
            <a:ext cx="167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se ext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e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ne with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L is all about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many different ways to define function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almost always use “fun f x = ..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I am only going to use a function once and it is not recursive, I write a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nonymous fun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fn x =&gt; .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little language (LL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rithmetic expression e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oolean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f statement (if e1 then e2 else e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umber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uccessor of a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redecessor of a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est for zero (isZero 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1832400" y="2362320"/>
            <a:ext cx="3931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n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sValu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t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t =&gt; isNumberValue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428640" y="2209680"/>
            <a:ext cx="2438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97160" y="1905120"/>
            <a:ext cx="289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inds a variable 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o a value 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43434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419360" y="3548160"/>
            <a:ext cx="1447560" cy="26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72680" y="3048120"/>
            <a:ext cx="244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inds 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is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17400" y="4800600"/>
            <a:ext cx="28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o the anonym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unctio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600200" y="46483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6240" y="5105520"/>
            <a:ext cx="187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n 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onym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1362240" y="2819520"/>
            <a:ext cx="6503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ifun = int -&gt; 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ntCompose : ifun * ifun -&gt; ifun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add3 x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Compose ((fn x =&gt; x + 2), (fn y =&gt; y + 1))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81760" y="4952880"/>
            <a:ext cx="45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pair of anonymous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32280" y="2057400"/>
            <a:ext cx="50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type definition (very conven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419360" y="259092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572000" y="5486400"/>
            <a:ext cx="2209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16292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1362240" y="2819520"/>
            <a:ext cx="6503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ifun = int -&gt; 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ntCompose : ifun * ifun -&gt; ifu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(f,g)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x =&gt; f (g x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add3 x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Compose ((fn x =&gt; x + 2), (fn y =&gt; y + 1))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2895480" y="5181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10720" y="525780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sult is a 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4343040" y="41144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85920" y="4191120"/>
            <a:ext cx="43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rgument is pair of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2781000" y="3924360"/>
            <a:ext cx="152280" cy="2057400"/>
          </a:xfrm>
          <a:custGeom>
            <a:avLst/>
            <a:gdLst>
              <a:gd name="textAreaLeft" fmla="*/ 0 w 152280"/>
              <a:gd name="textAreaRight" fmla="*/ 5508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143000" y="43430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5560" y="4545000"/>
            <a:ext cx="106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at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m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gai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1270440" y="2730600"/>
            <a:ext cx="2820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f x = .....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writte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f = (fn x =&gt; ..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3962520" y="50292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38040" y="5562720"/>
            <a:ext cx="56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rovided the function is not recursiv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 does not appear in 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1196640" y="2959200"/>
            <a:ext cx="5987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f x =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always be writte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rec f = (fn x =&gt; ...f can be used here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8288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57040" y="5900760"/>
            <a:ext cx="69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keyword rec declares a recursive functio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et 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1433520" y="2514600"/>
            <a:ext cx="585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Zero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NumberValue (Successor t2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NumberValue (_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61840" y="396252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just an abbreviation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1720" y="4648320"/>
            <a:ext cx="355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et another way to create a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1433520" y="1905120"/>
            <a:ext cx="585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0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NumberValue (Successor t2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NumberValue (_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1600" y="3352680"/>
            <a:ext cx="8405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9.1-11.29 Error: parameter or result constraint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us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clause:      term -&gt; '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ious clauses:      int -&gt; '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decla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NumberValu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0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90560" y="518148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(fn x =&gt; x + 1) (fn x =&gt; x +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68880" y="594360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not (fn x =&gt; x &lt;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68880" y="525780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not (fn x =&gt; x &lt;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68880" y="594360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(fn x =&gt; x &lt; 17)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738120" y="57913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AD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866920" y="6095880"/>
            <a:ext cx="8384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51814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08320" y="6095880"/>
            <a:ext cx="55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ote:  type variables are written with 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933960" y="47242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64480" y="3308400"/>
            <a:ext cx="227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typ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nd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y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985680" y="2362320"/>
            <a:ext cx="381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type term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of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 of term * 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of te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Predecessor of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Zero of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39760" y="1981080"/>
            <a:ext cx="4251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type decla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you three th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a new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constructors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uilding object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w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patterns for decompo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9907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int -&gt; ‘b) -&gt; (‘c -&gt; int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495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as if it had the 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9907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(int * int) -&gt; ‘b) -&gt; (‘c -&gt; (int * int)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4495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as if it had the 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9907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unit -&gt; int) -&gt; (int -&gt; unit) -&gt; (int -&gt; 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4495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as if it had the 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2057040" y="51811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78000" y="5410080"/>
            <a:ext cx="595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ype of compose’s argument must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type of n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-&gt; bool == (‘a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743200" y="5181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41120" y="5410080"/>
            <a:ext cx="357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must be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must be bool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in this use of compo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14440" y="54100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ref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(‘c -&gt; bool) -&gt; (c’ -&gt; bo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6400440" y="1371240"/>
            <a:ext cx="304920" cy="3352680"/>
          </a:xfrm>
          <a:custGeom>
            <a:avLst/>
            <a:gdLst>
              <a:gd name="textAreaLeft" fmla="*/ 0 w 304920"/>
              <a:gd name="textAreaRight" fmla="*/ 110160 w 30492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562360" y="3276720"/>
            <a:ext cx="99036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 rot="16200000">
            <a:off x="5333760" y="2742120"/>
            <a:ext cx="304920" cy="3353040"/>
          </a:xfrm>
          <a:custGeom>
            <a:avLst/>
            <a:gdLst>
              <a:gd name="textAreaLeft" fmla="*/ 0 w 304920"/>
              <a:gd name="textAreaRight" fmla="*/ 110160 w 30492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618240" y="3462480"/>
            <a:ext cx="138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=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=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(‘c -&gt; bool) -&gt; (c’ -&gt; bo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compose not) not : bool -&gt; b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(‘c -&gt; bool) -&gt; (c’ -&gt; bo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compose not)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879480" y="2209680"/>
            <a:ext cx="680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Bool true, Zero, Successor (Successor Zer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s “if true then 0 else succ(succ 0)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2880" y="3728880"/>
            <a:ext cx="121608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33526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12720" y="376704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6440" y="4422600"/>
            <a:ext cx="190188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93920" y="404640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59040" y="518148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67080" y="4419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419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54080" y="5176800"/>
            <a:ext cx="121608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219320" y="4724280"/>
            <a:ext cx="174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6860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73920" y="518148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76280" y="53388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6480" y="495288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24520" y="4948200"/>
            <a:ext cx="121608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47242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38680" y="4952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12320" y="548640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80000" y="5481720"/>
            <a:ext cx="121608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75200" y="525780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94520" y="5486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95720" y="5334120"/>
            <a:ext cx="76680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581280" y="4800600"/>
            <a:ext cx="152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25840" y="572292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45280" y="5718240"/>
            <a:ext cx="76680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67480" y="571500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14800" y="2895480"/>
            <a:ext cx="1803240" cy="2819520"/>
          </a:xfrm>
          <a:custGeom>
            <a:avLst/>
            <a:gdLst/>
            <a:ahLst/>
            <a:rect l="l" t="t" r="r" b="b"/>
            <a:pathLst>
              <a:path w="1136" h="1776">
                <a:moveTo>
                  <a:pt x="0" y="1776"/>
                </a:moveTo>
                <a:cubicBezTo>
                  <a:pt x="396" y="1684"/>
                  <a:pt x="792" y="1592"/>
                  <a:pt x="960" y="1392"/>
                </a:cubicBezTo>
                <a:cubicBezTo>
                  <a:pt x="1128" y="1192"/>
                  <a:pt x="1136" y="808"/>
                  <a:pt x="1008" y="576"/>
                </a:cubicBezTo>
                <a:cubicBezTo>
                  <a:pt x="880" y="344"/>
                  <a:pt x="536" y="172"/>
                  <a:pt x="192" y="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743200" y="213372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25780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79240" y="3962520"/>
            <a:ext cx="150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ust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d -&gt; ‘d) -&gt; (‘c -&gt; ‘d) -&gt; (‘c -&gt; ‘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114800" y="2895480"/>
            <a:ext cx="1803240" cy="2819520"/>
          </a:xfrm>
          <a:custGeom>
            <a:avLst/>
            <a:gdLst/>
            <a:ahLst/>
            <a:rect l="l" t="t" r="r" b="b"/>
            <a:pathLst>
              <a:path w="1136" h="1776">
                <a:moveTo>
                  <a:pt x="0" y="1776"/>
                </a:moveTo>
                <a:cubicBezTo>
                  <a:pt x="396" y="1684"/>
                  <a:pt x="792" y="1592"/>
                  <a:pt x="960" y="1392"/>
                </a:cubicBezTo>
                <a:cubicBezTo>
                  <a:pt x="1128" y="1192"/>
                  <a:pt x="1136" y="808"/>
                  <a:pt x="1008" y="576"/>
                </a:cubicBezTo>
                <a:cubicBezTo>
                  <a:pt x="880" y="344"/>
                  <a:pt x="536" y="172"/>
                  <a:pt x="192" y="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43200" y="213372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14600" y="525780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79240" y="3962520"/>
            <a:ext cx="150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ust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d -&gt; ‘d) -&gt; (‘c -&gt; ‘d) -&gt; (‘c -&gt; ‘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5400000">
            <a:off x="2514240" y="4495680"/>
            <a:ext cx="152280" cy="3048120"/>
          </a:xfrm>
          <a:custGeom>
            <a:avLst/>
            <a:gdLst>
              <a:gd name="textAreaLeft" fmla="*/ 0 w 152280"/>
              <a:gd name="textAreaRight" fmla="*/ 55080 w 15228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24280" y="2133720"/>
            <a:ext cx="396252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67080" y="3200400"/>
            <a:ext cx="3556080" cy="3124080"/>
          </a:xfrm>
          <a:custGeom>
            <a:avLst/>
            <a:gdLst/>
            <a:ahLst/>
            <a:rect l="l" t="t" r="r" b="b"/>
            <a:pathLst>
              <a:path w="1808" h="1872">
                <a:moveTo>
                  <a:pt x="1344" y="0"/>
                </a:moveTo>
                <a:cubicBezTo>
                  <a:pt x="1576" y="372"/>
                  <a:pt x="1808" y="744"/>
                  <a:pt x="1584" y="1056"/>
                </a:cubicBezTo>
                <a:cubicBezTo>
                  <a:pt x="1360" y="1368"/>
                  <a:pt x="680" y="1620"/>
                  <a:pt x="0" y="1872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61080" y="609588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‘c -&gt; ‘d) -&gt; (‘c -&gt; ‘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l : ‘a li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: :   ‘a * ‘a list -&gt; ‘a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:: 4 :: 5 :: nil :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fn x =&gt; x) :: nil : (‘a -&gt; ‘a)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] : ‘a li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:: [4, 5] :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fn x =&gt; x] : (‘a -&gt; ‘a)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114440" y="3352320"/>
            <a:ext cx="1676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175800" y="391968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ifferent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writing “ni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ctions over lists are usually defined by case analysis (induction) over the structure of 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ahoma"/>
              </a:rPr>
              <a:t>Hint: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often, the structure of a function i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guided by the type of the argument (recall eval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1989360" y="3429000"/>
            <a:ext cx="331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length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_ :: l =&gt; 1 + (length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1711080" y="2438280"/>
            <a:ext cx="358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37760" y="4572000"/>
            <a:ext cx="433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credibly useful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map (fn x =&gt; x+1) [1,2,3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gt; val it = [2,3,4] ; int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1663560" y="2666880"/>
            <a:ext cx="340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fold f a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f (fold f a l) 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89880" y="4876920"/>
            <a:ext cx="503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other incredibly useful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does it do? what is its ty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to write m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L Modu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gn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ized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from structures to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 decla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2408040" y="3309840"/>
            <a:ext cx="54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2 =&gt; isNumberValue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27432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00240" y="224316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410080" y="2743200"/>
            <a:ext cx="10670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92480" y="228600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590920" y="53341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5080" y="5900760"/>
            <a:ext cx="49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pattern matches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empty = (nil, nil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 (x, q) = …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remove q = …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2 q x y =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Queue.insert (y, Queue.insert (q, x)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 =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2 q x y =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Q.insert (y, Q.insert (q, x)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6248160" y="2895480"/>
            <a:ext cx="19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ven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br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191120" y="3505320"/>
            <a:ext cx="167616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open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2 q x y =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insert (y, insert (q, x)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>
            <a:off x="6266160" y="2895480"/>
            <a:ext cx="282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laz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- not encourag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4191120" y="3505320"/>
            <a:ext cx="167616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nsert2 (q1,q2) x y : ‘a queue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x::y::q1,q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6486480" y="2228760"/>
            <a:ext cx="249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by defaul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all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of the stru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may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-- we know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ignature QUEUE =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ig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empty :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insert : ‘a * ‘a queue -&gt;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remove : ‘a queue -&gt; ‘a *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343400" y="25909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851800" y="1981080"/>
            <a:ext cx="315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- we don’t know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ation hi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2703600"/>
            <a:ext cx="3846600" cy="22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ture QUEUE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>
            <a:off x="4764240" y="2170080"/>
            <a:ext cx="3846240" cy="22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271040" y="2590920"/>
            <a:ext cx="450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cture Queue :&gt; QUEU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‘a queue = ‘a list * ‘a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 empty = (nil, 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76520" y="5640480"/>
            <a:ext cx="498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insert2 (q1,q2) x y : ‘a queu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x::y::q1,q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5333760" y="51814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489000" y="4800600"/>
            <a:ext cx="17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does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ype 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ture A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aque a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bstract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 :&gt; QUEUE =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a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pecial case of opaque a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fields but does not make types abstr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_E : QUEUE =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 Harper, chapters 18-22 for more on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th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ors (functions from structures to structur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ences (mutable data structur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 e; !e; e1 := e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le loops, for loo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r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* comments (* can be *) nested *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unch of other stuff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st Th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ing to program in SML can be tricky at fir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once you get used to it, you will never want to go back to imperative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ck out the reference materials listed on the course homep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ery subtl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749240" y="2514600"/>
            <a:ext cx="54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2 =&gt; isNumberValue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6400" y="4724280"/>
            <a:ext cx="756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above type checks.  But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test it refined the function always returns “tru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s gone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ery subtl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1749240" y="2514600"/>
            <a:ext cx="54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2 =&gt; isNumberValue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9440" y="4724280"/>
            <a:ext cx="81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above type checks.  But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test it refined the function always returns “tru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s gone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zero is not capit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ML treats it like a variable pattern (matches anyth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1776600" y="2514600"/>
            <a:ext cx="372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t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t =&gt; isNumberValue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789560" y="2514600"/>
            <a:ext cx="494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Error of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debug s : unit = raise (Error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8:39:45Z</dcterms:created>
  <dc:creator>Student Computing Services</dc:creator>
  <dc:description/>
  <dc:language>en-US</dc:language>
  <cp:lastModifiedBy>CS</cp:lastModifiedBy>
  <dcterms:modified xsi:type="dcterms:W3CDTF">2003-09-16T20:42:09Z</dcterms:modified>
  <cp:revision>25</cp:revision>
  <dc:subject/>
  <dc:title>Introduction to ML</dc:title>
</cp:coreProperties>
</file>