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9E1-64ED-4D92-9308-38607A4E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0FC-E50D-4BC0-B89B-FCF20762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4D6-749B-4FA7-B192-DE56456C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F2E-4AC6-4437-BFE4-273BBFB3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26CD-3C5A-4004-A4AF-21C91A3E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C0F-348E-4994-96A4-C3A79F51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1E1-5707-4A67-A1B0-17CA3C17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21D7-9021-4C6B-A99B-6D1D1A9B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742A-C2DB-4E47-BA61-0F35448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2B96-EB5C-4B28-8406-316A199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6B4-BCFA-4D8E-A8F8-30161DA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E08-1788-455B-B6DD-DA06F23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988-E8C9-4A00-80C7-93801F6F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FB8A-D7AE-4990-8BB0-CDAC14C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89FF-37DE-4281-8D7A-904542B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2B1-219C-4B61-A944-F6702F21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ACC-32E4-4981-8293-1FBB9ABF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B91-255B-468B-8BD6-A30F39F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7C0-980F-4C4A-98F7-EB57963D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F84-1EEB-42B8-9155-0DB589F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77F-89F8-4E89-B4F6-34BD5B7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87B-8253-425F-95CC-B0F42B1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BCB-8388-4CFA-B5A7-39890FD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73E-3E19-475E-B814-C6F9166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60FC-110B-4BE1-808F-42383FB5B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899-E000-4B03-B5F6-09E8F287F1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67616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640" y="205740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26708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4480" y="2286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2880" y="41860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42242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6440" y="48798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93920" y="45036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9040" y="56386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4080" y="56340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19320" y="51814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68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73920" y="5638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6280" y="57960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6480" y="54100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4520" y="54054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51814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12320" y="59436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0000" y="59389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0" y="5715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94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5720" y="57913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81280" y="52578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5840" y="6180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5280" y="61754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1722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54640" y="2514600"/>
            <a:ext cx="523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6520" y="4876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666080" y="22860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88584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02320" y="4038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62160" y="274320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73920" y="25146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911240" y="1905120"/>
            <a:ext cx="360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834200" y="2362320"/>
            <a:ext cx="36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73760" y="3048120"/>
            <a:ext cx="25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Number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68880" y="53341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8880" y="60199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38120" y="5867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66920" y="617220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968480" y="3429000"/>
            <a:ext cx="334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196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1T15:54:29Z</dcterms:modified>
  <cp:revision>19</cp:revision>
  <dc:subject/>
  <dc:title>Introduction to ML</dc:title>
</cp:coreProperties>
</file>