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B04-1CCE-4374-BFA8-4AC8C3B7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34E-4513-405F-B1E8-954A36A2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FBE-7981-4DF0-A2D0-826C0D3F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F63-31F9-4793-89CB-1463BEB7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D8BF-5B4D-40D4-9356-595553B3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30EB-BC62-4F16-AB34-9D9A7246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1AD8-2CDB-4543-8740-9BCFBA77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4399-FC31-4A66-9646-051CA71E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67B9-7BCC-416A-A3C9-EA8657F4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676C-4A20-4227-9B15-ACB2504D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AEFB-0C57-45FA-9A66-56E1D4E4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5C2-7DBE-4E27-B833-3473B967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AD59-838C-4D83-A4B4-C81C504D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D018-63C8-4395-B260-F1C1DF64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48F1-C228-47ED-9F7E-82ABF518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449F-116F-4D2F-B2AD-300A23F6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E469-A783-4A6A-A9CC-E9BBCF7B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BBB6-5653-4678-AEF8-86E28FC4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A70-B1BD-4620-AB57-7D0366A5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B6C-1C1F-4C84-A143-A13C5974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67A-B26C-4EA4-BC85-1AE82483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A24-72D7-422B-95AE-E3DF7D44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356-0725-456E-A882-0B37E6EF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8DA-F98D-47A4-AB32-99CD3901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459D-44E2-463A-B6DB-05D864705F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BE86-FF09-4114-A7E6-18AE2EAB24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Robert Harper’s notes on “an introduction to 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676160" y="1904400"/>
            <a:ext cx="647640" cy="2705040"/>
          </a:xfrm>
          <a:custGeom>
            <a:avLst/>
            <a:gdLst>
              <a:gd name="textAreaLeft" fmla="*/ 0 w 647640"/>
              <a:gd name="textAreaRight" fmla="*/ 234000 w 647640"/>
              <a:gd name="textAreaTop" fmla="*/ 70200 h 2705040"/>
              <a:gd name="textAreaBottom" fmla="*/ 2634840 h 270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0"/>
                </a:lnTo>
                <a:cubicBezTo>
                  <a:pt x="10800" y="9570"/>
                  <a:pt x="16200" y="10470"/>
                  <a:pt x="21600" y="10470"/>
                </a:cubicBezTo>
                <a:cubicBezTo>
                  <a:pt x="16200" y="10470"/>
                  <a:pt x="10800" y="11370"/>
                  <a:pt x="10800" y="1227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640" y="2057400"/>
            <a:ext cx="15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 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4267080" y="1904400"/>
            <a:ext cx="647640" cy="2705040"/>
          </a:xfrm>
          <a:custGeom>
            <a:avLst/>
            <a:gdLst>
              <a:gd name="textAreaLeft" fmla="*/ 0 w 647640"/>
              <a:gd name="textAreaRight" fmla="*/ 234000 w 647640"/>
              <a:gd name="textAreaTop" fmla="*/ 70200 h 2705040"/>
              <a:gd name="textAreaBottom" fmla="*/ 2634840 h 270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0"/>
                </a:lnTo>
                <a:cubicBezTo>
                  <a:pt x="10800" y="9570"/>
                  <a:pt x="16200" y="10470"/>
                  <a:pt x="21600" y="10470"/>
                </a:cubicBezTo>
                <a:cubicBezTo>
                  <a:pt x="16200" y="10470"/>
                  <a:pt x="10800" y="11370"/>
                  <a:pt x="10800" y="1227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4480" y="22860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umber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uccessor of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edecessor of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985680" y="2362320"/>
            <a:ext cx="38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of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Predecessor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9080" y="2381400"/>
            <a:ext cx="280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apit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65480" y="5748480"/>
            <a:ext cx="37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879480" y="2209680"/>
            <a:ext cx="68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Zero, Successor (Successor Zer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“if true then 0 else succ(succ 0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2880" y="418608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38098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12720" y="42242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6440" y="4879800"/>
            <a:ext cx="19018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93920" y="450360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59040" y="56386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670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54080" y="563400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219320" y="5181480"/>
            <a:ext cx="174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68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73920" y="5638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76280" y="57960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6480" y="54100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4520" y="540540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51814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12320" y="59436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80000" y="593892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75200" y="57150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945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5720" y="5791320"/>
            <a:ext cx="76680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581280" y="52578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25840" y="61801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45280" y="6175440"/>
            <a:ext cx="76680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1722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s are pervasiv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-class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able, arguments, results, nes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477160" y="330984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410080" y="27432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590920" y="5334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477160" y="330984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410080" y="27432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590920" y="5334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754640" y="2514600"/>
            <a:ext cx="523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86520" y="4876920"/>
            <a:ext cx="48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Number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53280" y="57913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666080" y="228600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3885840" y="39625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02320" y="40384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62160" y="274320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73920" y="25146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818360" y="251460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1818360" y="251460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zero is not 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776600" y="2514600"/>
            <a:ext cx="372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isNumberValu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as we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816200" y="2514600"/>
            <a:ext cx="466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861920" y="2514600"/>
            <a:ext cx="587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Bool b,t2,t3) =&gt; (if b then t2 else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If (eval1 t1,t2,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911240" y="1905120"/>
            <a:ext cx="360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sValue 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val t’ = eval1 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1829520" y="1905120"/>
            <a:ext cx="321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Prede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1856520" y="1905120"/>
            <a:ext cx="28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601920" y="4572000"/>
            <a:ext cx="72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b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6520" y="1905120"/>
            <a:ext cx="28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-step 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1530720" y="2548080"/>
            <a:ext cx="4575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loop t = loop (eval1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message = “Done\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(loop t) han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ule =&gt; print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Error s =&gt; print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343040" y="4419720"/>
            <a:ext cx="2895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31760" y="30481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se ext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834200" y="2362320"/>
            <a:ext cx="363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Number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73760" y="3048120"/>
            <a:ext cx="257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Number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1740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433520" y="2514600"/>
            <a:ext cx="585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Zero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Successor t2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_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1720" y="4648320"/>
            <a:ext cx="355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433520" y="1905120"/>
            <a:ext cx="585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Successor t2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_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Number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68880" y="533412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68880" y="601992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38120" y="58672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866920" y="617220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: ‘a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 :   ‘a * ‘a list -&gt; ‘a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5 :: nil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x) :: nil : (‘a -&gt; ‘a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case analysis (induction) over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1968480" y="3429000"/>
            <a:ext cx="334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37760" y="4572000"/>
            <a:ext cx="433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credibly useful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(fn x =&gt; x+1)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;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1663560" y="2666880"/>
            <a:ext cx="340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fold f a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f (fold f a l)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1960" y="4876920"/>
            <a:ext cx="503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other incredibly usefu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to writ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pen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insert (y, 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6266160" y="2895480"/>
            <a:ext cx="282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la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not encourag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 clash in : 3 +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ing for a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have found a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 clash in : 3 +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ing for a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have found a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 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3-09-11T15:54:29Z</dcterms:modified>
  <cp:revision>19</cp:revision>
  <dc:subject/>
  <dc:title>Introduction to ML</dc:title>
</cp:coreProperties>
</file>