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2ABE-AAB1-487C-8D1A-DF918C0E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AD1-47E6-4746-8E07-CF67F5F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581-DD3F-48AB-A144-B9210F41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BDC-4ADF-40A5-BD1A-95556907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1DF8-B5A3-4CA1-8344-F5967175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DBF6-F020-48C2-BFC3-6D2D9DCE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5046-42D4-41B4-8B69-C4C69826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7A10-3AB4-4DBB-B754-03C26C01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A922-336C-45DF-9BC6-CA57CC6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08A7-002E-431C-9015-4F2AC85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815F-2BFA-47AA-92C4-FCA376F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7B1-39D5-480E-B722-1FE3358E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2C62-E9B8-41D1-99FA-F7B6998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F3FF-08A9-4214-ACF9-F5AE1A46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9A0F-0E1D-4933-A1BD-EBF6C007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F5EA-51DF-418C-B22A-E7400A89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ED3E-A180-4A98-9457-7441D905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5ED-30C8-4952-A329-8E246A3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05A-0FE1-40F1-9A47-EE1CAEAA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5F6-8BC0-4E14-91E0-CD77DD0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0F7-D8FB-44E5-A8F9-4E5C9DE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61A-3A58-4907-A779-25808422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E37-E380-40A7-B66C-A7C0901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18F-08AB-4433-9F5C-8EC03081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209-868C-4F5F-98D5-E1215F6327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0936-7868-4575-97C9-378672EAA4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ill be responsible for learning ML on your ow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I will cover some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Robert Harper’s notes on “an introduction to 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course webpage for pointers and info about how to get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teg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(if not true then 5 else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0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 division between expres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and stat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“Dave” ^ “ “ ^ “Walker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“Dave Walker” : st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print “foo\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.1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3.14 : r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90760" y="28951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SML/N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ve mode is a good way to start learning and to debug programs, bu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in a series of declarations into a “.sml”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se “foo.sm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opening foo.sml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321160" y="5121360"/>
            <a:ext cx="28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st of 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i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971800" y="5562720"/>
            <a:ext cx="2362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rger Pro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L has its own built in interactive “mak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utomatically does the dependency analysis for yo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razy makefile syntax to lea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difficult to interact with other languages o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ation Manag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133720"/>
            <a:ext cx="15238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24382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4382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24382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3352680"/>
            <a:ext cx="792504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% 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S.FileSys.chDir “~/courses/510/a2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M.make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looks for “sources.cm”, analyzes depend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compiling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compiles files i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[wrote…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aves binaries in ./C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CM.make’ “myproj/”(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specif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s.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9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209680"/>
            <a:ext cx="1371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.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.s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04776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2767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42840" y="5791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197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nex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L has a rich set of structured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s: (17, true, “stuff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rds: {name = “Dave”, ssn = 332177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 3::4::5::nil or [3,4]@[5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than list all the details, we will write a couple of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ers are usually implemented as a series of transform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nterpre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1292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12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948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80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0908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559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9420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34400" y="37339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x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3880" y="3886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47360" y="5334120"/>
            <a:ext cx="134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2400" y="4572000"/>
            <a:ext cx="11430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48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6080" y="388620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7960" y="5334120"/>
            <a:ext cx="16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676160" y="1904400"/>
            <a:ext cx="647640" cy="2705040"/>
          </a:xfrm>
          <a:custGeom>
            <a:avLst/>
            <a:gdLst>
              <a:gd name="textAreaLeft" fmla="*/ 0 w 647640"/>
              <a:gd name="textAreaRight" fmla="*/ 234000 w 647640"/>
              <a:gd name="textAreaTop" fmla="*/ 70200 h 2705040"/>
              <a:gd name="textAreaBottom" fmla="*/ 2634840 h 27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16200" y="10470"/>
                  <a:pt x="21600" y="10470"/>
                </a:cubicBezTo>
                <a:cubicBezTo>
                  <a:pt x="162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640" y="205740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 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267080" y="1904400"/>
            <a:ext cx="647640" cy="2705040"/>
          </a:xfrm>
          <a:custGeom>
            <a:avLst/>
            <a:gdLst>
              <a:gd name="textAreaLeft" fmla="*/ 0 w 647640"/>
              <a:gd name="textAreaRight" fmla="*/ 234000 w 647640"/>
              <a:gd name="textAreaTop" fmla="*/ 70200 h 2705040"/>
              <a:gd name="textAreaBottom" fmla="*/ 2634840 h 270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70"/>
                </a:lnTo>
                <a:cubicBezTo>
                  <a:pt x="10800" y="9570"/>
                  <a:pt x="16200" y="10470"/>
                  <a:pt x="21600" y="10470"/>
                </a:cubicBezTo>
                <a:cubicBezTo>
                  <a:pt x="16200" y="10470"/>
                  <a:pt x="10800" y="11370"/>
                  <a:pt x="10800" y="1227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4480" y="2286000"/>
            <a:ext cx="6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little language (LL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985680" y="2362320"/>
            <a:ext cx="381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type term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of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 of term * term *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of te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of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49080" y="2381400"/>
            <a:ext cx="280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capitaliz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constru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ake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gument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191120" y="36576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5480" y="5748480"/>
            <a:ext cx="37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 t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eg: string *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990720" y="51055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0360" y="5824440"/>
            <a:ext cx="33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L abstract syntax in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879480" y="220968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true, Zero, Successor (Successor Zero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s “if true then 0 else succ(succ 0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2880" y="418608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8098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12720" y="42242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6440" y="4879800"/>
            <a:ext cx="19018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93920" y="450360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9040" y="56386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67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4080" y="56340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219320" y="5181480"/>
            <a:ext cx="174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68600" y="5638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73920" y="56386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76280" y="57960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6480" y="54100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4520" y="540540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19720" y="51814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12320" y="59436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80000" y="5938920"/>
            <a:ext cx="121608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75200" y="57150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9452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5720" y="579132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581280" y="52578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25840" y="6180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45280" y="6175440"/>
            <a:ext cx="766800" cy="53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1722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are pervasi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rst-class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able, arguments, results, nes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rongly-typ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xpression has a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errors cannot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c types provide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lexible Modu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er-order modules (functo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ction decla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477160" y="330984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477160" y="330984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27432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0240" y="224316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410080" y="27432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92480" y="228600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para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590920" y="5334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5080" y="590076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pattern matches an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type of the parameter t? Of the fun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754640" y="2514600"/>
            <a:ext cx="523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t:term) : bo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6520" y="4876920"/>
            <a:ext cx="48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NumberValue 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3280" y="57913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does type inference =&gt; you need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e functions yourself (but it can be help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666080" y="22860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160" y="4800600"/>
            <a:ext cx="839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3885840" y="39625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02320" y="40384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62160" y="274320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73920" y="25146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80160" y="21337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ly, ML will give you several errors in a r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2.3-25.15 Error: types of rul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ier rule(s): term -&gt;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ule: term -&gt;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818360" y="25146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6400" y="4724280"/>
            <a:ext cx="756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very subtl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1818360" y="2514600"/>
            <a:ext cx="34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9440" y="4724280"/>
            <a:ext cx="81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above type checks.  But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test it refined the function always returns “tru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s gone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zero is not capit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-- ML treats it like a variable pattern (matches anyth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776600" y="251460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t =&gt; isNumberValue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789560" y="251460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ce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789560" y="2514600"/>
            <a:ext cx="494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Error of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debug s : unit = raise (Error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99640" y="4711680"/>
            <a:ext cx="44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debug "hello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aught exceptio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d at: ex.sml:15.28-15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4200" y="4071960"/>
            <a:ext cx="286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ML interpr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 to 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teractiv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 in expres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e and print type and resu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 as we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High-level programming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ttern match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table data discourag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816200" y="2514600"/>
            <a:ext cx="466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Value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1861920" y="2514600"/>
            <a:ext cx="587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Bool b,t2,t3) =&gt; (if b then t2 else 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f(t1,t2,t3) =&gt; If (eval1 t1,t2,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911240" y="1905120"/>
            <a:ext cx="360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ion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l _ | Zero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sValue 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ise No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val t’ = eval1 t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829520" y="1905120"/>
            <a:ext cx="3213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Prede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Zero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78360" y="3200400"/>
            <a:ext cx="198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sure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ishing the Evalu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601920" y="4572000"/>
            <a:ext cx="722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25.2-35.12 Warning: match nonexhaus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ool _ | Zero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Bool b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(t1,t2,t3)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56520" y="1905120"/>
            <a:ext cx="28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 =&gt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409720" y="3854520"/>
            <a:ext cx="1219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88800" y="320040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got a c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lti-step evalu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530720" y="2548080"/>
            <a:ext cx="457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1 t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eval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loop t = loop (eval1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message = “Done\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(loop t) hand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ule =&gt; print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Error s =&gt; print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343040" y="4419720"/>
            <a:ext cx="2895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31760" y="3048120"/>
            <a:ext cx="1678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se ex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is all about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many different ways to define func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lmost always use “fun f x = ..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I am only going to use a function once and it is not recursive, I write a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onymous fun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.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834200" y="2362320"/>
            <a:ext cx="363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sNumberVal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t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fal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28640" y="2209680"/>
            <a:ext cx="2438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97160" y="1905120"/>
            <a:ext cx="289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 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a value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43434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19360" y="3548160"/>
            <a:ext cx="144756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73760" y="3048120"/>
            <a:ext cx="257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ds 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isNumber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17400" y="48006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o the anonym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60020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6240" y="5105520"/>
            <a:ext cx="18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n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81760" y="49528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pair of anonymous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32280" y="205740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type definition (very conven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419360" y="25909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4572000" y="548640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nymous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1362240" y="2819520"/>
            <a:ext cx="650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ifun = int -&gt; 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intCompose : ifun * ifun -&gt; ifu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(f,g)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x =&gt; f (g 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add3 x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Compose ((fn x =&gt; x + 2), (fn y =&gt; y + 1))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89548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10720" y="525780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sult is a fun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4343040" y="41144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85920" y="4191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rgument is pair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781000" y="3924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143000" y="43430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5560" y="4545000"/>
            <a:ext cx="10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m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gai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270440" y="2730600"/>
            <a:ext cx="2820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.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f = (fn x =&gt; ..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962520" y="5029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8040" y="5562720"/>
            <a:ext cx="56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d the function is not recursiv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 does not appear in 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196640" y="2959200"/>
            <a:ext cx="5987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f x =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always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rec f = (fn x =&gt; ...f can be used here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8288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57040" y="5900760"/>
            <a:ext cx="69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eyword rec declares a recursive func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write a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433520" y="251460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Zero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61840" y="39625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just an abbreviation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1720" y="4648320"/>
            <a:ext cx="355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t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et another way to create 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err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433520" y="190512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sNumberValue 0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Successor t2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isNumberValue (_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1600" y="3352680"/>
            <a:ext cx="8405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.sml:9.1-11.29 Error: parameter or result constraint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uses don't agree [literal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lause:      term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clauses:      int -&gt; '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cla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umberVal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n 0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uccessor t2 =&gt;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_ =&gt;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90560" y="518148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+ 1) (fn x =&gt; x +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68880" y="594360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68880" y="533412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not (fn x =&gt; x &lt;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68880" y="6019920"/>
            <a:ext cx="41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 (fn x =&gt; x &lt; 17)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38120" y="58672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A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66920" y="617220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like compose work on objects of many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>
            <a:off x="2257920" y="3276720"/>
            <a:ext cx="249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 compo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f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g 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n x =&gt; f (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0720" y="518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e: (‘a -&gt; ‘b) -&gt; (‘c -&gt; ‘a) -&gt; (‘c -&gt; ‘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8320" y="609588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e:  type variables are written with 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: (‘c -&gt; bool) -&gt; (c’ -&gt; b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not not : bool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a -&gt; ‘b) -&gt; (‘c -&gt; ‘a) -&gt; (‘c -&gt; ‘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2895480"/>
            <a:ext cx="1803240" cy="2819520"/>
          </a:xfrm>
          <a:custGeom>
            <a:avLst/>
            <a:gdLst/>
            <a:ahLst/>
            <a:rect l="l" t="t" r="r" b="b"/>
            <a:pathLst>
              <a:path w="1136" h="1776">
                <a:moveTo>
                  <a:pt x="0" y="1776"/>
                </a:moveTo>
                <a:cubicBezTo>
                  <a:pt x="396" y="1684"/>
                  <a:pt x="792" y="1592"/>
                  <a:pt x="960" y="1392"/>
                </a:cubicBezTo>
                <a:cubicBezTo>
                  <a:pt x="1128" y="1192"/>
                  <a:pt x="1136" y="808"/>
                  <a:pt x="1008" y="576"/>
                </a:cubicBezTo>
                <a:cubicBezTo>
                  <a:pt x="880" y="344"/>
                  <a:pt x="536" y="172"/>
                  <a:pt x="192" y="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43200" y="213372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5257800"/>
            <a:ext cx="16002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79240" y="3962520"/>
            <a:ext cx="150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 =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ametric Polymorphi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(fn x =&gt; x) :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990720" y="2286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se : (‘d -&gt; ‘d) -&gt; (‘c -&gt; ‘d) -&gt; (‘c -&gt; ‘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3048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: bool -&gt; 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3390480" y="453384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60920" y="548640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-&gt; ‘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2514240" y="4495680"/>
            <a:ext cx="152280" cy="3048120"/>
          </a:xfrm>
          <a:custGeom>
            <a:avLst/>
            <a:gdLst>
              <a:gd name="textAreaLeft" fmla="*/ 0 w 152280"/>
              <a:gd name="textAreaRight" fmla="*/ 5508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4280" y="2133720"/>
            <a:ext cx="396252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3200400"/>
            <a:ext cx="3556080" cy="3124080"/>
          </a:xfrm>
          <a:custGeom>
            <a:avLst/>
            <a:gdLst/>
            <a:ahLst/>
            <a:rect l="l" t="t" r="r" b="b"/>
            <a:pathLst>
              <a:path w="1808" h="1872">
                <a:moveTo>
                  <a:pt x="1344" y="0"/>
                </a:moveTo>
                <a:cubicBezTo>
                  <a:pt x="1576" y="372"/>
                  <a:pt x="1808" y="744"/>
                  <a:pt x="1584" y="1056"/>
                </a:cubicBezTo>
                <a:cubicBezTo>
                  <a:pt x="1360" y="1368"/>
                  <a:pt x="680" y="1620"/>
                  <a:pt x="0" y="1872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61080" y="60958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(‘c -&gt; ‘d) -&gt; (‘c -&gt; ‘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l : ‘a li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: :   ‘a * ‘a list -&gt; ‘a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:: 4 :: 5 :: nil : int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fn x =&gt; x) :: nil : (‘a -&gt; ‘a) l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ctions over lists are usually defined by case analysis (induction) over the structure of 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ahoma"/>
              </a:rPr>
              <a:t>Hint: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often, the structure of a function i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guided by the type of the argument (recall eva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968480" y="3429000"/>
            <a:ext cx="334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length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1 + (length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1711080" y="2438280"/>
            <a:ext cx="358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map f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(f x) :: (map f 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37760" y="4572000"/>
            <a:ext cx="433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credibly useful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map (fn x =&gt; x+1) [1,2,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val it = [2,3,4] ; i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st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663560" y="2666880"/>
            <a:ext cx="340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fold f a l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se l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il =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 x :: l =&gt; f (fold f a l) 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1960" y="4876920"/>
            <a:ext cx="503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other incredibly usefu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oes it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to writ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L Mod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ized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s from structures to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= (nil, nil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 (x, q)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remove q = 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ueue.insert (y, Queue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 =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Q.insert (y, Q.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248160" y="289548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ven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br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pen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un insert2 q x y =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nsert (y, insert (q, x)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6266160" y="2895480"/>
            <a:ext cx="282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laz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not encourag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91120" y="3505320"/>
            <a:ext cx="1676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6486480" y="2228760"/>
            <a:ext cx="249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y defau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all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of the stru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-- we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xception Emp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empty :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insert : ‘a * ‘a queue -&gt;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val remove : ‘a queue -&gt; ‘a * ‘a queu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343400" y="25909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51800" y="1981080"/>
            <a:ext cx="315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- we don’t know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hi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2703600"/>
            <a:ext cx="3846600" cy="22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 QUEUE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‘a que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4764240" y="2170080"/>
            <a:ext cx="3846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271040" y="2590920"/>
            <a:ext cx="450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 Queue :&gt; QUEU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‘a queue = ‘a list * ‘a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 empty = (nil, n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6520" y="564048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 insert2 (q1,q2) x y : ‘a queu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x::y::q1,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333760" y="51814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89000" y="4800600"/>
            <a:ext cx="170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does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typ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ture Ascri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aque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bstract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 :&gt;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a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al case of opaque a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fields but does not make types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Queue_E : QUEUE =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 Harper, chapters 18-22 for more on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ors (functions from structures to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(mutable data structu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 e; !e; e1 := e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loops, for loo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* comments (* can be *) nested *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unch of other stuff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st Th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rning to program in SML can be tricky at fir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t once you get used to it, you will never want to go back to imperative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out the reference materials listed on the course home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– Eval – Print –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+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5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+ 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12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it – 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9 : 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4 +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 clash in : 3 +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ing for a : 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found a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3 div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ure : Di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- run-time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49568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() : un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like “void” in C (sort o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=&gt; the uninteresting value/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tru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if it then 3+2 else 7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else” clause is always necess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7 : 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false andalso loop_Forev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false : bo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lso, or else short-circuit 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4533840"/>
            <a:ext cx="1003320" cy="266760"/>
          </a:xfrm>
          <a:custGeom>
            <a:avLst/>
            <a:gdLst/>
            <a:ahLst/>
            <a:rect l="l" t="t" r="r" b="b"/>
            <a:pathLst>
              <a:path w="632" h="168">
                <a:moveTo>
                  <a:pt x="0" y="24"/>
                </a:moveTo>
                <a:cubicBezTo>
                  <a:pt x="212" y="12"/>
                  <a:pt x="424" y="0"/>
                  <a:pt x="528" y="24"/>
                </a:cubicBezTo>
                <a:cubicBezTo>
                  <a:pt x="632" y="48"/>
                  <a:pt x="628" y="108"/>
                  <a:pt x="624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572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5867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8:39:45Z</dcterms:created>
  <dc:creator>Student Computing Services</dc:creator>
  <dc:description/>
  <dc:language>en-US</dc:language>
  <cp:lastModifiedBy>CS</cp:lastModifiedBy>
  <dcterms:modified xsi:type="dcterms:W3CDTF">2003-09-11T15:54:29Z</dcterms:modified>
  <cp:revision>19</cp:revision>
  <dc:subject/>
  <dc:title>Introduction to ML</dc:title>
</cp:coreProperties>
</file>