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196-8991-41EF-8833-29BB662B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79B-E55B-414A-BCF4-97F3C2BD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9B0-377B-4904-B453-E1E1B147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ED8-AE47-475C-AF0B-89295417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169-7092-4487-9314-680643E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79A-4ECE-43EA-AC7F-BE5BE08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007-7A1C-4074-B12C-7D4090C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B6E-A160-4EF6-90FA-5C150A5A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AE6-5996-4DC9-AD12-E45FCB52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28D-E53A-4727-BFFD-E4A5FFDA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250-0AC4-46BC-9458-876705A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62D-6A6F-4929-8B8B-756F8BB3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6D62-834C-4DC6-8E2C-9DA5D8BCD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inition, every derivable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consequence of some rul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se premises are deri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is, the rules are a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haus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scription of the derivabl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like an ML datatype definition is an exhaustive description of all the objects in the type being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how tha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 derivable judgment has a property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enough to show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ru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J1, ..., Jn have the property P, then J has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principal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ule in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43560" y="335268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768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Natural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rules for n 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prove that the property P holds of every n such that n nat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 that P holds of z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P holds of n, show that P holds of succ(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ordinary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hematical induc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Binary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ly, we can prove that every binary tree t has a property P by showing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has property 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1 has property P and t2 has property P, then node(t1, t2) has property 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ight be call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ee in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the following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ode(t1, t2)) = 1 +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lai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for every binary tree t there exists a unique integer 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is, the above equations defin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ill prove the claim by rule in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n = 0 is determined by the first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mpty)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unique? 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51400" y="33526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45000" y="3387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 is derivable by the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we may assume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1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1) = n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s a unique n2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2) = n2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, there exists a unique n, nam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+max(n1, n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60676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65640" y="3022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The Height of a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wfully pedantic, but it is useful to see the details at leas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obvio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 tree has a well-defined he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induction justified the existence of th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“obvious” from the equations that there i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most on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g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) = n.  The proof shows that there exist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east 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 in P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, we will be looking at inductive definitions that determ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emantics (ty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emantics (eval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perties of programs and programming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irst up:  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uctive defin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ay a central role in the study of programming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specify the following aspects of a langu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syntax (via CF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syntax (via CFGs/ML data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semantics (via typing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emantics (via evaluation r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crete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harac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’ ‘3’ ‘+’ ‘2’ ‘)’ ‘*’ ‘7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stract syntax of a program is 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ing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omputationally rele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rtion of the pro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100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9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888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1352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828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625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4100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58672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rete syntax of a program contains many elements necessary for par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miters for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precedence of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stract syntax of a program is much simpler; it does not contain thes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ce is given directly by the tre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tract vs Concrete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lass, we work with abstract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ant to define what programs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work with th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vertheless, we need a notation for writing down abstract syntax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write (3 + 2) * 7, you should visualize the tr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872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728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6600" y="632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08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55640" y="5715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80952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5638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2372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60958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ly, 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c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decessor of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for zero (isZero 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f statement (if e1 then e2 else e3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31240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31399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5211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4320" y="4800600"/>
            <a:ext cx="33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exp      t2 exp      t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1 then t2 else t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form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0384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68640" y="40543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68640" y="44355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3320" y="3978360"/>
            <a:ext cx="35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exp      e2 exp      e3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4355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288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0504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37960" y="527364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401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94280" y="527364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exp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797520" y="5699160"/>
            <a:ext cx="14446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rithmetic expression 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olean, an if statement, a zero, a successor, a predecessor or a 0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7040" y="527364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654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every bit of syntax by inductive definitions can be lengthy and te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actic definitions are an especially simple form of inductive defini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in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pred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very convenient abbreviation: BN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thmetic Expressions, in BN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true | false 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837720" y="2590560"/>
            <a:ext cx="228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3040" y="4156200"/>
            <a:ext cx="295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 new le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reek symbol/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present any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et of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4572000" y="32004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93880" y="4156200"/>
            <a:ext cx="231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inductive ru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019560" y="3047760"/>
            <a:ext cx="1447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223040" y="4232160"/>
            <a:ext cx="138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er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y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120" y="468936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wo inductively defined judg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99680" y="5222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b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71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e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05280" y="5486400"/>
            <a:ext cx="14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bool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07440" y="592776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960" y="5638680"/>
            <a:ext cx="68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rule is an inclusion of booleans in expre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a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::= true |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::=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if e then e el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0 | succ e | pred e | iszer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640" y="4984920"/>
            <a:ext cx="766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a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stand for classes of objects, programs, and other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not be confused with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gra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Pierce’s 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2 (skim definitions; understand 2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use sets, relations, functions,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should know basics such as mathematical induction, reflexivity, transitivity, symmetry, total and partial orders, domains and ranges of func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Functions defined over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600" y="1828800"/>
            <a:ext cx="89773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true) = {true}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false) = {fals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0) = 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(succ e) = constants(pred e) = constants(iszero e) = constant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 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s 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200" y="4191120"/>
            <a:ext cx="68086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true) = 1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false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0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succ e) = size(pred e) = size(iszero e) = size e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(if e1 then e2 else e3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=1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ize ei) 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ule induction on the rules for “e ex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ly calle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duction on the structure of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m of “structural indu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P is a predicate o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ind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xpression e, we assume P(e’) holds for each subexpression e’ of e and go on to prove 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we know P(e) for all expression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’ll use this idea every single week in the rest of the cou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to 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distinct constants in any expression e is no greater than the size of 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≤ siz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induction on the structure of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succ e’, pred e’, iszero e’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552720" y="3962520"/>
            <a:ext cx="114300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47200" y="3124080"/>
            <a:ext cx="109656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49528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040" y="4952880"/>
            <a:ext cx="122472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0, true, fals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constants e | = |{e}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                  (simple calcu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size 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(by def of 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086600" y="5714640"/>
            <a:ext cx="38088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2080" y="6086520"/>
            <a:ext cx="16423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86000" y="5714640"/>
            <a:ext cx="3808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5520" y="6086520"/>
            <a:ext cx="15217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43400" y="2590920"/>
            <a:ext cx="220968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4080" y="2124000"/>
            <a:ext cx="13510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-colu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86600" y="3048120"/>
            <a:ext cx="763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733920"/>
            <a:ext cx="38862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pred e’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constants e’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e’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y 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733920"/>
            <a:ext cx="2819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733920"/>
            <a:ext cx="46483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e is (if e1 then e2 else e3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constants e | = |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tants ei|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const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constants ei| (property of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≤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=1.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ize ei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IH on each 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size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(def of siz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33920"/>
            <a:ext cx="28195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3733920"/>
            <a:ext cx="5562720" cy="2133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| constants e | ≤ siz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ases are similar. Q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929120" y="3733920"/>
            <a:ext cx="6098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45840" y="5146560"/>
            <a:ext cx="31842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Latin to show off 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3733920"/>
            <a:ext cx="152640" cy="1218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0" y="5105520"/>
            <a:ext cx="282780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s had better be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ality, this lemma is so simple that you might not bother to write down all th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duction on the structure of e.”  is a sufficient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when you omit the details of a proof,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ou had better be sure it is trivi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present the det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VER hand-wave through a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better to admit you don’t know then to fak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cannot do part of the proof for homework, explicitly state the part of the proof that fails (if I had lemma X here, then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ductive definition consist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judg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r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t of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eriving these jud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gment is “n n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 nat, then succ(n) n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of is an easily-checked justification of a judgment (ie: a theor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eople have different ideas about what “easily-checked”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re formal a proof, the more “easily-check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class, we have a pretty high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one thing you’ll learn in this class, it is how to write a proof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ctive 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xt up: 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different ways to formalize the evaluation of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ourse we will use different sorts o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rational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pression of how an interpreter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mplemented in ML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to prove things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es up to complete language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object that has been completely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s in our language of arithmetic expression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::= true | false | zero | succ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values are a subset of the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lling “succ v” a value, we’re treating “succ v” like a piece of data; “succ v” is not functio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zero” is a value that represent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 (succ zero)” is the value that represent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counting in u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, there is an inductive definition behind all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, we say “expression e evaluates to e’ in a single ste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34720" y="5562720"/>
            <a:ext cx="44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f the first position in the “if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 not true or fa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371240" y="4800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029200" y="480024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bool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46160" y="5502240"/>
            <a:ext cx="560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1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e1’ then e2 else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59120" y="595944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680" y="3962520"/>
            <a:ext cx="35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u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640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93560" y="3962520"/>
            <a:ext cx="364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alse then e2 else e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419720"/>
            <a:ext cx="350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5638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9560" y="50706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“search”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715000" y="3768840"/>
            <a:ext cx="4572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59960" y="2971800"/>
            <a:ext cx="24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ules lik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 the “real wo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114440" y="350532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rules for numb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92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6400" y="4419720"/>
            <a:ext cx="220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0280" y="548640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" y="594360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41080" y="3962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ed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7920" y="441972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90680" y="396252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zero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99320" y="4419720"/>
            <a:ext cx="263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5480" y="510552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33760" y="5562720"/>
            <a:ext cx="295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90280" y="580716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zero (zero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498920" y="6248520"/>
            <a:ext cx="266400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step evaluation judg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valuation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term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iszero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ll such term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n’t values, but no rule a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sensical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preter for our language will either raise an exception when it tries to evaluate a stuck program or maybe do something random or even cra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bad sc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Rule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 rules are normally written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J and J1,..., Jn are judgements.  (For axioms, n = 0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3560" y="286056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step evaluation: 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nglish: “e evaluates to e’ in some number of steps (possibly 0)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7400" y="54259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17840" y="58672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88760" y="396252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32240" y="4419720"/>
            <a:ext cx="106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6160" y="41148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lex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59840" y="556272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ansitiv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defined the evaluation rules inductively, so we get a proof princi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property P of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i’) for i = 1..k and must prove the conclusion 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: we know 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) for all valid judgments with the form  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duction on the structure of the operational 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08120" y="365760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7840" y="41148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property P of the multi-step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rul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 to assume P(e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i’) for i = 1..k and must prove the conclusion  P(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07760" y="3200400"/>
            <a:ext cx="38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1’   ....     e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k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7840" y="3657600"/>
            <a:ext cx="312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step I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ther words, given a property P of the multi-step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pro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e get to assume P(e’’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e’) and (of course) any properties we have proven already of the single step relation 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’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eans, to prove things about multi-step rules, we normally first need to prove a lemma about the single-step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59680" y="397836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70120" y="441972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eor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e function size(e) from ear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transitivity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we are going to need a similar property of the single step evalu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59680" y="4511520"/>
            <a:ext cx="31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’        e’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670120" y="4952880"/>
            <a:ext cx="273996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e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:  if 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’ then size(e’) &lt;= size(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y induction on the structure of the multi-step operational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ase for each rule, 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3000" y="443556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’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c 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09840" y="4892760"/>
            <a:ext cx="22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59080" y="5638680"/>
            <a:ext cx="238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 (succ v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65200" y="6095880"/>
            <a:ext cx="246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em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we have proven the lemma, we can then prove the th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e’ then size(e’) &lt;= size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riting out a proof, always write lemmas in order to make it clear there is no circularity in the proo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sequence of our theorem: evaluation 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perties are starting to get more use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rules for deriving n nat are usually writ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505320"/>
            <a:ext cx="17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6760" y="392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440" y="3505320"/>
            <a:ext cx="213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n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4160" y="392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n this class will be defined using inductive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rules give rise to inductive 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succeed in this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e: how do we prove 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: by induction on the structure of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08800" y="5181120"/>
            <a:ext cx="83808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64400" y="59850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at’s the only trick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udgment J is derivable iff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n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there is a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h that J1, ..., Jn are deri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0800" y="4359240"/>
            <a:ext cx="15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1    ...    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44840" y="47750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7120" y="2971800"/>
            <a:ext cx="9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21160" y="3387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ivation of Ju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ay determine whether a judgment is derivable by working back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jud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rivable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6840" y="5029200"/>
            <a:ext cx="26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zero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(succ(zero)) 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30640" y="51404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25720" y="5521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58262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9760" y="484200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r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e: a proo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5334120"/>
            <a:ext cx="53352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21000" y="56358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82880" y="5334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u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2560" y="495288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00000" y="411480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67280" y="47242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324120" y="5029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et of rules defining the judgment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ng that t is a binary tre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following is a valid judg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de(empty, node(empty, empty))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8400" y="365760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98800" y="3276720"/>
            <a:ext cx="221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1 tree      t2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(t1, t2)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2000" y="3692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3692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19:46Z</dcterms:created>
  <dc:creator>Daniel Hutta</dc:creator>
  <dc:description/>
  <dc:language>en-US</dc:language>
  <cp:lastModifiedBy>CS</cp:lastModifiedBy>
  <dcterms:modified xsi:type="dcterms:W3CDTF">2003-09-22T14:32:22Z</dcterms:modified>
  <cp:revision>27</cp:revision>
  <dc:subject/>
  <dc:title>Inductive Definitions</dc:title>
</cp:coreProperties>
</file>