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D96-FE54-4A9E-8CAC-E0C02CDC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E76-20E2-4064-A9A5-CEBD82DE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345-F4B2-4CBC-947D-298E6BA0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60F-C40C-4A9D-AF95-43B3438E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6CF-E96F-47E5-8EC0-6843B92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BC8-2783-43A5-BD00-5D9AA4F2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BA9-082D-412F-B584-4DBF2999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C16-B19B-4239-85C7-E58F26C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C65-3F1B-4FEB-91C7-F27534AF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146-641E-4F0F-AEC0-8C48B19D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E8D-F92A-4ABC-9F31-9E1746CA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943-200E-4270-8390-8115AC1B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6E55-9C6C-4E54-AFE0-E60CF55EE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 5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inition, every derivabl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onsequence of some ru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se premises are deri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, the rules are a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haus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ption of the derivabl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an ML datatype definition is an exhaustive description of all the objects in the type being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how th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 derivable judgment has a property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is enough to sh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ru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1, ..., Jn have the property P, then J has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rincipal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ule in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43560" y="33526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768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Natura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rules for n n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prove that the property P holds of every n such that n nat by rule in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at P holds of z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at P holds of n, show that P holds of succ(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just ordinary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hematical indu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we can prove that every binary tree t has a property P by showing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has property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1 has property P and t2 has property P, then node(t1, t2) has property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ight be call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ee indu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following eq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de(t1, t2)) = 1 +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very binary tree t there exists a unique integer n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he above equations define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prove the claim by rule in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n = 0 is determined by the firs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unique?  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51400" y="33526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45000" y="3387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may assum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1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 = n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2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 = n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there exists a unique n, nam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max(n1, n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260676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65640" y="30225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wfully pedantic, but it is useful to see the details at leas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ob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 tree has a well-defined he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duction justified the existence of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“obvious” from the equations that there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most on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= n.  The proof shows that there exist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least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 in P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ourse, we will be looking at inductive definitions that deter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mantics (ty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emantics (evalu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roperties of programs and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rst up:  Syn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uctive defin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y a central role in the study of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pecify the following aspects of a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syntax (via CF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syntax (via CFGs/ML data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semantics (via typing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emantics (via evaluation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rete syntax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harac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’ ‘3’ ‘+’ ‘2’ ‘)’ ‘*’ ‘7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stract syntax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ing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utationally relev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tion of the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31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9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888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135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828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9625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rete syntax of a program contains many elements necessary for par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miters for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precedence of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tract syntax of a program is much simpler; it does not contain thes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ce is given directly by the tre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lass, we work with abstrac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define what programs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work with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theless, we need a notation for writing down abstract syntax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write (3 + 2) * 7, you should visualize the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87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72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6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608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5564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80952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372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ly, 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31240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63920" y="31399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5211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4320" y="4800600"/>
            <a:ext cx="33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exp      t2 exp      t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1 then t2 else t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5257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0384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68640" y="40543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8640" y="4435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3320" y="397836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xp      e2 exp      e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4355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288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70504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3796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4012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94280" y="5273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79752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, an if statement, a zero, a successor, a predecessor or a 0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7040" y="527364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654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every bit of syntax by inductive definitions can be lengthy and ted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definitions are an especially simple form of inductive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in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pred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very convenient abbreviation: B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 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true | false 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837720" y="259056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3040" y="4156200"/>
            <a:ext cx="295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 new l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reek symbol/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present any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et of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572000" y="3200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3880" y="4156200"/>
            <a:ext cx="231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inductive r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019560" y="304776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23040" y="4232160"/>
            <a:ext cx="138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er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y “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120" y="468936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wo inductively defined judg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99680" y="5222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b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71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05280" y="5486400"/>
            <a:ext cx="14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bool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07440" y="59277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960" y="5638680"/>
            <a:ext cx="68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rule is an inclusion of booleans in expre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640" y="4984920"/>
            <a:ext cx="76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a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tand for classes of objects, programs, and other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ust not be confused with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a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Pierce’s Tex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2 (skim definitions; understand 2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sets, relations, functions,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know basics such as mathematical induction, reflexivity, transitivity, symmetry, total and partial orders, domains and ranges of func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Functions defined ov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600" y="1828800"/>
            <a:ext cx="89773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true) = {true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false) = {fals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0) =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succ e) = constants(pred e) = constants(iszero e) = constant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if e1 then e2 else e3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stants 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200" y="4191120"/>
            <a:ext cx="6808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true) = 1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false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0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succ e) = size(pred e) = size(iszero e) = size e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if e1 then e2 else e3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ze ei)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ule induction on the rules for “e ex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monly calle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uction on the structure of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“structural indu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P is a predicate on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xpression e, we assume P(e’) holds for each subexpression e’ of e and go on to prove P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we know P(e) for all expression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ou’ll use this idea every single week in the rest of th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structure of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succ e’, pred e’, iszero e’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552720" y="3962520"/>
            <a:ext cx="114300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47200" y="3124080"/>
            <a:ext cx="109656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49528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2040" y="4952880"/>
            <a:ext cx="122472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constants e | = |{e}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con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                 (simple calcu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size 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086600" y="5714640"/>
            <a:ext cx="38088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2080" y="6086520"/>
            <a:ext cx="16423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s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286000" y="5714640"/>
            <a:ext cx="3808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5520" y="6086520"/>
            <a:ext cx="15217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343400" y="2590920"/>
            <a:ext cx="220968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4080" y="2124000"/>
            <a:ext cx="13510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-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086600" y="3048120"/>
            <a:ext cx="763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pred e’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constants e’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’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3733920"/>
            <a:ext cx="2819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733920"/>
            <a:ext cx="46483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s ei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constants ei| (property of 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ize ei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IH on each 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33920"/>
            <a:ext cx="28195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733920"/>
            <a:ext cx="55627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ases are similar. 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929120" y="3733920"/>
            <a:ext cx="6098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45840" y="5146560"/>
            <a:ext cx="31842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 Latin to show off 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09680" y="3733920"/>
            <a:ext cx="1526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0" y="5105520"/>
            <a:ext cx="28278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had better b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ality, this lemma is so simple that you might not bother to write down all the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duction on the structure of e.”  is a sufficien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when you omit the details of a proof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ou had better be sure it is triv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present the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VER hand-wave through a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better to admit you don’t know then to fak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annot do part of the proof for homework, explicitly state the part of the proof that fails (if I had lemma X here, then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ductive definition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judg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r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eriving thes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ment is “n n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 nat, then succ(n) n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of is an easily-checked justification of a judgment (ie: a theor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people have different ideas about what “easily-checked”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formal a proof, the more “easily-check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lass, we have a pretty high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one thing you’ll learn in this class, it is how to write a proof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xt up: 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different ways to formalize the evaluation of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ourse we will use different sorts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expression of how an interpreter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implemented in ML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prove things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s up to complete language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object that has been completely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s in our language of arithmetic expressi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::= true | false | zero | succ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values are a subset of the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alling “succ v” a value, we’re treating “succ v” like a piece of data; “succ v” is not function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 zero” is a value that represent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 (succ zero)” is the value that represent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counting in u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, there is an inductive definition behind all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nglish, we say “expression e evaluates to e’ in a single ste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bool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6680" y="3962520"/>
            <a:ext cx="35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93560" y="3962520"/>
            <a:ext cx="36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bool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6680" y="3962520"/>
            <a:ext cx="35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93560" y="3962520"/>
            <a:ext cx="36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34720" y="5562720"/>
            <a:ext cx="44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if the first position in the “if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not true or fa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371240" y="48002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029200" y="48002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bool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46160" y="5502240"/>
            <a:ext cx="560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e1’ then e2 else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59120" y="595944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6680" y="3962520"/>
            <a:ext cx="35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640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93560" y="3962520"/>
            <a:ext cx="36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9560" y="50706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“search”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715000" y="3768840"/>
            <a:ext cx="4572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59960" y="2971800"/>
            <a:ext cx="24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 the “real wor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114440" y="350532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920" y="3962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c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" y="4419720"/>
            <a:ext cx="220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0280" y="5486400"/>
            <a:ext cx="23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(succ v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400" y="5943600"/>
            <a:ext cx="246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1080" y="3962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d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47920" y="4419720"/>
            <a:ext cx="22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90680" y="396252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zero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99320" y="4419720"/>
            <a:ext cx="263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5480" y="510552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(succ v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33760" y="5562720"/>
            <a:ext cx="29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0280" y="580716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(zero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498920" y="6248520"/>
            <a:ext cx="266400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valuation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ter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zero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ll such term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n’t values, but no rule ap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nonsensica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preter for our language will either raise an exception when it tries to evaluate a stuck program or maybe do something random or even cra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bad sc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 rules are normal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J and J1,..., Jn are judgements.  (For axioms, n = 0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43560" y="286056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step evaluation: 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nglish: “e evaluates to e’ in some number of steps (possibly 0)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7400" y="5425920"/>
            <a:ext cx="31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’        e’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17840" y="5867280"/>
            <a:ext cx="2739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8760" y="396252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32240" y="4419720"/>
            <a:ext cx="106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6160" y="4114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lex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59840" y="556272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ransi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-step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defined the evaluation rules inductively, so we get a proof princi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property P of the single-step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ru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get to assume P(e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i’) for i = 1..k and must prove the conclusion  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we know 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) for all valid judgments with the form   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duction on the structure of the opera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08120" y="365760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   ....     e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k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7840" y="4114800"/>
            <a:ext cx="31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property P of the multi-step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ru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to assume P(e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i’) for i = 1..k and must prove the conclusion  P(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7760" y="3200400"/>
            <a:ext cx="38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1’   ....     e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k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7840" y="3657600"/>
            <a:ext cx="31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given a property P of the multi-step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pr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e’)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e get to assume P(e’’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e’) and (of course) any properties we have proven already of the single step relation 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ans, to prove things about multi-step rules, we normally first need to prove a lemma about the single-step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9680" y="3978360"/>
            <a:ext cx="31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’        e’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70120" y="4419720"/>
            <a:ext cx="2739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function size(e) from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function size(e) from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 induction on the structure of the multi-step operational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e function size(e) from ear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y induction on the structure of the multi-step operational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transitivity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we are going to need a similar property of the single step evalu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59680" y="4511520"/>
            <a:ext cx="31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’        e’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670120" y="4952880"/>
            <a:ext cx="2739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 i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e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 if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 induction on the structure of the multi-step operational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ase for each rule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3000" y="443556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c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09840" y="4892760"/>
            <a:ext cx="22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59080" y="5638680"/>
            <a:ext cx="23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(succ v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5200" y="6095880"/>
            <a:ext cx="246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we have proven the lemma, we can then prove the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riting out a proof, always write lemmas in order to make it clear there is no circularity in the proo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equence of our theorem: evaluation always term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perties are starting to get more use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rules for deriving n nat are usually writ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505320"/>
            <a:ext cx="17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06760" y="392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440" y="350532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n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4160" y="392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n this class will be defined using inductiv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ules give rise to inductive proo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succeed in this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e: how do we prove 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: by induction on the structure of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08800" y="5181120"/>
            <a:ext cx="83808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64400" y="598500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’s the only trick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udgment J is derivable iff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n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there is a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J1, ..., Jn are deri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30800" y="435924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44840" y="47750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7120" y="2971800"/>
            <a:ext cx="9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21160" y="338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determine whether a judgment is derivable by working back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ju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rivable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6840" y="50292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zero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30640" y="5140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25720" y="5521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4840" y="58262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9760" y="484200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r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e: a pro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533412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1000" y="56358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82880" y="5334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2560" y="49528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00000" y="4114800"/>
            <a:ext cx="16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67280" y="472428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32412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set of rules defining the judgmen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ng that t is a binary t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the following is a valid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(empty, node(empty, empty))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08400" y="36576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98800" y="327672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2000" y="3692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369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19:46Z</dcterms:created>
  <dc:creator>Daniel Hutta</dc:creator>
  <dc:description/>
  <dc:language>en-US</dc:language>
  <cp:lastModifiedBy>CS</cp:lastModifiedBy>
  <dcterms:modified xsi:type="dcterms:W3CDTF">2003-09-22T14:32:22Z</dcterms:modified>
  <cp:revision>27</cp:revision>
  <dc:subject/>
  <dc:title>Inductive Definitions</dc:title>
</cp:coreProperties>
</file>