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BB1-17D2-4E48-B1D4-C4C8FD51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596-577F-4022-A372-8FD1E824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2A5C-85E5-4E4A-8927-D37AC3CF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F4B-5290-4BA1-9C8A-E047FB52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B53-FC31-4796-BB72-DFCEF320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A17-FB82-40AC-8AEB-01378A94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15D-2398-4772-B283-524398F1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F723-2C30-487D-8612-42BCC985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D716-7E8F-4CCD-BFC9-9119AE83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F3C-E05B-4E91-9DA1-620A85FB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F0D-8FF3-473D-81ED-5FF45A26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787-7238-40EB-B9A3-42B7FE44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7523-AEF7-4231-BE58-434665281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 5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definition, every derivable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consequence of some rul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se premises are deri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is, the rules are an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haus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ption of the derivable jud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like an ML datatype definition is an exhaustive description of all the objects in the type being def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how tha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very derivable judgment has a property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is enough to show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ru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J1, ..., Jn have the property P, then J has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principal of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ule in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43560" y="335268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1    ...    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37688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Natural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rules for n n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prove that the property P holds of every n such that n nat by rule in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that P holds of zer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that P holds of n, show that P holds of succ(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just ordinary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hematical induc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, we can prove that every binary tree t has a property P by showing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has property 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1 has property P and t2 has property P, then node(t1, t2) has property 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ight be calle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ee indu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following equ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ty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ode(t1, t2)) = 1 + 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1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2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ai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very binary tree t there exists a unique integer n such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) =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the above equations define a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prove the claim by rule in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 is derivable by the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n = 0 is determined by the first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mpty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unique?  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51400" y="33526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45000" y="3387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 is derivable by th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we may assume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s a unique n1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1) = n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s a unique n2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2) = n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there exists a unique n, nam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+max(n1, n2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=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2606760"/>
            <a:ext cx="22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 tree      t2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(t1, t2)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65640" y="30225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wfully pedantic, but it is useful to see the details at leas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not obvio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 tree has a well-defined he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induction justified the existence of 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“obvious” from the equations that there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 most on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= n.  The proof shows that there exist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 least 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 in P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ourse, we will be looking at inductive definitions that deter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emantics (typ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semantics (evalu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properties of programs and 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irst up:  Syn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ductive defini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ay a central role in the study of programming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specify the following aspects of a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syntax (via CF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syntax (via CFGs/ML datatyp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semantics (via typing r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semantics (via evaluation r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vs Concrete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crete syntax of a program is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charac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’ ‘3’ ‘+’ ‘2’ ‘)’ ‘*’ ‘7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bstract syntax of a program is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ing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utationally relev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rtion of the pro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310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92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888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1352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08280" y="5486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962520" y="54100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54100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76720" y="58672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58672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vs Concrete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crete syntax of a program contains many elements necessary for par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miters for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precedence of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stract syntax of a program is much simpler; it does not contain thes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edence is given directly by the tre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vs Concrete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lass, we work with abstrac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 to define what programs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work with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theless, we need a notation for writing down abstract syntax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write (3 + 2) * 7, you should visualize the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87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728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660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608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55640" y="5715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809520" y="5638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5638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23720" y="6095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6095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Inform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lly, an arithmetic expression 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ccessor of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decessor of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Form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olean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f statement (if e1 then e2 else e3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312408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505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63920" y="3139920"/>
            <a:ext cx="12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5211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4320" y="4800600"/>
            <a:ext cx="335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 exp      t2 exp      t3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1 then t2 else t3 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52578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form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03848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441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68640" y="4054320"/>
            <a:ext cx="12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68640" y="44355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3320" y="3978360"/>
            <a:ext cx="350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exp      e2 exp      e3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1 then e2 else e3 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4355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02880" y="527364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exp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 e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705040" y="5699160"/>
            <a:ext cx="14446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37960" y="527364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exp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 e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740120" y="5699160"/>
            <a:ext cx="14446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94280" y="52736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exp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zero e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797520" y="5699160"/>
            <a:ext cx="14446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olean, an if statement, a zero, a successor, a predecessor or a 0 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7040" y="5273640"/>
            <a:ext cx="12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5654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every bit of syntax by inductive definitions can be lengthy and ted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 definitions are an especially simple form of inductive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 in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pred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very convenient abbreviation: B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in B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::= true | false | if e then e el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0 | succ e | pred e | iszer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837720" y="2590560"/>
            <a:ext cx="22860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3040" y="4156200"/>
            <a:ext cx="295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a new le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reek symbol/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present any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et of ob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572000" y="3200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3880" y="4156200"/>
            <a:ext cx="231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inductive ru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019560" y="3047760"/>
            <a:ext cx="1447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23040" y="4232160"/>
            <a:ext cx="138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er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y “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::= true |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::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if e then e el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0 | succ e | pred e | iszer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120" y="4689360"/>
            <a:ext cx="65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two inductively defined judg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99680" y="52228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b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71400" y="5181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05280" y="5486400"/>
            <a:ext cx="14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bool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07440" y="592776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960" y="5638680"/>
            <a:ext cx="68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rule is an inclusion of booleans in expres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::= true |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::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if e then e el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0 | succ e | pred e | iszer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640" y="4984920"/>
            <a:ext cx="766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ta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stand for classes of objects, programs, and other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ust not be confused with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gra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Pierce’s Tex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2 (skim definitions; understand 2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sets, relations, functions,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know basics such as mathematical induction, reflexivity, transitivity, symmetry, total and partial orders, domains and ranges of function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Functions defined ov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600" y="1828800"/>
            <a:ext cx="89773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(true) = {true}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 (false) = {fals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 (0) = {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(succ e) = constants(pred e) = constants(iszero e) = constant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 (if e1 then e2 else e3)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=1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onstants 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2200" y="4191120"/>
            <a:ext cx="68086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true) = 1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false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0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succ e) = size(pred e) = size(iszero e) = size e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if e1 then e2 else e3)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=1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ize ei)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distinct constants in any expression e is no greater than the size of 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≤ siz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rove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distinct constants in any expression e is no greater than the size of 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≤ siz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rove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ule induction on the rules for “e ex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mmonly calle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duction on the structure of 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m of “structural indu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al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P is a predicate on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al in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xpression e, we assume P(e’) holds for each subexpression e’ of e and go on to prove P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we know P(e) for all expression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ou’ll use this idea every single week in the rest of the cou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to the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distinct constants in any expression e is no greater than the size of 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≤ siz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induction on the structure of 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0, true, false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succ e’, pred e’, iszero e’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(if e1 then e2 else e3)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552720" y="3962520"/>
            <a:ext cx="114300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47200" y="3124080"/>
            <a:ext cx="109656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920" y="4952880"/>
            <a:ext cx="228600" cy="152424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72040" y="4952880"/>
            <a:ext cx="122472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1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0, true, fals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constants e | = |{e}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(by def of consta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                  (simple calcul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size 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(by def of 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086600" y="5714640"/>
            <a:ext cx="38088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12080" y="6086520"/>
            <a:ext cx="16423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us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286000" y="5714640"/>
            <a:ext cx="38088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5520" y="6086520"/>
            <a:ext cx="15217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343400" y="2590920"/>
            <a:ext cx="220968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34080" y="2124000"/>
            <a:ext cx="135108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-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086600" y="3048120"/>
            <a:ext cx="7632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3733920"/>
            <a:ext cx="388620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733920"/>
            <a:ext cx="388620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pred e’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= |constants e’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 of const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≤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’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size 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def of 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3733920"/>
            <a:ext cx="281952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3733920"/>
            <a:ext cx="464832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(if e1 then e2 else e3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= |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=1.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ants ei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def of const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≤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=1.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constants ei| (property of s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≤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=1.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ize ei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IH on each 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size 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def of 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3733920"/>
            <a:ext cx="2819520" cy="2133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3733920"/>
            <a:ext cx="5562720" cy="2133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ases are similar. 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4929120" y="3733920"/>
            <a:ext cx="609840" cy="1218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45840" y="5146560"/>
            <a:ext cx="31842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se Latin to show off 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209680" y="3733920"/>
            <a:ext cx="152640" cy="1218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3200" y="5105520"/>
            <a:ext cx="28278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s had better be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ality, this lemma is so simple that you might not bother to write down all the 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induction on the structure of e.”  is a sufficien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when you omit the details of a proof,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ou had better be sure it is trivi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n doubt, present the det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EVER hand-wave through a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better to admit you don’t know then to fak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cannot do part of the proof for homework, explicitly state the part of the proof that fails (if I had lemma X here, then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ductive definition consist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 mor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judgme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r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t of ru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eriving these jud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gment is “n na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 nat, then succ(n) n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of is an easily-checked justification of a judgment (ie: a theor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people have different ideas about what “easily-checked”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re formal a proof, the more “easily-check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lass, we have a pretty high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one thing you’ll learn in this class, it is how to write a proof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ext up:  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any different ways to formalize the evaluation of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ourse we will use different sorts of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rational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expression of how an interpreter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implemented in ML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prove things 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s up to complete language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object that has been completely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s in our language of arithmetic expression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::= true | false | zero | succ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values are a subset of the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alling “succ v” a value, we’re treating “succ v” like a piece of data; “succ v” is not function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 zero” is a value that represent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 (succ zero)” is the value that represents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are counting in u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, there is an inductive definition behind all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step evaluation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nglish, we say “expression e evaluates to e’ in a single step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step evaluation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rules for boolea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6680" y="3962520"/>
            <a:ext cx="354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ue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6400" y="441972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93560" y="3962520"/>
            <a:ext cx="364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alse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03640" y="441972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step evaluation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rules for boolea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6680" y="3962520"/>
            <a:ext cx="354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ue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6400" y="441972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93560" y="3962520"/>
            <a:ext cx="364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alse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03640" y="441972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34720" y="5562720"/>
            <a:ext cx="44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if the first position in the “if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not true or fal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1371240" y="480024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029200" y="48002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step evaluation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rules for boolea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46160" y="5502240"/>
            <a:ext cx="560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1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e1’ then e2 else 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59120" y="595944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6680" y="3962520"/>
            <a:ext cx="354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ue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6400" y="441972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93560" y="3962520"/>
            <a:ext cx="364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alse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441972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5638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9560" y="50706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“search”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715000" y="3768840"/>
            <a:ext cx="45720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59960" y="2971800"/>
            <a:ext cx="244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s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o the “real work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114440" y="3505320"/>
            <a:ext cx="1981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step evaluation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rules for numb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9920" y="3962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c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6400" y="4419720"/>
            <a:ext cx="220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0280" y="5486400"/>
            <a:ext cx="238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 (succ v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400" y="5943600"/>
            <a:ext cx="246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41080" y="3962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ed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47920" y="4419720"/>
            <a:ext cx="22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90680" y="396252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zero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zero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99320" y="4419720"/>
            <a:ext cx="263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5480" y="510552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zero (succ v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33760" y="5562720"/>
            <a:ext cx="295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0280" y="580716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zero (zero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498920" y="6248520"/>
            <a:ext cx="266400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step evaluation judg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valuation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ter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zero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ll such term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n’t values, but no rule ap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nonsensical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rpreter for our language will either raise an exception when it tries to evaluate a stuck program or maybe do something random or even cra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bad sc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 rules are normal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J and J1,..., Jn are judgements.  (For axioms, n = 0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43560" y="286056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1    ...    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step evaluation:  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e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nglish: “e evaluates to e’ in some number of steps (possibly 0)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7400" y="5425920"/>
            <a:ext cx="31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’        e’’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17840" y="5867280"/>
            <a:ext cx="2739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88760" y="396252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32240" y="4419720"/>
            <a:ext cx="106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6160" y="41148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flexiv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59840" y="5562720"/>
            <a:ext cx="17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ransitiv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-step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defined the evaluation rules inductively, so we get a proof princi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property P of the single-step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ru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get to assume P(e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i’) for i = 1..k and must prove the conclusion  P(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we know P(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’) for all valid judgments with the form   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duction on the structure of the operational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08120" y="3657600"/>
            <a:ext cx="35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   ....     e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k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7840" y="4114800"/>
            <a:ext cx="312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step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property P of the multi-step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ru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et to assume P(ei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ei’) for i = 1..k and must prove the conclusion  P(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e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07760" y="3200400"/>
            <a:ext cx="389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1’   ....     e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k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7840" y="3657600"/>
            <a:ext cx="312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step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given a property P of the multi-step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ust pro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e’) 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we get to assume P(e’’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e’) and (of course) any properties we have proven already of the single step relation 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’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eans, to prove things about multi-step rules, we normally first need to prove a lemma about the single-step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59680" y="3978360"/>
            <a:ext cx="31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’        e’’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70120" y="4419720"/>
            <a:ext cx="2739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he function size(e) from ear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m:  if 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e’ then size(e’) &lt;= size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he function size(e) from ear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m:  if 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e’ then size(e’) &lt;= size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 induction on the structure of the multi-step operational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he function size(e) from ear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m:  if 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e’ then size(e’) &lt;= size(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y induction on the structure of the multi-step operational ru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transitivity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we are going to need a similar property of the single step evalu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59680" y="4511520"/>
            <a:ext cx="31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’        e’’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670120" y="4952880"/>
            <a:ext cx="2739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 if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e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size(e’) &lt;= size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 if 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’ then size(e’) &lt;= size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 induction on the structure of the multi-step operational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case for each rule,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3000" y="443556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c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09840" y="4892760"/>
            <a:ext cx="22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59080" y="5638680"/>
            <a:ext cx="238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 (succ v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65200" y="6095880"/>
            <a:ext cx="246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we have proven the lemma, we can then prove the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:  if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 then size(e’) &lt;= size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riting out a proof, always write lemmas in order to make it clear there is no circularity in the proo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sequence of our theorem: evaluation always term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perties are starting to get more use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the rules for deriving n nat are usually writt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3505320"/>
            <a:ext cx="17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06760" y="3921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4440" y="3505320"/>
            <a:ext cx="21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(n)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64160" y="392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thing in this class will be defined using inductiv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rules give rise to inductive proo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succeed in this cla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e: how do we prove X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: by induction on the structure of 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508800" y="5181120"/>
            <a:ext cx="83808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64400" y="598500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at’s the only tricky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of Jud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udgment J is derivable iff ei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n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there is a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J1, ..., Jn are deriv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30800" y="435924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1    ...    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44840" y="47750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7120" y="2971800"/>
            <a:ext cx="90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21160" y="3387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of Jud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determine whether a judgment is derivable by working backw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the jud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(succ(zero)) n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erivable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6840" y="502920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(zero)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(succ(zero))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30640" y="51404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25720" y="5521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44840" y="582624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49760" y="484200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r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e: a proo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5334120"/>
            <a:ext cx="5335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21000" y="56358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uc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82880" y="5334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uc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2560" y="495288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ze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00000" y="4114800"/>
            <a:ext cx="16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ach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67280" y="472428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324120" y="5029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 set of rules defining the judgmen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ing that t is a binary tre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 that the following is a valid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(empty, node(empty, empty))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08400" y="365760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98800" y="3276720"/>
            <a:ext cx="22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 tree      t2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(t1, t2)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2000" y="3692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3692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19:46Z</dcterms:created>
  <dc:creator>Daniel Hutta</dc:creator>
  <dc:description/>
  <dc:language>en-US</dc:language>
  <cp:lastModifiedBy>CS</cp:lastModifiedBy>
  <dcterms:modified xsi:type="dcterms:W3CDTF">2003-09-22T14:32:22Z</dcterms:modified>
  <cp:revision>27</cp:revision>
  <dc:subject/>
  <dc:title>Inductive Definitions</dc:title>
</cp:coreProperties>
</file>