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3CC0-BFF4-425B-85E0-C24375AF8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F563-E14A-4119-82CC-8E3EBAB9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312F-54B0-42F4-9DE9-B727C1386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1FD2-34E2-46F6-838A-A6C9151A2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BB6D-506A-46CE-9F4F-8FF2C52C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EAF8-B34D-49DB-A857-946D79A0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8D11-532D-4A0A-9185-684F18E3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6F98-EAAD-4174-A888-8360AAA0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2FDF-D156-46B6-BCE6-88084BFD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2F60-9C65-4585-BDEC-330F2E70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09A0-E250-43E8-8CED-937207A2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7550-F2B2-4CA8-94C8-3D9CD821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8FDF-3805-4F35-87C4-5A5A00BE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707B-11BC-4837-8FC5-0E760581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E11D-7A98-4349-B323-D3F1513B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7337-93EC-4714-A889-56DE52B5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4B0B-5725-459C-900D-9E39213E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879D-3F62-4A32-A342-33615727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CE4B-3D52-47EB-A1F2-BE194767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D1DC-ACB9-4BC1-8FFD-554846E7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41C8-7AEB-42F0-9CBF-4D7E866A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3469-CB2A-4175-8B7D-557E0564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BE93-C3F1-41F4-BA3A-341C3F5E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891E-814A-4621-82F9-9D6161CB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fe58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fe58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fe58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fe58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fe58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fe58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fe58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fe58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fe58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3818-813B-4FF5-8155-FAA977332432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fe58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fe58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fe58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fe58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1E5E-BAB1-4844-946D-5796265B5858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 II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S 510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ore on Bi-Directional TI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..... on your next homework!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Tahoma"/>
              </a:rPr>
              <a:t>End!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L-style Polymorphism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452600"/>
            <a:ext cx="77724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2 characteristic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enex (let) polymorphism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let f : all [a,b,c].t = ... in 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polymorphic quantifiers appear in outermost position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polymorphic values can’t be arguments/results of functions, can’t be store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reason: completeness of type inferenc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value restric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let x = v in 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reason: soundness of type inferenc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Value restric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Polymorphic generalization may occur over values onl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eneralization over non-values causes unsoundnes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unctions, lists, pairs,data cons. are valu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references, expressions that raise exns, perform I/O, function applications are no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783800" y="2590920"/>
            <a:ext cx="531396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14480" indent="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let x : </a:t>
            </a: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(all [a]. (a -&gt; a) ref)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= ref (fn x =&gt; x) in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1" marL="114480" indent="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x := (fn x =&gt; x + 1);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1" marL="114480" indent="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!x) true    </a:t>
            </a:r>
            <a:r>
              <a:rPr b="0" lang="en-US" sz="2000" spc="-1" strike="noStrike">
                <a:solidFill>
                  <a:srgbClr val="fe5850"/>
                </a:solidFill>
                <a:latin typeface="Tahoma"/>
              </a:rPr>
              <a:t>(* error *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 flipV="1">
            <a:off x="6171840" y="3124080"/>
            <a:ext cx="685800" cy="457200"/>
          </a:xfrm>
          <a:prstGeom prst="line">
            <a:avLst/>
          </a:prstGeom>
          <a:ln w="9360">
            <a:solidFill>
              <a:srgbClr val="fe58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307200" y="350532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5850"/>
                </a:solidFill>
                <a:latin typeface="Tahoma"/>
              </a:rPr>
              <a:t>not a valu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1st-Class Polymorphism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Question: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where to generalize values with (monomorphic) schematic types to polymorphic typ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eg: fn(x).fn(y).y has typ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0099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ll [a].all [b]. a -&gt; b -&gt; b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0099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ll [a]. a -&gt; (all [b] . b -&gt; b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0099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which one do we pick?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0099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the first can be an argument to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72000" indent="-20772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(int -&gt; bool -&gt; bool) -&gt; boo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0099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the second returns polymorphic functions z that can be applied to values with different type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72000" indent="-20772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z true; z 3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enex Polymorphism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olution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restrict to prenex quantification (type inference for the general case undecideabl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generalize at let-bound values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polymorphic value is always instantiated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94560" y="3413160"/>
            <a:ext cx="633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5850"/>
                </a:solidFill>
                <a:latin typeface="Tahoma"/>
              </a:rPr>
              <a:t>G |- v : t, q     (I,q) -&gt; (S,{})     a1,...,an = FV(S(t)) - FV(G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5850"/>
                </a:solidFill>
                <a:latin typeface="Tahoma"/>
              </a:rPr>
              <a:t>G,x:all[a1,...,an].S(t) |- e : t’,q’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5850"/>
                </a:solidFill>
                <a:latin typeface="Tahoma"/>
              </a:rPr>
              <a:t>---------------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5850"/>
                </a:solidFill>
                <a:latin typeface="Tahoma"/>
              </a:rPr>
              <a:t>G |- let x = v in e : t’,q’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86120" y="5622840"/>
            <a:ext cx="4902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5850"/>
                </a:solidFill>
                <a:latin typeface="Tahoma"/>
              </a:rPr>
              <a:t>G(f) = all[a1,...,an].t    (a1,...,an are fresh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5850"/>
                </a:solidFill>
                <a:latin typeface="Tahoma"/>
              </a:rPr>
              <a:t>-------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5850"/>
                </a:solidFill>
                <a:latin typeface="Tahoma"/>
              </a:rPr>
              <a:t>G |- f : t,{}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Advanced Type Inf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ML pushes the limit of complete type inf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1st-class universal and existential poly, subtyping, bounded quantification make complete type inference impossibl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ex step: Require some type annota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oal: require annotations where useful as document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oal: omit type annotations where they are “obvious” and comm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Most languages (Java, C++, C) require some type annotations anyway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ome Stats [PT 98]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 instantiation occurs all the tim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very third line of cod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nonymous function declarations occurs fairly oft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1/10 lines to 1/100 lines depending on styl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ocal variable declara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1/12 lin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ocal functions bound to variabl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1/66 lines 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equenc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 instantiation is the first priorit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very third line of ML-style cod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nonymous function declarations are the next priorit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1/10 lines to 1/100 lines depending on styl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ocal variable declarations would be nic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1/12 lin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1/66 lines (functions) 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Bi-directional Type Inf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wo interacting judgement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ype check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G |- e &lt;= 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we can check that e has the type 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ype t is an input to the judgeme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ype synthesi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G |- e =&gt; 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we can synthesize the most general type t from the expression e and context G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ype t is an output of the judgeme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Note: we have been doing type synthesis all along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vid Walker</cp:lastModifiedBy>
  <dcterms:modified xsi:type="dcterms:W3CDTF">2002-11-18T15:37:22Z</dcterms:modified>
  <cp:revision>15</cp:revision>
  <dc:subject/>
  <dc:title>PowerPoint Presentation</dc:title>
</cp:coreProperties>
</file>