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455-FA7A-432D-99E9-E734C0E6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DFA-2047-4317-9500-E662714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808-4927-444C-9DC1-7B4FB1B6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C8F-95AA-4C7A-8DF4-08819299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2C60-F63E-4A44-BB31-A22F9B70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6929-E940-4002-80E8-28380529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2ED4-3624-4F2E-9EEC-C46D58DC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5619-EEF3-4ADD-9B9F-7C57CEDD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18A-8B98-4246-932B-750F47B2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D73E-C077-4A33-864B-45D96F37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0C85-AC23-4BF3-ADC0-3A60E113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521-B8E6-4EB6-B8F0-7CA200D9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5123-3639-4BF7-A057-2F83479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69E3-6927-42E0-B8A1-31EAF22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210E-0B02-4D6A-9342-8CF8C6C2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2FA7-3287-44E2-82C7-28F32E4E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DCF8-36A1-4CDC-A5D3-B4F9648C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AE0-5A47-4A10-90DA-F207DF2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C31-A1A6-424C-BEBC-F3E02E31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3DE-2804-4C2E-8DD3-1CA9C733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405-904D-46A7-8556-FE83A83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861-42B8-45D8-B196-E2BA3C2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8AC5-5FDE-496E-889F-958AC69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4FA-6662-4DDB-976D-2399C398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F019-8CDA-4555-9055-9662256A15E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fe58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712-41D4-44DD-8AC8-AF499D72A189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re on Bi-Directional T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.. on your next homework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Tahoma"/>
              </a:rPr>
              <a:t>End!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L-style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45260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2 characteristic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enex (let) polymorph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et f : all [a,b,c].t = ... in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olymorphic quantifiers appear in outermost posi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olymorphic values can’t be arguments/results of functions, can’t be stor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son: completeness of type infer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lue restri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et x = v in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son: soundness of type infer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lue restric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olymorphic generalization may occur over values onl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lization over non-values causes unsoundnes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unctions, lists, pairs,data cons. are valu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ferences, expressions that raise exns, perform I/O, function applications are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83800" y="2590920"/>
            <a:ext cx="531396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let x :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(all [a]. (a -&gt; a) ref)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= ref (fn x =&gt; x) in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:= (fn x =&gt; x + 1);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1" marL="114480" indent="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!x) true    </a:t>
            </a: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(* error *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6171840" y="3124080"/>
            <a:ext cx="685800" cy="457200"/>
          </a:xfrm>
          <a:prstGeom prst="line">
            <a:avLst/>
          </a:prstGeom>
          <a:ln w="9360">
            <a:solidFill>
              <a:srgbClr val="fe58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07200" y="3505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not a valu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1st-Class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Question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re to generalize values with (monomorphic) schematic types to polymorphic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g: fn(x).fn(y).y has typ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l [a].all [b]. a -&gt; b -&gt; b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ll [a]. a -&gt; (all [b] . b -&gt; b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which one do we pi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 first can be an argument to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72000" indent="-20772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int -&gt; bool -&gt; bool) -&gt;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99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 second returns polymorphic functions z that can be applied to values with different typ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72000" indent="-20772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z true; z 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enex Polymorphism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olution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restrict to prenex quantification (type inference for the general case undecideabl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neralize at let-bound value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polymorphic value is always instantiated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94560" y="3413160"/>
            <a:ext cx="633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v : t, q     (I,q) -&gt; (S,{})     a1,...,an = FV(S(t)) - FV(G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,x:all[a1,...,an].S(t) |- e : t’,q’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let x = v in e : t’,q’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6120" y="5622840"/>
            <a:ext cx="490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(f) = all[a1,...,an].t    (a1,...,an are fresh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5850"/>
                </a:solidFill>
                <a:latin typeface="Tahoma"/>
              </a:rPr>
              <a:t>G |- f : t,{}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dvanced Type In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L pushes the limit of complete type inf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st-class universal and existential poly, subtyping, bounded quantification make complete type inference impossib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ex step: Require some type annot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oal: require annotations where useful as document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oal: omit type annotations where they are “obvious” and comm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ost languages (Java, C++, C) require some type annotations anywa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me Stats [PT 98]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stantiation occurs all the ti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third line of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onymous function declarations occurs fairly oft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0 lines to 1/100 lines depending on sty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variable declara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2 li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functions bound to variab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66 lines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stantiation is the first prior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third line of ML-style cod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onymous function declarations are the next prior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0 lines to 1/100 lines depending on sty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ocal variable declarations would be ni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12 lin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1/66 lines (functions)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i-directional Type Inf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wo interacting judgem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 |- e &lt;=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check that e has the type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ype t is an input to the judg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synthesi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 |- e =&gt; 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synthesize the most general type t from the expression e and context 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ype t is an output of the judgeme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e: we have been doing type synthesis all alo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Walker</cp:lastModifiedBy>
  <dcterms:modified xsi:type="dcterms:W3CDTF">2002-11-18T15:37:22Z</dcterms:modified>
  <cp:revision>15</cp:revision>
  <dc:subject/>
  <dc:title>PowerPoint Presentation</dc:title>
</cp:coreProperties>
</file>