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1C7-48D6-477D-B752-8280B0BC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06E-C7D5-4DCE-A600-D956E22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707-A50C-4E12-8894-376935A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361-D016-4C67-A3F4-9DDE4EC4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E1F3-F9A2-4A47-AFEF-F0FC9018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1C6B-0F61-4C68-B9CD-F3196597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4952-0503-45B2-AB22-BD1637CB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EDB7-E551-48A1-B0AA-0941BB9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45EB-1C79-4AF8-939B-E8D00C2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6E6-2DB4-46E8-B591-69DFA78F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173A-7379-4F29-AC7B-3D55FBA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029-FFC9-48DE-8AB4-404BB4E3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1016-43C8-424E-B2E5-6AA4649C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B76-D736-4511-9D9B-E778DDA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06E6-19D2-4081-A4CE-A15C6B9F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E50-C44A-45C7-B789-2E060568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7AD0-7B03-4C64-A327-2F9A9F71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62C-CAE3-456C-8964-74DE7E2D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5AE-C704-462C-A931-63E3337C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FA3-8B35-43BC-B066-02B39AD5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4B9-AD4A-4F84-ACA5-270DBCBD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0EF-5F05-4300-A973-3D6D219B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1FB-44A1-4486-B6D3-ED432061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1FB-BDD7-47C5-87A0-00488F6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29EB-E6C4-4FF3-A6DF-E92016DB438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96C-F7FD-4DDD-98DE-A7A475DFCE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 &amp; Concept Re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S 510, Fall 200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mos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any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ere any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unit + unit) + (anyt -&gt; any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wrong here?  Need a recursive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yt = rec a. unit + (unit + unit) + (a -&gt; 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s the form of the static semant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s judgments with the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) ==&gt; e1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variant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G |- e1 : t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=&gt; e1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1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666520" y="5943240"/>
            <a:ext cx="11430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25640" y="5791320"/>
            <a:ext cx="46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Key: e1’ must type check un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ully translated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633600" y="2438280"/>
            <a:ext cx="83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true : Bool?) ==&gt; inr (Trans(Bool?), inl (unit + unit, ()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80360" y="4267080"/>
            <a:ext cx="760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: t1 ?-&gt; t2) ==&gt; e1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2 : t1) ==&gt; e2’                         (x,y not in Dom(G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e1 e2 : t2) ==&gt; case e1’ of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 inl (x) =&gt; f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nr (y) =&gt; y e2’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rong (but it was pretty tricky, so don’t worry)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368000" y="3019320"/>
            <a:ext cx="67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goes wro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Consid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 f (x : unit) : unit = f 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and its transl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r (..., fun f (x : unit) : unit =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se f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 inl (y) =&gt; fai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| inr (z) =&gt; z x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371600" y="4952520"/>
            <a:ext cx="2286000" cy="38124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8400" y="5137200"/>
            <a:ext cx="26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s a fun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a sum val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The point of doing a proof is to discover mistake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st prove result of trans has the right typ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f : T(t1) -&gt; T(t2)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We can’t apply the induction hypothesis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G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|- e : t) ==&gt; e’ is necess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89560" y="3657600"/>
            <a:ext cx="736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 (by IH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,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f : T(t1) -&gt; T(t2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x : T(t1) |- e’ : T(t2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fu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 fun f (x : T(t1)) : T(t2) = e’ : T(t1) -&gt; T(t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 (inr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inr (..., ....) : unit + (T(t1) -&gt; T(t2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3581280"/>
            <a:ext cx="685800" cy="4572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600" y="3081240"/>
            <a:ext cx="83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not the translation of a function type (unit + T(t1) -&gt; T(t2)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eate something with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(unit + T(t1) -&gt; T(t2)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nsid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fun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n bind that something to a variable f for use inside e’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old translation gave us something with the type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(t1) -&gt; T(t2)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fix thi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 Translation (no op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407240" y="3019320"/>
            <a:ext cx="6659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,f : t1 ?-&gt; t2, x : t1 |- e : t2) ==&gt; e’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G |- fun f (x : t1) : t2 = e ==&gt;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r (..., fun f (x : Trans(t1)) : Trans(t2)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let f = inr (..., f) i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e’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e1 in e2    is    ((fun _ (x : ...) : ... = e2) e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dter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just f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reater than 90 = excepti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0-90 = go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ss than 80 = need more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ree main par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ybeML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jects: 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objects: 3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useful f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let expression is normally just “syntactic sugar” for a function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let x = e1 in e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same 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(fn x =&gt; e2) e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tim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serv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re are only a couple of null checks that appear in our translation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 we really do substantially bett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YES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expressions that result fro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 translation have many, many, many null check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true then if false then if true then 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320004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114800" y="5562360"/>
            <a:ext cx="22860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52880" y="5562360"/>
            <a:ext cx="533520" cy="6094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9040" y="6248520"/>
            <a:ext cx="72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r translation inserts 3 unnecessary null checks!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Possib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people defined a few special-case 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ct cases where values are directly elimiated and avoid null check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fun f (x:t1) :t2 = e) e’ 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rue then e1 else e2 translated differ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? x then (if? x then e1 else e2)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se people received some mar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lazy injections into the sum typ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eep track of whether or not you have done the injection using the type of the resul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t’ = (unit + unit) or (trans(t1) -&gt; trans(t2)) then you haven’t injected the expression e’ into a sum yet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ou can leave off unnecessary injections around any expression, not just val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2774880" y="403848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G |- e : t) ==&gt; (e’ : t’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uch More General Sol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rules for introduc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ra rules for elimination form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666080" y="2438280"/>
            <a:ext cx="53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true : Bool?) ==&gt; (inr (..., ()): unit + uni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82360" y="4267080"/>
            <a:ext cx="5007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Bool? ==&gt; (e1’, t)            t notnu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2 : ts ==&gt; (e2’, t2’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3 : ts ==&gt; (e3’, t3’) 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’,e3’,t2’,t3’  unifies to  e2’’,e3’’,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if e1 then e2 else e3 : ts) ==&gt;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e1 then e2’’ else e3’’ : t’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Judg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atural Typ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fication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416240" y="2606760"/>
            <a:ext cx="29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unit + unit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9960" y="2606760"/>
            <a:ext cx="245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t1 -&gt; t2) notnu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8120" y="4403880"/>
            <a:ext cx="370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e3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52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2 = unit + 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e2,inr(t2,e3),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69200" y="5699160"/>
            <a:ext cx="448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3 = unit + t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2,e3,t2,t3  unifies to inr(t3,e2),e3,t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people did well on the definition of the static and dynamic semantics for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you want to know some detail, come see me during my office hou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ss well on the imperative 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clos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containing no fre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not clo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ally:  if FV is a function that computes the set of free variables of an expression th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closed if and only if FV(e) = {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well-formed express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pression that type checks under some type context 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x x) true) is not well form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(fun f (x:bool):bool = y x) true) is well-formed in the context G = [y:bool -&gt; bool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(e : t) an abbreviation fo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typing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|- e : 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(e : t) then what else do we know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know that e contains no free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her words,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e is clos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e might know other things if e also happens to be a valu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23880" y="3428640"/>
            <a:ext cx="457200" cy="2286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760" y="353844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empty contex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a valu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it is an expressio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at does not need to be further evaluated (and it is not stuc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do we normally define valu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declare a new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meta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v and give its form using BNF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 ::= x | n | &lt;v1,v2&gt; | fun f (x : t1) : t2 = 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ifference between a metavariable v and an expression variable x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ternatively, we define a value judgm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31690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n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70480" y="5291280"/>
            <a:ext cx="13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x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41760" y="5089680"/>
            <a:ext cx="317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v1 value       |- v2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|- &lt;v1,v2&gt; valu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directed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directed translati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is a function (a compiler) that takes a typing derivation for a source-language expression and produces a target-language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can define type-directed translations using judgment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 : t) ==&gt; e’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 is a source term; e’ is a target ter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define the translation using inference rules. e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754360" y="5230800"/>
            <a:ext cx="581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: t1 -&gt; t2) ==&gt; e1’      (G |- e2 : t1) ==&gt; e2’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G |- e1 e2 : t2) ==&gt; e1’ e2’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it matter whether we use BNF or a series of judgments to define the syntax of values and expression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No!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BNF is just an abbreviation for the inductive definition that we would give using judgments inste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y don’t we define typing rules using BNF if it is so darn convenient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ing rules are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sensitive.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NF is used for 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context-insensi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defini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 and v is a closed, well-formed value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rmin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is strange about the following sentenc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v : t)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 and v is a closed, well-formed val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hen the canonical forms lemma can tell us something about the shape of v given the type 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he red part is totally redundant!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are using the metavariable v, then you should have already defined it so that it refers to valu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v : t) should also have been defined before.  It should trivially imply that v is closed.  It defines what it means for v to be well-form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440000" indent="-20556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you write a sentence like this on the final, you might find yourself losing points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 the future, when I say “write an expression that does ...” you should always write a well-formed, closed expression unless I specify otherwi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t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t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n’t really an expression! It contains the metavariable t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ck to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{getloop =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n (x). ({loop = fn(y).y.loop} : {loop : { }}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} : {getloop : {loop : { }} 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what you want to 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erative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{l = t,...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{l = b,...} | e.l | e.l &lt;- b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 ::= fn(x).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out imperative features (field update) we can use the ordinary M-machine defin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 -&gt; e’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obvious M-machine definition for object update doesn’t work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2479320" y="3124080"/>
            <a:ext cx="42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= {lk = b’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----------------------------------------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e.lk &lt;- b)  -&gt;  {lk = b,l’’ = b’’...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651400" y="205740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0480" y="3581280"/>
            <a:ext cx="481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{n = fn(_).3}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2920" y="480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{n = fn(_).2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25400" y="60199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n = fn(_).3}.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57400" y="45720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7400" y="58672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360840" y="6019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62485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ere’s wh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009920" y="2743200"/>
            <a:ext cx="381240" cy="68580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88240" y="15573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upd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ly has loc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ff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need to augment our operational semantics with a global sto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store S is a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finite partial map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locations (r) to valu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what is a finite partial map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 ::= {l=b,...} |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-time expressions include locations 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semantics now has form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S,e) -&gt; (S’,e’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049120" y="2655720"/>
            <a:ext cx="413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{l = b,...}) -&gt; (S[r -&gt; {l = b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85040" y="3962520"/>
            <a:ext cx="257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fn(x).e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) -&gt; (S, e[S(r)/x]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0880" y="5459400"/>
            <a:ext cx="470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(r) = {l = b’’, l’ = b’,...}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------------------------------------------------------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S, r.l &lt;- b) -&gt; (S[r -&gt; {l = b, l’ = b’,...}], r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tional seman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2683440" y="2057400"/>
            <a:ext cx="36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., let x = {n = fn(_).3}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x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80120" y="3581280"/>
            <a:ext cx="33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[r -&gt; {n = fn(_).3}]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_ = (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 &lt;- fn(_).2) 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57400" y="335268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ur exampl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487692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03520" y="5181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.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6172200"/>
            <a:ext cx="68580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20800" y="632448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[r -&gt; {n = fn(_).2}], 2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295280" y="2285640"/>
            <a:ext cx="1143000" cy="2286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920" y="2471760"/>
            <a:ext cx="10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p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o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83960" y="4419720"/>
            <a:ext cx="25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 is substitu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r x everywhe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t the conten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f r are kept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one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790960" y="4495680"/>
            <a:ext cx="60948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876560" y="4876920"/>
            <a:ext cx="1447560" cy="45720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ngs to rememb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to define type-directed and type-preserving trans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 able to use and define common ter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lues, closed expressions, operational semantics, canonical form, inversion principle, type system, soundness, completeness, subtyping, the subsumption principle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ofs are for finding mistak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erative features are tric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-preserving Transl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en is a translation is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type-preserving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f given a valid derivation, it produces a well-typed target expres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 often prove a theorem like thi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(G |- e : t) ==&gt; e’ the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(G) |- e’ : Trans(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re Trans(t) is 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 translation function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09720" y="5105520"/>
            <a:ext cx="1295640" cy="38088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95280" y="4724280"/>
            <a:ext cx="2387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dinary typ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dg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the targ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aybe 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Bool? | t1 ?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true | false | nul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if? e1 then e2 else e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| fun f (x:t1) : t2 = e | e1 e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inML (unit,+,-&gt;,exn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tax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 ::= unit | t1 + t2 | t1 -&gt; t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 ::= x | () | e1; e2 | inl (t,e1) | inr (t,e2) |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es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ine a type-directed, type-preserving translation from MaybeML to MinML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e Trans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 expecte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t + (Trans(t1) + Trans(t2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other possibility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Bool?) = unit + (unit + unit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 (t1 ?-&gt; t2) = t1 -&gt; t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Walker</cp:lastModifiedBy>
  <dcterms:modified xsi:type="dcterms:W3CDTF">2002-12-02T19:19:24Z</dcterms:modified>
  <cp:revision>8</cp:revision>
  <dc:subject/>
  <dc:title>PowerPoint Presentation</dc:title>
</cp:coreProperties>
</file>