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AE3C-9F17-41E1-AA4C-EB29C838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6BFA-BB5F-408F-956D-A3F2119F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1BE0-8EF1-4CD1-B5FF-F4367ACF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B764-30EC-4FC1-9157-DE55F2F7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A725-41DE-49FB-A817-9D2A78D7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130F-2F22-4E79-A4EC-D3034372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9291-B01F-42B8-9345-76BDE27A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48FC-2941-4FB1-9A12-F3AFAA61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D51F-2111-4B66-9E1D-5CFFD5C4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93ED-7FAE-4DAF-AFC1-26B386DD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4114-929A-4F69-B336-182F16DE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AB59-3672-41AC-BF4E-568EAF9B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D0AB-81A2-4D14-A052-E9A3DA7F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492E-C9F0-47B5-9B64-2368EE69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D889-4D2C-4668-88FE-9ED0FCA4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FA2E-B466-49E7-949C-DB0BA363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F668-5447-412C-8AA0-DE8AF4A4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BFF5-4437-44C9-9E9E-87D99262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ECF0-7085-4315-978E-48B3296A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8199-B418-4424-BAB5-186740A7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7556-9EFC-41B0-8A1C-D604BF2D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0E60-5510-4D65-9623-600E042C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0352-FEBA-4A78-81C8-8FD7AC1F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AA9E-F8B9-4C21-BB76-5C16854D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D7D3-40A9-42BD-936B-ECCB10EF3A5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6BAE-067F-475F-B194-8AFF8E4488F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idterm &amp; Concept Re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S 510, Fall 200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avid Walk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e Transl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most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 (Bool?) = any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 (t1 ?-&gt; t2) = any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ere anyt =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it + (unit + unit) + (anyt -&gt; any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is wrong her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e Transl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most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 (Bool?) = any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 (t1 ?-&gt; t2) = any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ere anyt =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it + (unit + unit) + (anyt -&gt; any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is wrong here?  Need a recursive typ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nyt = rec a. unit + (unit + unit) + (a -&gt; 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 Transl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rrors the form of the static semantic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s judgments with the form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G |- e1 : t) ==&gt; e1’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variant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G |- e1 : t)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==&gt; e1’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hen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ns(G) |- e1’ : Trans(t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2666520" y="5943240"/>
            <a:ext cx="1143000" cy="22860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25640" y="5791320"/>
            <a:ext cx="461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Key: e1’ must type check und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fully translated environm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 Translation (no op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633600" y="2438280"/>
            <a:ext cx="83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---------------------------------------------------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G |- true : Bool?) ==&gt; inr (Trans(Bool?), inl (unit + unit, ())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80360" y="4267080"/>
            <a:ext cx="760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G |- e1 : t1 ?-&gt; t2) ==&gt; e1’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G |- e2 : t1) ==&gt; e2’                         (x,y not in Dom(G)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---------------------------------------------------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G |- e1 e2 : t2) ==&gt; case e1’ of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      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 inl (x) =&gt; fai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      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| inr (y) =&gt; y e2’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Example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Wrong (but it was pretty tricky, so don’t worry)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 Translation (no op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1368000" y="3019320"/>
            <a:ext cx="678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G,f : t1 ?-&gt; t2, x : t1 |- e : t2) ==&gt; e’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------------------------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G |- fun f (x : t1) : t2 = e ==&gt;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r (..., fun f (x : Trans(t1)) : Trans(t2) = e’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goes wrong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89f7"/>
                </a:solidFill>
                <a:latin typeface="Tahoma"/>
              </a:rPr>
              <a:t>Conside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un f (x : unit) : unit = f x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89f7"/>
                </a:solidFill>
                <a:latin typeface="Tahoma"/>
              </a:rPr>
              <a:t>and its translati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r (..., fun f (x : unit) : unit =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se f of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 inl (y) =&gt; fai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| inr (z) =&gt; z x)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371600" y="4952520"/>
            <a:ext cx="2286000" cy="38124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8400" y="5137200"/>
            <a:ext cx="26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th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is a func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NOT a sum valu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The point of doing a proof is to discover mistakes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st prove result of trans has the right typ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 Translation (no op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889560" y="3657600"/>
            <a:ext cx="736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------------------------------ (by IH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,f : T(t1) -&gt; T(t2), x : T(t1) |- e’ : T(t2)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------------------------------------------ (fun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ns(G) |-  fun f (x : T(t1)) : T(t2) = e’ : T(t1) -&gt; T(t2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------------------------------------------ (inr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ns(G) |- inr (..., ....) : unit + (T(t1) -&gt; T(t2)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We can’t apply the induction hypothesis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T(G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|- e : t) ==&gt; e’ is necessa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 Translation (no op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889560" y="3657600"/>
            <a:ext cx="736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------------------------------ (by IH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,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f : T(t1) -&gt; T(t2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x : T(t1) |- e’ : T(t2)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------------------------------------------ (fun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ns(G) |-  fun f (x : T(t1)) : T(t2) = e’ : T(t1) -&gt; T(t2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------------------------------------------ (inr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ns(G) |- inr (..., ....) : unit + (T(t1) -&gt; T(t2)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47920" y="3581280"/>
            <a:ext cx="685800" cy="45720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7600" y="3081240"/>
            <a:ext cx="83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not the translation of a function type (unit + T(t1) -&gt; T(t2)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w do we fix thi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reate something with type 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(unit + T(t1) -&gt; T(t2)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o use 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insid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he func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n bind that something to a variable f for use inside e’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ur old translation gave us something with the type 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T(t1) -&gt; T(t2)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 Translation (no op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w do we fix thi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 Translation (no op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1407240" y="3019320"/>
            <a:ext cx="6659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G,f : t1 ?-&gt; t2, x : t1 |- e : t2) ==&gt; e’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------------------------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G |- fun f (x : t1) : t2 = e ==&gt;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r (..., fun f (x : Trans(t1)) : Trans(t2) =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        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let f = inr (..., f) i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’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e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t x = e1 in e2    is    ((fun _ (x : ...) : ... = e2) e1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idter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st people did just fi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reater than 90 = exceptio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80-90 = goo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ss than 80 = need more 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ree main part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ybeML: 3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bjects: 3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erative objects: 3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useful fac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let expression is normally just “syntactic sugar” for a function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let x = e1 in e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s the same 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(fn x =&gt; e2) e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tim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bservatio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re are only a couple of null checks that appear in our translation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n we really do substantially bette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tim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bservatio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re are only a couple of null checks that appear in our translation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n we really do substantially bette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YES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 expressions that result fro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he translation have many, many, many null check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f true then if false then if true then ...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3200040" y="5562360"/>
            <a:ext cx="228600" cy="60948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114800" y="5562360"/>
            <a:ext cx="228600" cy="60948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952880" y="5562360"/>
            <a:ext cx="533520" cy="60948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9040" y="6248520"/>
            <a:ext cx="72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ur translation inserts 3 unnecessary null checks!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me Possibilit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me people defined a few special-case rul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tect cases where values are directly elimiated and avoid null check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fun f (x:t1) :t2 = e) e’  translated differentl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f true then e1 else e2 translated differentl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ther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f? x then (if? x then e1 else e2) else e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se people received some mark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Much More General Solu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 lazy injections into the sum typ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eep track of whether or not you have done the injection using the type of the result express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f t’ = (unit + unit) or (trans(t1) -&gt; trans(t2)) then you haven’t injected the expression e’ into a sum yet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you can leave off unnecessary injections around any expression, not just valu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2774880" y="4038480"/>
            <a:ext cx="39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(G |- e : t) ==&gt; (e’ : t’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Much More General Solu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rules for introduction form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tra rules for elimination form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1666080" y="2438280"/>
            <a:ext cx="533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------------------------------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G |- true : Bool?) ==&gt; (inr (..., ()): unit + unit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82360" y="4267080"/>
            <a:ext cx="5007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G |- e1 : Bool? ==&gt; (e1’, t)            t notnul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G |- e2 : ts ==&gt; (e2’, t2’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G |- e3 : ts ==&gt; (e3’, t3’) 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2’,e3’,t2’,t3’  unifies to  e2’’,e3’’,t’’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------------------------------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G |- if e1 then e2 else e3 : ts) ==&gt;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f e1 then e2’’ else e3’’ : t’’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Judgm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atural Typ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fication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1416240" y="260676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unit + unit) notnul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99960" y="2606760"/>
            <a:ext cx="245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t1 -&gt; t2) notnul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88120" y="4403880"/>
            <a:ext cx="370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2 = t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---------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2,e3,t2,t3  unifies to e2,e3,t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3520" y="5699160"/>
            <a:ext cx="448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2 = unit + t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-----------------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2,e3,t2,t3  unifies to e2,inr(t2,e3),t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69200" y="5699160"/>
            <a:ext cx="448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3 = unit + t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-----------------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2,e3,t2,t3  unifies to inr(t3,e2),e3,t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jec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st people did well on the definition of the static and dynamic semantics for objec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f you want to know some detail, come see me during my office hou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ss well on the imperative featu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is a closed expression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is a closed expression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n expression containing no free vari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(fun f (x:bool):bool = x x) true) is clos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(fun f (x:bool):bool = y x) true) is not clos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thematically:  if FV is a function that computes the set of free variables of an expression th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 is closed if and only if FV(e) = { 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e-directed Transla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s a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type-directed translation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is a well-formed expression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is a well-formed expression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n expression that type checks under some type context G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(fun f (x:bool):bool = x x) true) is not well form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(fun f (x:bool):bool = y x) true) is well-formed in the context G = [y:bool -&gt; bool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s (e : t) an abbreviation fo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s (e : t) an abbreviation fo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typing judgment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|- e : 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(e : t) then what else do we know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523880" y="3428640"/>
            <a:ext cx="457200" cy="22860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1760" y="3538440"/>
            <a:ext cx="22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empty contex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s (e : t) an abbreviation fo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typing judgment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|- e : 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(e : t) then what else do we know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e know that e contains no free variab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 other words,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 e is clos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we might know other things if e also happens to be a valu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523880" y="3428640"/>
            <a:ext cx="457200" cy="22860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1760" y="3538440"/>
            <a:ext cx="22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empty contex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is a valu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is a valu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it is an expressio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hat does not need to be further evaluated (and it is not stuck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w do we normally define value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w do we normally define value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e declare a new 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metavariabl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v and give its form using BNF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 ::= x | n | &lt;v1,v2&gt; | fun f (x : t1) : t2 = 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at is the difference between a metavariable v and an expression variable x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ternatively, we define a value judgment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3169080" y="5291280"/>
            <a:ext cx="13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|- n valu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70480" y="5291280"/>
            <a:ext cx="13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|- x valu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41760" y="5089680"/>
            <a:ext cx="317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|- v1 value       |- v2 valu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------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|- &lt;v1,v2&gt; valu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it matter whether we use BNF or a series of judgments to define the syntax of values and expression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it matter whether we use BNF or a series of judgments to define the syntax of values and expression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No!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BNF is just an abbreviation for the inductive definition that we would give using judgments inste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y don’t we define typing rules using BNF if it is so darn convenient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e-directed Transla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s a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type-directed translation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t is a function (a compiler) that takes a typing derivation for a source-language expression and produces a target-language express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e can define type-directed translations using judgment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G |- e : t) ==&gt; e’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 is a source term; e’ is a target ter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e define the translation using inference rules. eg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2754360" y="5230800"/>
            <a:ext cx="581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G |- e1 : t1 -&gt; t2) ==&gt; e1’      (G |- e2 : t1) ==&gt; e2’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---------------------------------------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G |- e1 e2 : t2) ==&gt; e1’ e2’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it matter whether we use BNF or a series of judgments to define the syntax of values and expression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No!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BNF is just an abbreviation for the inductive definition that we would give using judgments inste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y don’t we define typing rules using BNF if it is so darn convenient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yping rules are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context-sensitive.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NF is used for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context-insensitiv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fini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is strange about the following sentenc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f (v : t) and v is a closed, well-formed value then the canonical forms lemma can tell us something about the shape of v given the type 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-2570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is strange about the following sentenc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f (v : t)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 and v is a closed, well-formed valu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hen the canonical forms lemma can tell us something about the shape of v given the type 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The red part is totally redundant!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440000" indent="-20556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f you are using the metavariable v, then you should have already defined it so that it refers to valu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440000" indent="-20556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v : t) should also have been defined before.  It should trivially imply that v is closed.  It defines what it means for v to be well-formed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440000" indent="-20556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f you write a sentence like this on the final, you might find yourself losing points...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ack to objec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 the future, when I say “write an expression that does ...” you should always write a well-formed, closed expression unless I specify otherwis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{getloop =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n (x). ({loop = fn(y).y.loop} : {loop : t}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} : {getloop : {loop : t} 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sn’t really an expression! It contains the metavariable 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ack to objec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{getloop =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n (x). ({loop = fn(y).y.loop} : {loop : { }}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} : {getloop : {loop : { }} 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s what you want to 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erative objec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 ::= {l = t,...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 ::= x | {l = b,...} | e.l | e.l &lt;- b |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 ::= fn(x).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erational semant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thout imperative features (field update) we can use the ordinary M-machine defin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 -&gt; e’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erational semant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obvious M-machine definition for object update doesn’t work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2479320" y="3124080"/>
            <a:ext cx="42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 = {lk = b’,l’’ = b’’...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-----------------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e.lk &lt;- b)  -&gt;  {lk = b,l’’ = b’’...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erational semant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2651400" y="2057400"/>
            <a:ext cx="335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t x = {n = fn(_).3} 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t _ = (x.n &lt;- fn(_).2) 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x.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70480" y="3581280"/>
            <a:ext cx="481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t _ = ({n = fn(_).3}.n &lt;- fn(_).2) 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{n = fn(_).3}.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72920" y="4800600"/>
            <a:ext cx="30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t _ = {n = fn(_).2} 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{n = fn(_).3}.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25400" y="601992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{n = fn(_).3}.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57400" y="3352680"/>
            <a:ext cx="68580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057400" y="4572000"/>
            <a:ext cx="68580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57400" y="5867280"/>
            <a:ext cx="68580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360840" y="6019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81480" y="6248520"/>
            <a:ext cx="68580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ere’s why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7009920" y="2743200"/>
            <a:ext cx="381240" cy="68580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88240" y="1557360"/>
            <a:ext cx="21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upda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nly has local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ff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erational semant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 need to augment our operational semantics with a global stor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store S is a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finite partial map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rom locations (r) to valu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what is a finite partial map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 ::= {l=b,...} | 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un-time expressions include locations 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ur semantics now has form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S,e) -&gt; (S’,e’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e-preserving Transla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en is a translation is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type-preserving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erational semant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2049120" y="2655720"/>
            <a:ext cx="413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--------------------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S, {l = b,...}) -&gt; (S[r -&gt; {l = b,...}], r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85040" y="3962520"/>
            <a:ext cx="257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(r) = {l = fn(x).e,...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S, r.l) -&gt; (S, e[S(r)/x]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730880" y="5459400"/>
            <a:ext cx="4707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(r) = {l = b’’, l’ = b’,...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---------------------------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S, r.l &lt;- b) -&gt; (S[r -&gt; {l = b, l’ = b’,...}], r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erational semant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2683440" y="2057400"/>
            <a:ext cx="36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., let x = {n = fn(_).3} 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t _ = (x.n &lt;- fn(_).2) 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x.n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80120" y="3581280"/>
            <a:ext cx="339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[r -&gt; {n = fn(_).3}]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t _ = (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n &lt;- fn(_).2) 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n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057400" y="3352680"/>
            <a:ext cx="68580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ur exampl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2057400" y="4876920"/>
            <a:ext cx="68580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03520" y="518148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[r -&gt; {n = fn(_).2}],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.n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57400" y="6172200"/>
            <a:ext cx="68580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620800" y="632448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[r -&gt; {n = fn(_).2}], 2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295280" y="2285640"/>
            <a:ext cx="1143000" cy="22860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8920" y="2471760"/>
            <a:ext cx="109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mpt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to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483960" y="4419720"/>
            <a:ext cx="259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 is substitut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r x everywhe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ut the conten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f r are kept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 one pl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5790960" y="4495680"/>
            <a:ext cx="609480" cy="45720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4876560" y="4876920"/>
            <a:ext cx="1447560" cy="45720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ngs to remembe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w to define type-directed and type-preserving transla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 able to use and define common ter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alues, closed expressions, operational semantics, canonical form, inversion principle, type system, soundness, completeness, subtyping, the subsumption principle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ofs are for finding mistak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erative features are trick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05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e-preserving Transla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en is a translation is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type-preserving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f given a valid derivation, it produces a well-typed target express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e often prove a theorem like thi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f (G |- e : t) ==&gt; e’ then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ns(G) |- e’ : Trans(t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ere Trans(t) is 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ype translation function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5409720" y="5105520"/>
            <a:ext cx="1295640" cy="38088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95280" y="4724280"/>
            <a:ext cx="2387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n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rdinary typ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udgm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 the targe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ybe M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yntax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 ::= Bool? | t1 ?-&gt; t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 ::= x | true | false | null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| if e1 then e2 else e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| if? e1 then e2 else e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| fun f (x:t1) : t2 = e | e1 e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inML (unit,+,-&gt;,exn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yntax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 ::= unit | t1 + t2 | t1 -&gt; t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 ::= x | () | e1; e2 | inl (t,e1) | inr (t,e2) |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Questi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fine a type-directed, type-preserving translation from MaybeML to MinML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e Transl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 expected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 (Bool?) = unit + (unit + uni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 (t1 ?-&gt; t2) =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it + (Trans(t1) + Trans(t2)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other possibility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 (Bool?) = unit + (unit + unit)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 (t1 ?-&gt; t2) = t1 -&gt; t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 Walker</cp:lastModifiedBy>
  <dcterms:modified xsi:type="dcterms:W3CDTF">2002-12-02T19:19:24Z</dcterms:modified>
  <cp:revision>8</cp:revision>
  <dc:subject/>
  <dc:title>PowerPoint Presentation</dc:title>
</cp:coreProperties>
</file>