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5BE6-CC82-4EEF-8925-0191D5597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E796-43CA-4C6E-B45F-EDED0CB3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4288-8E98-4353-B8B0-CD956659B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E657-3240-41AF-832C-DF6D567EC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53AC-7D27-4DCC-96B4-22199F10F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A4E6-2C7E-41C2-93F7-1872DF20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4226-5025-4527-8929-66255CB7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C46B-E832-4615-A9C9-FB198C29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B478-92DA-4D79-B511-072B8657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91EB-6611-4E3B-8A1E-FFB43264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009E-0007-467C-814F-2C453EFC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AE92-5AB4-44EE-91DB-F4EA1193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2699-B2E1-421E-BDD0-DDE008D4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4A554-BEC3-4A6B-AD02-41C65807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503C-2D20-4B66-BFA9-B195A463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7D34-5CFF-4F08-9861-803B0DA52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2B67-0633-4236-B1F9-0022DAA11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7E00-2AE2-41E5-85A6-AD777E2C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ECCF-9BE9-40F3-9A4F-48A08DFE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AC5B-D7A9-4F54-B0F5-FE9E6671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136B-61DB-4D52-9522-33D10095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86A3-E740-4340-80B7-CC53BCBD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EDA5-5DCB-421C-A7D6-B9647AED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AF18-A77B-4397-859C-FD00DDA9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9AC1-7D19-46E1-B0B0-811AB3561873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0C70-7D4F-445E-B727-C45B6E44952A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osbul1a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S 510, Fall 2002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, map (f, tl l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b’’’ list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020720" y="1600200"/>
            <a:ext cx="177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3733920" y="2209680"/>
            <a:ext cx="3200400" cy="685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419360" y="2590920"/>
            <a:ext cx="2514600" cy="1828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7086240" y="3200400"/>
            <a:ext cx="762120" cy="11430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559560" y="556272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65440" y="556272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5791320" y="4952880"/>
            <a:ext cx="0" cy="4572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H="1" flipV="1">
            <a:off x="7010280" y="4952880"/>
            <a:ext cx="152640" cy="4572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020720" y="1600200"/>
            <a:ext cx="1778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134880" y="556272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H="1" flipV="1">
            <a:off x="2971440" y="4876560"/>
            <a:ext cx="304920" cy="60948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c’ li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099920" y="1600200"/>
            <a:ext cx="1778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080520" y="5562720"/>
            <a:ext cx="135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 flipV="1">
            <a:off x="2590920" y="4876560"/>
            <a:ext cx="457200" cy="685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c’ li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099920" y="1600200"/>
            <a:ext cx="1778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72320" y="579132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1447920" y="4952880"/>
            <a:ext cx="304560" cy="9144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91960" y="3429000"/>
            <a:ext cx="1231920" cy="2362320"/>
          </a:xfrm>
          <a:custGeom>
            <a:avLst/>
            <a:gdLst/>
            <a:ahLst/>
            <a:rect l="l" t="t" r="r" b="b"/>
            <a:pathLst>
              <a:path w="776" h="1488">
                <a:moveTo>
                  <a:pt x="200" y="1488"/>
                </a:moveTo>
                <a:cubicBezTo>
                  <a:pt x="100" y="1236"/>
                  <a:pt x="0" y="984"/>
                  <a:pt x="8" y="768"/>
                </a:cubicBezTo>
                <a:cubicBezTo>
                  <a:pt x="16" y="552"/>
                  <a:pt x="120" y="320"/>
                  <a:pt x="248" y="192"/>
                </a:cubicBezTo>
                <a:cubicBezTo>
                  <a:pt x="376" y="64"/>
                  <a:pt x="576" y="32"/>
                  <a:pt x="776" y="0"/>
                </a:cubicBezTo>
              </a:path>
            </a:pathLst>
          </a:custGeom>
          <a:noFill/>
          <a:ln w="255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c’ li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d li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101720" y="1600200"/>
            <a:ext cx="1887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373840" y="6019920"/>
            <a:ext cx="134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 flipV="1">
            <a:off x="1599840" y="5257800"/>
            <a:ext cx="609480" cy="5335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886200" y="2590920"/>
            <a:ext cx="1879560" cy="3657600"/>
          </a:xfrm>
          <a:custGeom>
            <a:avLst/>
            <a:gdLst/>
            <a:ahLst/>
            <a:rect l="l" t="t" r="r" b="b"/>
            <a:pathLst>
              <a:path w="1232" h="2160">
                <a:moveTo>
                  <a:pt x="0" y="2160"/>
                </a:moveTo>
                <a:cubicBezTo>
                  <a:pt x="308" y="2096"/>
                  <a:pt x="616" y="2032"/>
                  <a:pt x="816" y="1824"/>
                </a:cubicBezTo>
                <a:cubicBezTo>
                  <a:pt x="1016" y="1616"/>
                  <a:pt x="1232" y="1216"/>
                  <a:pt x="1200" y="912"/>
                </a:cubicBezTo>
                <a:cubicBezTo>
                  <a:pt x="1168" y="608"/>
                  <a:pt x="896" y="304"/>
                  <a:pt x="624" y="0"/>
                </a:cubicBezTo>
              </a:path>
            </a:pathLst>
          </a:custGeom>
          <a:noFill/>
          <a:ln w="255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101720" y="1606680"/>
            <a:ext cx="1887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fin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3:  Solv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848520" y="3581280"/>
            <a:ext cx="1778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fin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traint solution provides all possible solutions to type scheme annotations on term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795120" y="4114800"/>
            <a:ext cx="155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solu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 -&gt;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743200" y="4724280"/>
            <a:ext cx="838080" cy="457200"/>
          </a:xfrm>
          <a:custGeom>
            <a:avLst/>
            <a:gdLst>
              <a:gd name="textAreaLeft" fmla="*/ 130680 w 838080"/>
              <a:gd name="textAreaRight" fmla="*/ 733320 w 8380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abe9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19160" y="3733920"/>
            <a:ext cx="212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map (f : a -&gt; b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x : a list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b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i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486400" y="4724280"/>
            <a:ext cx="838080" cy="457200"/>
          </a:xfrm>
          <a:custGeom>
            <a:avLst/>
            <a:gdLst>
              <a:gd name="textAreaLeft" fmla="*/ 130680 w 838080"/>
              <a:gd name="textAreaRight" fmla="*/ 733320 w 8380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abe9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4:  Generate typ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Generate types from type schem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ption 1: pick an instance of the most general type when we have completed type inference on the entire program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map : (int -&gt; int) -&gt; int list -&gt; int list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ption 2: generate polymorphic types for program parts and continue (polymorphic) type infere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map : All (a,b,c) (a -&gt; b) -&gt; a list -&gt; b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 Detail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 constraints are sets of equations between type schem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::= {s11 = s12, ..., sn1 = sn2}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g: {b = b’ list, a = b -&gt; c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straint Gene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yntax-directed constraint generatio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ur algorithm crawls over abstract syntax of untyped expressions and generat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 term schem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 set of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lgorithm defined as set of inference rules (as always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u =&gt; e : t, q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riticisms of Typed Languag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s overly constrain functions &amp; data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olymorphism makes typed constructs useful in more context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universal polymorphism =&gt; code reus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existential polymorphism =&gt; rep. independenc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ubtyping =&gt; coming so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s clutter programs and slow down programmer productivity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ype infere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uninformative annotations may be omitte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straint Gene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mple ru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x ==&gt; x : s,  { }      (if G(x) = 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3 ==&gt; 3 : int, { }    (same for other int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true ==&gt; true : bool, { 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false ==&gt; false : bool, { 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perator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26960" y="2362320"/>
            <a:ext cx="833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             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+ u2 ==&gt; e1 + e2 : int, q1 U q2 U {t1 = int, t2 = int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11840" y="4375080"/>
            <a:ext cx="858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             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&lt; u2 ==&gt; e1 + e2 : bool, q1 U q2 U {t1 = int, t2 = int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If stateme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30520" y="2362320"/>
            <a:ext cx="7468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3 ==&gt; e3 : t3, q3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if u1 then u2 else u3 ==&gt; if e1 then e2 else e3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a, q1 U q2 U q3 U {t1 = bool, a = t2, a = t3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Function Appl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510920" y="2362320"/>
            <a:ext cx="642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u2==&gt; e1 e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a, q1 U q2 U {t1 = t2 -&gt; a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Function Decla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256400" y="2362320"/>
            <a:ext cx="693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, f : a -&gt; b, x : a |-- u ==&gt; e : t,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fun f(x) is u end ==&gt; fun f (x : a) : b is e en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a -&gt; b, q U {t = b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olving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solution to a system of type constraints is a substitution 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 function from type variables to typ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because some things get simpler, we assume substitutions are defined on all type variable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a) = a     (for almost all variables a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a) = s      (for some type scheme s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om(S) = set of variables s.t. S(a) </a:t>
            </a:r>
            <a:r>
              <a:rPr b="0" lang="en-US" sz="2800" spc="-1" strike="noStrike">
                <a:solidFill>
                  <a:srgbClr val="8383ad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a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bstit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Given a substitution S, we can define a function S* from type schemes (as opposed to type variables) to type schem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*(int) = in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*(s1 -&gt; s2) = S*(s1) -&gt; S*(s2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*(a) = S(a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ue to laziness, I will write S(s) instead of S*(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mposition of Substit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mposition (U o S) applies the substitution S and then applies the substitution U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(U o S)(a) = U(S(a)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will need to compare substitution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&lt;= S if T is “more specific” than 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&lt;= S if T is “less general” than 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ormally: T &lt;= S if and only if T = U o S for some U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mposition of Substit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xample 1: any substitution is less general than the identity substitution I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&lt;= I because S = S o I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xample 2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a) = int, S(b) = c -&gt; c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(a) = int, T(b) = int -&gt; in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we conclude: T &lt;= 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f T(a) = int, T(b) = int -&gt; bool then T is unrelated to S (neither more nor less general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olving a Constrain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 |= q if S is a solution to the constraints q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183920" y="3200400"/>
            <a:ext cx="375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s1) = S(s2)          S |=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|= {s1 = s2} U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294560" y="3581280"/>
            <a:ext cx="120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|= { 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1828800" y="4571640"/>
            <a:ext cx="76320" cy="60948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14440" y="5222880"/>
            <a:ext cx="309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ny substitution i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 solution for the empt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set of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 flipV="1">
            <a:off x="6095880" y="4647960"/>
            <a:ext cx="152640" cy="60948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856400" y="5181480"/>
            <a:ext cx="34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 solution to an equa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is a substitution that mak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left and right sides equ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eneration of type constraints from unannotated simply-typed program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olving type constraint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ext tim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ML-style polymorphic type infere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ype inference for System F 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Most General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 is the principal (most general) solution of a constraint q if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 |= q                          (it is a solution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T |= q then T &lt;= S   (it is the most general one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:  If q has a solution, then it has a most general on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care about principal solutions since they will give us the most general types for term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= {a=int, b=a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incipal solution 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= {a=int, b=a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incipal solution 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a) = S(b) = in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c) = c    (for all c other than a,b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= {a=int, b=a, b=bool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incipal solution 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= {a=int, b=a, b=bool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incipal solution 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does not exist (there is no solution to q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Unification:  An algorithm that provides the principal solution to a set of constraints (if one exists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Unification systematically simplifies a set of constraints, yielding a substitu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tarting state of unification process: (I,q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al state of unification process: (S, { }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can specify unification as a transition syste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(S,q) -&gt; (S’,q’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ase types &amp; simple variab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10800" y="4419720"/>
            <a:ext cx="3358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int=int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bool=bool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545080" y="4876920"/>
            <a:ext cx="258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a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ction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Variable definition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041200" y="2590920"/>
            <a:ext cx="415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11 -&gt; s12= s21 -&gt; s22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 {s11 = s21, s12 = s22} U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230920" y="4419720"/>
            <a:ext cx="562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s} U q) -&gt; 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302560" y="5638680"/>
            <a:ext cx="55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=a} U q) -&gt; 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ccurs Check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hat is the solution to {a = a -&gt; a}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ccurs Check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hat is the solution to {a = a -&gt; a}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ere is none!  (Remember your homework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e occurs check detects this situa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693080" y="4724280"/>
            <a:ext cx="55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=a} U q) -&gt; 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6781320" y="5181120"/>
            <a:ext cx="685800" cy="7621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692760" y="594360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occurs check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Schem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type scheme contains type variables that may be filled in during type inferenc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 ::= a | int | bool | s1 -&gt; s2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term scheme is a term that contains type schemes rather than proper typ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 ::= ... | fun f (x:s1) : s2 is e end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Irreducible Stat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Recall: final states have the form (S, { }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tuck states (S,q) are such that every equation in q has the for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nt = boo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1 -&gt; s2 = s   (s not function type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 = s              (s contains a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r is symmetric to one of the abov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tuck states arise when constraints are unsolvabl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want unification to terminate (to give us a type reconstruction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algorithm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n other words, we want to show that there is no infinite sequence of stat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(S1,q1) -&gt; (S2,q2) -&gt; ..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associate an ordering with constraint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&lt; q’ if and only if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contains fewer variables than q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contains the same number of variables as q’ but fewer type constructors (ie: fewer occurrences of int, bool, or “-&gt;”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is is a lexacographic ordering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we can prove (by contradiction) that there is no infinite decreasing sequence of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: Every step reduces the size of q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oof:  By cases (ie: induction) on the definition of the reduction relation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05880" y="3581280"/>
            <a:ext cx="3358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int=int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bool=bool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8520" y="5470560"/>
            <a:ext cx="258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a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479480" y="3581280"/>
            <a:ext cx="415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11 -&gt; s12= s21 -&gt; s22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 {s11 = s21, s12 = s22} U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566960" y="5181480"/>
            <a:ext cx="3897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s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mplete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complete solution for (S,q) is a substitution T such th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&lt;= 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|= q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 1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very final state (S, { }) has a complete solution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t is S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&lt;= 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|= { }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 2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No stuck state has a complete solution (or any solution at all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t is impossible for a substitution to make the necessary equations equ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8383ad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 boo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8383ad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 t1 -&gt; t2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 3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(S,q) -&gt; (S’,q’) the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 is complete for (S,q) iff T is complete for (S’,q’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proof by?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n the forward direction, this is the preservation theorem for the unification machine!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y termination, (I,q) -&gt;* (S,q’) where (S,q’) is irreducible.  Moreover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q’ = { } the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(S,q’) is final (by definition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is a principal solution for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onsider any T such that T is a solution to q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Now notice, S is complete for (S,q’) (by lemma 1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is complete for (I,q) (by lemma 3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nce S is complete for (I,q), T &lt;= S and therefore S is principal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 Unification (cont.)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... Moreover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q’ is not { } (and (I,q) -&gt;* (S,q’) where (S,q’) is irreducible) the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(S,q) is stuck.  Consequently, (S,q) has no complete solution.  By lemma 3, even (I,q) has no complete solution and therefore q has no solution at all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, l)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 inference algorithm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iven a context G, and untyped term u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d e, t, q such that G |- u ==&gt; e : t,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d principal solution S of q via unifica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f no solution exists, there is no reconstructio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pply S to e, ie our solution is S(e)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(e) contains schematic type variables a,b,c, etc that may be instantiated with any typ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ince S is principal, S(e) characterizes all reconstructions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1:  Add Type Schem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4799160" y="2585520"/>
            <a:ext cx="534960" cy="5382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 flipV="1">
            <a:off x="4038480" y="2590560"/>
            <a:ext cx="1292400" cy="8413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274360" y="3040200"/>
            <a:ext cx="214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type schem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on function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 flipV="1">
            <a:off x="2514600" y="3162240"/>
            <a:ext cx="1371600" cy="5335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056840" y="34290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020720" y="1600200"/>
            <a:ext cx="177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3733920" y="2209680"/>
            <a:ext cx="3200400" cy="685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020720" y="1600200"/>
            <a:ext cx="177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3733920" y="2209680"/>
            <a:ext cx="3200400" cy="685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615040" y="55022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241960" y="548640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3352680" y="4876560"/>
            <a:ext cx="228600" cy="5331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 flipV="1">
            <a:off x="5790960" y="4876560"/>
            <a:ext cx="228600" cy="5331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0T11:06:27Z</dcterms:created>
  <dc:creator>David Walker</dc:creator>
  <dc:description/>
  <dc:language>en-US</dc:language>
  <cp:lastModifiedBy>David Walker</cp:lastModifiedBy>
  <dcterms:modified xsi:type="dcterms:W3CDTF">2002-11-13T13:57:23Z</dcterms:modified>
  <cp:revision>26</cp:revision>
  <dc:subject/>
  <dc:title>Type Inference</dc:title>
</cp:coreProperties>
</file>