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6FB-4855-4DB4-B20E-F569C47F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299-2545-405F-8D9C-C27D6367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8EE-00FB-475F-87BA-E7A4A1BD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636-D165-4CD2-AE32-04496B9D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583-E5EC-47B2-BC5F-6403AD61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0031-76D9-41F6-A40F-13A2FBF5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3626-D102-4147-BE6E-C716F70C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78EF-38DB-4210-938F-2C732425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A59C-6572-4705-B678-81ED2D0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F29F-85DA-4D1A-8316-B6D3644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333F-7934-48C9-B9F9-A966DD8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ACE-2362-4E9F-B554-A74FD7B4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0294-A7A6-48A1-B845-AA9BBDC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A019-0433-48CE-BD1C-148243C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57C3-2E26-4F17-AE7A-9F95E4B0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4F85-AB9D-4048-A3A7-27ACBEEF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5576-64DC-4BF8-8CE6-5F67E791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677-1BFC-42D7-B65F-3B1969B7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89B-DC6C-4855-ABCC-4044BEBC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321-B0EC-4E6E-8E73-7CD7FE9B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BBB-2FCE-4272-8920-79CC90F8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864-9DF1-4BEC-BF32-B22A29DF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BFE-647D-4B5A-AB92-82898C8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589-11DA-41A1-AE97-C6DDBAE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49F2-3F0D-4011-BC3B-1D2FED3E861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8579-08AF-4241-8F82-23F399BAE114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, Fall 200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19160" y="3733920"/>
            <a:ext cx="212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constraints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yntax-directed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6400" y="2362320"/>
            <a:ext cx="693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solution to a system of type constraints is a 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mposition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4440" y="522288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56400" y="518148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eneration of type constraints from unannotated simply-typ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olving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ext ti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L-style polymorphic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 for System F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principal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nification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fication systematically simplifies a set of constraints, yielding a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92760" y="59436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ype scheme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erm scheme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prove (by contradiction) that 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complete solution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of b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complete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complete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complete for (I,q), T &lt;= S and therefore S is principa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avid Walker</cp:lastModifiedBy>
  <dcterms:modified xsi:type="dcterms:W3CDTF">2002-11-13T13:57:23Z</dcterms:modified>
  <cp:revision>26</cp:revision>
  <dc:subject/>
  <dc:title>Type Inference</dc:title>
</cp:coreProperties>
</file>