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845-325E-4ED3-841D-023AAFAD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45F-ED50-454D-9497-5AD2D83E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8CF-4848-44AE-B313-4A056335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931-7442-44C2-BAD9-4456C30A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E65A-1B78-48E8-96EE-3AB438E5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1659-8EF9-418B-B09E-43EAA177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AE7F-1962-4F36-B846-8F801984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9A8E-D8B3-494C-BC73-E7FF88F7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3B00-110C-4F89-B2B5-0ABBFD61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1643-AAEC-416A-AD31-30C333BD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17A-945A-4448-A59B-9545C9B2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AC0-C02B-43BC-BFEA-00869BC0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25A0-75C4-49FD-93EA-245B1B3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88F8-8AD0-412A-95A7-A26806A6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00AD-1859-4E0E-906A-41006AC9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6F7E-60E0-49EB-803B-BD9EA137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5B21-F840-4BCD-A199-511081E0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31D-4518-4E10-8EA5-CB532071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E3A-12CC-40CE-91B1-B96D68A7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6EAB-04C9-4EAF-9071-C36B6342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7F1-1293-4EF2-81D0-9019018F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D47-52BF-45DD-8474-B404710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F98-B73F-4D99-AA71-B078642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931-5D82-4BBA-B714-C18B72A1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8A34-598E-4AD8-BA2E-1DC18F512A1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B024-AAD6-4289-AB51-9342339E884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, Fall 200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19160" y="3733920"/>
            <a:ext cx="212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constraints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yntax-directed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6400" y="2362320"/>
            <a:ext cx="693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solution to a system of type constraints is a 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mposition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4440" y="522288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56400" y="5181480"/>
            <a:ext cx="34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eneration of type constraints from unannotated simply-typ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olving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ext ti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L-style polymorphic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 for System F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principal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nification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fication systematically simplifies a set of constraints, yielding a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692760" y="59436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ype scheme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erm scheme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prove (by contradiction) that 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complete solution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of b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complete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complete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complete for (I,q), T &lt;= S and therefore S is principal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avid Walker</cp:lastModifiedBy>
  <dcterms:modified xsi:type="dcterms:W3CDTF">2002-11-13T13:57:23Z</dcterms:modified>
  <cp:revision>26</cp:revision>
  <dc:subject/>
  <dc:title>Type Inference</dc:title>
</cp:coreProperties>
</file>