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40C1-CE23-420E-A83F-1EF90F0C0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2480-8175-435C-8DDD-D60F1E09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FA22-B506-4389-9118-CAB60AA7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5380-6DC0-4AC0-B299-8B432397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E8BB-8F07-409A-A2CF-770E62DD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EE65-023F-4F0B-A9E7-9958C5A1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B4BD-7B92-474F-967A-7768CF71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CD92-DD0B-448F-9223-E3FE9B05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0876-F167-4E44-9ABF-8A10AA65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DA3A-D87A-40EA-9B7F-5CECFC8D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B06B-4E68-4E00-B935-01667817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E04C-5A42-41B0-A477-3917F09D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055-9292-459A-82BB-9D8E62B3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93E5-F4B4-444C-A1CB-DDBEEA6F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4330-3092-4A52-BFB5-56BD53B5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C07D-78C6-4E3C-AEB0-A787A751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D3EF-4FD4-4277-880B-E915D4A4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B7B9-95D1-4E20-9789-87A765EE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53EE-EAFD-46AF-938B-950431F6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ECA-2DF6-4201-8208-8701F0C2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6D6-5660-4DBC-B63B-75955F54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60DF-B172-423C-88A9-C2472EC9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30C-B528-4BE0-B88F-E8E67CC9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4851-DB31-4D09-B94D-D7692CD3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B854-D0CF-474B-B0E6-887F86ED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4A3D-0EA6-4C38-BBDA-EC470BB5AA4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B0CB-403F-4AD5-AE9C-4DF93101B0C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ofs are Programs: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19th Century Logic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21st Century Comput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S 510: Programming Languag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a talk adapted from Philip Wadle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ege in modern no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03440" y="2743200"/>
            <a:ext cx="413712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rhard Gentzen (193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tural Dedu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definition of logical connectives exclusively in terms of introduction of the connective and elimination of the conn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ior work specified logic via axioms that related one connective to anoth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7972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tzen (193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09840" y="2666880"/>
            <a:ext cx="61243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tzen (193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46320" y="3124080"/>
            <a:ext cx="66513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tzen (193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modern nota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57240" y="3276720"/>
            <a:ext cx="722808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tzen (193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of simplification rul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08400" y="3276720"/>
            <a:ext cx="43272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of simplific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95520" y="2727360"/>
            <a:ext cx="59515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of simplific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95520" y="2705040"/>
            <a:ext cx="5951520" cy="1920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335320" y="4579920"/>
            <a:ext cx="4473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onzo Chur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vented (discovered?) the lambda calcul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rst programming language research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239256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onzo Church (1903-1995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vented (discovered?) the lambda calcul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rst programming language research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 didn’t know it at the time (we were still lacking the computer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5880" y="2209680"/>
            <a:ext cx="239256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w to Talk to Alie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9720" y="1905120"/>
            <a:ext cx="606456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urch (193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introduction of free and bound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716256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urch (193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logic is defined entirely and abstractly by a system of inference ru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ymbols do not have pre-conceived mean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re logic uninfluenced by cul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7543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urch (193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case you missed the last l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’ll s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66760" y="3124080"/>
            <a:ext cx="8610480" cy="12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urch (1932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of terms, bound variables and the notion of well-formed obje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30040" y="4114800"/>
            <a:ext cx="868392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uting with Church’s lambda calcu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eral evaluation rul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52960" y="2514600"/>
            <a:ext cx="2636640" cy="579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086280" y="4114800"/>
            <a:ext cx="29718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mple evalu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119400" y="2743200"/>
            <a:ext cx="290340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urch’s typed lambda calcu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90720" y="3048120"/>
            <a:ext cx="76579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ifying progra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90720" y="2790720"/>
            <a:ext cx="75135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ifying progra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3880" y="2484360"/>
            <a:ext cx="6858000" cy="2124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209680" y="4495680"/>
            <a:ext cx="53262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ry-Howard Isomorphis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1912680" cy="23241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562720" y="3048120"/>
            <a:ext cx="1920600" cy="2293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584360" y="5756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360" y="556272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skell Curry (1900-1982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56520" y="552780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lliam Howa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sic natural phenome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mathematical phenomena seem so unavoidable that we must view them as “discovered” rather than “invented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tural numb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 appears first in India (700 C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thematical consta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i, 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omet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asic shapes (circle, triangl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eometric laws (triangle inequality, area and volum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ry-Howard Isomorphis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rst noticed by Curry in 196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rst published by Howard in 198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undamental ide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ofs are progra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mulas are typ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of rules are type checking ru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of simplification is operational semantic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Ideas and observations about logic are ideas and observations about programming langua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ry-Howard (intuitionistic logi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3720" y="2362320"/>
            <a:ext cx="3695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nd-order intuitionistic 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formula variable) 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implication)         A =&gt;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conjunction)        A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disjunction)         A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truth)                   Tru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falsehood)           Fa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universal quant)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.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existential quant)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.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72160" y="2362320"/>
            <a:ext cx="397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lymorphic Lambda Calcul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PolyMinML - recursi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type variable)       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function type)      A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pair type)             A *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sum type)             A +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unit)                     un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void)                    voi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universal poly)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.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existential poly)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.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ry-Howard (intuitionistic logi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e: You don’t have to omit proof terms from logical ru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3720" y="2743200"/>
            <a:ext cx="36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nd-order intuitionistic 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71800" y="2743200"/>
            <a:ext cx="40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lymorphic Lambda Calculu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" y="5002200"/>
            <a:ext cx="350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A =&gt; B          G |-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-------------- (=&gt;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36680" y="3402000"/>
            <a:ext cx="296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, x:A |- e : B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---------(Fun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x:A.e : A =&gt;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96400" y="3402000"/>
            <a:ext cx="307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, A |- B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--------- (=&gt; I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A =&gt;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5320" y="5002200"/>
            <a:ext cx="375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e1 : A =&gt; B   G |- e2 :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----------------- (App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e1 e2 :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ry-Howard (intuitionistic logi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3720" y="2743200"/>
            <a:ext cx="36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nd-order intuitionistic log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71800" y="2743200"/>
            <a:ext cx="405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lymorphic Lambda Calculu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7840" y="4995720"/>
            <a:ext cx="189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A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B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 (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1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4520" y="3402000"/>
            <a:ext cx="332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e1 : A     G |- e2 : B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-------------(Pair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&lt;e1,e2&gt; : A *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34200" y="3402000"/>
            <a:ext cx="227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A    G |- B   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-- (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I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A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74920" y="5013360"/>
            <a:ext cx="189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A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B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 (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2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18720" y="5029200"/>
            <a:ext cx="223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e : A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B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 (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1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e.1 : 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04720" y="5046840"/>
            <a:ext cx="223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e : A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B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---------------- (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2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G |- e.2 B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ther Examp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ndley/Milner: formula reconstruction/type infere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irard/Reynolds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ystem F/Polymorphic lambda calcul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near Logic/Syntactic control of interference, linear typ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urthy: classical logic/callcc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bramsky: multiplicative vs additive/strict vs laz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fenning and Davies: modal logic/RTC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il Wadler: and dual to or/CBV dual to CB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Curry-Howard isomorphis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incidence?  Or are aliens trying to tell us someth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dentical concepts arise across time and cultur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rtain logical/computational definitions seem unavoid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e they inventions or discoverie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this talk about the history of logic or the history of computer programming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as this course about logic or computer scienc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puter Scie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vented or discover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re there fundamental, unavoidable computational phenomen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ws or concepts with the same unavoidable feeling as Newton’s laws of gravit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would we know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concepts would appear across time and cul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t computer science is only 50 years old!  Or is i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orge Boo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15-186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ventor (discoverer?) of Boolean algeb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jectured the existence of fundamental Laws of Though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72200" y="2362320"/>
            <a:ext cx="20113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orge Boole (Laws of Thought, 1854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89280" y="2819520"/>
            <a:ext cx="53640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otlob Frege (1848-1925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rst hints of modern log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mal diagrams to depict mathematical inferen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248520" y="2000160"/>
            <a:ext cx="22399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ege’s inferences (1879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ok vaguely familia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85920" y="2895480"/>
            <a:ext cx="65721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 of Logic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ege continued (1879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97160" y="2819520"/>
            <a:ext cx="45496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1:34:44Z</dcterms:created>
  <dc:creator>David Walker</dc:creator>
  <dc:description/>
  <dc:language>en-US</dc:language>
  <cp:lastModifiedBy>David Walker</cp:lastModifiedBy>
  <dcterms:modified xsi:type="dcterms:W3CDTF">2002-12-11T05:48:18Z</dcterms:modified>
  <cp:revision>7</cp:revision>
  <dc:subject/>
  <dc:title>Proofs are Programs: 19th Century Logic  and 21st Century Computing</dc:title>
</cp:coreProperties>
</file>