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12F4-9DC2-462C-9F83-F1E935083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67C-4F16-495A-B27D-35815486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0DAC-0A01-44CC-9D70-D071556B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6C5-BA9B-4812-9540-C1E781E7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28B-1EC2-496A-96D1-D01031DA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3C2C-D8E4-4F0D-9881-5CB5BF92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9DB9-A9F0-4814-B7BE-D08EB686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CBD6-373F-415C-B4B1-647D46C9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7DF4-40FA-4F36-9C77-9F05EFBB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F4C5-5901-44F7-A86A-A66F650E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B227-DB51-4B33-BD47-DEADB4F7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83EF-F425-4F53-A1E0-7A67B4E9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5D1-981B-4789-A2D5-332BD76A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EDDB-9E24-483C-A339-5B01B1F3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58DC-E1A9-437A-B304-16BAF097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3F17-3FD3-4F89-A95C-6A66A2D3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49CC-F7A7-4D07-A7D1-7A6AD0E1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9EAB-E6CC-4D0C-BC5B-691F6C02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084-356A-46AA-ADC0-617C1307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41E-071C-4C18-BC95-B1F6BC21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E0A-680A-4DC7-A5A0-DF2545B4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1ADF-375D-479B-9BD4-507408FD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A2C-26CB-4537-8DB4-DAAED4A5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4AEF-8F76-4C6E-B2A6-80B0FE6E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4E6-B0B5-437C-9D8E-AD45CDD2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7DE4-9E42-49E4-A6C8-8D91BBADAFA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7B9D-F423-41E6-A58D-DD78F4FE372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ofs are Programs: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19th Century Logic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21st Century Comput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S 510: Programming Languag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a talk adapted from Philip Wadle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ge in modern no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03440" y="2743200"/>
            <a:ext cx="413712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rhard Gentzen (193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tural Dedu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definition of logical connectives exclusively in terms of introduction of the connective and elimination of the conn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ior work specified logic via axioms that related one connective to anoth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7972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tzen (193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09840" y="2666880"/>
            <a:ext cx="61243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tzen (193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46320" y="3124080"/>
            <a:ext cx="6651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tzen (193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modern nota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57240" y="3276720"/>
            <a:ext cx="72280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tzen (193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of simplification rul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08400" y="3276720"/>
            <a:ext cx="43272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of simplif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95520" y="2727360"/>
            <a:ext cx="59515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of simplif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95520" y="2705040"/>
            <a:ext cx="5951520" cy="1920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335320" y="4579920"/>
            <a:ext cx="4473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onzo Chur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vented (discovered?) the lambda calcul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rst programming language research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39256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onzo Church (1903-1995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vented (discovered?) the lambda calcul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rst programming language research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didn’t know it at the time (we were still lacking the computer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39256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w to Talk to Alie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9720" y="1905120"/>
            <a:ext cx="606456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urch (193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introduction of free and bound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716256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urch (193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logic is defined entirely and abstractly by a system of inference ru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ymbols do not have pre-conceived mean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re logic uninfluenced by cul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7543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urch (193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case you missed the last l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’ll s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66760" y="3124080"/>
            <a:ext cx="8610480" cy="12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urch (193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of terms, bound variables and the notion of well-formed obje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0040" y="4114800"/>
            <a:ext cx="868392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uting with Church’s lambda calcu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al evaluation rul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52960" y="2514600"/>
            <a:ext cx="2636640" cy="579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086280" y="4114800"/>
            <a:ext cx="29718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ple evalu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119400" y="2743200"/>
            <a:ext cx="290340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urch’s typed lambda calcu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76579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ifying progra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90720" y="2790720"/>
            <a:ext cx="75135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ifying progra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3880" y="2484360"/>
            <a:ext cx="6858000" cy="2124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209680" y="4495680"/>
            <a:ext cx="5326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ry-Howard Isomorph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1912680" cy="23241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562720" y="3048120"/>
            <a:ext cx="1920600" cy="2293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84360" y="5756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360" y="556272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skell Curry (1900-198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56520" y="552780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lliam Howa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sic natural phenome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mathematical phenomena seem so unavoidable that we must view them as “discovered” rather than “invented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tural numb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 appears first in India (700 C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thematical consta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i, 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omet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sic shapes (circle, triangl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ometric laws (triangle inequality, area and volum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ry-Howard Isomorph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rst noticed by Curry in 196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rst published by Howard in 198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undamental ide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ofs are progra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mulas are typ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of rules are type checking ru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of simplification is operational semantic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Ideas and observations about logic are ideas and observations about programming langua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ry-Howard (intuitionistic logi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3720" y="2362320"/>
            <a:ext cx="3695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nd-order intuitionistic 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formula variable)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implication)         A =&gt;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conjunction)        A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disjunction)         A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truth)                   Tru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falsehood)           Fa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universal quant)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.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existential quant)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.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72160" y="2362320"/>
            <a:ext cx="397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lymorphic Lambda Calcul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PolyMinML - recurs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type variable)      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function type)      A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pair type)             A *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sum type)             A +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unit)                     un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void)                    voi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universal poly)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.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existential poly)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.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ry-Howard (intuitionistic logi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e: You don’t have to omit proof terms from logical ru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3720" y="2743200"/>
            <a:ext cx="36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nd-order intuitionistic 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71800" y="2743200"/>
            <a:ext cx="40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lymorphic Lambda Calculu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" y="5002200"/>
            <a:ext cx="350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A =&gt; B          G |-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-------------- (=&gt;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36680" y="3402000"/>
            <a:ext cx="296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, x:A |- e : B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---------(Fu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x:A.e : A =&gt;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96400" y="3402000"/>
            <a:ext cx="307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, A |- B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--------- (=&gt; I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A =&gt;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5320" y="5002200"/>
            <a:ext cx="375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e1 : A =&gt; B   G |- e2 :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----------------- (App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e1 e2 :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ry-Howard (intuitionistic logi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3720" y="2743200"/>
            <a:ext cx="36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nd-order intuitionistic 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71800" y="2743200"/>
            <a:ext cx="40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lymorphic Lambda Calculu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7840" y="4995720"/>
            <a:ext cx="189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A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B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 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1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4520" y="3402000"/>
            <a:ext cx="332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e1 : A     G |- e2 : B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-------------(Pair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&lt;e1,e2&gt; : A *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34200" y="3402000"/>
            <a:ext cx="227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A    G |- B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-- 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I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A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74920" y="5013360"/>
            <a:ext cx="189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A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B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 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2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18720" y="5029200"/>
            <a:ext cx="223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e : A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B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 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1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e.1 :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04720" y="5046840"/>
            <a:ext cx="223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e : A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B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 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2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e.2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ther Examp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ndley/Milner: formula reconstruction/type infere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rard/Reynolds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ystem F/Polymorphic lambda calcul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near Logic/Syntactic control of interference, linear typ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urthy: classical logic/callcc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bramsky: multiplicative vs additive/strict vs laz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fenning and Davies: modal logic/RTC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il Wadler: and dual to or/CBV dual to CB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Curry-Howard isomorph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incidence?  Or are aliens trying to tell us someth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dentical concepts arise across time and cultur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rtain logical/computational definitions seem unavoid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 they inventions or discoverie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this talk about the history of logic or the history of computer programming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as this course about logic or computer scienc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puter Scie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vented or discover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e there fundamental, unavoidable computational phenomen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ws or concepts with the same unavoidable feeling as Newton’s laws of gravit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would we know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concepts would appear across time and cul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t computer science is only 50 years old!  Or is i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orge Boo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15-186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ventor (discoverer?) of Boolean algeb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jectured the existence of fundamental Laws of Though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72200" y="2362320"/>
            <a:ext cx="20113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orge Boole (Laws of Thought, 185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89280" y="2819520"/>
            <a:ext cx="53640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otlob Frege (1848-1925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rst hints of modern log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mal diagrams to depict mathematical inferen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48520" y="2000160"/>
            <a:ext cx="22399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ge’s inferences (1879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ok vaguely familia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85920" y="2895480"/>
            <a:ext cx="65721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ge continued (1879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97160" y="2819520"/>
            <a:ext cx="45496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1:34:44Z</dcterms:created>
  <dc:creator>David Walker</dc:creator>
  <dc:description/>
  <dc:language>en-US</dc:language>
  <cp:lastModifiedBy>David Walker</cp:lastModifiedBy>
  <dcterms:modified xsi:type="dcterms:W3CDTF">2002-12-11T05:48:18Z</dcterms:modified>
  <cp:revision>7</cp:revision>
  <dc:subject/>
  <dc:title>Proofs are Programs: 19th Century Logic  and 21st Century Computing</dc:title>
</cp:coreProperties>
</file>