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65A2-F0CC-4DE2-A84D-90544A8AF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A13-378B-462C-9D0D-A2D25F0E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A5B-2C4E-4E98-9247-8BF76CC5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B46-EB68-4E72-B339-69130B47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CFB-CAD6-45A6-9169-420305D7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07C5-A990-477A-A91B-B355F32E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E1C5-D9A5-4207-B813-C9C09597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E2AC-6505-427F-8D68-AF7C1500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2332-CBAA-4073-965B-BCBBF058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3DF7-C68F-4197-A99B-452D3284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8925-9936-4947-B176-8C5CDB5E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67BE-F563-4B2D-896C-0FB5EF16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EDB-1536-449D-AD61-FE231E27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A9FD-DFE1-4C26-A987-3B7373FE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A939-DBA7-4081-8014-B6BB4E01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34E9-8687-436A-B828-22F62A87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AF15-A628-47A4-BBDF-7C747A8C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3F3C-D13D-4CD2-B81D-F596E8EC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693-CF27-4323-A033-AF0E6AFB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CF7B-B54F-4BAD-8521-35FAF74E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389-8899-430A-AD54-C539DC16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164-89B5-4EC8-8ADB-0C869E38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BF6-B32D-43A1-982A-49E12612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212-2F0A-450C-AF39-93CD87F9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183-003E-4041-AD00-8C33FB0A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6711-63B0-4214-B07F-FCB8FDB3680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E920-2C5D-47B9-863A-DE02BDD4043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ofs are Programs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9th Century Logic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1st Century Comput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S 510: Programming Langua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a talk adapted from Philip Wadle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ge in modern no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3440" y="2743200"/>
            <a:ext cx="413712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rhard 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tural De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definition of logical connectives exclusively in terms of introduction of the connective and elimination of the conn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or work specified logic via axioms that related one connective to anot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7972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09840" y="2666880"/>
            <a:ext cx="61243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46320" y="3124080"/>
            <a:ext cx="6651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modern nota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57240" y="3276720"/>
            <a:ext cx="72280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 simplification rul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08400" y="3276720"/>
            <a:ext cx="43272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of simplif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95520" y="2727360"/>
            <a:ext cx="59515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of simplif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95520" y="2705040"/>
            <a:ext cx="5951520" cy="1920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35320" y="4579920"/>
            <a:ext cx="447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onzo Chu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vented (discovered?) the lambda calcul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programming language researc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3925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onzo Church (1903-1995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vented (discovered?) the lambda calcul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programming language researc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didn’t know it at the time (we were still lacking the computer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3925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w to Talk to Alie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9720" y="1905120"/>
            <a:ext cx="606456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 (193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introduction of free and bound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716256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 (193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logic is defined entirely and abstractly by a system of inference r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ymbols do not have pre-conceived mean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re logic uninfluenced by cul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7543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 (193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case you missed the last 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’ll s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6760" y="3124080"/>
            <a:ext cx="861048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 (193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 terms, bound variables and the notion of well-formed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0040" y="4114800"/>
            <a:ext cx="86839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uting with Church’s lambda calcu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evaluation rul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52960" y="2514600"/>
            <a:ext cx="2636640" cy="579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086280" y="4114800"/>
            <a:ext cx="29718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e evalu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119400" y="2743200"/>
            <a:ext cx="29034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’s typed lambda calcu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6579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ifying progra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90720" y="2790720"/>
            <a:ext cx="75135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ifying progra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3880" y="2484360"/>
            <a:ext cx="6858000" cy="2124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209680" y="4495680"/>
            <a:ext cx="5326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Isomorph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1912680" cy="2324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562720" y="3048120"/>
            <a:ext cx="1920600" cy="2293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84360" y="575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360" y="55627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skell Curry (1900-198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56520" y="55278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lliam How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sic natural phenome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mathematical phenomena seem so unavoidable that we must view them as “discovered” rather than “invented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tural numb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 appears first in India (700 C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thematical const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i, 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omet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ic shapes (circle, triang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ometric laws (triangle inequality, area and volum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Isomorph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st noticed by Curry in 196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st published by Howard in 198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undamental ide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s are progra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ulas are typ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 rules are type checking r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 simplification is operational semanti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Ideas and observations about logic are ideas and observations about programming langu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(intuitionistic log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3720" y="2362320"/>
            <a:ext cx="369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nd-order intuitionistic 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formula variable)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implication)         A =&gt;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conjunction)        A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disjunction)         A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truth)                   Tr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falsehood)           Fa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universal quant)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existential quant)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72160" y="2362320"/>
            <a:ext cx="397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lymorphic Lambda Calcul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PolyMinML - recurs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type variable)      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function type)      A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pair type)             A *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sum type)             A +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unit)                     un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void)                    vo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universal poly)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existential poly)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(intuitionistic log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You don’t have to omit proof terms from logical r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3720" y="274320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nd-order intuitionistic 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71800" y="274320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lymorphic Lambda Calcul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" y="5002200"/>
            <a:ext cx="350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=&gt; B          G |-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----- (=&gt;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6680" y="3402000"/>
            <a:ext cx="296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, x:A |- e : B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(Fu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x:A.e : A =&gt;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6400" y="3402000"/>
            <a:ext cx="307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, A |- B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 (=&gt; I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=&gt;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5320" y="5002200"/>
            <a:ext cx="37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1 : A =&gt; B   G |- e2 :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-------- (App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1 e2 :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(intuitionistic log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3720" y="274320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nd-order intuitionistic 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71800" y="274320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lymorphic Lambda Calcul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7840" y="4995720"/>
            <a:ext cx="189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4520" y="3402000"/>
            <a:ext cx="332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1 : A     G |- e2 : B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----(Pai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&lt;e1,e2&gt; : A *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34200" y="3402000"/>
            <a:ext cx="22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   G |- B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I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74920" y="5013360"/>
            <a:ext cx="189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2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18720" y="5029200"/>
            <a:ext cx="223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 :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.1 :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4720" y="5046840"/>
            <a:ext cx="223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 :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2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.2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ther Examp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ndley/Milner: formula reconstruction/type infer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rard/Reynolds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stem F/Polymorphic lambda calcul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near Logic/Syntactic control of interference, linear ty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rthy: classical logic/callc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ramsky: multiplicative vs additive/strict vs laz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fenning and Davies: modal logic/RTC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il Wadler: and dual to or/CBV dual to CB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urry-Howard isomorph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incidence?  Or are aliens trying to tell us some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dentical concepts arise across time and cultu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tain logical/computational definitions seem unavoid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they inventions or discoverie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this talk about the history of logic or the history of computer programming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as this course about logic or computer scienc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puter Scie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vented or discover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there fundamental, unavoidable computational phenomen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ws or concepts with the same unavoidable feeling as Newton’s laws of gravit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would we know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concepts would appear across time and cul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computer science is only 50 years old!  Or is i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rge Boo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15-186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ventor (discoverer?) of Boolean algeb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jectured the existence of fundamental Laws of Thou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2011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rge Boole (Laws of Thought, 185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89280" y="2819520"/>
            <a:ext cx="53640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tlob Frege (1848-1925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hints of modern log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al diagrams to depict mathematical inferen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48520" y="2000160"/>
            <a:ext cx="2239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ge’s inferences (1879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ok vaguely familia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85920" y="2895480"/>
            <a:ext cx="65721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ge continued (1879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97160" y="2819520"/>
            <a:ext cx="45496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1:34:44Z</dcterms:created>
  <dc:creator>David Walker</dc:creator>
  <dc:description/>
  <dc:language>en-US</dc:language>
  <cp:lastModifiedBy>David Walker</cp:lastModifiedBy>
  <dcterms:modified xsi:type="dcterms:W3CDTF">2002-12-11T05:48:18Z</dcterms:modified>
  <cp:revision>7</cp:revision>
  <dc:subject/>
  <dc:title>Proofs are Programs: 19th Century Logic  and 21st Century Computing</dc:title>
</cp:coreProperties>
</file>