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834-F5F6-4972-B782-F8523C4D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7A1-D427-4D3E-A67C-53DEE7B1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E37-20D3-40AE-87FD-313C8B89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C01-14C6-4258-A11D-D63EEEC0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95D1-5BF9-4241-A906-734A4E24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4C2B-7F2F-465A-ADD3-DFC3B794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7DC6-FA54-4900-BB5A-639B35F9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BE56-5E7D-4D00-872C-729DB671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8F9B-74F7-468D-8D49-9B1C3138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185C-3338-4F1D-844C-69A1BD97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1426-4A62-40F9-AF92-C734F34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A54-2D7C-4397-9131-CEC9DDF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CEA0-31E7-4456-BE99-DFA00BB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EB5E-1057-489A-8C7A-A7EA804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1424-BB2A-4ADB-9D91-0734C9D5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CED7-4928-4CD5-A7D2-23A7CF39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C273-4E40-42E7-89A2-0097C429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1E7-2B05-47CB-857C-1EB2908B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CE4-A313-4F89-BC36-3B493581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9D1-4E82-4816-A955-6613ACF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615-AD4D-45B5-94D0-2F6BA1E9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9BD-FD80-4A97-9E5B-B8DF08D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A14-1869-49F4-974E-1A62FDCE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0BA-F9E7-4A34-B3DC-2099CDAF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613B-9AC2-4EF1-9D12-1A93F33692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429-2940-4A44-8D25-7BC9DA454F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 and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&amp; 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’s Intro to 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datatype bool = true/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 can carry val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coin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ny | Nickel | Dime | Quarter | Loonie | Two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bill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| Five | Ten | Tw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money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in of coin | Bill of bill | Forgery of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un count money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money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in(x) =&gt; count_coin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l (b) =&gt; count_bill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unt_coin c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c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ny =&gt;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kel =&gt;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unt_bill b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ase b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=&gt;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=&gt;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 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&gt; *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type coin = penny | nicke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c = penn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c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ckel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ase Nickel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ckel =&gt;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ase Nickel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case Nickel of Penny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 Nickel =&gt;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 nickel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et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type digit = One | Two |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type number = D of digit |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Abbrev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node = in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edges = node-&gt;node lis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graph = node list * edg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 neighbours((g, n) : graph * node) 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val (_,e) * g in e n end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may use the fact that the type graph is equivalent to node list * edg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76720" y="48006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 Hea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head nil = rais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head x :: +1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head []) handle Head=&gt;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g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:F e, then e2 else e3 handle Head =&gt;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: nil :: nil :: nil : (‘a list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[1,2,3],[3,4,5]]:int lis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utre QUEUE 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insert : ‘a *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remove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 ‘a *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words delimit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9072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038480" y="190512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19051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ture QUEUE_EMPTY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is_empty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equivalent to writing out QUEUE inside QUEUE_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Queue : Emp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Queue.Empty : ‘a Queue.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val a = Queue.insert (1,([6,5,4],[1,2,3]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tructure Q – Queu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Q.insert 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open Queu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Q.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 up to be ‘TA’ for a we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abbre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Prelimin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ctive Defin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Keywords struct … end delimi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x = … binds X to structur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call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w we ascribe this signature to a structu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ructure Queue :&gt; QUEUE =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chanism for declaring a new type and constructors for the new type and patterns for the new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type colour = Red | Blue | 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&gt; Type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Red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Blue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Yellow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Re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&gt; Red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fun favourite colour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colour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 | Blue -&gt;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| Green -&gt;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 it = () :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ooks for “sources.cm”, analyzes depd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defined in two w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 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true :: nil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breivation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mpty li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y,z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 :: y :: z :: n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length(nil)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l length (x :: l) = 1 + length 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X ::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| div two nil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|| div two (x::nil)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|| div two (x :: y :: z) = 1 + | divtwo z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 length l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] =&gt;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| _ :: l =&gt; | + length 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ild card patter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n’t car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666880" y="44193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lessThree x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x of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 | 1 | Z =&gt;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| z =&gt;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first (a,b)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snd (a,b)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s can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, char, string const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d c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a few other thing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7:39:02Z</dcterms:created>
  <dc:creator>OIT Student Computing Services</dc:creator>
  <dc:description/>
  <dc:language>en-US</dc:language>
  <cp:lastModifiedBy>David Walker</cp:lastModifiedBy>
  <dcterms:modified xsi:type="dcterms:W3CDTF">2002-10-07T00:20:18Z</dcterms:modified>
  <cp:revision>5</cp:revision>
  <dc:subject/>
  <dc:title>Last Time</dc:title>
</cp:coreProperties>
</file>