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45CC-605A-45D1-95D5-97ED5F69C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BBFB-074D-4EAA-8D7F-E4232E38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7DD-7A5D-40B6-BD11-32A9B058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70E0-D9B1-4EC9-9753-B7679EB9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2603-C35D-4B0B-BF94-B49203E8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5FDF-3F12-41F4-A4C8-982D18C2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052B-ED60-4B66-A09D-CA9CAFE9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ECC6-8837-43F2-A8A1-26F298F0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6E1B-BE32-4AE8-89FC-8809087B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A1D6-BB76-45F8-B5BE-AB130762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F43B-0A25-4E74-9A32-358166DD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508E-BF05-455B-A7DD-29E0B1B2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0ADC-157C-4987-892E-2E58E84F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8A0D-B825-4CC2-B119-7D776A86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7CE0-9944-453A-BB58-3934CF4A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0595-6135-49F8-AE05-B34B2AC1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36C0-16A2-44EC-81AB-5D7D70F4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8A4F-0B50-4436-AB0B-B603B8D3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E441-D7E3-4D12-8D89-A89FF941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D312-6CBE-42CF-8588-FB69C1B2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132D-53FD-4396-8B71-4CD768EF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8BB5-52E9-41ED-A8FC-5EA8C820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E90C-5C53-42D0-98D3-D660AD13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3566-8C4D-4408-9FEF-5D398AA7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BC17-0712-4F99-9129-031AE6D97D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8D8D-492D-40A7-8C64-1B19B954FC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st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rse Log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 to 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ples and Reco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&amp; 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Harper’s Intro to 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datatype bool = true/fa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types can carry val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type coin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nny | Nickel | Dime | Quarter | Loonie | Twon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type bill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| Five | Ten | Twen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type money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in of coin | Bill of bill | Forgery of 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un count money 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se money 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in(x) =&gt; count_coin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ll (b) =&gt; count_bill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count_coin c 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se c o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nny =&gt;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ickel =&gt;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count_bill b 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case b 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=&gt;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wo =&gt;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|  …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&gt; * 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tfa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type coin = penny | nicke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 c = penny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se c o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ickel =&gt;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ny =&gt;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case Nickel o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ny =&gt;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ickel =&gt;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case Nickel o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ny =&gt; case Nickel of Penny =&gt;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  Nickel =&gt;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|  nickel =&gt;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lem Set #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type digit = One | Two |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type number = D of digit |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Abbrevi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node = in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edges = node-&gt;node lis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graph = node list * edge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 neighbours((g, n) : graph * node) 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val (_,e) * g in e n end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e may use the fact that the type graph is equivalent to node list * edg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276720" y="4800600"/>
            <a:ext cx="7617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 Head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 head nil = raise 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 head x :: +1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head []) handle Head=&gt;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eful agai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:F e, then e2 else e3 handle Head =&gt;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:: nil :: nil :: nil : (‘a list)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[1,2,3],[3,4,5]]:int lis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n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ized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from structures to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utre QUEUE =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ture n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 empty : ‘a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 insert : ‘a * ‘a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&gt; ‘a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 remove : ‘a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&gt; ‘a * ‘a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457200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words delimit sig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990720" y="3048120"/>
            <a:ext cx="609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5791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038480" y="1905120"/>
            <a:ext cx="1905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19051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 I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ture QUEUE_EMPTY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de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 is_empty : ‘a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equivalent to writing out QUEUE inside QUEUE_EMP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Queue : Empt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 Queue.Empty : ‘a Queue.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val a = Queue.insert (1,([6,5,4],[1,2,3])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structure Q – Queu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Q.insert _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open Queu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Emp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Q.Emp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n up to be ‘TA’ for a we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abbrev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Prelimin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uctive Defin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= (nil, ni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 (x, q)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remove q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Keywords struct … end delimi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x = … binds X to structur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 A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call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val empty : ‘a queu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Now we ascribe this signature to a structure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tructure Queue :&gt; QUEUE =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val empty = (nil, nil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 A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aque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bstract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:&gt;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pecial case of opaque a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fields but does not make types abs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_E :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Harper, chapters 18-22 for more on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chanism for declaring a new type and constructors for the new type and patterns for the new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type colour = Red | Blue | Gre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&gt; Type colou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 Red : colou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 Blue : colou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 Yellow : colou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Re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&gt; Red : colou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fun favourite colour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se colour o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d | Blue -&gt;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| Green -&gt; fals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SML/N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ve mode is a good way to start learning and to debug programs, bu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in a series of declarations into a “.sml”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“foo.sm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opening foo.sml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 it = () : u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rger Pro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L has its own built in interactive “mak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utomatically does the dependency analysis for y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razy makefile syntax to lea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difficult to interact with other languages or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ation Manag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2133720"/>
            <a:ext cx="15238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24382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24382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24382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352680"/>
            <a:ext cx="792504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% s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.FileSys.chDir “~/courses/510/a2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M.make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looks for “sources.cm”, analyzes depdnd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compiling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mpiles files in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wrote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aves binaries in ./C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CM.make’ “myproj/”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pecify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s.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71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2209680"/>
            <a:ext cx="1371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oup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04776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2767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742840" y="5791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419720" y="6324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 are defined in two way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: ‘a li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mpty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:   :   ‘a * ‘a list -&gt; ‘a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4 :: 5 :: nil   :  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fn x =&gt; x) :: niil : (‘a -&gt; ‘a)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true :: nil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breivation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empty li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y,z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x :: y :: z :: ni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length(nil) = 0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l length (x :: l) = 1 + length 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ctions over lists are usually defined by case analysis (induction) over the structure of 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n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X :: 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| div two nil = 0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|| div two (x::nil) = 0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|| div two (x :: y :: z) = 1 + | divtwo z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 length l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l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] =&gt;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| _ :: l =&gt; | + length l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ild card patter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on’t care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2666880" y="4419360"/>
            <a:ext cx="152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atter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n lessThree x =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se x of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 | 1 | Z =&gt;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| z =&gt;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n first (a,b)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n snd (a,b)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tterns can b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er, char, string consta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d ca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a few other things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7:39:02Z</dcterms:created>
  <dc:creator>OIT Student Computing Services</dc:creator>
  <dc:description/>
  <dc:language>en-US</dc:language>
  <cp:lastModifiedBy>David Walker</cp:lastModifiedBy>
  <dcterms:modified xsi:type="dcterms:W3CDTF">2002-10-07T00:20:18Z</dcterms:modified>
  <cp:revision>5</cp:revision>
  <dc:subject/>
  <dc:title>Last Time</dc:title>
</cp:coreProperties>
</file>