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8AD13-9D77-464F-B1D6-3F25772FA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6A8AF-D557-4740-84C7-25776EED8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8A0B2-1C78-4B3F-AE5A-862D7107A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5B46F-65AF-40B7-8A7F-D1C04171B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07AD2-DA8F-4D33-8403-1D930B926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08B45-B9D1-4C3C-B3F7-3001E7E54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02555-EBA6-4D8B-9A12-096B5FBA4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C4F51-A762-4323-9F5E-D92757FC7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B1550-39A7-4D42-A834-9CE85EEA1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C8D14-19C9-45D4-B34C-F995B5633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C245B-4252-4A84-947E-D3E82DE28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74438-AF57-4879-92F4-BF1E3E20F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695B1-4783-4221-97D6-272989850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79FD2-EE3D-49BF-9BDE-16CE2DC25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56E5C-D8D0-45DA-9691-7B747D9B6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E5833-5496-45F3-A1E8-73D10882D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D2D3F-3EB7-4078-AAB7-60720C9D7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8B6E2-7BD5-4455-80A1-EBD4788FD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A1F6E-847C-4B99-89CE-1815B82C2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9278A-B79B-40A9-8272-68EF3A330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898F2-0864-42D3-85EB-AA80DBE55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C225F-3C81-4819-ABEE-F07502191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475A1-C26D-4042-A0C6-177017669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7016E-CF3A-46A3-9747-D28AA3537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829A0-4625-4213-91DB-1C67D909245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85D65-06F4-4EDB-ADFA-F8CEE1BF4A2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st Tim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urse Log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roduction to M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ples and Reco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s &amp; Polymorph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 Harper’s Intro to M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atatyp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-datatype bool = true/fal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types can carry valu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type coin =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nny | Nickel | Dime | Quarter | Loonie | Twoni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type bill =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| Five | Ten | Twen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type money =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in of coin | Bill of bill | Forgery of 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atatyp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 Fun count money =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se money o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in(x) =&gt; count_coin 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|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ll (b) =&gt; count_bill 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count_coin c =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se c of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enny =&gt;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|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ickel =&gt; 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|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count_bill b =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case b o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=&gt;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|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wo =&gt;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|  …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&gt; * 10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itfall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tatype coin = penny | nickel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al c = penny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se c of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ickel =&gt; tru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|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enny =&gt; fals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gt;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 case Nickel of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enny =&gt; tru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|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ickel =&gt; false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gt;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 case Nickel of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enny =&gt; case Nickel of Penny =&gt; tru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|  Nickel =&gt; fals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|  nickel =&gt; tru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gt;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blem Set #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tatype digit = One | Two | 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tatype number = D of digit | 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ype Abbrevi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ype node = int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ype edges = node-&gt;node list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ype graph = node list * edges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 neighbours((g, n) : graph * node) *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t val (_,e) * g in e n end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we may use the fact that the type graph is equivalent to node list * edges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3276720" y="4800600"/>
            <a:ext cx="76176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cep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ption Head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 head nil = raise 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| head x :: +1 = 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head []) handle Head=&gt;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eful agai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- :F e, then e2 else e3 handle Head =&gt;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il :: nil :: nil :: nil : (‘a list) li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[[1,2,3],[3,4,5]]:int list li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dul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gn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ruc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o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meterized struct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s from structures to struct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gnatur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utre QUEUE =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gnature n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‘a que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ption Emp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 empty : ‘a que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 insert : ‘a * ‘a que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-&gt; ‘a que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 remove : ‘a que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-&gt; ‘a * ‘a que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"/>
          <p:cNvSpPr/>
          <p:nvPr/>
        </p:nvSpPr>
        <p:spPr>
          <a:xfrm>
            <a:off x="380880" y="4572000"/>
            <a:ext cx="1524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ywords delimit signa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990720" y="3048120"/>
            <a:ext cx="60948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990720" y="5791320"/>
            <a:ext cx="2286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4038480" y="1905120"/>
            <a:ext cx="19051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943600" y="190512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gnature I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ture QUEUE_EMPTY =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lude QUE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 is_empty : ‘a que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-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- equivalent to writing out QUEUE inside QUEUE_EMP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Using Structur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= Queue : Empty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&gt; Queue.Empty : ‘a Queue.que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- val a = Queue.insert (1,([6,5,4],[1,2,3]))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- structure Q – Queue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- Q.insert _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- open Queue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- Emp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- Q.Emp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oda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gn up to be ‘TA’ for a wee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M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abbrevi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thematical Prelimin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uctive Defini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ructur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430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6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Structure Queue = 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2844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struct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2844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type ‘a queue = ‘a list * ‘a list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2844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exception Empty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2844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val empty = (nil, nil)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2844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fun insert (x, q) = …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2844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fun remove q = …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2844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end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2844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Keywords struct … end delimit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2844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structure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2844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Structure x = … binds X to structure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gnature Ascrip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Recall: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9160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Signature QUEUE =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9160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sig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9160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type ‘a queue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9160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exception Empty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9160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val empty : ‘a queue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9160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end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9160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Now we ascribe this signature to a structure: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9160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Structure Queue :&gt; QUEUE = 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9160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struct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9160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type ‘a queue = ‘a list * ‘a list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9160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val empty = (nil, nil)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9160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exception Empty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9160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9160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end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gnature Ascrip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aque ascri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abstract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 Queue :&gt; QUEUE = 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arent ascri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pecial case of opaque ascri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des fields but does not make types abstra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 Queue_E : QUEUE = 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 Harper, chapters 18-22 for more on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ata Typ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2193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echanism for declaring a new type and constructors for the new type and patterns for the new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atatype colour = Red | Blue | Gree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&gt; Type colou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n Red : colou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n Blue : colou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n Yellow : colou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- Red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&gt; Red : colou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- fun favourite colour =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se colour of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d | Blue -&gt; tru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| Green -&gt; false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Using SML/NJ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active mode is a good way to start learning and to debug programs, bu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ype in a series of declarations into a “.sml” 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“foo.sml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opening foo.sml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al it = () : un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rger Projec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5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ML has its own built in interactive “make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automatically does the dependency analysis for yo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crazy makefile syntax to lear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ore difficult to interact with other languages or 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ation Manag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90720" y="2133720"/>
            <a:ext cx="1523880" cy="1218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971800" y="2438280"/>
            <a:ext cx="76212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38480" y="2438280"/>
            <a:ext cx="83844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257800" y="2438280"/>
            <a:ext cx="83808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066680" y="3352680"/>
            <a:ext cx="7925040" cy="30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% s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.FileSys.chDir “~/courses/510/a2”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M.make();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looks for “sources.cm”, analyzes depdndenc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[compiling…]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compiles files in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[wrote…]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aves binaries in ./CM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CM.make’ “myproj/”();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pecify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219320" y="175248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ources.c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257800" y="19810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.s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114800" y="19810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.s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971800" y="19810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.si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143000" y="2209680"/>
            <a:ext cx="137160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roup 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.si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.s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.s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3047760" y="4648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3276720" y="51814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2742840" y="5791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4419720" y="632448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s are defined in two way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il : ‘a lis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empty li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:   :   ‘a * ‘a list -&gt; ‘a li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:: 4 :: 5 :: nil   :   int li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fn x =&gt; x) :: niil : (‘a -&gt; ‘a) li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:: true :: nil :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breivation 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[]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empty li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[x,y,z]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x :: y :: z :: ni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st Process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Fun length(nil) = 0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l length (x :: l) = 1 + length l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Functions over lists are usually defined by case analysis (induction) over the structure of a list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 ni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 X :: 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Fun | div two nil = 0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|| div two (x::nil) = 0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|| div two (x :: y :: z) = 1 + | divtwo z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st Process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 length l =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se l o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] =&gt; 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| _ :: l =&gt; | + length l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wild card pattern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don’t care”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 flipH="1" flipV="1">
            <a:off x="2666880" y="4419360"/>
            <a:ext cx="15264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atter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82600" y="1752120"/>
            <a:ext cx="7772400" cy="438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un lessThree x =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984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se x of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984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0 | 1 | Z =&gt; tru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984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| z =&gt; fals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un first (a,b) = a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un snd (a,b) = b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atterns can b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ariab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ger, char, string consta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p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d ca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a few other things…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4T17:39:02Z</dcterms:created>
  <dc:creator>OIT Student Computing Services</dc:creator>
  <dc:description/>
  <dc:language>en-US</dc:language>
  <cp:lastModifiedBy>David Walker</cp:lastModifiedBy>
  <dcterms:modified xsi:type="dcterms:W3CDTF">2002-10-07T00:20:18Z</dcterms:modified>
  <cp:revision>5</cp:revision>
  <dc:subject/>
  <dc:title>Last Time</dc:title>
</cp:coreProperties>
</file>