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F10-9607-43D0-9A1A-CC6B3C31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05D-096C-4143-8BC5-966595E8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346-C921-4FD8-B22D-83E24B80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D55-B6B8-462C-B9E4-2E9148A3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C6B7-35FF-42B0-87EB-C852B392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6A7C-0CED-4965-8348-B386DBCF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89E6-0E30-4717-8516-99799B18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DB9A-1450-49F8-8DD7-751B4C18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CADC-466D-4DAA-8DC0-3DAE5F6A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C710-E5DA-42D7-95CC-94EDD783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437C-74DA-4BC3-AA13-849697F2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0A9-2332-4A1C-A38B-27336875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BC95-FA85-4C9B-A8B0-99E7587E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02D8-D355-4EBC-B034-0B81210A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D23F-59A8-4EC4-BC16-D580B8D2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854F-F70A-401E-93CF-EA4EF141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D8B8-FA1D-4A6E-9B50-E4556C2E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099-2679-43AF-A0F0-7D88EC86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2C6-225C-44D8-B759-C640C6D5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458-C93F-4B6E-A9F2-E263C76B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1AF-1D04-4DB8-ACB2-8457554B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FE8-5FFD-4F22-8D73-0FECE02E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BBB-B6B0-4C08-84E5-D6911700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92D-F6E4-44A5-B862-F980988D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1F25-BDA2-4806-BD1F-8AABF1C436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4319-45BA-40F4-8B13-1A4346CAAE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Robert Harper’s notes on “an introduction to 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4 * 5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clare new name x and bind it to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20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y = x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y = 21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x + y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use n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41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1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atic sco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ocal decla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et val x = 10 in (x + x, y + x) and,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(20, 31), 41) : (int * int) *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200040" y="403812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000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0004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5334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66880" y="49528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 (the good stuff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unctions ar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= fn : bool -&gt;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e can’t write out a function so ML just says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true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unction application is a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 twice x = 2 *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 twice = fn : int -&gt;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 fact x = if x = 0 then 1 else (fact (x-1)) *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 (twice (twice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8564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057400" y="2742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6652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s =&gt; x ^ “!”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 anonymous function like wri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: string -&gt; 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exclaim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ather than - val x =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: =&gt; s ^ “!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f =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g =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x =&gt; f(g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((compose twice) twice)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 = compose twice tw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29000" y="1981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s are pervasiv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-class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able, arguments, results, nes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ally Scoped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-time resolution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-by-valu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(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 clash in : 3 +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ing for a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have found a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 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 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3 + 2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: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size “foo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190760" y="30481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d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u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rue, 17, “Stuff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rue, 17, “Stuff”) : bool * int *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f 3 &lt; 2 then “x” else “y”, fal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“y”, false) : string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name = “Dave”, ssn = 332177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_____________ : {name = string, ssn : int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name it 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Dave” :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1 (true, Fal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ML, we 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: (‘a -&gt; ‘b) 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‘c -&gt; ‘a) 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ype variables are written with 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‘c -&gt; ‘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no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op + 1) no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276720" y="3809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compo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compose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n f =&gt; (fn g =&gt; Fn x =&gt; f (g x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se : T2 -&gt; (T2 -&gt; (T5 -&gt; T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2 -&gt; (( T7 -&gt; T8) -&gt; (T5 -&gt; T6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T9 -&gt; TA) -&gt; (T7 -&gt; T9) -&gt; (T7 -&gt; 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‘a -&gt; ‘b) -&gt; (‘c -&gt; ‘a) -&gt; (‘a -&gt; ‘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n x  =&gt; x +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n y =&gt; y * 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9718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79132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91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913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avid Walker</cp:lastModifiedBy>
  <dcterms:modified xsi:type="dcterms:W3CDTF">2002-10-07T00:28:53Z</dcterms:modified>
  <cp:revision>4</cp:revision>
  <dc:subject/>
  <dc:title>Introduction to ML</dc:title>
</cp:coreProperties>
</file>