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52EE-D5B3-43AE-8BEF-1A42F27F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35B-3AED-4A36-8BB1-2E02887F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AED8-12E2-47CC-BF06-CDAF9B5E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36D-CDED-4A76-B85B-A2120D61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8275-4AF3-44B4-AC3B-A22C2244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907E-E493-498E-8425-07CCF96C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C715-153A-4C12-8379-B5235773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E121-E861-4BCC-9A90-8A5C8038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B2E4-0369-4400-87E8-CA4848B8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179D-B9F5-4534-9A5A-55D8E18C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D419-E516-4161-8566-F416475E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E62F-36E0-4AE7-BF64-2F311E19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BBA0-2818-476B-9F04-674450FD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0EAB-648E-4BE8-8B6D-C977C811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2074-D296-44A9-8ABF-07C84550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54EC-D0AC-4A3C-815B-28E8D129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C8F4-D1C9-4F6D-9277-E78EC12A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6222-03F2-47F6-8BC2-344E8E82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7AB4-6227-43FE-A7A5-A6936915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006E-57D9-469A-A37C-146CD590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D9BF-78EF-4005-B182-A1F1E55C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A870-2473-4C01-8063-938D12B0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EE13-B28D-4837-ACE4-4125CF7A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01A1-582B-45DD-9998-C79B8468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4EFA-2D24-4610-9B97-9ADB9B3FA9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7A91-0044-4B54-A705-BC8AC37185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will be responsible for learning ML on your ow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ay I will cover some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 Robert Harper’s notes on “an introduction to M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course webpage for pointers and info about how to get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la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 x = 4 * 5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Declare new name x and bind it to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 x = 20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 y = x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 y = 21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 x = x + y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use na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 x = 41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1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atic scop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local decla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1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et val x = 10 in (x + x, y + x) and, 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(20, 31), 41) : (int * int) *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200040" y="403812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20004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200040" y="2209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5334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5334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334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666880" y="495288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s (the good stuff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unctions are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= fn : bool -&gt;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we can’t write out a function so ML just says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true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unction application is a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ls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 twice x = 2 *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 twice = fn : int -&gt;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 fact x = if x = 0 then 1 else (fact (x-1)) *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t (twice (twice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85640" y="2286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057400" y="27428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66652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n s =&gt; x ^ “!”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n anonymous function like wri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n : string -&gt; str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 exclaim =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ather than - val x = 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n : =&gt; s ^ “!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n f =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n g =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n x =&gt; f(g 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((compose twice) twice) 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 = compose twice tw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29000" y="1981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ction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s are pervasiv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rst-class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rable, arguments, results, nes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rongly-typ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xpression has a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errors cannot occ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lymorphic types provide flexi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lexible Modu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er-order modules (functo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e in expres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aluate and print type and resu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ally Scoped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-time resolution of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-by-valu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(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-level programming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yp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ttern match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table data discourag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– 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9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4 +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ype clash in : 3 +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ing for a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 have found a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div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lure : Di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- run-time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449568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() : un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like “void” in c (sort o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13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the uninteresting value/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if it then 3+2 else 7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lways necess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7 :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 and also loop_Forev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nd also, or else short-circuit e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4533840"/>
            <a:ext cx="1003320" cy="266760"/>
          </a:xfrm>
          <a:custGeom>
            <a:avLst/>
            <a:gdLst/>
            <a:ahLst/>
            <a:rect l="l" t="t" r="r" b="b"/>
            <a:pathLst>
              <a:path w="632" h="168">
                <a:moveTo>
                  <a:pt x="0" y="24"/>
                </a:moveTo>
                <a:cubicBezTo>
                  <a:pt x="212" y="12"/>
                  <a:pt x="424" y="0"/>
                  <a:pt x="528" y="24"/>
                </a:cubicBezTo>
                <a:cubicBezTo>
                  <a:pt x="632" y="48"/>
                  <a:pt x="628" y="108"/>
                  <a:pt x="624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4572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571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586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teg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3 + 2j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(if not true then 5 else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0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o division between expres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nd stat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“Dave” ^ “ “ ^ “Walker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“Dave Walker”:st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size “foo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.1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.14 : re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4190760" y="30481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d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u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rue, 17, “Stuff”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rue, 17, “Stuff”) : bool * int * 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f 3 &lt; 2 then “x” else “y”, fals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“y”, false) : string *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{name = “Dave”, ssn = 332177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_____________ : {name = string, ssn : int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name it 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Dave” : 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1 (true, Fals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u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ML, we wr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: (‘a -&gt; ‘b) -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‘c -&gt; ‘a) -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ype variables are written with 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‘c -&gt; ‘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not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op + 1) not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276720" y="38098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compos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n compose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n f =&gt; (fn g =&gt; Fn x =&gt; f (g x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se : T2 -&gt; (T2 -&gt; (T5 -&gt; T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T2 -&gt; (( T7 -&gt; T8) -&gt; (T5 -&gt; T6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(T9 -&gt; TA) -&gt; (T7 -&gt; T9) -&gt; (T7 -&gt; 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(‘a -&gt; ‘b) -&gt; (‘c -&gt; ‘a) -&gt; (‘a -&gt; ‘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s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n x  =&gt; x +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n y =&gt; y * 3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29718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791320" y="281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3276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791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79132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David Walker</cp:lastModifiedBy>
  <dcterms:modified xsi:type="dcterms:W3CDTF">2002-10-07T00:28:53Z</dcterms:modified>
  <cp:revision>4</cp:revision>
  <dc:subject/>
  <dc:title>Introduction to ML</dc:title>
</cp:coreProperties>
</file>