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E8A-8188-4065-86A9-225A5AF6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830F-D917-40EA-822E-7F8EEB31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95B-193A-4E38-B256-274C97CA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F87-8230-44F3-8E2B-17DCDF88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D9C4-611E-4CE8-A7DC-D73CEFF1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4E7B-A52D-40BA-99B4-67D272D2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C88C-9800-44D0-BBBF-4EF3A240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7194-13EB-43F6-93BC-F68D9E78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F030-BC0F-43DB-8CD2-363EAACC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81B3-1DC6-4093-A1EC-FBBD1CB2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DB36-6A2B-4207-90A1-3C9F6F0A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B4AD-53AF-445D-8FF3-D0E13DB5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A627-DB0F-4775-A83E-A639C061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4F01-FD28-4981-8845-A9127971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4DB1-18F6-47D3-801D-E8CAD8BC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A113-74B4-4AF2-A220-897566DD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E4D6-4543-4AA7-A5A5-6E2F0219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8835-3C25-46A9-854B-0AE7C85B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372-1EAD-4CE8-9CFD-9E09449E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096-3492-4CEB-8E1A-4B8C4F69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722-F4DA-429B-A6FB-FFC95665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9162-4D73-4E6F-AC16-5DA971E3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A2A5-45A0-485D-8721-3B910124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E1D-7291-4331-9E34-9827B03D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5339-BBCB-41B9-880F-29AF482974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19A2-9CC7-41CC-9D72-B3B5A2E466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will be responsible for learning ML on your ow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 I will cover some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Robert Harper’s notes on “an introduction to 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course webpage for pointers and info about how to get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x = 4 * 5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Declare new name x and bind it to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x = 20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y = x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y = 21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x = x + y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use na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x = 41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1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atic sco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local decla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1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co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et val x = 10 in (x + x, y + x) and, 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(20, 31), 41) : (int * int) *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200040" y="403812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20004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20004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5334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666880" y="495288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s (the good stuff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unctions are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= fn : bool -&gt;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we can’t write out a function so ML just says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true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unction application is a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ls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 twice x = 2 *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 twice = fn : int -&gt;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 fact x = if x = 0 then 1 else (fact (x-1)) *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t (twice (twice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85640" y="2286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057400" y="27428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66652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828440"/>
            <a:ext cx="77724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n s =&gt; x ^ “!”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 anonymous function like wri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n : string -&gt; str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exclaim =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ather than - val x =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n : =&gt; s ^ “!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n f =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n g =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n x =&gt; f(g 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((compose twice) twice)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 = compose twice tw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29000" y="1981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ction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s are pervasiv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st-class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able, arguments, results, nes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rongly-typ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xpression has a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errors cannot occ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morphic types provide flex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lexible Modu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er-order modules (functo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e in expres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aluate and print type and res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ally Scoped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-time resolution of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-by-valu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(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-level programming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yp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table data discourag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–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9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4 +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e clash in : 3 +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ing for a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 have found a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div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lure : Di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- run-time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449568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() : un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like “void” in c (sort o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130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the uninteresting value/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if it then 3+2 else 7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lways necess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7 :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 and also loop_Forev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d also, or else short-circuit e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4533840"/>
            <a:ext cx="1003320" cy="266760"/>
          </a:xfrm>
          <a:custGeom>
            <a:avLst/>
            <a:gdLst/>
            <a:ahLst/>
            <a:rect l="l" t="t" r="r" b="b"/>
            <a:pathLst>
              <a:path w="632" h="168">
                <a:moveTo>
                  <a:pt x="0" y="24"/>
                </a:moveTo>
                <a:cubicBezTo>
                  <a:pt x="212" y="12"/>
                  <a:pt x="424" y="0"/>
                  <a:pt x="528" y="24"/>
                </a:cubicBezTo>
                <a:cubicBezTo>
                  <a:pt x="632" y="48"/>
                  <a:pt x="628" y="108"/>
                  <a:pt x="624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teg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3 + 2j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(if not true then 5 else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0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 division between expre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d stat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“Dave” ^ “ “ ^ “Walker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“Dave Walker”:st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size “foo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.1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.14 : re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4190760" y="30481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d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u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rue, 17, “Stuff”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rue, 17, “Stuff”) : bool * int * 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f 3 &lt; 2 then “x” else “y”, fals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“y”, false) : string *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name = “Dave”, ssn = 332177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_____________ : {name = string, ssn : int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name it 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Dave” : 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1 (true, Fals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u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ML, we wr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: (‘a -&gt; ‘b) -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‘c -&gt; ‘a) -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type variables are written with 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‘c -&gt; ‘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not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op + 1) not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276720" y="38098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compos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n compose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n f =&gt; (fn g =&gt; Fn x =&gt; f (g x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se : T2 -&gt; (T2 -&gt; (T5 -&gt; T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T2 -&gt; (( T7 -&gt; T8) -&gt; (T5 -&gt; T6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(T9 -&gt; TA) -&gt; (T7 -&gt; T9) -&gt; (T7 -&gt; 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(‘a -&gt; ‘b) -&gt; (‘c -&gt; ‘a) -&gt; (‘a -&gt; ‘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s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n x  =&gt; x +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n y =&gt; y * 3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29718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79132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3276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7913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79132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David Walker</cp:lastModifiedBy>
  <dcterms:modified xsi:type="dcterms:W3CDTF">2002-10-07T00:28:53Z</dcterms:modified>
  <cp:revision>4</cp:revision>
  <dc:subject/>
  <dc:title>Introduction to ML</dc:title>
</cp:coreProperties>
</file>