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498-EEA8-48B5-81DA-4F5ED0AE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3CA-BD8E-4F13-9C79-D6969083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375-9FAC-4AFD-A739-65CDB578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552-481D-4211-B271-7B9A2C02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0F34-7FC7-4A8D-AA49-64A06146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E471-A4A4-468B-85B6-EE0BE20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32A1-CC85-4FFA-93BE-E2CC43D5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203-68B1-4299-B354-2968EC91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D09-C4F2-4445-9D7A-0EF2B02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44FB-AC15-45AC-B45C-51848A14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64B8-AAE2-4BDB-BE44-5C5D87A3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505-ABBC-4CC1-974E-A6052CE2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B936-618F-48E1-A93A-3279C26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4004-9FDA-414D-8D1B-CC60C7FD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F7B5-870A-4435-9689-73CA154D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0AC3-5C14-4973-823E-C958AC44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C2FA-E064-4AE3-A10D-075DF908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6DB-48C4-424C-8149-DC6B1333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013-3A4C-4D80-A2E4-40177ED6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A53-3861-4335-B6E5-6F313D5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688-B965-4249-9364-65F90CF7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027-0CDC-4E54-98CC-249EE86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56D-7EED-4566-A6C4-C8E4EF4F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BF5-9C84-4C02-87FC-0EDAA95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 Narro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 Narrow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56A-2FFC-4F05-85A7-E30B7C7C76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1CD5-DFC9-4293-9C91-B35157EEBE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S 510: Programming Langu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hared-memory langu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s interact through shared st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379960" y="4724280"/>
            <a:ext cx="464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‘a 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buffer : unit -&gt; ‘a 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insert : (‘a * ‘a buffer) -&gt; unit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remove : ‘a buffer -&gt; ‘a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2971800"/>
            <a:ext cx="8384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1386000" y="41911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657600"/>
            <a:ext cx="1295280" cy="152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3830040" y="384336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6472080" y="2971800"/>
            <a:ext cx="8384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6104160" y="4191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3429000"/>
            <a:ext cx="13716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029200" y="3429000"/>
            <a:ext cx="17524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407160" y="56386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nterface: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ation and shared-mem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tual exclusion loc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fore accessing shared data, the lock for that data must be acqui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access is complete, lock is relea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ula-3, Java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emaphore is basically a fancy loc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ni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module that encapsulates share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ly one thread can be active inside the monitor at a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scal (?), Tu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ssage-pa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s interact by sending and receiving messa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usality principle:  send occurs before rece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ult: synchronization occurs through message pass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429000"/>
            <a:ext cx="0" cy="15271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429000"/>
            <a:ext cx="0" cy="15271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3886200"/>
            <a:ext cx="1905120" cy="6858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2646360" y="3581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5385960" y="43434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793240" y="31240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4806000" y="31240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munication chann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ender must know where to send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receiver must know where to listen for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hanne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capsulates the source and destination of messa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-to-one (unicast channe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-to-many (broadcast channe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d channel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-only (for output devices), read-only channels (for input devic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ous (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ing thread waits until receiver receives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333760" y="3595680"/>
            <a:ext cx="14040" cy="265284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5400000" y="50436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9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525780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743200" y="5257440"/>
            <a:ext cx="609480" cy="1522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1938960" y="54244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ous (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eiver may also block until it receives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595680"/>
            <a:ext cx="0" cy="4428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5309640" y="3886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525780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743200" y="5257440"/>
            <a:ext cx="609480" cy="1522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1938960" y="54244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272200"/>
            <a:ext cx="0" cy="9763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257440" y="5257800"/>
            <a:ext cx="685800" cy="53352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5901480" y="557676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nchronous (non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ynchronous send:  sender continues execution immediately after sending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595680"/>
            <a:ext cx="0" cy="4428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5309640" y="3886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4572000"/>
            <a:ext cx="0" cy="16765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5257800" y="5272200"/>
            <a:ext cx="0" cy="9763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257440" y="5257800"/>
            <a:ext cx="685800" cy="53352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5901480" y="557676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nchronous (non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disadvantage of asynchronous send is that we need a message buffer to hold outgoing messages that have not yet been receiv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the buffer fills, the send becomes block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eive is (almost) never asynchrono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rmally, you need the data you are receiving to proceed with the computa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mote Procedure Ca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ent/server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PC involves two message sends, one to request service and one to return resul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3429000"/>
            <a:ext cx="1904760" cy="11430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1783080" y="28526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>
            <a:off x="5513400" y="28195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429000"/>
            <a:ext cx="1981080" cy="11430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581280"/>
            <a:ext cx="380880" cy="2286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3733920"/>
            <a:ext cx="2590560" cy="2286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5429520" y="38862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 (x)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819160" y="4191120"/>
            <a:ext cx="2514600" cy="7596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7361280" y="35496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rver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6400800" y="3733560"/>
            <a:ext cx="990720" cy="759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1353240" y="38098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pc(f,x,server)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sion to ML with concurrency primit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 cre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ynamic thread creation through spaw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chronization mechanis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variety of different sorts of “event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munication mechanis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ynchronous and synchronous oper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ared mutable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P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y modern applications are structured as a collection of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concurr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cooperating compon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parts of the concurrent program may be run in parallel, resulting in a performance improv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Performance is only one reas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for writing concurrent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urrency is also a useful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structuring devic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for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rea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apsulates a unit of state and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Applic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active system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r interfaces, window managers, Microsoft PowerPoint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active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program responds to the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gnal processors, dataflow networks, node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acteristic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ple input streams, low latency is crucial, multiple distinct tasks operate simultaneous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P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urrent PL incorporate three kinds of mechanis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means to introduce new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threa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thread = a unit of state +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ither static or dynamic thread cre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Synchroniza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imitiv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ordinates independent threa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ces nondeterminism in the order of comput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munica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chanis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ared memory or message-pass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rea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thread = state +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 = an instruction stream (program count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 = local variables, stack, possibly local he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tic thread cre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1 | p2 | ... | pn creates n threads at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 thread cre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awn/fork create arbitrarily many thread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ple threads normally share some inform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 soon as there is any sharing, the order of execution of multiple threads can alter the meaning of progra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ation required to avoid interfer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444040" y="4224240"/>
            <a:ext cx="37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val x = ref 0 in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x := !x + 1) | (x := !x + 2);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nt (!x)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prove sequential programs correct we need to worry abou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ther they termin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output they produ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prove concurrent programs correct we need to worry abou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ng the sequential parts corr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ther concurrent parts are properly synchronized so they make progr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adlock, no livelock, no starv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program 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deadlocke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f every thread requires some resource (state) held by another thread so no thread can make progres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reads are too greedy and hoard re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livelocke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f every thread consistently gives up its resources, and so none make progr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, you first; no, you first; NO!  You first;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thread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starv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f it never acquires the resources it nee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acterizing program proper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fet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rogram never enters a ba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safety proper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ence of deadlock &amp; mutual exclu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v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ntually, a program enters a goo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mination proper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airness properties (absence of starvatio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er synchronization necessary for safety and liv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51:50Z</dcterms:created>
  <dc:creator>David Walker</dc:creator>
  <dc:description/>
  <dc:language>en-US</dc:language>
  <cp:lastModifiedBy>David Walker</cp:lastModifiedBy>
  <dcterms:modified xsi:type="dcterms:W3CDTF">2002-12-04T03:28:36Z</dcterms:modified>
  <cp:revision>4</cp:revision>
  <dc:subject/>
  <dc:title>Concurrency</dc:title>
</cp:coreProperties>
</file>