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5C88-0A2B-464C-B056-E4622E59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2303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824-72E1-48E1-AAB4-0CA6FA0A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75FB-CBF1-48B6-839D-12B3EBC9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5238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5238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2303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2303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2303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8F2-0830-4C5F-816C-71115802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5E07-477C-43C2-A88B-698FCBA2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7509-564D-4656-8AA0-DAF13323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40B3-9CE5-4B13-BB13-034B9BA2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518E-72B0-4132-B33A-DE73F303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0DBD-D35D-41E2-95D9-50552135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5E13-41B9-464D-8DD0-57DA2BDD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E421-1EA5-4425-BED3-98EC606E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F4FA-D10E-4727-B213-7096BBBF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946C-4959-4FFB-9164-A8432347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2303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9700-AEEB-4FFA-BA1F-79B40E44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2303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4AB3-11B7-456B-99F7-74C0D3AA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3244-991B-4686-A66B-500D9371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5238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5238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2303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2303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2303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5B10-DAED-4108-8B40-5E584170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C427-5F50-4A60-89B2-6594F739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03E-2AC5-4B5B-8A82-0B543D5B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401-D379-489B-9DEE-A86F47A7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401-115D-43BE-8138-A2B0A540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817-6616-4F1C-B56A-E36B0E49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2303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977C-BEA5-435D-A4A5-28D39D52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5238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2303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9125-B377-472D-BFB8-B31C32C5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 Narrow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 Narrow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7EA4-BDC3-41BE-A001-5F614D524E0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 Narrow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81CE-71C4-4713-B07F-8C8880214CE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urr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S 510: Programming Languag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hared-memory languag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ads interact through shared sta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2379960" y="4724280"/>
            <a:ext cx="464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ype ‘a buffer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l buffer : unit -&gt; ‘a buffer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l insert : (‘a * ‘a buffer) -&gt; unit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l remove : ‘a buffer -&gt; ‘a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2971800"/>
            <a:ext cx="8384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1386000" y="41911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ducer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657600"/>
            <a:ext cx="1295280" cy="152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3" name=""/>
          <p:cNvSpPr/>
          <p:nvPr/>
        </p:nvSpPr>
        <p:spPr>
          <a:xfrm>
            <a:off x="3830040" y="384336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uffer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4" name=""/>
          <p:cNvSpPr/>
          <p:nvPr/>
        </p:nvSpPr>
        <p:spPr>
          <a:xfrm>
            <a:off x="6472080" y="2971800"/>
            <a:ext cx="8384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5" name=""/>
          <p:cNvSpPr/>
          <p:nvPr/>
        </p:nvSpPr>
        <p:spPr>
          <a:xfrm>
            <a:off x="6104160" y="41911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sumer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6" name=""/>
          <p:cNvSpPr/>
          <p:nvPr/>
        </p:nvSpPr>
        <p:spPr>
          <a:xfrm>
            <a:off x="2362320" y="3429000"/>
            <a:ext cx="137160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029200" y="3429000"/>
            <a:ext cx="175248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38" name=""/>
          <p:cNvSpPr/>
          <p:nvPr/>
        </p:nvSpPr>
        <p:spPr>
          <a:xfrm>
            <a:off x="407160" y="563868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interface: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nchronization and shared-mem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tual exclusion loc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fore accessing shared data, the lock for that data must be acquir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en access is complete, lock is releas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dula-3, Java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semaphore is basically a fancy loc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nito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module that encapsulates shared sta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ly one thread can be active inside the monitor at a tim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scal (?), Tur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ssage-pass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ads interact by sending and receiving messag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usality principle:  send occurs before receiv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ult: synchronization occurs through message pass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3429000"/>
            <a:ext cx="0" cy="15271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429000"/>
            <a:ext cx="0" cy="15271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3886200"/>
            <a:ext cx="1905120" cy="685800"/>
          </a:xfrm>
          <a:prstGeom prst="line">
            <a:avLst/>
          </a:prstGeom>
          <a:ln w="19080">
            <a:solidFill>
              <a:srgbClr val="6f89f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46" name=""/>
          <p:cNvSpPr/>
          <p:nvPr/>
        </p:nvSpPr>
        <p:spPr>
          <a:xfrm>
            <a:off x="2646360" y="35812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nd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47" name=""/>
          <p:cNvSpPr/>
          <p:nvPr/>
        </p:nvSpPr>
        <p:spPr>
          <a:xfrm>
            <a:off x="5385960" y="43434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ceiv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2793240" y="312408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1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4806000" y="312408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2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munication channe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sender must know where to send the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receiver must know where to listen for the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hanne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ncapsulates the source and destination of messag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e-to-one (unicast channel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e-to-many (broadcast channel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yped channel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d-only (for output devices), read-only channels (for input devic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nchronous (blocking) oper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nding thread waits until receiver receives the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3595680"/>
            <a:ext cx="0" cy="9907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333760" y="3595680"/>
            <a:ext cx="14040" cy="265284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4572000"/>
            <a:ext cx="1843200" cy="700200"/>
          </a:xfrm>
          <a:prstGeom prst="line">
            <a:avLst/>
          </a:prstGeom>
          <a:ln w="19080">
            <a:solidFill>
              <a:srgbClr val="6f89f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57" name=""/>
          <p:cNvSpPr/>
          <p:nvPr/>
        </p:nvSpPr>
        <p:spPr>
          <a:xfrm>
            <a:off x="2660400" y="4357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nd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58" name=""/>
          <p:cNvSpPr/>
          <p:nvPr/>
        </p:nvSpPr>
        <p:spPr>
          <a:xfrm>
            <a:off x="5400000" y="50436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ceiv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59" name=""/>
          <p:cNvSpPr/>
          <p:nvPr/>
        </p:nvSpPr>
        <p:spPr>
          <a:xfrm>
            <a:off x="2807280" y="32907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1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60" name=""/>
          <p:cNvSpPr/>
          <p:nvPr/>
        </p:nvSpPr>
        <p:spPr>
          <a:xfrm>
            <a:off x="4820400" y="32907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2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5257800"/>
            <a:ext cx="0" cy="9907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743200" y="5257440"/>
            <a:ext cx="609480" cy="15228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63" name=""/>
          <p:cNvSpPr/>
          <p:nvPr/>
        </p:nvSpPr>
        <p:spPr>
          <a:xfrm>
            <a:off x="1938960" y="54244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sum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ecution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nchronous (blocking) oper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eiver may also block until it receives the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3595680"/>
            <a:ext cx="0" cy="9907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3595680"/>
            <a:ext cx="0" cy="44280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4572000"/>
            <a:ext cx="1843200" cy="700200"/>
          </a:xfrm>
          <a:prstGeom prst="line">
            <a:avLst/>
          </a:prstGeom>
          <a:ln w="19080">
            <a:solidFill>
              <a:srgbClr val="6f89f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69" name=""/>
          <p:cNvSpPr/>
          <p:nvPr/>
        </p:nvSpPr>
        <p:spPr>
          <a:xfrm>
            <a:off x="2660400" y="4357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nd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5309640" y="38862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ceiv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1" name=""/>
          <p:cNvSpPr/>
          <p:nvPr/>
        </p:nvSpPr>
        <p:spPr>
          <a:xfrm>
            <a:off x="2807280" y="32907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1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2" name=""/>
          <p:cNvSpPr/>
          <p:nvPr/>
        </p:nvSpPr>
        <p:spPr>
          <a:xfrm>
            <a:off x="4820400" y="32907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2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5257800"/>
            <a:ext cx="0" cy="9907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743200" y="5257440"/>
            <a:ext cx="609480" cy="15228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5" name=""/>
          <p:cNvSpPr/>
          <p:nvPr/>
        </p:nvSpPr>
        <p:spPr>
          <a:xfrm>
            <a:off x="1938960" y="54244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sum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ecution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5272200"/>
            <a:ext cx="0" cy="9763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5257440" y="5257800"/>
            <a:ext cx="685800" cy="53352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78" name=""/>
          <p:cNvSpPr/>
          <p:nvPr/>
        </p:nvSpPr>
        <p:spPr>
          <a:xfrm>
            <a:off x="5901480" y="557676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sum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ecution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ynchronous (nonblocking) oper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ynchronous send:  sender continues execution immediately after sending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3595680"/>
            <a:ext cx="0" cy="9907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3595680"/>
            <a:ext cx="0" cy="44280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4572000"/>
            <a:ext cx="1843200" cy="700200"/>
          </a:xfrm>
          <a:prstGeom prst="line">
            <a:avLst/>
          </a:prstGeom>
          <a:ln w="19080">
            <a:solidFill>
              <a:srgbClr val="6f89f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4" name=""/>
          <p:cNvSpPr/>
          <p:nvPr/>
        </p:nvSpPr>
        <p:spPr>
          <a:xfrm>
            <a:off x="2660400" y="4357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nd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5" name=""/>
          <p:cNvSpPr/>
          <p:nvPr/>
        </p:nvSpPr>
        <p:spPr>
          <a:xfrm>
            <a:off x="5309640" y="38862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ceiv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6" name=""/>
          <p:cNvSpPr/>
          <p:nvPr/>
        </p:nvSpPr>
        <p:spPr>
          <a:xfrm>
            <a:off x="2807280" y="32907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1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7" name=""/>
          <p:cNvSpPr/>
          <p:nvPr/>
        </p:nvSpPr>
        <p:spPr>
          <a:xfrm>
            <a:off x="4820400" y="32907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read 2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4572000"/>
            <a:ext cx="0" cy="16765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89" name=""/>
          <p:cNvSpPr/>
          <p:nvPr/>
        </p:nvSpPr>
        <p:spPr>
          <a:xfrm>
            <a:off x="5257800" y="5272200"/>
            <a:ext cx="0" cy="97632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5257440" y="5257800"/>
            <a:ext cx="685800" cy="53352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91" name=""/>
          <p:cNvSpPr/>
          <p:nvPr/>
        </p:nvSpPr>
        <p:spPr>
          <a:xfrm>
            <a:off x="5901480" y="557676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sume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ecution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ynchronous (nonblocking) oper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e disadvantage of asynchronous send is that we need a message buffer to hold outgoing messages that have not yet been receiv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en the buffer fills, the send becomes block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eive is (almost) never asynchronou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rmally, you need the data you are receiving to proceed with the computatio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Mechanis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mote Procedure Cal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ent/server model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PC involves two message sends, one to request service and one to return resul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19320" y="3429000"/>
            <a:ext cx="1904760" cy="1143000"/>
          </a:xfrm>
          <a:prstGeom prst="rect">
            <a:avLst/>
          </a:prstGeom>
          <a:solidFill>
            <a:srgbClr val="ecd882"/>
          </a:solidFill>
          <a:ln w="316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97" name=""/>
          <p:cNvSpPr/>
          <p:nvPr/>
        </p:nvSpPr>
        <p:spPr>
          <a:xfrm>
            <a:off x="1783080" y="285264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98" name=""/>
          <p:cNvSpPr/>
          <p:nvPr/>
        </p:nvSpPr>
        <p:spPr>
          <a:xfrm>
            <a:off x="5513400" y="28195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3429000"/>
            <a:ext cx="1981080" cy="1143000"/>
          </a:xfrm>
          <a:prstGeom prst="rect">
            <a:avLst/>
          </a:prstGeom>
          <a:solidFill>
            <a:srgbClr val="ecd882"/>
          </a:solidFill>
          <a:ln w="316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3581280"/>
            <a:ext cx="380880" cy="228600"/>
          </a:xfrm>
          <a:prstGeom prst="rect">
            <a:avLst/>
          </a:prstGeom>
          <a:solidFill>
            <a:srgbClr val="ecd882"/>
          </a:solidFill>
          <a:ln w="316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301" name=""/>
          <p:cNvSpPr/>
          <p:nvPr/>
        </p:nvSpPr>
        <p:spPr>
          <a:xfrm>
            <a:off x="2819520" y="3733920"/>
            <a:ext cx="2590560" cy="22860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302" name=""/>
          <p:cNvSpPr/>
          <p:nvPr/>
        </p:nvSpPr>
        <p:spPr>
          <a:xfrm>
            <a:off x="5429520" y="38862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 (x)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819160" y="4191120"/>
            <a:ext cx="2514600" cy="7596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304" name=""/>
          <p:cNvSpPr/>
          <p:nvPr/>
        </p:nvSpPr>
        <p:spPr>
          <a:xfrm>
            <a:off x="7361280" y="354960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rver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6400800" y="3733560"/>
            <a:ext cx="990720" cy="759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  <p:sp>
        <p:nvSpPr>
          <p:cNvPr id="306" name=""/>
          <p:cNvSpPr/>
          <p:nvPr/>
        </p:nvSpPr>
        <p:spPr>
          <a:xfrm>
            <a:off x="1353240" y="38098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pc(f,x,server)</a:t>
            </a:r>
            <a:endParaRPr b="0" lang="en-US" sz="1800" spc="-1" strike="noStrike">
              <a:solidFill>
                <a:srgbClr val="40458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urrent M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ension to ML with concurrency primitiv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ad cre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ynamic thread creation through spaw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nchronization mechanis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variety of different sorts of “event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munication mechanis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ynchronous and synchronous opera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hared mutable sta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urrent P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ny modern applications are structured as a collection of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concurr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, cooperating compon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fferent parts of the concurrent program may be run in parallel, resulting in a performance improv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Performance is only one reaso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for writing concurrent progra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urrency is also a useful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structuring devic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for progra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hrea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ncapsulates a unit of state and contro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urrent Applic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eractive system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r interfaces, window managers, Microsoft PowerPoint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active syst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program responds to the environ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gnal processors, dataflow networks, node progra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haracteristic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ltiple input streams, low latency is crucial, multiple distinct tasks operate simultaneous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urrent P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current PL incorporate three kinds of mechanism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means to introduce new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threa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thread = a unit of state + contro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ither static or dynamic thread cre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Synchronizatio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rimitiv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ordinates independent threa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uces nondeterminism in the order of computa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ommunicatio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mechanis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hared memory or message-pass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rea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thread = state + contr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trol = an instruction stream (program counte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e = local variables, stack, possibly local hea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tic thread cre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1 | p2 | ... | pn creates n threads at run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ynamic thread cre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awn/fork create arbitrarily many thread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ference &amp; Synchron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ultiple threads normally share some inform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 soon as there is any sharing, the order of execution of multiple threads can alter the meaning of progra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nchronization required to avoid interfere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2444040" y="4224240"/>
            <a:ext cx="376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val x = ref 0 in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x := !x + 1) | (x := !x + 2);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int (!x)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40458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ference &amp; Synchron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 prove sequential programs correct we need to worry about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ether they termina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output they produ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 prove concurrent programs correct we need to worry about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ing the sequential parts corr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ether concurrent parts are properly synchronized so they make progr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adlock, no livelock, no starv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ference &amp; Synchron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program i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deadlocke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if every thread requires some resource (state) held by another thread so no thread can make progres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reads are too greedy and hoard resour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livelocke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if every thread consistently gives up its resources, and so none make progr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, you first; no, you first; NO!  You first;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thread is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starved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if it never acquires the resources it nee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ference &amp; Synchron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haracterizing program properti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fet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rogram never enters a bad sta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ype safety propert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sence of deadlock &amp; mutual exclus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ven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ventually, a program enters a good sta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rmination propert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airness properties (absence of starvatio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per synchronization necessary for safety and liven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0:51:50Z</dcterms:created>
  <dc:creator>David Walker</dc:creator>
  <dc:description/>
  <dc:language>en-US</dc:language>
  <cp:lastModifiedBy>David Walker</cp:lastModifiedBy>
  <dcterms:modified xsi:type="dcterms:W3CDTF">2002-12-04T03:28:36Z</dcterms:modified>
  <cp:revision>4</cp:revision>
  <dc:subject/>
  <dc:title>Concurrency</dc:title>
</cp:coreProperties>
</file>