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5D27-313C-40D7-8604-BB0DE62E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2303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A2BA-E6C3-44CF-ACC1-D30E8632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2303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2303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5232-F08B-4E1A-8356-6E506716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5238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5238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2303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2303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2303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47AB-AE83-4B7A-A885-050B531D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FB69-1C3C-463D-8DAA-5FB742E4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5BCF-F9AB-4DAB-A85F-D3194A9B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FBF5-FEBB-426C-9970-A4A98FDA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5238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0080-EF85-466C-95C8-2D6C46FD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9ABE-F62D-4052-87E2-28D7A9AF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C118-855F-473F-B8D0-85F666EA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5238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2303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DCE7-1815-434F-9080-344BBD87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5711-E716-40C7-95D3-FA2FDC16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2303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2704-124D-46E0-93EE-7B75859B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2303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E431-98BA-40B6-8422-F8E83844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2303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67FD-AA32-4DC9-A74C-8D0DA08B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2303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2303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25B9-CBBF-4962-A201-57457987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5238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5238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2303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2303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2303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3164-757A-4343-B062-3860B2C8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12F9-2AB2-45DF-9AA5-6CC84762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5238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B2C6-F9EC-4AE9-A077-AFE7F595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4F15-A5DA-4D2E-BD9A-AAB9388D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E76-FF56-4F37-ACBA-76A87E1D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5238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2303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A491-AAC6-4BDA-BF0E-317B9CD1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2303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5D13-8E60-45FB-9C6A-95C15FB0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2303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4760-D49E-4E55-B030-C6D159E1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 Narrow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 Narrow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199B-91F7-4E06-88C1-EECCBE52DC3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F1CF-F8A4-473F-B2F2-AADD07636AC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urr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S 510: Programming Languag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avid Walk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unication Mechanis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hared-memory languag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reads interact through shared sta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2379960" y="4724280"/>
            <a:ext cx="464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ype ‘a buffer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al buffer : unit -&gt; ‘a buffer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al insert : (‘a * ‘a buffer) -&gt; unit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al remove : ‘a buffer -&gt; ‘a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2971800"/>
            <a:ext cx="83844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31" name=""/>
          <p:cNvSpPr/>
          <p:nvPr/>
        </p:nvSpPr>
        <p:spPr>
          <a:xfrm>
            <a:off x="1386000" y="41911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ducer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3657600"/>
            <a:ext cx="1295280" cy="152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33" name=""/>
          <p:cNvSpPr/>
          <p:nvPr/>
        </p:nvSpPr>
        <p:spPr>
          <a:xfrm>
            <a:off x="3830040" y="384336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uffer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34" name=""/>
          <p:cNvSpPr/>
          <p:nvPr/>
        </p:nvSpPr>
        <p:spPr>
          <a:xfrm>
            <a:off x="6472080" y="2971800"/>
            <a:ext cx="83844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35" name=""/>
          <p:cNvSpPr/>
          <p:nvPr/>
        </p:nvSpPr>
        <p:spPr>
          <a:xfrm>
            <a:off x="6104160" y="41911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sumer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36" name=""/>
          <p:cNvSpPr/>
          <p:nvPr/>
        </p:nvSpPr>
        <p:spPr>
          <a:xfrm>
            <a:off x="2362320" y="3429000"/>
            <a:ext cx="137160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029200" y="3429000"/>
            <a:ext cx="175248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38" name=""/>
          <p:cNvSpPr/>
          <p:nvPr/>
        </p:nvSpPr>
        <p:spPr>
          <a:xfrm>
            <a:off x="407160" y="563868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interface: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unication Mechanis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ynchronization and shared-memo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tual exclusion loc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fore accessing shared data, the lock for that data must be acquir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en access is complete, lock is releas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dula-3, Java,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semaphore is basically a fancy loc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nito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module that encapsulates shared sta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nly one thread can be active inside the monitor at a tim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scal (?), Tur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unication Mechanis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ssage-pass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reads interact by sending and receiving messag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usality principle:  send occurs before receiv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sult: synchronization occurs through message pass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3429000"/>
            <a:ext cx="0" cy="152712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429000"/>
            <a:ext cx="0" cy="152712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3886200"/>
            <a:ext cx="1905120" cy="685800"/>
          </a:xfrm>
          <a:prstGeom prst="line">
            <a:avLst/>
          </a:prstGeom>
          <a:ln w="19080">
            <a:solidFill>
              <a:srgbClr val="6f89f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46" name=""/>
          <p:cNvSpPr/>
          <p:nvPr/>
        </p:nvSpPr>
        <p:spPr>
          <a:xfrm>
            <a:off x="2646360" y="35812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nd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47" name=""/>
          <p:cNvSpPr/>
          <p:nvPr/>
        </p:nvSpPr>
        <p:spPr>
          <a:xfrm>
            <a:off x="5385960" y="43434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ceive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48" name=""/>
          <p:cNvSpPr/>
          <p:nvPr/>
        </p:nvSpPr>
        <p:spPr>
          <a:xfrm>
            <a:off x="2793240" y="312408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read 1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49" name=""/>
          <p:cNvSpPr/>
          <p:nvPr/>
        </p:nvSpPr>
        <p:spPr>
          <a:xfrm>
            <a:off x="4806000" y="312408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read 2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unication Mechanis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munication channe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sender must know where to send the 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receiver must know where to listen for the 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channe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ncapsulates the source and destination of messag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ne-to-one (unicast channel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ne-to-many (broadcast channel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yped channel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nd-only (for output devices), read-only channels (for input devic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unication Mechanis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ynchronous (blocking) opera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nding thread waits until receiver receives the 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3595680"/>
            <a:ext cx="0" cy="99072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333760" y="3595680"/>
            <a:ext cx="14040" cy="265284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56" name=""/>
          <p:cNvSpPr/>
          <p:nvPr/>
        </p:nvSpPr>
        <p:spPr>
          <a:xfrm>
            <a:off x="3429000" y="4572000"/>
            <a:ext cx="1843200" cy="700200"/>
          </a:xfrm>
          <a:prstGeom prst="line">
            <a:avLst/>
          </a:prstGeom>
          <a:ln w="19080">
            <a:solidFill>
              <a:srgbClr val="6f89f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57" name=""/>
          <p:cNvSpPr/>
          <p:nvPr/>
        </p:nvSpPr>
        <p:spPr>
          <a:xfrm>
            <a:off x="2660400" y="43578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nd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58" name=""/>
          <p:cNvSpPr/>
          <p:nvPr/>
        </p:nvSpPr>
        <p:spPr>
          <a:xfrm>
            <a:off x="5400000" y="50436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ceive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59" name=""/>
          <p:cNvSpPr/>
          <p:nvPr/>
        </p:nvSpPr>
        <p:spPr>
          <a:xfrm>
            <a:off x="2807280" y="32907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read 1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60" name=""/>
          <p:cNvSpPr/>
          <p:nvPr/>
        </p:nvSpPr>
        <p:spPr>
          <a:xfrm>
            <a:off x="4820400" y="32907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read 2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61" name=""/>
          <p:cNvSpPr/>
          <p:nvPr/>
        </p:nvSpPr>
        <p:spPr>
          <a:xfrm>
            <a:off x="3429000" y="5257800"/>
            <a:ext cx="0" cy="99072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743200" y="5257440"/>
            <a:ext cx="609480" cy="15228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63" name=""/>
          <p:cNvSpPr/>
          <p:nvPr/>
        </p:nvSpPr>
        <p:spPr>
          <a:xfrm>
            <a:off x="1938960" y="54244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sume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ecution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unication Mechanis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ynchronous (blocking) opera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eiver may also block until it receives the 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3595680"/>
            <a:ext cx="0" cy="99072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3595680"/>
            <a:ext cx="0" cy="44280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68" name=""/>
          <p:cNvSpPr/>
          <p:nvPr/>
        </p:nvSpPr>
        <p:spPr>
          <a:xfrm>
            <a:off x="3429000" y="4572000"/>
            <a:ext cx="1843200" cy="700200"/>
          </a:xfrm>
          <a:prstGeom prst="line">
            <a:avLst/>
          </a:prstGeom>
          <a:ln w="19080">
            <a:solidFill>
              <a:srgbClr val="6f89f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69" name=""/>
          <p:cNvSpPr/>
          <p:nvPr/>
        </p:nvSpPr>
        <p:spPr>
          <a:xfrm>
            <a:off x="2660400" y="43578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nd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70" name=""/>
          <p:cNvSpPr/>
          <p:nvPr/>
        </p:nvSpPr>
        <p:spPr>
          <a:xfrm>
            <a:off x="5309640" y="38862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ceive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71" name=""/>
          <p:cNvSpPr/>
          <p:nvPr/>
        </p:nvSpPr>
        <p:spPr>
          <a:xfrm>
            <a:off x="2807280" y="32907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read 1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72" name=""/>
          <p:cNvSpPr/>
          <p:nvPr/>
        </p:nvSpPr>
        <p:spPr>
          <a:xfrm>
            <a:off x="4820400" y="32907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read 2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5257800"/>
            <a:ext cx="0" cy="99072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743200" y="5257440"/>
            <a:ext cx="609480" cy="15228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75" name=""/>
          <p:cNvSpPr/>
          <p:nvPr/>
        </p:nvSpPr>
        <p:spPr>
          <a:xfrm>
            <a:off x="1938960" y="54244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sume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ecution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76" name=""/>
          <p:cNvSpPr/>
          <p:nvPr/>
        </p:nvSpPr>
        <p:spPr>
          <a:xfrm>
            <a:off x="5257800" y="5272200"/>
            <a:ext cx="0" cy="97632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5257440" y="5257800"/>
            <a:ext cx="685800" cy="53352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78" name=""/>
          <p:cNvSpPr/>
          <p:nvPr/>
        </p:nvSpPr>
        <p:spPr>
          <a:xfrm>
            <a:off x="5901480" y="557676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sume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ecution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unication Mechanis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synchronous (nonblocking) opera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synchronous send:  sender continues execution immediately after sending 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3595680"/>
            <a:ext cx="0" cy="99072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3595680"/>
            <a:ext cx="0" cy="44280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4572000"/>
            <a:ext cx="1843200" cy="700200"/>
          </a:xfrm>
          <a:prstGeom prst="line">
            <a:avLst/>
          </a:prstGeom>
          <a:ln w="19080">
            <a:solidFill>
              <a:srgbClr val="6f89f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84" name=""/>
          <p:cNvSpPr/>
          <p:nvPr/>
        </p:nvSpPr>
        <p:spPr>
          <a:xfrm>
            <a:off x="2660400" y="43578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nd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85" name=""/>
          <p:cNvSpPr/>
          <p:nvPr/>
        </p:nvSpPr>
        <p:spPr>
          <a:xfrm>
            <a:off x="5309640" y="38862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ceive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86" name=""/>
          <p:cNvSpPr/>
          <p:nvPr/>
        </p:nvSpPr>
        <p:spPr>
          <a:xfrm>
            <a:off x="2807280" y="32907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read 1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87" name=""/>
          <p:cNvSpPr/>
          <p:nvPr/>
        </p:nvSpPr>
        <p:spPr>
          <a:xfrm>
            <a:off x="4820400" y="32907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read 2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88" name=""/>
          <p:cNvSpPr/>
          <p:nvPr/>
        </p:nvSpPr>
        <p:spPr>
          <a:xfrm>
            <a:off x="3429000" y="4572000"/>
            <a:ext cx="0" cy="167652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89" name=""/>
          <p:cNvSpPr/>
          <p:nvPr/>
        </p:nvSpPr>
        <p:spPr>
          <a:xfrm>
            <a:off x="5257800" y="5272200"/>
            <a:ext cx="0" cy="97632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5257440" y="5257800"/>
            <a:ext cx="685800" cy="53352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91" name=""/>
          <p:cNvSpPr/>
          <p:nvPr/>
        </p:nvSpPr>
        <p:spPr>
          <a:xfrm>
            <a:off x="5901480" y="557676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sume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ecution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unication Mechanis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synchronous (nonblocking) opera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ne disadvantage of asynchronous send is that we need a message buffer to hold outgoing messages that have not yet been receiv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en the buffer fills, the send becomes block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eive is (almost) never asynchronou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rmally, you need the data you are receiving to proceed with the computation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unication Mechanis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mote Procedure Cal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ent/server model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PC involves two message sends, one to request service and one to return resul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219320" y="3429000"/>
            <a:ext cx="1904760" cy="1143000"/>
          </a:xfrm>
          <a:prstGeom prst="rect">
            <a:avLst/>
          </a:prstGeom>
          <a:solidFill>
            <a:srgbClr val="ecd882"/>
          </a:solidFill>
          <a:ln w="316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97" name=""/>
          <p:cNvSpPr/>
          <p:nvPr/>
        </p:nvSpPr>
        <p:spPr>
          <a:xfrm>
            <a:off x="1783080" y="285264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98" name=""/>
          <p:cNvSpPr/>
          <p:nvPr/>
        </p:nvSpPr>
        <p:spPr>
          <a:xfrm>
            <a:off x="5513400" y="28195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99" name=""/>
          <p:cNvSpPr/>
          <p:nvPr/>
        </p:nvSpPr>
        <p:spPr>
          <a:xfrm>
            <a:off x="5029200" y="3429000"/>
            <a:ext cx="1981080" cy="1143000"/>
          </a:xfrm>
          <a:prstGeom prst="rect">
            <a:avLst/>
          </a:prstGeom>
          <a:solidFill>
            <a:srgbClr val="ecd882"/>
          </a:solidFill>
          <a:ln w="316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3581280"/>
            <a:ext cx="380880" cy="228600"/>
          </a:xfrm>
          <a:prstGeom prst="rect">
            <a:avLst/>
          </a:prstGeom>
          <a:solidFill>
            <a:srgbClr val="ecd882"/>
          </a:solidFill>
          <a:ln w="316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301" name=""/>
          <p:cNvSpPr/>
          <p:nvPr/>
        </p:nvSpPr>
        <p:spPr>
          <a:xfrm>
            <a:off x="2819520" y="3733920"/>
            <a:ext cx="2590560" cy="22860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302" name=""/>
          <p:cNvSpPr/>
          <p:nvPr/>
        </p:nvSpPr>
        <p:spPr>
          <a:xfrm>
            <a:off x="5429520" y="38862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 (x)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2819160" y="4191120"/>
            <a:ext cx="2514600" cy="7596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304" name=""/>
          <p:cNvSpPr/>
          <p:nvPr/>
        </p:nvSpPr>
        <p:spPr>
          <a:xfrm>
            <a:off x="7361280" y="354960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rver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6400800" y="3733560"/>
            <a:ext cx="990720" cy="759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306" name=""/>
          <p:cNvSpPr/>
          <p:nvPr/>
        </p:nvSpPr>
        <p:spPr>
          <a:xfrm>
            <a:off x="1353240" y="38098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pc(f,x,server)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urrent M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tension to ML with concurrency primitiv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read cre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ynamic thread creation through spaw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ynchronization mechanis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variety of different sorts of “events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munication mechanis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ynchronous and synchronous opera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hared mutable sta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urrent P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ny modern applications are structured as a collection of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concurr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, cooperating compon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erent parts of the concurrent program may be run in parallel, resulting in a performance improve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Performance is only one reaso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for writing concurrent progra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urrency is also a useful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structuring devic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for progra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threa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capsulates a unit of state and contro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urrent Applic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eractive system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r interfaces, window managers, Microsoft PowerPoint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active syst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program responds to the environ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gnal processors, dataflow networks, node progra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haracteristic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ltiple input streams, low latency is crucial, multiple distinct tasks operate simultaneous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urrent P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current PL incorporate three kinds of mechanism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means to introduce new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threa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thread = a unit of state + contro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ither static or dynamic thread cre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Synchronizatio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primitiv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ordinates independent threa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duces nondeterminism in the order of computa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communicatio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echanis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hared memory or message-pass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rea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thread = state + contro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trol = an instruction stream (program counte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te = local variables, stack, possibly local hea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tic thread cre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1 | p2 | ... | pn creates n threads at run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ynamic thread cre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awn/fork create arbitrarily many thread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ference &amp; Synchron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ultiple threads normally share some inform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s soon as there is any sharing, the order of execution of multiple threads can alter the meaning of progra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ynchronization required to avoid interfere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2444040" y="4224240"/>
            <a:ext cx="376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t val x = ref 0 in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x := !x + 1) | (x := !x + 2);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int (!x)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ference &amp; Synchron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 prove sequential programs correct we need to worry about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ether they termina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output they produ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 prove concurrent programs correct we need to worry about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ing the sequential parts corr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ether concurrent parts are properly synchronized so they make progr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deadlock, no livelock, no starv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ference &amp; Synchron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program i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deadlocke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if every thread requires some resource (state) held by another thread so no thread can make progres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reads are too greedy and hoard resour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livelocke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if every thread consistently gives up its resources, and so none make progr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, you first; no, you first; NO!  You first;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thread is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starved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if it never acquires the resources it need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ference &amp; Synchron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haracterizing program properti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fety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rogram never enters a bad sta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ype safety propert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bsence of deadlock &amp; mutual exclus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ven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ventually, a program enters a good sta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rmination propert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airness properties (absence of starvatio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per synchronization necessary for safety and liven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00:51:50Z</dcterms:created>
  <dc:creator>David Walker</dc:creator>
  <dc:description/>
  <dc:language>en-US</dc:language>
  <cp:lastModifiedBy>David Walker</cp:lastModifiedBy>
  <dcterms:modified xsi:type="dcterms:W3CDTF">2002-12-04T03:28:36Z</dcterms:modified>
  <cp:revision>4</cp:revision>
  <dc:subject/>
  <dc:title>Concurrency</dc:title>
</cp:coreProperties>
</file>