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1F25BD-D786-4D62-BB1E-35D5FD4DD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2D7B98-43CE-4DE1-8917-F7C1ABA7D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FE1D1D-492E-4FE1-B1EB-3A2502B0B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BF0532-56AB-44B5-A145-2315A663D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7F70FB2-BEC6-457C-969F-315E79AF1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39F783-C6AA-4501-8539-3A191E285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AE32939-9971-4570-ABD6-F252004C1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9D14-3F3A-4522-B0CA-81FFC7187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8FE8-6D85-4B8C-89D3-9FD188FD6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1EDF-3A32-4FFC-B3A6-B2D9ED063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7EE6-361D-4B77-A047-7038BBFCE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FEB3-CC57-4A0B-81E0-45488D9A6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3096-7D2B-49BC-921D-2E80A21BF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6224-B0DF-4190-9AD8-25624BCED2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4E59-CD28-4F0E-8FBC-FF148D288C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DC79-FE46-4420-8E2A-3EBC61648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9F79-BE0F-432C-A152-8B2C87867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E2EF-AD42-495B-8F5C-5D28F8108C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6AE3-A7F2-4E47-B1C7-81F210A07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B47C-3112-4237-9A18-3CAC89186B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FB5C-BDAE-4303-BC48-0610724567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DE6A-A8E1-4EEE-82D0-D621FE2E77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7B42-3CCC-420A-9018-E72C19110B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CC69-9471-4CF4-9A17-30DB44EC0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B59D-2E8B-49C8-A447-06B868060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12B-6EB4-4D4F-BD9B-80BA0FBFD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7B3C-397C-4550-80A4-F088DDD93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B445-068D-408D-98F1-92B4FB638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2AAE-7CFE-4ACC-9979-C89B23E94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5B65-4A7F-4B80-AA21-0F0792362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6CDE-494D-4C9E-92A1-FC82ED837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D302-103A-4A5E-826A-B74382B28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F44-06BF-44D1-A295-D95C2821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19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6.1-6.4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4350960"/>
            <a:ext cx="7680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7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52840" y="49320"/>
            <a:ext cx="3724200" cy="31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E769-111C-42D8-86F2-91BB1E1E0D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erring From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9320" y="269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773240"/>
            <a:ext cx="84582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end host se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can the end host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285D-7AE5-403C-8113-ADE64467C2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ongestion Happens: Lin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resource allocation: FIFO queue &amp; drop-tai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bandwidth: first-in first-out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 space: drop-tail queu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queue is full, drop the incom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300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197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79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436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31989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6600" y="31989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6480" y="3197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0560" y="3192480"/>
            <a:ext cx="1919160" cy="352440"/>
          </a:xfrm>
          <a:custGeom>
            <a:avLst/>
            <a:gdLst/>
            <a:ahLst/>
            <a:rect l="l" t="t" r="r" b="b"/>
            <a:pathLst>
              <a:path w="1209" h="222">
                <a:moveTo>
                  <a:pt x="0" y="197"/>
                </a:moveTo>
                <a:cubicBezTo>
                  <a:pt x="81" y="98"/>
                  <a:pt x="162" y="0"/>
                  <a:pt x="363" y="4"/>
                </a:cubicBezTo>
                <a:cubicBezTo>
                  <a:pt x="564" y="8"/>
                  <a:pt x="886" y="115"/>
                  <a:pt x="1209" y="2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1120" y="3505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0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79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436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660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66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06480" y="55767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8849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8280" y="5388120"/>
            <a:ext cx="1036800" cy="103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52760" y="5234040"/>
            <a:ext cx="806400" cy="1228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3C7C-B380-4935-BF30-3C2CEF53F5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dela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experiences high 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los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gets dropped along the 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6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es TCP sender learn th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-duplicat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BE93-1113-4B03-A0B9-88EE13F69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 End Host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the sending rate (e.g., divide in hal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does its part to alleviate th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conditions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there is more bandwidth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a shame to stay at a low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the sending rate, a little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e if the packets are successfully deliv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70DB-3DD0-4853-84CC-D381464BFB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sender maintains a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number of bytes to have in trans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number of bytes still awaiting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upon losing a packet: backing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upon success: optimistically explo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struggling to find the right transfer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h good and b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: avoids having explicit feedback from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: under-shooting and over-shooting the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61C2-BE0D-4DC6-A5B6-35FC4524B0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and decrea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linearly, decrease multiplica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quences of over-sized window are much worse than having an under-sized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ized window: packets dropped and re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sized window: somewhat low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 of data, increase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1BBC-712F-4A44-AB22-C5ED19EB1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he TCP “Sawtoo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0"/>
            <a:ext cx="7010280" cy="312408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7162920" cy="198108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4760" y="44658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93720" y="26607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A822-8B84-4F6B-86E8-88D1BA287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Detai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resented in bytes, not in packets (Wh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have MSS (Maximum Segment Size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MSS on success for last window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ver drop congestion window below 1 M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6764-CAEF-4534-9A7C-715160F358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 slow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flow control: receiver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congestion control: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window: min{congestion window, receiver window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A01C-B1F9-4E50-A53C-F6264FAE38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w Flow St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12960"/>
            <a:ext cx="7010280" cy="312444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55960"/>
            <a:ext cx="7162920" cy="198144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4040" y="576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960" y="2179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38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69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69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34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70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9415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22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3987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5661000"/>
            <a:ext cx="2343240" cy="60948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040" y="1278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to start with a small CWND to avoid overloading the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DF9A-ED17-4FFC-A54D-07799AB29D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programming assignment is po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b proxy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Friday March 9 at 6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hallenging than the first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day’s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annis Avramopoulos will l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the first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view of the second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cture on Web Content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d to get started on the next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the most of Monday’s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go to office hours early if you encounter 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89C7-E02C-4BCD-A759-A04E43417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” Ph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rt with a small congestion wind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ly, CWND is 1 Max Segment Size (M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, initial sending rate is MSS/RT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at could be pretty wastefu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much less than the actual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ear increase takes a long time to accele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ow-start phase (really “fast start”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der starts at a slow rate (hence the nam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increases the rate exponential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til the first loss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B591-DD03-4367-8BD4-CF966E0A3F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715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382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38890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008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7816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86400" y="36590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659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39625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38862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7240" y="45608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3200" y="457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60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54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212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8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42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7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84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508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52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60" y="358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60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38862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5960" y="4464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38862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0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6160" y="332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4080" y="333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1480" y="334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8880" y="3362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B3EB-54DA-45A3-BADE-22DDB482B0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and the TCP Saw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873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2330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558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79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02360" y="2257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5360" y="2333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01840" y="1935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44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2760" y="4892760"/>
            <a:ext cx="2209680" cy="609480"/>
          </a:xfrm>
          <a:prstGeom prst="wedgeRectCallout">
            <a:avLst>
              <a:gd name="adj1" fmla="val -38074"/>
              <a:gd name="adj2" fmla="val -123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24040" y="476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133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3280" y="5502240"/>
            <a:ext cx="70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is it called slow-start? Because TCP originally h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 mechanism. The source would j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sending a whole receiver window’s worth of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711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317196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416560" y="309528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11520"/>
            <a:ext cx="6480" cy="10666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8246-63A1-41E6-8B78-53FCBEF374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Kinds of Loss in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 and detected via a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ecause all packets in flight were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the timeout, blasting away for the entire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trigger a very large burs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, better to start over with a low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ple duplicate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, but packets n+1, n+2, etc.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sends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retransmits packet n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 a multiplicative decrease and keep go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3E22-0DA4-4FCF-A870-8A92D006DF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ating Slow Start After Time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035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406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0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360" y="150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5656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restart: Go back to CWND of 1, but take advantage of knowing the previous value of CW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2873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31734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3863880"/>
            <a:ext cx="914400" cy="99072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72200" y="31777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873520"/>
            <a:ext cx="0" cy="19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49680"/>
            <a:ext cx="2514600" cy="914400"/>
          </a:xfrm>
          <a:prstGeom prst="wedgeRectCallout">
            <a:avLst>
              <a:gd name="adj1" fmla="val -64708"/>
              <a:gd name="adj2" fmla="val -45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start in operation until it reaches half of previou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532120" y="2354400"/>
            <a:ext cx="384120" cy="511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46640" y="2481120"/>
            <a:ext cx="26856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6560" y="18162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9115-5B9E-4C02-BD47-0012318B3A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Slow Start After Idle Peri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a TCP connection goes idle for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net session where you don’t type for an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the network conditions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many more flows are traversing the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aybe everybody has come back from lunch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ngerous to start transmitting at the old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iously-idle TCP sender might blast the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excessive congestion and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some TCP implementations repeat slow sta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-start restart after an idle peri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72B8-84B0-490B-90E7-53FB2BDD9D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Achieves Some Notion of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ive utilization is not the only go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lso want to b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i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various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what the heck doe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definition: equal shares of the bandwid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flows that each get 1/N of the bandwid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flows traverse different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andwidth shared in proportion to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129200" y="4927680"/>
            <a:ext cx="1074240" cy="535680"/>
            <a:chOff x="4129200" y="4927680"/>
            <a:chExt cx="1074240" cy="535680"/>
          </a:xfrm>
        </p:grpSpPr>
        <p:sp>
          <p:nvSpPr>
            <p:cNvPr id="352" name=""/>
            <p:cNvSpPr/>
            <p:nvPr/>
          </p:nvSpPr>
          <p:spPr>
            <a:xfrm>
              <a:off x="415440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96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188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74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0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06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122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8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252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540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22960" y="4927680"/>
            <a:ext cx="1074240" cy="535680"/>
            <a:chOff x="6222960" y="4927680"/>
            <a:chExt cx="1074240" cy="535680"/>
          </a:xfrm>
        </p:grpSpPr>
        <p:sp>
          <p:nvSpPr>
            <p:cNvPr id="364" name=""/>
            <p:cNvSpPr/>
            <p:nvPr/>
          </p:nvSpPr>
          <p:spPr>
            <a:xfrm>
              <a:off x="624816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3372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296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564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11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27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43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9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75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628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916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036880" y="4925880"/>
            <a:ext cx="1074240" cy="536400"/>
            <a:chOff x="2036880" y="4925880"/>
            <a:chExt cx="1074240" cy="536400"/>
          </a:xfrm>
        </p:grpSpPr>
        <p:sp>
          <p:nvSpPr>
            <p:cNvPr id="376" name=""/>
            <p:cNvSpPr/>
            <p:nvPr/>
          </p:nvSpPr>
          <p:spPr>
            <a:xfrm>
              <a:off x="2062080" y="492588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47640" y="4954680"/>
              <a:ext cx="645480" cy="495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6880" y="495468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560" y="545004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250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66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882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198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14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0200" y="502092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43080" y="519300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192320" y="515772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6400" y="522432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8840" y="526896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DE30-2E6C-46D8-B3EE-7FB164B8C6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Cheat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 folks are more fair than oth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multiple TCP connections in parall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ifying the TCP implementation in the 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User Datagram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imp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guys slow down to make room for yo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get an unfair share of the bandwid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sible solu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etect cheating and drop excess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er pressu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886C-0C33-4544-9D09-4CB5A98652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euing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45640" y="3886200"/>
            <a:ext cx="779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gestion Notification (E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8DB1-98C7-4396-AA10-46E28331A1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sty Loss From Drop-Tail Queu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depends on packet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loss is the indicatio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fact, TCP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riv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network into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continuing to increase the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queuing leads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urs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a link becomes congested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arriving packets encounter a full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as a result, many flows divide sending rate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many individual flows lose multipl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6920" y="5272200"/>
            <a:ext cx="4147920" cy="1344240"/>
            <a:chOff x="2266920" y="5272200"/>
            <a:chExt cx="4147920" cy="1344240"/>
          </a:xfrm>
        </p:grpSpPr>
        <p:grpSp>
          <p:nvGrpSpPr>
            <p:cNvPr id="397" name=""/>
            <p:cNvGrpSpPr/>
            <p:nvPr/>
          </p:nvGrpSpPr>
          <p:grpSpPr>
            <a:xfrm>
              <a:off x="3596040" y="5584680"/>
              <a:ext cx="1464120" cy="745920"/>
              <a:chOff x="3596040" y="5584680"/>
              <a:chExt cx="1464120" cy="745920"/>
            </a:xfrm>
          </p:grpSpPr>
          <p:sp>
            <p:nvSpPr>
              <p:cNvPr id="398" name=""/>
              <p:cNvSpPr/>
              <p:nvPr/>
            </p:nvSpPr>
            <p:spPr>
              <a:xfrm>
                <a:off x="3630600" y="558468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56920" y="562536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96040" y="562536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7360" y="631764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424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480" y="573048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52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1640" y="571752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040" y="571752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3360" y="571752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1480" y="595836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98960" y="527220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98960" y="608868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6920" y="594468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3680" y="594468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0187-2F94-42DC-966F-E8C5790F1C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n IP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voidable due to best-effort service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hilosophy: decentralized control at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 by the TCP sen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s congestion is occurring (e.g., from packet los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s down to alleviate congestion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-control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-increase, multiplicative-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(AQM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52E9-755C-4A8E-B543-55B2F095C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Feedback from Drop T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edback comes when buffer is completely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though the buffer has been filling for a 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us, the filling buffer is increasing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variance in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ght be better to give early feedb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one or two connections to slow down, not all of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these connections to slow down before it i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66920" y="5079960"/>
            <a:ext cx="4147920" cy="1344240"/>
            <a:chOff x="2266920" y="5079960"/>
            <a:chExt cx="4147920" cy="1344240"/>
          </a:xfrm>
        </p:grpSpPr>
        <p:grpSp>
          <p:nvGrpSpPr>
            <p:cNvPr id="416" name=""/>
            <p:cNvGrpSpPr/>
            <p:nvPr/>
          </p:nvGrpSpPr>
          <p:grpSpPr>
            <a:xfrm>
              <a:off x="3596040" y="5392440"/>
              <a:ext cx="1464120" cy="745920"/>
              <a:chOff x="3596040" y="5392440"/>
              <a:chExt cx="1464120" cy="745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630600" y="539244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56920" y="543312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96040" y="543312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27360" y="612540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424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8480" y="553824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52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61640" y="55252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8040" y="552528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3360" y="552528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41480" y="576612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298960" y="507996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8960" y="589644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66920" y="575244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3680" y="575244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9A07-67E3-47CE-AA54-EEBD3FE771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sic idea of 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notices that the queue is getting backlog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andomly drops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drop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probability increases as queue length incr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uffer is below some level, don’t drop anyt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set drop probability as function of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00480" y="5057640"/>
            <a:ext cx="2514600" cy="990720"/>
          </a:xfrm>
          <a:custGeom>
            <a:avLst/>
            <a:gdLst/>
            <a:ahLst/>
            <a:rect l="l" t="t" r="r" b="b"/>
            <a:pathLst>
              <a:path w="1584" h="624">
                <a:moveTo>
                  <a:pt x="0" y="624"/>
                </a:moveTo>
                <a:lnTo>
                  <a:pt x="432" y="624"/>
                </a:lnTo>
                <a:lnTo>
                  <a:pt x="1104" y="288"/>
                </a:lnTo>
                <a:lnTo>
                  <a:pt x="1104" y="0"/>
                </a:lnTo>
                <a:lnTo>
                  <a:pt x="15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0480" y="4829040"/>
            <a:ext cx="2590560" cy="121932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0" y="720"/>
                </a:lnTo>
                <a:lnTo>
                  <a:pt x="1632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7840" y="55148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7840" y="50576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0240" y="62118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2156760" y="5327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732F-1FC5-42E1-9F01-0D5A19D16D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s before queue is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of reducing the rates of som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 in proportion to each flow’s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-rate flows have mor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hence, a higher chance of being sel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are spaced out in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should help desynchronize the TCP sen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lerant of burstiness in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basing the decisions on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queue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7B1F-B855-4C48-BC52-B891D8A365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get the tunable parameters just r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arly to start dropping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lope for the increase in drop probabil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ime scale for averaging the queue leng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times RED helps but sometimes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parameters aren’t set right, RED doesn’t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it is hard to know how to set the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 is implemented in pract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often not used due to the challenges of tuning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variations in the research commun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cute names like “Blue” and “FRED”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5F5A-4859-4D85-BB03-6679E18EB1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dropping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gives early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has to drop the packet to give the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licit Congestion Not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marks the packet with an ECN b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ing host interprets as a sig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rmounting the 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be supported by the end hosts and the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two bits in the IP header (one for the ECN mark, and one to indicate the ECN cap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borrow two of the Type-Of-Service bits in the IPv4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B84F-843E-49ED-AEF0-90CA9A8D6B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ther TCP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le’s Algorithm and Delaye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CA4E-757D-494D-ADD4-0C2E6D59F6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net and rlog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te many small packets (e.g., keystrok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s are wastefu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header (e.g., 40 bytes of header, 1 of dat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ealing to reduce the number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force every packet to have some minimum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person doesn’t type more charac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balance competing trade-of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larg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don’t introduce much delay by wai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2410-4DE3-475F-B41B-06CA7A03F6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it if the amount of data is sm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er than 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some other packet is already in fl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still awaiting the ACKs for previous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t is, send at most one small packet per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waiting until all outstanding ACKs hav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luence on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ve applications: enables batching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lk transfer: transmits in MSS-sized packets any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382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64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6696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6720" y="4618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020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92920" y="4719600"/>
            <a:ext cx="652320" cy="2462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1200" y="4719600"/>
            <a:ext cx="34632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02080" y="4335480"/>
            <a:ext cx="730440" cy="345960"/>
          </a:xfrm>
          <a:custGeom>
            <a:avLst/>
            <a:gdLst/>
            <a:ahLst/>
            <a:rect l="l" t="t" r="r" b="b"/>
            <a:pathLst>
              <a:path w="460" h="218">
                <a:moveTo>
                  <a:pt x="0" y="218"/>
                </a:moveTo>
                <a:cubicBezTo>
                  <a:pt x="70" y="109"/>
                  <a:pt x="141" y="0"/>
                  <a:pt x="218" y="0"/>
                </a:cubicBezTo>
                <a:cubicBezTo>
                  <a:pt x="295" y="0"/>
                  <a:pt x="377" y="109"/>
                  <a:pt x="460" y="2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5360" y="411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7938-5EFE-4525-BEA5-56159E49D3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CP traffic is often bidirectiona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Ks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K packets have high overhea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0 bytes for the IP header and TCP h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zero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ggybacking is appea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st B can send an ACK to host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part of a data packet from B to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994A-BE4A-4377-B09F-CC2F1AB477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Allows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30320" y="2865600"/>
            <a:ext cx="2288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E83B-C0AF-4911-8352-803CBA2680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Problem Under Circui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urce establishes connection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des reserve resources for th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rcuit rejected if the resources aren’t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have more than the network can 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521028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1920" y="4968720"/>
            <a:ext cx="306360" cy="22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25840" y="520848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75120" y="5208480"/>
            <a:ext cx="542880" cy="47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6680" y="520056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518000" y="5211720"/>
            <a:ext cx="65232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33720" y="474624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5520" y="525312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9200" y="4746600"/>
            <a:ext cx="3603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040" y="51530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559116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2880" y="55530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2600" y="50655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6080" y="462132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7760" y="555300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525924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06640" y="566748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91000" y="4906800"/>
            <a:ext cx="53352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4849920"/>
            <a:ext cx="2587680" cy="37944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48"/>
                </a:moveTo>
                <a:lnTo>
                  <a:pt x="288" y="240"/>
                </a:lnTo>
                <a:lnTo>
                  <a:pt x="672" y="0"/>
                </a:lnTo>
                <a:lnTo>
                  <a:pt x="864" y="0"/>
                </a:lnTo>
                <a:lnTo>
                  <a:pt x="1008" y="144"/>
                </a:lnTo>
                <a:lnTo>
                  <a:pt x="1248" y="144"/>
                </a:lnTo>
                <a:lnTo>
                  <a:pt x="1632" y="0"/>
                </a:lnTo>
              </a:path>
            </a:pathLst>
          </a:custGeom>
          <a:noFill/>
          <a:ln w="5076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66960" y="421488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54760" y="410040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16600" y="525312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73F6-FEE2-443D-B796-7859ADF48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2200" y="25891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73000" y="31068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51400" y="36990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605400">
            <a:off x="4028400" y="2245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0146600">
            <a:off x="3698280" y="287028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44600">
            <a:off x="4257000" y="365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48000" y="23814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34840" y="23972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8320" y="19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4680" y="189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73000" y="4319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 rot="10146600">
            <a:off x="3622320" y="40827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000" y="47005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 rot="10146600">
            <a:off x="3698280" y="4464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73360" y="51991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44600">
            <a:off x="3766320" y="5103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7320" y="26989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9000" y="49276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61680" y="39924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’t have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0490-6BEC-4B66-8629-D44865FDF3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Likelihood of Piggyb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507528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 piggyba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llows the receiver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th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that the host will have data to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: rlogin or tel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types characters at a UNIX promp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ceives the character and executes a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data are gen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nice if B could send the ACK with the new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34080" y="23590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44880" y="287640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34686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605400">
            <a:off x="7100280" y="2015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 rot="10146600">
            <a:off x="6769800" y="26402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44600">
            <a:off x="7329240" y="3422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8219880" y="21510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606720" y="21668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60200" y="16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26560" y="1661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44880" y="408924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 rot="10146600">
            <a:off x="6693840" y="38530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644880" y="447048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 rot="10146600">
            <a:off x="6770160" y="42336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45240" y="49687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44600">
            <a:off x="6837840" y="48726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8840" y="3773520"/>
            <a:ext cx="2919240" cy="614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F7F5-DF0D-4314-B3E1-83393F5357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sending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packet, the host B sets a ti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200 msec or 500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’s application generates data, go ahead and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iggyback the ACK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timer expires, send a (non-piggybacked)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ing the 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 of 200 msec or 500 m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every other full-sized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5F85-D884-4C6E-9B92-A480A05714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s inevi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 does not reserve resources in adv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ctively tries to push the envel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an be handl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, multiplicative 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,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can hel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ndamental ten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ement of “TCP friendly” behavio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C4B9-1209-444A-B51A-4E7021D486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Best-Effort Design Philoso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t everybody s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y to deliver what you c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just drop the r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" y="4653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760" y="4735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73280" y="552780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36" name="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39" name="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42" name="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0AE3-787C-485D-B9E9-B8C484DA09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s Unavoid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packets arrive at the same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 only transmit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either buffer or drop the 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many packets arrive in short period of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not keep up with the arriving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buffer may eventually over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81520" y="4965840"/>
            <a:ext cx="1734840" cy="1193400"/>
            <a:chOff x="3881520" y="4965840"/>
            <a:chExt cx="1734840" cy="1193400"/>
          </a:xfrm>
        </p:grpSpPr>
        <p:sp>
          <p:nvSpPr>
            <p:cNvPr id="147" name=""/>
            <p:cNvSpPr/>
            <p:nvPr/>
          </p:nvSpPr>
          <p:spPr>
            <a:xfrm>
              <a:off x="3922200" y="4965840"/>
              <a:ext cx="1694160" cy="119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6080" y="5030640"/>
              <a:ext cx="1039680" cy="1107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5030640"/>
              <a:ext cx="664560" cy="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8960" y="6138360"/>
              <a:ext cx="659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6160" y="519948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56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517860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3520" y="5178600"/>
              <a:ext cx="32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1200" y="5178600"/>
              <a:ext cx="46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3600" y="5563440"/>
              <a:ext cx="7106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4680" y="446580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44680" y="577224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5541840"/>
            <a:ext cx="1613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8800" y="5541840"/>
            <a:ext cx="161280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ED7D-6E68-4AF7-AA3E-808A7840D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 of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conges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is higher tha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IP routers do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op the excess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this bad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ted bandwidth for retrans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08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51577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decrease in useful work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9C43-3F35-4ABE-BA90-89D9D37E70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s to Deal With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gnore the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dropped (and retransmitted)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cause congestion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ervations, like in circuit swit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-arrange bandwidth allo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negotiation before sending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drop packets for the high-bid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a pay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adjustment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sender infers the level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s its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66AF-8044-411C-B5A8-6E1AC33791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Importan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the sender know there is conges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ence based on network performa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sender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nding rate computed by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coordinates with other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thinks globally but acts local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erformance object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goodput, even if some users suffer mo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?  (Whatever the heck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s!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fast should new TCP senders se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38E3-5D0D-4413-9C34-6EEE0C46F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21T15:06:30Z</dcterms:modified>
  <cp:revision>1298</cp:revision>
  <dc:subject/>
  <dc:title>Communication</dc:title>
</cp:coreProperties>
</file>