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D521EC5-6A43-4442-B2EA-FAC80B589D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FC7BA83-F87D-4C2C-AF2D-E8386551D0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CB4BCDC-15EF-4494-A003-DD805E96A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828FDC9-9191-44D6-AD2B-3A8E5CC063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79A8D7E-7674-40E6-8B1B-C8432396B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23DED5C-D8F7-49F5-A2ED-067974F3A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9C3D7A6-9569-4E4F-8D74-2E873C8E3F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C13D-F031-4E96-A754-FBA60D8AB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32696-5017-4288-AA4A-73961639A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F83F-3920-4E61-921A-2053D4243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FE6C-9798-415B-AA4C-D4D434EE6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4542F-14A8-4C64-B402-D26FEDC2EE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C389-A948-41AE-A149-F5441719EF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1963A-1DD8-4EC4-BD4A-9132FA1983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FEEC-B02E-4FA3-BBEB-29543FCC3F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6CE9C-6C53-4FB3-BC51-497EE8324D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85378-0060-475E-9344-6576C57603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C3EB-B6DE-435F-8C80-10C5198E3D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E284-1F5C-42C3-8E39-7A7F222A8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4CE03-66B1-4B04-A022-6450A6AA00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A478-224B-4C87-ADBB-D36D51C195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A363E-4D89-442C-9FCA-D251FBA3F3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262D2-D0EF-4085-9330-19CDAEF13B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C1EB-E62E-47AD-A649-53D2355DB0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D3AC-FFA4-4B5C-971B-D41AE8B36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3D43-179F-4D37-B304-B0DB619E8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A078-C4DB-4BD7-80F2-FB74C3A7D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48D8-B2EA-423C-BDE9-CD600F9EA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E097-562A-4EA4-A5AC-D924CEBB5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150D-882D-4BCA-A2A7-F4A32023D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1E43-4256-4437-BB90-A7CC7DD23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2438-6D1D-4BF3-BC23-AB7B6EA54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122E-4F30-42C4-B830-A7DA6FD35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677880" algn="ctr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5640" algn="ctr">
              <a:spcBef>
                <a:spcPts val="249"/>
              </a:spcBef>
              <a:buClr>
                <a:srgbClr val="0000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373040" algn="ctr"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1880" y="319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ngestion Control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ing: Sections 6.1-6.4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5960" y="4350960"/>
            <a:ext cx="7680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461: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7 (MW 1:30-2:50 in Friend 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ssistant: Ioannis Avramopou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princeton.edu/courses/archive/spring07/cos46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52840" y="49320"/>
            <a:ext cx="3724200" cy="31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E0C3D-506B-4FAD-A453-96F093C873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erring From Implicit Feedb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loud"/>
          <p:cNvSpPr/>
          <p:nvPr/>
        </p:nvSpPr>
        <p:spPr>
          <a:xfrm>
            <a:off x="2421000" y="1700280"/>
            <a:ext cx="4262400" cy="2855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319880" y="246852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 flipH="1">
            <a:off x="-360" y="250668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614600" y="2968560"/>
            <a:ext cx="88416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84840" y="2968560"/>
            <a:ext cx="88452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89320" y="2698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urier New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4773240"/>
            <a:ext cx="84582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does the end host se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can the end host chang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2C87-B9FB-455D-BE87-9602AE1985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Congestion Happens: Lin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resource allocation: FIFO queue &amp; drop-tai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nk bandwidth: first-in first-out queu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transmitted in the order they arr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ffer space: drop-tail queu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queue is full, drop the incoming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83000" y="31989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19760" y="31989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57960" y="31989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94360" y="31989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6600" y="3198960"/>
            <a:ext cx="536400" cy="691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06600" y="3198960"/>
            <a:ext cx="536760" cy="691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06480" y="319716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30560" y="3192480"/>
            <a:ext cx="1919160" cy="352440"/>
          </a:xfrm>
          <a:custGeom>
            <a:avLst/>
            <a:gdLst/>
            <a:ahLst/>
            <a:rect l="l" t="t" r="r" b="b"/>
            <a:pathLst>
              <a:path w="1209" h="222">
                <a:moveTo>
                  <a:pt x="0" y="197"/>
                </a:moveTo>
                <a:cubicBezTo>
                  <a:pt x="81" y="98"/>
                  <a:pt x="162" y="0"/>
                  <a:pt x="363" y="4"/>
                </a:cubicBezTo>
                <a:cubicBezTo>
                  <a:pt x="564" y="8"/>
                  <a:pt x="886" y="115"/>
                  <a:pt x="1209" y="22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31120" y="3505320"/>
            <a:ext cx="960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83000" y="55785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19760" y="55785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57960" y="55785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94360" y="55785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6600" y="55785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06600" y="55785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06480" y="557676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31120" y="5884920"/>
            <a:ext cx="960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38280" y="5388120"/>
            <a:ext cx="1036800" cy="1036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52760" y="5234040"/>
            <a:ext cx="806400" cy="1228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2FB8A-0E2B-47DE-B2BF-7AE3F3839F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t Looks to the End Ho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cket dela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cket experiences high del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cket los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cket gets dropped along the w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6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es TCP sender learn this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l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-trip time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le-duplicate acknowle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7A52-E65D-4785-A669-ACD03755F3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Can the End Host D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pon detecting conges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crease the sending rate (e.g., divide in half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 host does its part to alleviate the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what if conditions chang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ose there is more bandwidth avail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be a shame to stay at a low sending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pon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detecting conges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the sending rate, a little at a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e if the packets are successfully deliver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4780-5897-4C85-95B0-A1767E6856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Congestion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TCP sender maintains a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imum number of bytes to have in trans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.e., number of bytes still awaiting acknowledg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apting the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crease upon losing a packet: backing of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upon success: optimistically explo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ways struggling to find the right transfer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oth good and ba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: avoids having explicit feedback from 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: under-shooting and over-shooting the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B7E8-DFE6-4D48-B455-6F1A73AE45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ve Increase, Multiplicative Decr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much to increase and decreas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linearly, decrease multiplicative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necessary condition for stability of TC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sequences of over-sized window are much worse than having an under-sized wind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-sized window: packets dropped and retrans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-sized window: somewhat lower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plicative decrea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loss of packet, divide congestion window in hal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ditive increa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success for last window of data, increase linear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D7E4-EC3D-419E-9838-C86DAB7007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ds to the TCP “Sawtooth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286000"/>
            <a:ext cx="7010280" cy="312408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429000"/>
            <a:ext cx="7162920" cy="1981080"/>
          </a:xfrm>
          <a:custGeom>
            <a:avLst/>
            <a:gdLst/>
            <a:ahLst/>
            <a:rect l="l" t="t" r="r" b="b"/>
            <a:pathLst>
              <a:path w="4512" h="1248">
                <a:moveTo>
                  <a:pt x="0" y="1248"/>
                </a:moveTo>
                <a:lnTo>
                  <a:pt x="1152" y="336"/>
                </a:lnTo>
                <a:lnTo>
                  <a:pt x="1152" y="816"/>
                </a:lnTo>
                <a:lnTo>
                  <a:pt x="1536" y="528"/>
                </a:lnTo>
                <a:lnTo>
                  <a:pt x="1536" y="960"/>
                </a:lnTo>
                <a:lnTo>
                  <a:pt x="2832" y="0"/>
                </a:lnTo>
                <a:lnTo>
                  <a:pt x="2832" y="720"/>
                </a:lnTo>
                <a:lnTo>
                  <a:pt x="3504" y="240"/>
                </a:lnTo>
                <a:lnTo>
                  <a:pt x="3504" y="864"/>
                </a:lnTo>
                <a:lnTo>
                  <a:pt x="4224" y="288"/>
                </a:lnTo>
                <a:lnTo>
                  <a:pt x="4224" y="816"/>
                </a:lnTo>
                <a:lnTo>
                  <a:pt x="4512" y="57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24040" y="5334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0960" y="1752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54760" y="446580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93720" y="266076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6026-C179-42D1-97CE-A3B85652D5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ctical Detai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resented in bytes, not in packets (Why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have MSS (Maximum Segment Size)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ing the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by MSS on success for last window of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reasing the congestion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ver drop congestion window below 1 M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9116-E008-4414-99A5-4F9448EB40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r Window vs. Congestion Wind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eep a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fast sende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from overwhelming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 slow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eep a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set of sender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from overloading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t concepts, but similar mechan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flow control: receiver wind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congestion control: congestion wind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window: min{congestion window, receiver window}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A183-4E7D-4F03-8C3F-8BE4B39303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Should a New Flow St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2712960"/>
            <a:ext cx="7010280" cy="312444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3855960"/>
            <a:ext cx="7162920" cy="1981440"/>
          </a:xfrm>
          <a:custGeom>
            <a:avLst/>
            <a:gdLst/>
            <a:ahLst/>
            <a:rect l="l" t="t" r="r" b="b"/>
            <a:pathLst>
              <a:path w="4512" h="1248">
                <a:moveTo>
                  <a:pt x="0" y="1248"/>
                </a:moveTo>
                <a:lnTo>
                  <a:pt x="1152" y="336"/>
                </a:lnTo>
                <a:lnTo>
                  <a:pt x="1152" y="816"/>
                </a:lnTo>
                <a:lnTo>
                  <a:pt x="1536" y="528"/>
                </a:lnTo>
                <a:lnTo>
                  <a:pt x="1536" y="960"/>
                </a:lnTo>
                <a:lnTo>
                  <a:pt x="2832" y="0"/>
                </a:lnTo>
                <a:lnTo>
                  <a:pt x="2832" y="720"/>
                </a:lnTo>
                <a:lnTo>
                  <a:pt x="3504" y="240"/>
                </a:lnTo>
                <a:lnTo>
                  <a:pt x="3504" y="864"/>
                </a:lnTo>
                <a:lnTo>
                  <a:pt x="4224" y="288"/>
                </a:lnTo>
                <a:lnTo>
                  <a:pt x="4224" y="816"/>
                </a:lnTo>
                <a:lnTo>
                  <a:pt x="4512" y="57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24040" y="576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0960" y="21798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538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694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469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34750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37036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294156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3322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48720" y="339876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66920" y="5661000"/>
            <a:ext cx="2343240" cy="609480"/>
          </a:xfrm>
          <a:prstGeom prst="wedgeRectCallout">
            <a:avLst>
              <a:gd name="adj1" fmla="val -64972"/>
              <a:gd name="adj2" fmla="val -11171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t, could take a long time to get start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1040" y="1278000"/>
            <a:ext cx="82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eed to start with a small CWND to avoid overloading the net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E2A7-D144-4476-85A0-D2585C5CC2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rse Announc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programming assignment is post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b proxy ser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ue Friday March 9 at 6p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re challenging than the first assig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nday’s le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oannis Avramopoulos will lect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dback on the first programming assig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verview of the second programming assig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cture on Web Content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ood to get started on the next assign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make the most of Monday’s cla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go to office hours early if you encounter proble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3582-47E7-41CF-BADC-F86AA76BCA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Start” Pha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art with a small congestion window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itially, CWND is 1 Max Segment Size (MS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, initial sending rate is MSS/RT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at could be pretty wastefu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ght be much less than the actual bandwidt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near increase takes a long time to accelera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low-start phase (really “fast start”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nder starts at a slow rate (hence the nam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t increases the rate exponential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til the first loss ev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475D-C560-4F02-811A-7CBE4A9321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Start in 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73360" y="1238400"/>
            <a:ext cx="55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WND per round-trip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3886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5715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43828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26708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57200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3889080"/>
            <a:ext cx="989280" cy="18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40080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38862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781680" y="3886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290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365904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384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578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486400" y="3659040"/>
            <a:ext cx="792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866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15200" y="365904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96080" y="3659040"/>
            <a:ext cx="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19920" y="3657600"/>
            <a:ext cx="30456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485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848720" y="3657600"/>
            <a:ext cx="30456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773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296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582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86600" y="3962520"/>
            <a:ext cx="30492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91520" y="3962520"/>
            <a:ext cx="290520" cy="58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72400" y="3962520"/>
            <a:ext cx="290520" cy="58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077320" y="3886200"/>
            <a:ext cx="304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77240" y="45608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53200" y="457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0604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8540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07200" y="44956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12120" y="44956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84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1420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0740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5984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5080" y="44956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6952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8360" y="35812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600" y="54100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24480" y="3886200"/>
            <a:ext cx="8384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75960" y="44640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0800" y="3657600"/>
            <a:ext cx="304920" cy="1522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7162920" y="3886200"/>
            <a:ext cx="9903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50400" y="4921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86160" y="3324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64080" y="3336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1480" y="3349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78880" y="3362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AACD-9590-4F99-A800-14970033FB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Start and the TCP Sawtoo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873080"/>
            <a:ext cx="7010280" cy="281952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43200" y="2330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52680" y="2558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10080" y="1797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02360" y="22575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45360" y="2333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01840" y="19350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324468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52760" y="4892760"/>
            <a:ext cx="2209680" cy="609480"/>
          </a:xfrm>
          <a:prstGeom prst="wedgeRectCallout">
            <a:avLst>
              <a:gd name="adj1" fmla="val -38074"/>
              <a:gd name="adj2" fmla="val -1234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onential “slow start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24040" y="4768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360" y="133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33280" y="5502240"/>
            <a:ext cx="70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y is it called slow-start? Because TCP originally h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ongestion control mechanism. The source would jus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rt by sending a whole receiver window’s worth of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711520"/>
            <a:ext cx="2666880" cy="1523880"/>
          </a:xfrm>
          <a:custGeom>
            <a:avLst/>
            <a:gdLst/>
            <a:ahLst/>
            <a:rect l="l" t="t" r="r" b="b"/>
            <a:pathLst>
              <a:path w="1680" h="960">
                <a:moveTo>
                  <a:pt x="0" y="336"/>
                </a:moveTo>
                <a:lnTo>
                  <a:pt x="0" y="816"/>
                </a:lnTo>
                <a:lnTo>
                  <a:pt x="384" y="528"/>
                </a:lnTo>
                <a:lnTo>
                  <a:pt x="384" y="960"/>
                </a:lnTo>
                <a:lnTo>
                  <a:pt x="168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02360" y="3171960"/>
            <a:ext cx="1600200" cy="990360"/>
          </a:xfrm>
          <a:custGeom>
            <a:avLst/>
            <a:gdLst/>
            <a:ahLst/>
            <a:rect l="l" t="t" r="r" b="b"/>
            <a:pathLst>
              <a:path w="1008" h="624">
                <a:moveTo>
                  <a:pt x="0" y="0"/>
                </a:moveTo>
                <a:lnTo>
                  <a:pt x="0" y="624"/>
                </a:lnTo>
                <a:lnTo>
                  <a:pt x="720" y="48"/>
                </a:lnTo>
                <a:lnTo>
                  <a:pt x="720" y="576"/>
                </a:lnTo>
                <a:lnTo>
                  <a:pt x="1008" y="336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416560" y="3095280"/>
            <a:ext cx="685800" cy="6858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10080" y="2711520"/>
            <a:ext cx="6480" cy="10666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8B0D8-6872-4B12-8EF7-633601FD47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Kinds of Loss in TC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ou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n is lost and detected via a time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because all packets in flight were l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the timeout, blasting away for the entire CW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trigger a very large burst in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cc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o, better to start over with a low CW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iple duplicate 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n is lost, but packets n+1, n+2, etc. arr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sends duplicate acknowledg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 sender retransmits packet n quick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cc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o a multiplicative decrease and keep go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0FF3-15CA-4B93-926B-FC0675E98F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eating Slow Start After Timeo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2035080"/>
            <a:ext cx="7010280" cy="2819520"/>
          </a:xfrm>
          <a:custGeom>
            <a:avLst/>
            <a:gdLst/>
            <a:ahLst/>
            <a:rect l="l" t="t" r="r" b="b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340668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4040" y="4930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360" y="1501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4120" y="5656320"/>
            <a:ext cx="78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-start restart: Go back to CWND of 1, but take advantage of knowing the previous value of CW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2873520"/>
            <a:ext cx="2666880" cy="1523880"/>
          </a:xfrm>
          <a:custGeom>
            <a:avLst/>
            <a:gdLst/>
            <a:ahLst/>
            <a:rect l="l" t="t" r="r" b="b"/>
            <a:pathLst>
              <a:path w="1680" h="960">
                <a:moveTo>
                  <a:pt x="0" y="336"/>
                </a:moveTo>
                <a:lnTo>
                  <a:pt x="0" y="816"/>
                </a:lnTo>
                <a:lnTo>
                  <a:pt x="384" y="528"/>
                </a:lnTo>
                <a:lnTo>
                  <a:pt x="384" y="960"/>
                </a:lnTo>
                <a:lnTo>
                  <a:pt x="168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0" y="3173400"/>
            <a:ext cx="1600200" cy="990720"/>
          </a:xfrm>
          <a:custGeom>
            <a:avLst/>
            <a:gdLst/>
            <a:ahLst/>
            <a:rect l="l" t="t" r="r" b="b"/>
            <a:pathLst>
              <a:path w="1008" h="624">
                <a:moveTo>
                  <a:pt x="0" y="0"/>
                </a:moveTo>
                <a:lnTo>
                  <a:pt x="0" y="624"/>
                </a:lnTo>
                <a:lnTo>
                  <a:pt x="720" y="48"/>
                </a:lnTo>
                <a:lnTo>
                  <a:pt x="720" y="576"/>
                </a:lnTo>
                <a:lnTo>
                  <a:pt x="1008" y="336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3863880"/>
            <a:ext cx="914400" cy="99072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172200" y="3177720"/>
            <a:ext cx="685800" cy="6858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0080" y="2873520"/>
            <a:ext cx="0" cy="198108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4549680"/>
            <a:ext cx="2514600" cy="914400"/>
          </a:xfrm>
          <a:prstGeom prst="wedgeRectCallout">
            <a:avLst>
              <a:gd name="adj1" fmla="val -64708"/>
              <a:gd name="adj2" fmla="val -4513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ow start in operation until it reaches half of previous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cwn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532120" y="2354400"/>
            <a:ext cx="384120" cy="511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146640" y="2481120"/>
            <a:ext cx="268560" cy="1306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6560" y="1816200"/>
            <a:ext cx="11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2659-D50F-4F06-847E-B3532849D6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 Slow Start After Idle Peri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ppose a TCP connection goes idle for a wh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elnet session where you don’t type for an ho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ventually, the network conditions chang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ybe many more flows are traversing the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maybe everybody has come back from lunch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ngerous to start transmitting at the old r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iously-idle TCP sender might blast the 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using excessive congestion and packet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, some TCP implementations repeat slow star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-start restart after an idle peri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B8DE-D416-428A-A03C-8F1260709F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P Achieves Some Notion of Fair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9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ffective utilization is not the only goa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 also want to b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fai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the various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what the heck does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h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a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definition: equal shares of the bandwidt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 flows that each get 1/N of the bandwidth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what if the flows traverse different path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bandwidth shared in proportion to the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129200" y="4927680"/>
            <a:ext cx="1074240" cy="535680"/>
            <a:chOff x="4129200" y="4927680"/>
            <a:chExt cx="1074240" cy="535680"/>
          </a:xfrm>
        </p:grpSpPr>
        <p:sp>
          <p:nvSpPr>
            <p:cNvPr id="352" name=""/>
            <p:cNvSpPr/>
            <p:nvPr/>
          </p:nvSpPr>
          <p:spPr>
            <a:xfrm>
              <a:off x="4154400" y="4927680"/>
              <a:ext cx="1049040" cy="53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39960" y="4956120"/>
              <a:ext cx="645480" cy="49500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29200" y="4956120"/>
              <a:ext cx="410760" cy="25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51880" y="5451480"/>
              <a:ext cx="405000" cy="11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1740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4900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8060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1220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4380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72520" y="5022360"/>
              <a:ext cx="25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35400" y="5194440"/>
              <a:ext cx="441000" cy="25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222960" y="4927680"/>
            <a:ext cx="1074240" cy="535680"/>
            <a:chOff x="6222960" y="4927680"/>
            <a:chExt cx="1074240" cy="535680"/>
          </a:xfrm>
        </p:grpSpPr>
        <p:sp>
          <p:nvSpPr>
            <p:cNvPr id="364" name=""/>
            <p:cNvSpPr/>
            <p:nvPr/>
          </p:nvSpPr>
          <p:spPr>
            <a:xfrm>
              <a:off x="6248160" y="4927680"/>
              <a:ext cx="1049040" cy="53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33720" y="4956120"/>
              <a:ext cx="645480" cy="49500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22960" y="4956120"/>
              <a:ext cx="410760" cy="25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45640" y="5451480"/>
              <a:ext cx="405000" cy="11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1116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4276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74360" y="503244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0596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37560" y="502236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66280" y="5022360"/>
              <a:ext cx="25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9160" y="5194440"/>
              <a:ext cx="441000" cy="25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036880" y="4925880"/>
            <a:ext cx="1074240" cy="536400"/>
            <a:chOff x="2036880" y="4925880"/>
            <a:chExt cx="1074240" cy="536400"/>
          </a:xfrm>
        </p:grpSpPr>
        <p:sp>
          <p:nvSpPr>
            <p:cNvPr id="376" name=""/>
            <p:cNvSpPr/>
            <p:nvPr/>
          </p:nvSpPr>
          <p:spPr>
            <a:xfrm>
              <a:off x="2062080" y="4925880"/>
              <a:ext cx="10490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47640" y="4954680"/>
              <a:ext cx="645480" cy="49536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6880" y="4954680"/>
              <a:ext cx="410760" cy="2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59560" y="5450040"/>
              <a:ext cx="405000" cy="122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25080" y="503100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56680" y="503100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88280" y="503100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19880" y="5020920"/>
              <a:ext cx="216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51480" y="5020920"/>
              <a:ext cx="216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80200" y="5020920"/>
              <a:ext cx="252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43080" y="5193000"/>
              <a:ext cx="441000" cy="2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192320" y="5157720"/>
            <a:ext cx="7143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76400" y="5224320"/>
            <a:ext cx="2340000" cy="887400"/>
          </a:xfrm>
          <a:custGeom>
            <a:avLst/>
            <a:gdLst/>
            <a:ahLst/>
            <a:rect l="l" t="t" r="r" b="b"/>
            <a:pathLst>
              <a:path w="1476" h="560">
                <a:moveTo>
                  <a:pt x="0" y="560"/>
                </a:moveTo>
                <a:cubicBezTo>
                  <a:pt x="52" y="356"/>
                  <a:pt x="104" y="152"/>
                  <a:pt x="314" y="76"/>
                </a:cubicBezTo>
                <a:cubicBezTo>
                  <a:pt x="524" y="0"/>
                  <a:pt x="1064" y="20"/>
                  <a:pt x="1258" y="101"/>
                </a:cubicBezTo>
                <a:cubicBezTo>
                  <a:pt x="1452" y="182"/>
                  <a:pt x="1464" y="371"/>
                  <a:pt x="1476" y="560"/>
                </a:cubicBezTo>
              </a:path>
            </a:pathLst>
          </a:custGeom>
          <a:noFill/>
          <a:ln w="38160">
            <a:solidFill>
              <a:srgbClr val="f47a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38840" y="5268960"/>
            <a:ext cx="2340000" cy="887400"/>
          </a:xfrm>
          <a:custGeom>
            <a:avLst/>
            <a:gdLst/>
            <a:ahLst/>
            <a:rect l="l" t="t" r="r" b="b"/>
            <a:pathLst>
              <a:path w="1476" h="560">
                <a:moveTo>
                  <a:pt x="0" y="560"/>
                </a:moveTo>
                <a:cubicBezTo>
                  <a:pt x="52" y="356"/>
                  <a:pt x="104" y="152"/>
                  <a:pt x="314" y="76"/>
                </a:cubicBezTo>
                <a:cubicBezTo>
                  <a:pt x="524" y="0"/>
                  <a:pt x="1064" y="20"/>
                  <a:pt x="1258" y="101"/>
                </a:cubicBezTo>
                <a:cubicBezTo>
                  <a:pt x="1452" y="182"/>
                  <a:pt x="1464" y="371"/>
                  <a:pt x="1476" y="560"/>
                </a:cubicBezTo>
              </a:path>
            </a:pathLst>
          </a:custGeom>
          <a:noFill/>
          <a:ln w="38160">
            <a:solidFill>
              <a:srgbClr val="f47a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9045-0831-4F53-B753-463E07F206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bout Cheat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me folks are more fair than oth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unning multiple TCP connections in parall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difying the TCP implementation in the 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the User Datagram Protoc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s the impac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od guys slow down to make room for yo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You get an unfair share of the bandwid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ossible solution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s detect cheating and drop excess packe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er pressur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6D91-8722-4043-8DE3-215DF19AE8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Queuing Mechanism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845640" y="3886200"/>
            <a:ext cx="7796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Early Detection (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ongestion Notification (EC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24485-8945-4023-BE31-D336B2AA19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rsty Loss From Drop-Tail Queu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depends on packet lo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loss is the indication of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fact, TCP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driv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he network into packet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continuing to increase the sending 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-tail queuing leads to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bursty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lo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a link becomes congested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y arriving packets encounter a full que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, as a result, many flows divide sending rate in hal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, many individual flows lose multiple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266920" y="5272200"/>
            <a:ext cx="4147920" cy="1344240"/>
            <a:chOff x="2266920" y="5272200"/>
            <a:chExt cx="4147920" cy="1344240"/>
          </a:xfrm>
        </p:grpSpPr>
        <p:grpSp>
          <p:nvGrpSpPr>
            <p:cNvPr id="397" name=""/>
            <p:cNvGrpSpPr/>
            <p:nvPr/>
          </p:nvGrpSpPr>
          <p:grpSpPr>
            <a:xfrm>
              <a:off x="3596040" y="5584680"/>
              <a:ext cx="1464120" cy="745920"/>
              <a:chOff x="3596040" y="5584680"/>
              <a:chExt cx="1464120" cy="745920"/>
            </a:xfrm>
          </p:grpSpPr>
          <p:sp>
            <p:nvSpPr>
              <p:cNvPr id="398" name=""/>
              <p:cNvSpPr/>
              <p:nvPr/>
            </p:nvSpPr>
            <p:spPr>
              <a:xfrm>
                <a:off x="3630600" y="5584680"/>
                <a:ext cx="1429560" cy="745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56920" y="5625360"/>
                <a:ext cx="877320" cy="692280"/>
              </a:xfrm>
              <a:custGeom>
                <a:avLst/>
                <a:gdLst/>
                <a:ahLst/>
                <a:rect l="l" t="t" r="r" b="b"/>
                <a:pathLst>
                  <a:path w="855" h="390">
                    <a:moveTo>
                      <a:pt x="0" y="0"/>
                    </a:moveTo>
                    <a:lnTo>
                      <a:pt x="855" y="0"/>
                    </a:lnTo>
                    <a:lnTo>
                      <a:pt x="855" y="390"/>
                    </a:lnTo>
                    <a:lnTo>
                      <a:pt x="45" y="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96040" y="5625360"/>
                <a:ext cx="56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27360" y="6317640"/>
                <a:ext cx="5565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942440" y="573048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48480" y="5730480"/>
                <a:ext cx="144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5240" y="573048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661640" y="571752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568040" y="5717520"/>
                <a:ext cx="28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73360" y="5717520"/>
                <a:ext cx="396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41480" y="5958360"/>
                <a:ext cx="599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2298960" y="527220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298960" y="608868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66920" y="5944680"/>
              <a:ext cx="1361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53680" y="5944680"/>
              <a:ext cx="1361160" cy="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4B51-26AD-4A07-AACE-1F00693F77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Today’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in IP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avoidable due to best-effort service mod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hilosophy: decentralized control at end ho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ontrol by the TCP send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ers congestion is occurring (e.g., from packet loss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s down to alleviate congestion, for the greater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congestion-control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tive-increase, multiplicative-decrea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 start and slow-start resta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ve Queue Management (AQM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ndom Early Detection (RE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Congestion Notification (EC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98BF-E76E-4B43-ACBB-FB44011F49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ow Feedback from Drop Tai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edback comes when buffer is completely fu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 though the buffer has been filling for a wh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lus, the filling buffer is increasing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 variance in the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ght be better to give early feedb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t one or two connections to slow down, not all of th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t these connections to slow down before it is too l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266920" y="5079960"/>
            <a:ext cx="4147920" cy="1344240"/>
            <a:chOff x="2266920" y="5079960"/>
            <a:chExt cx="4147920" cy="1344240"/>
          </a:xfrm>
        </p:grpSpPr>
        <p:grpSp>
          <p:nvGrpSpPr>
            <p:cNvPr id="416" name=""/>
            <p:cNvGrpSpPr/>
            <p:nvPr/>
          </p:nvGrpSpPr>
          <p:grpSpPr>
            <a:xfrm>
              <a:off x="3596040" y="5392440"/>
              <a:ext cx="1464120" cy="745920"/>
              <a:chOff x="3596040" y="5392440"/>
              <a:chExt cx="1464120" cy="745920"/>
            </a:xfrm>
          </p:grpSpPr>
          <p:sp>
            <p:nvSpPr>
              <p:cNvPr id="417" name=""/>
              <p:cNvSpPr/>
              <p:nvPr/>
            </p:nvSpPr>
            <p:spPr>
              <a:xfrm>
                <a:off x="3630600" y="5392440"/>
                <a:ext cx="1429560" cy="745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156920" y="5433120"/>
                <a:ext cx="877320" cy="692280"/>
              </a:xfrm>
              <a:custGeom>
                <a:avLst/>
                <a:gdLst/>
                <a:ahLst/>
                <a:rect l="l" t="t" r="r" b="b"/>
                <a:pathLst>
                  <a:path w="855" h="390">
                    <a:moveTo>
                      <a:pt x="0" y="0"/>
                    </a:moveTo>
                    <a:lnTo>
                      <a:pt x="855" y="0"/>
                    </a:lnTo>
                    <a:lnTo>
                      <a:pt x="855" y="390"/>
                    </a:lnTo>
                    <a:lnTo>
                      <a:pt x="45" y="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596040" y="5433120"/>
                <a:ext cx="56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27360" y="6125400"/>
                <a:ext cx="5565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942440" y="553824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48480" y="5538240"/>
                <a:ext cx="144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5240" y="553824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661640" y="552528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568040" y="5525280"/>
                <a:ext cx="28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473360" y="5525280"/>
                <a:ext cx="396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41480" y="5766120"/>
                <a:ext cx="599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2298960" y="507996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8960" y="5896440"/>
              <a:ext cx="1328760" cy="527760"/>
            </a:xfrm>
            <a:custGeom>
              <a:avLst/>
              <a:gdLst/>
              <a:ahLst/>
              <a:rect l="l" t="t" r="r" b="b"/>
              <a:pathLst>
                <a:path w="992" h="532">
                  <a:moveTo>
                    <a:pt x="0" y="0"/>
                  </a:moveTo>
                  <a:cubicBezTo>
                    <a:pt x="123" y="173"/>
                    <a:pt x="246" y="346"/>
                    <a:pt x="411" y="435"/>
                  </a:cubicBezTo>
                  <a:cubicBezTo>
                    <a:pt x="576" y="524"/>
                    <a:pt x="784" y="528"/>
                    <a:pt x="992" y="5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66920" y="5752440"/>
              <a:ext cx="1361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53680" y="5752440"/>
              <a:ext cx="1361160" cy="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71DD-533A-4776-9ECC-F7C3B14BBD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ndom Early Detection (R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4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asic idea of R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 notices that the queue is getting backlogg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andomly drops packets to signal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cket drop proba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rop probability increases as queue length incre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buffer is below some level, don’t drop anyt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therwise, set drop probability as function of que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00480" y="5057640"/>
            <a:ext cx="2514600" cy="990720"/>
          </a:xfrm>
          <a:custGeom>
            <a:avLst/>
            <a:gdLst/>
            <a:ahLst/>
            <a:rect l="l" t="t" r="r" b="b"/>
            <a:pathLst>
              <a:path w="1584" h="624">
                <a:moveTo>
                  <a:pt x="0" y="624"/>
                </a:moveTo>
                <a:lnTo>
                  <a:pt x="432" y="624"/>
                </a:lnTo>
                <a:lnTo>
                  <a:pt x="1104" y="288"/>
                </a:lnTo>
                <a:lnTo>
                  <a:pt x="1104" y="0"/>
                </a:lnTo>
                <a:lnTo>
                  <a:pt x="1584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00480" y="4829040"/>
            <a:ext cx="2590560" cy="121932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0"/>
                </a:moveTo>
                <a:lnTo>
                  <a:pt x="0" y="720"/>
                </a:lnTo>
                <a:lnTo>
                  <a:pt x="1632" y="72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47840" y="5514840"/>
            <a:ext cx="1905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47840" y="5057640"/>
            <a:ext cx="1905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70240" y="621180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Queue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6200000">
            <a:off x="2156760" y="53272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513E-F18F-4B68-A863-3CF0A40590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erties of R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s packets before queue is fu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the hope of reducing the rates of som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s packet in proportion to each flow’s r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-rate flows have more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, hence, a higher chance of being selec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s are spaced out in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ch should help desynchronize the TCP send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lerant of burstiness in the traff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basing the decisions on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verag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queue leng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FCAB-F6DC-464B-A7C0-32B8ADB11F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s With R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rd to get the tunable parameters just righ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early to start dropping packe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slope for the increase in drop probabilit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time scale for averaging the queue length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metimes RED helps but sometimes n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parameters aren’t set right, RED doesn’t hel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it is hard to know how to set the parame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D is implemented in practi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often not used due to the challenges of tuning r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y variations in the research commun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th cute names like “Blue” and “FRED”…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57C4-74A0-4041-AC79-3946875916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icit Congestion Notif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rly dropping of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od: gives early feedb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d: has to drop the packet to give the feedb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plicit Congestion Notif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 marks the packet with an ECN b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nding host interprets as a sign of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rmounting the challen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st be supported by the end hosts and the rou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two bits in the IP header (one for the ECN mark, and one to indicate the ECN capability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ution: borrow two of the Type-Of-Service bits in the IPv4 packet hea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2905-EFE0-488D-B17D-83114C3C975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ther TCP Mechanism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gle’s Algorithm and Delayed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F2A9-21C7-4238-9C47-02ACB847C40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Nagle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active applic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lnet and rlog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nerate many small packets (e.g., keystrok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mall packets are wastefu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stly header (e.g., 40 bytes of header, 1 of dat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ealing to reduce the number of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uld force every packet to have some minimum si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what if the person doesn’t type more character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 to balance competing trade-off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 larger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don’t introduce much delay by wai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CEA3-1AA6-4676-B9E2-536518522A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gle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ait if the amount of data is sma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maller than Maximum Segment Size (MS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d some other packet is already in fligh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.e., still awaiting the ACKs for previous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at is, send at most one small packet per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waiting until all outstanding ACKs have arri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luence on performa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active applications: enables batching of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lk transfer: transmits in MSS-sized packets anyw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3828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07648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6696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1964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266720" y="46180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10200" y="4719600"/>
            <a:ext cx="34596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92920" y="4719600"/>
            <a:ext cx="652320" cy="2462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991200" y="4719600"/>
            <a:ext cx="346320" cy="2304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02080" y="4335480"/>
            <a:ext cx="730440" cy="345960"/>
          </a:xfrm>
          <a:custGeom>
            <a:avLst/>
            <a:gdLst/>
            <a:ahLst/>
            <a:rect l="l" t="t" r="r" b="b"/>
            <a:pathLst>
              <a:path w="460" h="218">
                <a:moveTo>
                  <a:pt x="0" y="218"/>
                </a:moveTo>
                <a:cubicBezTo>
                  <a:pt x="70" y="109"/>
                  <a:pt x="141" y="0"/>
                  <a:pt x="218" y="0"/>
                </a:cubicBezTo>
                <a:cubicBezTo>
                  <a:pt x="295" y="0"/>
                  <a:pt x="377" y="109"/>
                  <a:pt x="460" y="21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95360" y="41194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7F569-DFEF-486C-A693-EB736F73278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Delayed 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CP traffic is often bidirectiona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ta traveling in both dire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Ks traveling in both dire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CK packets have high overhead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0 bytes for the IP header and TCP hea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zero data traff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iggybacking is appeal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st B can send an ACK to host 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 part of a data packet from B to 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A1B6-F7B0-4ACE-B8B2-6FC9734D93D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Header Allows Piggyba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30320" y="2865600"/>
            <a:ext cx="22885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65560" y="3352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D0CB-C731-4D11-A1A9-CAEA1478534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Problem Under Circuit Swit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ource establishes connection to destina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des reserve resources for the conn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ircuit rejected if the resources aren’t availa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nnot have more than the network can hand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391000" y="5210280"/>
            <a:ext cx="52560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71920" y="4968720"/>
            <a:ext cx="306360" cy="22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525840" y="5208480"/>
            <a:ext cx="449280" cy="47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75120" y="5208480"/>
            <a:ext cx="542880" cy="47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036680" y="5200560"/>
            <a:ext cx="10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518000" y="5211720"/>
            <a:ext cx="652320" cy="46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933720" y="4746240"/>
            <a:ext cx="82548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125520" y="5253120"/>
            <a:ext cx="83340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59200" y="4746600"/>
            <a:ext cx="360360" cy="45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9040" y="5153040"/>
            <a:ext cx="42552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8720" y="5591160"/>
            <a:ext cx="474840" cy="2952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22880" y="5553000"/>
            <a:ext cx="42840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62600" y="5065560"/>
            <a:ext cx="425520" cy="2206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56080" y="4621320"/>
            <a:ext cx="42876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7760" y="5553000"/>
            <a:ext cx="474840" cy="2952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9120" y="5259240"/>
            <a:ext cx="47448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706640" y="5667480"/>
            <a:ext cx="53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391000" y="4906800"/>
            <a:ext cx="53352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6760" y="4849920"/>
            <a:ext cx="2587680" cy="379440"/>
          </a:xfrm>
          <a:custGeom>
            <a:avLst/>
            <a:gdLst/>
            <a:ahLst/>
            <a:rect l="l" t="t" r="r" b="b"/>
            <a:pathLst>
              <a:path w="1632" h="240">
                <a:moveTo>
                  <a:pt x="0" y="48"/>
                </a:moveTo>
                <a:lnTo>
                  <a:pt x="288" y="240"/>
                </a:lnTo>
                <a:lnTo>
                  <a:pt x="672" y="0"/>
                </a:lnTo>
                <a:lnTo>
                  <a:pt x="864" y="0"/>
                </a:lnTo>
                <a:lnTo>
                  <a:pt x="1008" y="144"/>
                </a:lnTo>
                <a:lnTo>
                  <a:pt x="1248" y="144"/>
                </a:lnTo>
                <a:lnTo>
                  <a:pt x="1632" y="0"/>
                </a:lnTo>
              </a:path>
            </a:pathLst>
          </a:custGeom>
          <a:noFill/>
          <a:ln w="50760">
            <a:solidFill>
              <a:srgbClr val="f47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66960" y="4214880"/>
            <a:ext cx="785880" cy="887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954760" y="4100400"/>
            <a:ext cx="1182600" cy="1179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16600" y="5253120"/>
            <a:ext cx="47304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FB90-D7CB-4C17-90F1-92D6B875A3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of Piggyba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62200" y="2589120"/>
            <a:ext cx="160344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573000" y="310680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51400" y="369900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605400">
            <a:off x="4028400" y="22453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 rot="10146600">
            <a:off x="3698280" y="2870280"/>
            <a:ext cx="140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+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044600">
            <a:off x="4257000" y="3653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148000" y="2381400"/>
            <a:ext cx="4680" cy="3813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534840" y="2397240"/>
            <a:ext cx="34920" cy="3759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88320" y="1929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4680" y="189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573000" y="431964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 rot="10146600">
            <a:off x="3622320" y="408276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573000" y="4700520"/>
            <a:ext cx="1575000" cy="300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 flipV="1" rot="10146600">
            <a:off x="3698280" y="4464360"/>
            <a:ext cx="140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73360" y="519912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044600">
            <a:off x="3766320" y="51030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 +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7320" y="26989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has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99000" y="492768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as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61680" y="3992400"/>
            <a:ext cx="35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doesn’t have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7828-CB74-4562-8615-CB0729ABF43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Likelihood of Piggybac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1320"/>
            <a:ext cx="5075280" cy="55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rease piggyback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allows the receiver to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send the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the hope that the host will have data to se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ample: rlogin or teln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types characters at a UNIX promp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B receives the character and executes a comm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n data are genera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be nice if B could send the ACK with the new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634080" y="2359080"/>
            <a:ext cx="160344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6644880" y="2876400"/>
            <a:ext cx="1575000" cy="300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2920" y="346860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605400">
            <a:off x="7100280" y="2015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 rot="10146600">
            <a:off x="6769800" y="264024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+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1044600">
            <a:off x="7329240" y="34228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8219880" y="2151000"/>
            <a:ext cx="4680" cy="3813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6606720" y="2166840"/>
            <a:ext cx="34920" cy="37591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60200" y="169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026560" y="1661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644880" y="4089240"/>
            <a:ext cx="1575000" cy="300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 rot="10146600">
            <a:off x="6693840" y="385308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6644880" y="447048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 rot="10146600">
            <a:off x="6770160" y="423360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645240" y="496872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044600">
            <a:off x="6837840" y="48726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 +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838840" y="3773520"/>
            <a:ext cx="2919240" cy="614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83F7-3285-413F-A6DB-542A6BEE1FB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layed 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ay sending an 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packet, the host B sets a tim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, 200 msec or 500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B’s application generates data, go ahead and se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iggyback the ACK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timer expires, send a (non-piggybacked)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miting the wai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r of 200 msec or 500 mse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K every other full-sized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4079-5B80-4038-8CFB-161E4A2E96C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is inevit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net does not reserve resources in adv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actively tries to push the envelop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an be handl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tive increase, multiplicative decrea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 start, and slow-start resta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ve Queue Management can hel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ndom Early Detection (RE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Congestion Notification (EC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undamental ten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dback from the net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forcement of “TCP friendly” behavio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5D40-C796-49D7-8F8C-BD3B4BE1068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Best-Effort Design Philosoph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est-effort delivery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4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et everybody se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4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y to deliver what you ca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4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d just drop the res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13480" y="5302080"/>
            <a:ext cx="1730520" cy="10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724120" y="4836960"/>
          <a:ext cx="3608280" cy="206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4120" y="4836960"/>
                    <a:ext cx="360828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flipV="1">
            <a:off x="1714680" y="5959440"/>
            <a:ext cx="13446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22880" y="5811840"/>
            <a:ext cx="109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0" y="4653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23760" y="47354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5084640"/>
            <a:ext cx="1928880" cy="1630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73280" y="5527800"/>
            <a:ext cx="19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089080" y="5421240"/>
            <a:ext cx="326880" cy="457200"/>
            <a:chOff x="2089080" y="5421240"/>
            <a:chExt cx="326880" cy="457200"/>
          </a:xfrm>
        </p:grpSpPr>
        <p:sp>
          <p:nvSpPr>
            <p:cNvPr id="136" name=""/>
            <p:cNvSpPr/>
            <p:nvPr/>
          </p:nvSpPr>
          <p:spPr>
            <a:xfrm>
              <a:off x="2090520" y="542124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89080" y="542124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584440" y="5425920"/>
            <a:ext cx="326880" cy="457200"/>
            <a:chOff x="2584440" y="5425920"/>
            <a:chExt cx="326880" cy="457200"/>
          </a:xfrm>
        </p:grpSpPr>
        <p:sp>
          <p:nvSpPr>
            <p:cNvPr id="139" name=""/>
            <p:cNvSpPr/>
            <p:nvPr/>
          </p:nvSpPr>
          <p:spPr>
            <a:xfrm>
              <a:off x="2585880" y="542592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84440" y="542592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38960" y="5280120"/>
            <a:ext cx="326880" cy="457200"/>
            <a:chOff x="6438960" y="5280120"/>
            <a:chExt cx="326880" cy="457200"/>
          </a:xfrm>
        </p:grpSpPr>
        <p:sp>
          <p:nvSpPr>
            <p:cNvPr id="142" name=""/>
            <p:cNvSpPr/>
            <p:nvPr/>
          </p:nvSpPr>
          <p:spPr>
            <a:xfrm>
              <a:off x="6440400" y="528012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38960" y="528012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7592-A163-4490-B859-A5A5E19ACF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gestion is Unavoid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19240" indent="-21924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wo packets arrive at the same tim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node can only transmit o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either buffer or drop the oth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19240" indent="-21924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f many packets arrive in short period of tim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node cannot keep up with the arriving traff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the buffer may eventually overfl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81520" y="4965840"/>
            <a:ext cx="1734840" cy="1193400"/>
            <a:chOff x="3881520" y="4965840"/>
            <a:chExt cx="1734840" cy="1193400"/>
          </a:xfrm>
        </p:grpSpPr>
        <p:sp>
          <p:nvSpPr>
            <p:cNvPr id="147" name=""/>
            <p:cNvSpPr/>
            <p:nvPr/>
          </p:nvSpPr>
          <p:spPr>
            <a:xfrm>
              <a:off x="3922200" y="4965840"/>
              <a:ext cx="1694160" cy="1193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46080" y="5030640"/>
              <a:ext cx="1039680" cy="110736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81520" y="5030640"/>
              <a:ext cx="664560" cy="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18960" y="6138360"/>
              <a:ext cx="659520" cy="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77040" y="519948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66160" y="5199480"/>
              <a:ext cx="18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5640" y="519948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44400" y="517860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33520" y="5178600"/>
              <a:ext cx="32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21200" y="5178600"/>
              <a:ext cx="468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3600" y="5563440"/>
              <a:ext cx="71064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344680" y="4465800"/>
            <a:ext cx="1575000" cy="844560"/>
          </a:xfrm>
          <a:custGeom>
            <a:avLst/>
            <a:gdLst/>
            <a:ahLst/>
            <a:rect l="l" t="t" r="r" b="b"/>
            <a:pathLst>
              <a:path w="992" h="532">
                <a:moveTo>
                  <a:pt x="0" y="0"/>
                </a:moveTo>
                <a:cubicBezTo>
                  <a:pt x="123" y="173"/>
                  <a:pt x="246" y="346"/>
                  <a:pt x="411" y="435"/>
                </a:cubicBezTo>
                <a:cubicBezTo>
                  <a:pt x="576" y="524"/>
                  <a:pt x="784" y="528"/>
                  <a:pt x="992" y="53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344680" y="5772240"/>
            <a:ext cx="1575000" cy="844560"/>
          </a:xfrm>
          <a:custGeom>
            <a:avLst/>
            <a:gdLst/>
            <a:ahLst/>
            <a:rect l="l" t="t" r="r" b="b"/>
            <a:pathLst>
              <a:path w="992" h="532">
                <a:moveTo>
                  <a:pt x="0" y="0"/>
                </a:moveTo>
                <a:cubicBezTo>
                  <a:pt x="123" y="173"/>
                  <a:pt x="246" y="346"/>
                  <a:pt x="411" y="435"/>
                </a:cubicBezTo>
                <a:cubicBezTo>
                  <a:pt x="576" y="524"/>
                  <a:pt x="784" y="528"/>
                  <a:pt x="992" y="53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06520" y="5541840"/>
            <a:ext cx="16131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08800" y="5541840"/>
            <a:ext cx="1612800" cy="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A965-C05A-4DDF-9418-DAF5661DA1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roblem of Conges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is congestion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ad is higher than capac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do IP routers do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rop the excess packe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is this bad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asted bandwidth for retransmiss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620720" y="4657680"/>
            <a:ext cx="0" cy="169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33680" y="6357960"/>
            <a:ext cx="235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20280" y="6350040"/>
            <a:ext cx="75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7080" y="5210280"/>
            <a:ext cx="1148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633680" y="5200200"/>
            <a:ext cx="963360" cy="1157400"/>
          </a:xfrm>
          <a:prstGeom prst="line">
            <a:avLst/>
          </a:prstGeom>
          <a:ln w="507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/>
          <p:nvPr/>
        </p:nvCxnSpPr>
        <p:spPr>
          <a:xfrm flipH="1" rot="16200000">
            <a:off x="2581920" y="5235840"/>
            <a:ext cx="1092960" cy="1069200"/>
          </a:xfrm>
          <a:prstGeom prst="curvedConnector5">
            <a:avLst>
              <a:gd name="adj1" fmla="val -14958"/>
              <a:gd name="adj2" fmla="val 49983"/>
              <a:gd name="adj3" fmla="val -14958"/>
            </a:avLst>
          </a:prstGeom>
          <a:ln w="50760">
            <a:solidFill>
              <a:srgbClr val="f47a00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3533760" y="5111640"/>
            <a:ext cx="13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ps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5157720"/>
            <a:ext cx="3330720" cy="119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rease in load that results in a decrease in useful work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3B72-ECCE-45DE-A6E7-02EACDDE1D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ys to Deal With Conges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gnore the probl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y dropped (and retransmitted)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cause congestion collap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ervations, like in circuit switch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-arrange bandwidth alloc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negotiation before sending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ic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n’t drop packets for the high-bidd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a payment mod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ynamic adjustment (TC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sender infers the level of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adapts its sending rate, for the greater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7228-C6D0-4CA9-B453-32E0E98A13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y Important 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does the sender know there is congestion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feedback from the net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erence based on network performanc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should the sender adap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sending rate computed by the net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 host coordinates with other hos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 host thinks globally but acts locall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s the performance objectiv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imizing goodput, even if some users suffer mor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rness?  (Whatever the heck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h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ans!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fast should new TCP senders send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E5F5-54A1-402F-98CE-E6FEEDAAB5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4:58:21Z</dcterms:created>
  <dc:creator>Kai Li</dc:creator>
  <dc:description/>
  <dc:language>en-US</dc:language>
  <cp:lastModifiedBy>Jennifer Rexford</cp:lastModifiedBy>
  <dcterms:modified xsi:type="dcterms:W3CDTF">2007-02-21T15:06:30Z</dcterms:modified>
  <cp:revision>1298</cp:revision>
  <dc:subject/>
  <dc:title>Communication</dc:title>
</cp:coreProperties>
</file>