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85F3619-4D14-4867-BE4C-257D148751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82F56BA-62F2-4C67-B545-A09F76A5F7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BE029A7-1258-4E8D-A379-0E1A66B93F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264D3E3-9664-4CBE-92C9-39A45FE013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3D48B9A-ACEB-4A35-BDA6-4017079736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C32D027-0F67-473C-8CFF-4ABFE68FC1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ACEA16E-5C15-4766-9142-3A92499DF0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C04DB-ECCE-4A03-96B6-2975442D61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96A9A-0151-48F1-8660-86143CF75F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1E322-6F93-488C-90F7-360AFF0D79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14E1F-E4A6-4C37-A335-8F3057FB87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5AF04-5A71-41F7-9B84-EEB0EA3821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7AEAF-92B1-4089-BE07-DC8033DA2E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818DE-B6CC-4401-9E08-8F309B6795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B67C9-93B8-489E-9C47-2D8FFF6A60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6A5D9-57FB-4484-A025-E78734A5D8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5B487-9E20-45F3-B4BE-F4AEC532F5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46525-0E29-442A-BDAD-C86DB9B496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0984F-2D7A-44EA-A724-A513D70BA1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D3DA2-D241-4929-B3D4-477FB51EBB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875BF-0AC2-4CD3-B1E0-3A14DCF5BC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C36D4-0281-48D5-9699-D0D4FE5897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DA241-0AE7-4A54-9CD6-1DB89C3D504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34E73-539E-4A77-83A3-5B953296BC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A8295-A85D-40BB-A1C0-F4CA62EDD7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F82E0-E337-4FFF-A706-9A3994A54D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4D984-4B7D-4F73-9ABD-C1B0C7D8D8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E47B7-7B0B-4B00-ABCB-5D927B71EE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C3BE5-0CC7-4647-AB96-2197E7D598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8305A-EE7C-4A24-92D3-0973153BBD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2CEFD-767F-44B2-8999-F62135346B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C5D8-1F78-4781-8BA3-C47CBB874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FAA7-4774-4F73-AE37-2DAE622A2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9840"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677880" algn="ctr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5640" algn="ctr">
              <a:spcBef>
                <a:spcPts val="249"/>
              </a:spcBef>
              <a:buClr>
                <a:srgbClr val="000066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373040" algn="ctr">
              <a:spcBef>
                <a:spcPts val="2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304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304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1880" y="319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ngestion Control</a:t>
            </a:r>
            <a:br>
              <a:rPr sz="36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ading: Sections 6.1-6.4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85960" y="4350960"/>
            <a:ext cx="7680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 461: Compute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ing 2007 (MW 1:30-2:50 in Friend 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nnifer Rexf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ing Assistant: Ioannis Avramopoul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s.princeton.edu/courses/archive/spring07/cos461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652840" y="49320"/>
            <a:ext cx="3724200" cy="310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6D33C-8688-4600-AA39-EE7AFE8DDF4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ferring From Implicit Feedba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loud"/>
          <p:cNvSpPr/>
          <p:nvPr/>
        </p:nvSpPr>
        <p:spPr>
          <a:xfrm>
            <a:off x="2421000" y="1700280"/>
            <a:ext cx="4262400" cy="2855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319880" y="2468520"/>
            <a:ext cx="1824120" cy="1120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 flipH="1">
            <a:off x="-360" y="2506680"/>
            <a:ext cx="1824120" cy="11206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614600" y="2968560"/>
            <a:ext cx="884160" cy="763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84840" y="2968560"/>
            <a:ext cx="884520" cy="763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89320" y="26989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urier New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4773240"/>
            <a:ext cx="84582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does the end host see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can the end host change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D4324-0046-470D-99C9-11867E6956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Congestion Happens: Lin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52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mple resource allocation: FIFO queue &amp; drop-tai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ink bandwidth: first-in first-out queu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ckets transmitted in the order they arriv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uffer space: drop-tail queu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the queue is full, drop the incoming pa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83000" y="3198960"/>
            <a:ext cx="53676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19760" y="3198960"/>
            <a:ext cx="53640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57960" y="3198960"/>
            <a:ext cx="53640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94360" y="3198960"/>
            <a:ext cx="53676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46600" y="3198960"/>
            <a:ext cx="536400" cy="691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06600" y="3198960"/>
            <a:ext cx="536760" cy="691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06480" y="3197160"/>
            <a:ext cx="536760" cy="692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30560" y="3192480"/>
            <a:ext cx="1919160" cy="352440"/>
          </a:xfrm>
          <a:custGeom>
            <a:avLst/>
            <a:gdLst/>
            <a:ahLst/>
            <a:rect l="l" t="t" r="r" b="b"/>
            <a:pathLst>
              <a:path w="1209" h="222">
                <a:moveTo>
                  <a:pt x="0" y="197"/>
                </a:moveTo>
                <a:cubicBezTo>
                  <a:pt x="81" y="98"/>
                  <a:pt x="162" y="0"/>
                  <a:pt x="363" y="4"/>
                </a:cubicBezTo>
                <a:cubicBezTo>
                  <a:pt x="564" y="8"/>
                  <a:pt x="886" y="115"/>
                  <a:pt x="1209" y="222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531120" y="3505320"/>
            <a:ext cx="9601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83000" y="5578560"/>
            <a:ext cx="53676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19760" y="5578560"/>
            <a:ext cx="53640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57960" y="5578560"/>
            <a:ext cx="53640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94360" y="5578560"/>
            <a:ext cx="53676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46600" y="5578560"/>
            <a:ext cx="53640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06600" y="5578560"/>
            <a:ext cx="53676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06480" y="5576760"/>
            <a:ext cx="536760" cy="692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31120" y="5884920"/>
            <a:ext cx="9601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38280" y="5388120"/>
            <a:ext cx="1036800" cy="1036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652760" y="5234040"/>
            <a:ext cx="806400" cy="12286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16E2F-DD6C-4C7F-BC51-76D37C0107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it Looks to the End Hos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acket delay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acket experiences high dela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acket los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acket gets dropped along the wa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160000"/>
              </a:lnSpc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ow does TCP sender learn this?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la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3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nd-trip time est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os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3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3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ple-duplicate acknowled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9B851-1938-44B1-91C6-26D9C17C6A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Can the End Host Do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pon detecting conges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crease the sending rate (e.g., divide in half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d host does its part to alleviate the conges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ut, what if conditions change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ppose there is more bandwidth availab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ould be a shame to stay at a low sending ra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pon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detecting conges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crease the sending rate, a little at a ti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see if the packets are successfully deliver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A2AC3-3BF0-4D0E-97A2-A57FC4828D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P Congestion Wind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ach TCP sender maintains a congestion window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ximum number of bytes to have in transi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.e., number of bytes still awaiting acknowledgme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dapting the congestion window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crease upon losing a packet: backing off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crease upon success: optimistically explor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ways struggling to find the right transfer ra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oth good and ba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o: avoids having explicit feedback from networ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: under-shooting and over-shooting the ra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83027-3B97-4468-B00E-3CBD467BB6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itive Increase, Multiplicative Decre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much to increase and decrease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crease linearly, decrease multiplicative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 necessary condition for stability of TC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sequences of over-sized window are much worse than having an under-sized wind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-sized window: packets dropped and retrans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-sized window: somewhat lower through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ultiplicative decreas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 loss of packet, divide congestion window in half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dditive increas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 success for last window of data, increase linear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6EECB-40A5-4734-B167-395B8F2703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ads to the TCP “Sawtooth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2286000"/>
            <a:ext cx="7010280" cy="3124080"/>
          </a:xfrm>
          <a:custGeom>
            <a:avLst/>
            <a:gdLst/>
            <a:ahLst/>
            <a:rect l="l" t="t" r="r" b="b"/>
            <a:pathLst>
              <a:path w="4416" h="1968">
                <a:moveTo>
                  <a:pt x="0" y="0"/>
                </a:moveTo>
                <a:lnTo>
                  <a:pt x="0" y="1968"/>
                </a:lnTo>
                <a:lnTo>
                  <a:pt x="4416" y="196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43000" y="3429000"/>
            <a:ext cx="7162920" cy="1981080"/>
          </a:xfrm>
          <a:custGeom>
            <a:avLst/>
            <a:gdLst/>
            <a:ahLst/>
            <a:rect l="l" t="t" r="r" b="b"/>
            <a:pathLst>
              <a:path w="4512" h="1248">
                <a:moveTo>
                  <a:pt x="0" y="1248"/>
                </a:moveTo>
                <a:lnTo>
                  <a:pt x="1152" y="336"/>
                </a:lnTo>
                <a:lnTo>
                  <a:pt x="1152" y="816"/>
                </a:lnTo>
                <a:lnTo>
                  <a:pt x="1536" y="528"/>
                </a:lnTo>
                <a:lnTo>
                  <a:pt x="1536" y="960"/>
                </a:lnTo>
                <a:lnTo>
                  <a:pt x="2832" y="0"/>
                </a:lnTo>
                <a:lnTo>
                  <a:pt x="2832" y="720"/>
                </a:lnTo>
                <a:lnTo>
                  <a:pt x="3504" y="240"/>
                </a:lnTo>
                <a:lnTo>
                  <a:pt x="3504" y="864"/>
                </a:lnTo>
                <a:lnTo>
                  <a:pt x="4224" y="288"/>
                </a:lnTo>
                <a:lnTo>
                  <a:pt x="4224" y="816"/>
                </a:lnTo>
                <a:lnTo>
                  <a:pt x="4512" y="576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124040" y="53341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0960" y="17524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33920" y="4952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3392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4267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54760" y="4465800"/>
            <a:ext cx="11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l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971800" y="30481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8128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2514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05720" y="2895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84872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493720" y="266076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47ED6-FECE-46CE-ADE0-6EC7FAB844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actical Detai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gestion window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presented in bytes, not in packets (Why?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ckets have MSS (Maximum Segment Size) byt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creasing the congestion window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crease by MSS on success for last window of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creasing the congestion window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ever drop congestion window below 1 M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D7246-3FE5-4060-8B89-0B1D91F11C7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eiver Window vs. Congestion Wind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low contro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Keep a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fast sender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from overwhelming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a slow receiv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gestion contro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Keep a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set of sender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from overloading the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fferent concepts, but similar mechanis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CP flow control: receiver wind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CP congestion control: congestion wind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CP window: min{congestion window, receiver window}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42D5E-8629-408E-9556-694D4C4AA62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Should a New Flow Sta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43000" y="2712960"/>
            <a:ext cx="7010280" cy="3124440"/>
          </a:xfrm>
          <a:custGeom>
            <a:avLst/>
            <a:gdLst/>
            <a:ahLst/>
            <a:rect l="l" t="t" r="r" b="b"/>
            <a:pathLst>
              <a:path w="4416" h="1968">
                <a:moveTo>
                  <a:pt x="0" y="0"/>
                </a:moveTo>
                <a:lnTo>
                  <a:pt x="0" y="1968"/>
                </a:lnTo>
                <a:lnTo>
                  <a:pt x="4416" y="196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43000" y="3855960"/>
            <a:ext cx="7162920" cy="1981440"/>
          </a:xfrm>
          <a:custGeom>
            <a:avLst/>
            <a:gdLst/>
            <a:ahLst/>
            <a:rect l="l" t="t" r="r" b="b"/>
            <a:pathLst>
              <a:path w="4512" h="1248">
                <a:moveTo>
                  <a:pt x="0" y="1248"/>
                </a:moveTo>
                <a:lnTo>
                  <a:pt x="1152" y="336"/>
                </a:lnTo>
                <a:lnTo>
                  <a:pt x="1152" y="816"/>
                </a:lnTo>
                <a:lnTo>
                  <a:pt x="1536" y="528"/>
                </a:lnTo>
                <a:lnTo>
                  <a:pt x="1536" y="960"/>
                </a:lnTo>
                <a:lnTo>
                  <a:pt x="2832" y="0"/>
                </a:lnTo>
                <a:lnTo>
                  <a:pt x="2832" y="720"/>
                </a:lnTo>
                <a:lnTo>
                  <a:pt x="3504" y="240"/>
                </a:lnTo>
                <a:lnTo>
                  <a:pt x="3504" y="864"/>
                </a:lnTo>
                <a:lnTo>
                  <a:pt x="4224" y="288"/>
                </a:lnTo>
                <a:lnTo>
                  <a:pt x="4224" y="816"/>
                </a:lnTo>
                <a:lnTo>
                  <a:pt x="4512" y="576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24040" y="57610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0960" y="21798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33920" y="5380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33920" y="4694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469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71800" y="347508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81280" y="370368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38680" y="294156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05720" y="3322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48720" y="339876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66920" y="5661000"/>
            <a:ext cx="2343240" cy="609480"/>
          </a:xfrm>
          <a:prstGeom prst="wedgeRectCallout">
            <a:avLst>
              <a:gd name="adj1" fmla="val -64972"/>
              <a:gd name="adj2" fmla="val -11171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ut, could take a long time to get started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91040" y="1278000"/>
            <a:ext cx="823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eed to start with a small CWND to avoid overloading the net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08AB2-5D10-4AFA-8FB0-201DB3C992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urse Announcem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programming assignment is poste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eb proxy serv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ue Friday March 9 at 6p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ore challenging than the first assign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onday’s lectur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oannis Avramopoulos will lectur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eedback on the first programming assign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verview of the second programming assign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ecture on Web Content Deliver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ood to get started on the next assignmen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 make the most of Monday’s cla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 go to office hours early if you encounter problem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96F7C-52B1-4597-8AD0-AF3FE74517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low Start” Phas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tart with a small congestion window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itially, CWND is 1 Max Segment Size (MS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o, initial sending rate is MSS/RT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at could be pretty wastefu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ight be much less than the actual bandwidth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inear increase takes a long time to accelerat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low-start phase (really “fast start”)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nder starts at a slow rate (hence the name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ut increases the rate exponentiall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until the first loss ev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14F09-782D-4610-8BBE-8C9210794B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low Start in A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773360" y="1238400"/>
            <a:ext cx="552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CWND per round-trip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71600" y="38862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95280" y="571500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00200" y="3886200"/>
            <a:ext cx="8380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2438280" y="3886200"/>
            <a:ext cx="9907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429000" y="3886200"/>
            <a:ext cx="8380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267080" y="3886200"/>
            <a:ext cx="9907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33920" y="3886200"/>
            <a:ext cx="8380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572000" y="3886200"/>
            <a:ext cx="9907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257800" y="3886200"/>
            <a:ext cx="8380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3889080"/>
            <a:ext cx="989280" cy="182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3886200"/>
            <a:ext cx="8380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6400800" y="3886200"/>
            <a:ext cx="9907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943600" y="3886200"/>
            <a:ext cx="8380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6781680" y="3886200"/>
            <a:ext cx="9907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00200" y="3657600"/>
            <a:ext cx="30492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288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429000" y="3657600"/>
            <a:ext cx="30492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57600" y="3659040"/>
            <a:ext cx="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9880" y="3657600"/>
            <a:ext cx="30492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384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257800" y="3657600"/>
            <a:ext cx="30492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5486400" y="3659040"/>
            <a:ext cx="7920" cy="7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638680" y="3657600"/>
            <a:ext cx="30492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8672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86600" y="3657600"/>
            <a:ext cx="30492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315200" y="3659040"/>
            <a:ext cx="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67480" y="3657600"/>
            <a:ext cx="30492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96080" y="3659040"/>
            <a:ext cx="0" cy="15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19920" y="3657600"/>
            <a:ext cx="30456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2485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848720" y="3657600"/>
            <a:ext cx="30456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0773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229600" y="3657600"/>
            <a:ext cx="30492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4582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086600" y="3962520"/>
            <a:ext cx="30492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391520" y="3962520"/>
            <a:ext cx="290520" cy="581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772400" y="3962520"/>
            <a:ext cx="290520" cy="581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077320" y="3886200"/>
            <a:ext cx="30456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77240" y="456084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653200" y="45720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506040" y="449568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785400" y="449568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07200" y="449568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12120" y="449568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840" y="449568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614200" y="449568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07400" y="49212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59840" y="49212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95080" y="449568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69520" y="49212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48360" y="35812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24600" y="5410080"/>
            <a:ext cx="8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24480" y="3886200"/>
            <a:ext cx="83844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75960" y="446400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400800" y="3657600"/>
            <a:ext cx="30492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294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7162920" y="3886200"/>
            <a:ext cx="99036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250400" y="49212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586160" y="33242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664080" y="33368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21480" y="33498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778880" y="3362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543FB-20FC-4A0C-ACB4-D8ADD990A2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low Start and the TCP Sawtoot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1873080"/>
            <a:ext cx="7010280" cy="2819520"/>
          </a:xfrm>
          <a:custGeom>
            <a:avLst/>
            <a:gdLst/>
            <a:ahLst/>
            <a:rect l="l" t="t" r="r" b="b"/>
            <a:pathLst>
              <a:path w="4416" h="1968">
                <a:moveTo>
                  <a:pt x="0" y="0"/>
                </a:moveTo>
                <a:lnTo>
                  <a:pt x="0" y="1968"/>
                </a:lnTo>
                <a:lnTo>
                  <a:pt x="4416" y="196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743200" y="2330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352680" y="25588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410080" y="17971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102360" y="22575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245360" y="23335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301840" y="193500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3244680"/>
            <a:ext cx="1828800" cy="1371600"/>
          </a:xfrm>
          <a:custGeom>
            <a:avLst/>
            <a:gdLst/>
            <a:ahLst/>
            <a:rect l="l" t="t" r="r" b="b"/>
            <a:pathLst>
              <a:path w="1152" h="864">
                <a:moveTo>
                  <a:pt x="1152" y="0"/>
                </a:moveTo>
                <a:cubicBezTo>
                  <a:pt x="1132" y="116"/>
                  <a:pt x="1112" y="232"/>
                  <a:pt x="1056" y="336"/>
                </a:cubicBezTo>
                <a:cubicBezTo>
                  <a:pt x="1000" y="440"/>
                  <a:pt x="928" y="544"/>
                  <a:pt x="816" y="624"/>
                </a:cubicBezTo>
                <a:cubicBezTo>
                  <a:pt x="704" y="704"/>
                  <a:pt x="520" y="776"/>
                  <a:pt x="384" y="816"/>
                </a:cubicBezTo>
                <a:cubicBezTo>
                  <a:pt x="248" y="856"/>
                  <a:pt x="124" y="860"/>
                  <a:pt x="0" y="864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52760" y="4892760"/>
            <a:ext cx="2209680" cy="609480"/>
          </a:xfrm>
          <a:prstGeom prst="wedgeRectCallout">
            <a:avLst>
              <a:gd name="adj1" fmla="val -38074"/>
              <a:gd name="adj2" fmla="val -12343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ponential “slow start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124040" y="4768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42360" y="1339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133280" y="5502240"/>
            <a:ext cx="705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y is it called slow-start? Because TCP originally h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congestion control mechanism. The source would jus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rt by sending a whole receiver window’s worth of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711520"/>
            <a:ext cx="2666880" cy="1523880"/>
          </a:xfrm>
          <a:custGeom>
            <a:avLst/>
            <a:gdLst/>
            <a:ahLst/>
            <a:rect l="l" t="t" r="r" b="b"/>
            <a:pathLst>
              <a:path w="1680" h="960">
                <a:moveTo>
                  <a:pt x="0" y="336"/>
                </a:moveTo>
                <a:lnTo>
                  <a:pt x="0" y="816"/>
                </a:lnTo>
                <a:lnTo>
                  <a:pt x="384" y="528"/>
                </a:lnTo>
                <a:lnTo>
                  <a:pt x="384" y="960"/>
                </a:lnTo>
                <a:lnTo>
                  <a:pt x="1680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102360" y="3171960"/>
            <a:ext cx="1600200" cy="990360"/>
          </a:xfrm>
          <a:custGeom>
            <a:avLst/>
            <a:gdLst/>
            <a:ahLst/>
            <a:rect l="l" t="t" r="r" b="b"/>
            <a:pathLst>
              <a:path w="1008" h="624">
                <a:moveTo>
                  <a:pt x="0" y="0"/>
                </a:moveTo>
                <a:lnTo>
                  <a:pt x="0" y="624"/>
                </a:lnTo>
                <a:lnTo>
                  <a:pt x="720" y="48"/>
                </a:lnTo>
                <a:lnTo>
                  <a:pt x="720" y="576"/>
                </a:lnTo>
                <a:lnTo>
                  <a:pt x="1008" y="336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5416560" y="3095280"/>
            <a:ext cx="685800" cy="68580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410080" y="2711520"/>
            <a:ext cx="6480" cy="106668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930FD-3570-4408-A053-FBF6B3B07A2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wo Kinds of Loss in TC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imeou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cket n is lost and detected via a timeou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because all packets in flight were los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fter the timeout, blasting away for the entire CWN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ould trigger a very large burst in traffi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cc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o, better to start over with a low CWN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riple duplicate AC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cket n is lost, but packets n+1, n+2, etc. arriv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ceiver sends duplicate acknowledgme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the sender retransmits packet n quick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cc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o a multiplicative decrease and keep go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069C2-59A5-4CD0-8C61-746B2418A48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eating Slow Start After Timeou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2035080"/>
            <a:ext cx="7010280" cy="2819520"/>
          </a:xfrm>
          <a:custGeom>
            <a:avLst/>
            <a:gdLst/>
            <a:ahLst/>
            <a:rect l="l" t="t" r="r" b="b"/>
            <a:pathLst>
              <a:path w="4416" h="1968">
                <a:moveTo>
                  <a:pt x="0" y="0"/>
                </a:moveTo>
                <a:lnTo>
                  <a:pt x="0" y="1968"/>
                </a:lnTo>
                <a:lnTo>
                  <a:pt x="4416" y="196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914400" y="3406680"/>
            <a:ext cx="1828800" cy="1371600"/>
          </a:xfrm>
          <a:custGeom>
            <a:avLst/>
            <a:gdLst/>
            <a:ahLst/>
            <a:rect l="l" t="t" r="r" b="b"/>
            <a:pathLst>
              <a:path w="1152" h="864">
                <a:moveTo>
                  <a:pt x="1152" y="0"/>
                </a:moveTo>
                <a:cubicBezTo>
                  <a:pt x="1132" y="116"/>
                  <a:pt x="1112" y="232"/>
                  <a:pt x="1056" y="336"/>
                </a:cubicBezTo>
                <a:cubicBezTo>
                  <a:pt x="1000" y="440"/>
                  <a:pt x="928" y="544"/>
                  <a:pt x="816" y="624"/>
                </a:cubicBezTo>
                <a:cubicBezTo>
                  <a:pt x="704" y="704"/>
                  <a:pt x="520" y="776"/>
                  <a:pt x="384" y="816"/>
                </a:cubicBezTo>
                <a:cubicBezTo>
                  <a:pt x="248" y="856"/>
                  <a:pt x="124" y="860"/>
                  <a:pt x="0" y="864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124040" y="4930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2360" y="1501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54120" y="5656320"/>
            <a:ext cx="783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-start restart: Go back to CWND of 1, but take advantage of knowing the previous value of CW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43200" y="2873520"/>
            <a:ext cx="2666880" cy="1523880"/>
          </a:xfrm>
          <a:custGeom>
            <a:avLst/>
            <a:gdLst/>
            <a:ahLst/>
            <a:rect l="l" t="t" r="r" b="b"/>
            <a:pathLst>
              <a:path w="1680" h="960">
                <a:moveTo>
                  <a:pt x="0" y="336"/>
                </a:moveTo>
                <a:lnTo>
                  <a:pt x="0" y="816"/>
                </a:lnTo>
                <a:lnTo>
                  <a:pt x="384" y="528"/>
                </a:lnTo>
                <a:lnTo>
                  <a:pt x="384" y="960"/>
                </a:lnTo>
                <a:lnTo>
                  <a:pt x="1680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858000" y="3173400"/>
            <a:ext cx="1600200" cy="990720"/>
          </a:xfrm>
          <a:custGeom>
            <a:avLst/>
            <a:gdLst/>
            <a:ahLst/>
            <a:rect l="l" t="t" r="r" b="b"/>
            <a:pathLst>
              <a:path w="1008" h="624">
                <a:moveTo>
                  <a:pt x="0" y="0"/>
                </a:moveTo>
                <a:lnTo>
                  <a:pt x="0" y="624"/>
                </a:lnTo>
                <a:lnTo>
                  <a:pt x="720" y="48"/>
                </a:lnTo>
                <a:lnTo>
                  <a:pt x="720" y="576"/>
                </a:lnTo>
                <a:lnTo>
                  <a:pt x="1008" y="336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257800" y="3863880"/>
            <a:ext cx="914400" cy="990720"/>
          </a:xfrm>
          <a:custGeom>
            <a:avLst/>
            <a:gdLst/>
            <a:ahLst/>
            <a:rect l="l" t="t" r="r" b="b"/>
            <a:pathLst>
              <a:path w="1152" h="864">
                <a:moveTo>
                  <a:pt x="1152" y="0"/>
                </a:moveTo>
                <a:cubicBezTo>
                  <a:pt x="1132" y="116"/>
                  <a:pt x="1112" y="232"/>
                  <a:pt x="1056" y="336"/>
                </a:cubicBezTo>
                <a:cubicBezTo>
                  <a:pt x="1000" y="440"/>
                  <a:pt x="928" y="544"/>
                  <a:pt x="816" y="624"/>
                </a:cubicBezTo>
                <a:cubicBezTo>
                  <a:pt x="704" y="704"/>
                  <a:pt x="520" y="776"/>
                  <a:pt x="384" y="816"/>
                </a:cubicBezTo>
                <a:cubicBezTo>
                  <a:pt x="248" y="856"/>
                  <a:pt x="124" y="860"/>
                  <a:pt x="0" y="864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6172200" y="3177720"/>
            <a:ext cx="685800" cy="68580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410080" y="2873520"/>
            <a:ext cx="0" cy="198108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248520" y="4549680"/>
            <a:ext cx="2514600" cy="914400"/>
          </a:xfrm>
          <a:prstGeom prst="wedgeRectCallout">
            <a:avLst>
              <a:gd name="adj1" fmla="val -64708"/>
              <a:gd name="adj2" fmla="val -45138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low start in operation until it reaches half of previous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cwnd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5532120" y="2354400"/>
            <a:ext cx="384120" cy="511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6146640" y="2481120"/>
            <a:ext cx="268560" cy="13068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416560" y="1816200"/>
            <a:ext cx="11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68391-32F2-4E99-B519-A342E6935E4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eating Slow Start After Idle Perio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uppose a TCP connection goes idle for a whi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Telnet session where you don’t type for an hou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ventually, the network conditions chang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ybe many more flows are traversing the lin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maybe everybody has come back from lunch!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angerous to start transmitting at the old rat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viously-idle TCP sender might blast the networ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using excessive congestion and packet lo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o, some TCP implementations repeat slow star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low-start restart after an idle perio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AF867-D09E-4208-AF3B-9F10613FFD1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P Achieves Some Notion of Fairn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9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ffective utilization is not the only goa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e also want to be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fair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to the various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t what the heck does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that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mean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mple definition: equal shares of the bandwidth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 flows that each get 1/N of the bandwidth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t, what if the flows traverse different path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bandwidth shared in proportion to the RT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129200" y="4927680"/>
            <a:ext cx="1074240" cy="535680"/>
            <a:chOff x="4129200" y="4927680"/>
            <a:chExt cx="1074240" cy="535680"/>
          </a:xfrm>
        </p:grpSpPr>
        <p:sp>
          <p:nvSpPr>
            <p:cNvPr id="352" name=""/>
            <p:cNvSpPr/>
            <p:nvPr/>
          </p:nvSpPr>
          <p:spPr>
            <a:xfrm>
              <a:off x="4154400" y="4927680"/>
              <a:ext cx="1049040" cy="533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539960" y="4956120"/>
              <a:ext cx="645480" cy="495000"/>
            </a:xfrm>
            <a:custGeom>
              <a:avLst/>
              <a:gdLst/>
              <a:ahLst/>
              <a:rect l="l" t="t" r="r" b="b"/>
              <a:pathLst>
                <a:path w="855" h="390">
                  <a:moveTo>
                    <a:pt x="0" y="0"/>
                  </a:moveTo>
                  <a:lnTo>
                    <a:pt x="855" y="0"/>
                  </a:lnTo>
                  <a:lnTo>
                    <a:pt x="855" y="390"/>
                  </a:lnTo>
                  <a:lnTo>
                    <a:pt x="45" y="39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129200" y="4956120"/>
              <a:ext cx="410760" cy="252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151880" y="5451480"/>
              <a:ext cx="405000" cy="1188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17400" y="5032440"/>
              <a:ext cx="2160" cy="3042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049000" y="5032440"/>
              <a:ext cx="2160" cy="3042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980600" y="5032440"/>
              <a:ext cx="2160" cy="3042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912200" y="5022360"/>
              <a:ext cx="2160" cy="304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843800" y="5022360"/>
              <a:ext cx="2160" cy="304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772520" y="5022360"/>
              <a:ext cx="2520" cy="304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235400" y="5194440"/>
              <a:ext cx="441000" cy="252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6222960" y="4927680"/>
            <a:ext cx="1074240" cy="535680"/>
            <a:chOff x="6222960" y="4927680"/>
            <a:chExt cx="1074240" cy="535680"/>
          </a:xfrm>
        </p:grpSpPr>
        <p:sp>
          <p:nvSpPr>
            <p:cNvPr id="364" name=""/>
            <p:cNvSpPr/>
            <p:nvPr/>
          </p:nvSpPr>
          <p:spPr>
            <a:xfrm>
              <a:off x="6248160" y="4927680"/>
              <a:ext cx="1049040" cy="533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633720" y="4956120"/>
              <a:ext cx="645480" cy="495000"/>
            </a:xfrm>
            <a:custGeom>
              <a:avLst/>
              <a:gdLst/>
              <a:ahLst/>
              <a:rect l="l" t="t" r="r" b="b"/>
              <a:pathLst>
                <a:path w="855" h="390">
                  <a:moveTo>
                    <a:pt x="0" y="0"/>
                  </a:moveTo>
                  <a:lnTo>
                    <a:pt x="855" y="0"/>
                  </a:lnTo>
                  <a:lnTo>
                    <a:pt x="855" y="390"/>
                  </a:lnTo>
                  <a:lnTo>
                    <a:pt x="45" y="39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222960" y="4956120"/>
              <a:ext cx="410760" cy="252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245640" y="5451480"/>
              <a:ext cx="405000" cy="1188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211160" y="5032440"/>
              <a:ext cx="2160" cy="3042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142760" y="5032440"/>
              <a:ext cx="2160" cy="3042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074360" y="5032440"/>
              <a:ext cx="2160" cy="3042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005960" y="5022360"/>
              <a:ext cx="2160" cy="304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937560" y="5022360"/>
              <a:ext cx="2160" cy="304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866280" y="5022360"/>
              <a:ext cx="2520" cy="304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329160" y="5194440"/>
              <a:ext cx="441000" cy="252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2036880" y="4925880"/>
            <a:ext cx="1074240" cy="536400"/>
            <a:chOff x="2036880" y="4925880"/>
            <a:chExt cx="1074240" cy="536400"/>
          </a:xfrm>
        </p:grpSpPr>
        <p:sp>
          <p:nvSpPr>
            <p:cNvPr id="376" name=""/>
            <p:cNvSpPr/>
            <p:nvPr/>
          </p:nvSpPr>
          <p:spPr>
            <a:xfrm>
              <a:off x="2062080" y="4925880"/>
              <a:ext cx="10490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47640" y="4954680"/>
              <a:ext cx="645480" cy="495360"/>
            </a:xfrm>
            <a:custGeom>
              <a:avLst/>
              <a:gdLst/>
              <a:ahLst/>
              <a:rect l="l" t="t" r="r" b="b"/>
              <a:pathLst>
                <a:path w="855" h="390">
                  <a:moveTo>
                    <a:pt x="0" y="0"/>
                  </a:moveTo>
                  <a:lnTo>
                    <a:pt x="855" y="0"/>
                  </a:lnTo>
                  <a:lnTo>
                    <a:pt x="855" y="390"/>
                  </a:lnTo>
                  <a:lnTo>
                    <a:pt x="45" y="39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036880" y="4954680"/>
              <a:ext cx="410760" cy="288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059560" y="5450040"/>
              <a:ext cx="405000" cy="1224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25080" y="5031000"/>
              <a:ext cx="2160" cy="304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956680" y="5031000"/>
              <a:ext cx="2160" cy="304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888280" y="5031000"/>
              <a:ext cx="2160" cy="304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19880" y="5020920"/>
              <a:ext cx="2160" cy="305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51480" y="5020920"/>
              <a:ext cx="2160" cy="305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680200" y="5020920"/>
              <a:ext cx="2520" cy="305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143080" y="5193000"/>
              <a:ext cx="441000" cy="288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1192320" y="5157720"/>
            <a:ext cx="71434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76400" y="5224320"/>
            <a:ext cx="2340000" cy="887400"/>
          </a:xfrm>
          <a:custGeom>
            <a:avLst/>
            <a:gdLst/>
            <a:ahLst/>
            <a:rect l="l" t="t" r="r" b="b"/>
            <a:pathLst>
              <a:path w="1476" h="560">
                <a:moveTo>
                  <a:pt x="0" y="560"/>
                </a:moveTo>
                <a:cubicBezTo>
                  <a:pt x="52" y="356"/>
                  <a:pt x="104" y="152"/>
                  <a:pt x="314" y="76"/>
                </a:cubicBezTo>
                <a:cubicBezTo>
                  <a:pt x="524" y="0"/>
                  <a:pt x="1064" y="20"/>
                  <a:pt x="1258" y="101"/>
                </a:cubicBezTo>
                <a:cubicBezTo>
                  <a:pt x="1452" y="182"/>
                  <a:pt x="1464" y="371"/>
                  <a:pt x="1476" y="560"/>
                </a:cubicBezTo>
              </a:path>
            </a:pathLst>
          </a:custGeom>
          <a:noFill/>
          <a:ln w="38160">
            <a:solidFill>
              <a:srgbClr val="f47a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38840" y="5268960"/>
            <a:ext cx="2340000" cy="887400"/>
          </a:xfrm>
          <a:custGeom>
            <a:avLst/>
            <a:gdLst/>
            <a:ahLst/>
            <a:rect l="l" t="t" r="r" b="b"/>
            <a:pathLst>
              <a:path w="1476" h="560">
                <a:moveTo>
                  <a:pt x="0" y="560"/>
                </a:moveTo>
                <a:cubicBezTo>
                  <a:pt x="52" y="356"/>
                  <a:pt x="104" y="152"/>
                  <a:pt x="314" y="76"/>
                </a:cubicBezTo>
                <a:cubicBezTo>
                  <a:pt x="524" y="0"/>
                  <a:pt x="1064" y="20"/>
                  <a:pt x="1258" y="101"/>
                </a:cubicBezTo>
                <a:cubicBezTo>
                  <a:pt x="1452" y="182"/>
                  <a:pt x="1464" y="371"/>
                  <a:pt x="1476" y="560"/>
                </a:cubicBezTo>
              </a:path>
            </a:pathLst>
          </a:custGeom>
          <a:noFill/>
          <a:ln w="38160">
            <a:solidFill>
              <a:srgbClr val="f47a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7C12F-369C-4A03-8571-9DF9FAEB747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About Cheating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ome folks are more fair than oth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unning multiple TCP connections in parall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odifying the TCP implementation in the 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 the User Datagram Protoco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is the impac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ood guys slow down to make room for you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You get an unfair share of the bandwidt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ossible solutions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outers detect cheating and drop excess packet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eer pressure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??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7C110-B440-4F0E-B5B1-8784C4EEAEF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Queuing Mechanism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845640" y="3886200"/>
            <a:ext cx="7796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Early Detection (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icit Congestion Notification (EC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E5446-17E9-4854-B410-7ED777209FD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rsty Loss From Drop-Tail Queu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CP depends on packet los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cket loss is the indication of conges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 fact, TCP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drive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the network into packet lo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y continuing to increase the sending ra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rop-tail queuing leads to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bursty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los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en a link becomes congested…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ny arriving packets encounter a full queu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, as a result, many flows divide sending rate in half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, many individual flows lose multiple pack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2266920" y="5272200"/>
            <a:ext cx="4147920" cy="1344240"/>
            <a:chOff x="2266920" y="5272200"/>
            <a:chExt cx="4147920" cy="1344240"/>
          </a:xfrm>
        </p:grpSpPr>
        <p:grpSp>
          <p:nvGrpSpPr>
            <p:cNvPr id="397" name=""/>
            <p:cNvGrpSpPr/>
            <p:nvPr/>
          </p:nvGrpSpPr>
          <p:grpSpPr>
            <a:xfrm>
              <a:off x="3596040" y="5584680"/>
              <a:ext cx="1464120" cy="745920"/>
              <a:chOff x="3596040" y="5584680"/>
              <a:chExt cx="1464120" cy="745920"/>
            </a:xfrm>
          </p:grpSpPr>
          <p:sp>
            <p:nvSpPr>
              <p:cNvPr id="398" name=""/>
              <p:cNvSpPr/>
              <p:nvPr/>
            </p:nvSpPr>
            <p:spPr>
              <a:xfrm>
                <a:off x="3630600" y="5584680"/>
                <a:ext cx="1429560" cy="7459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156920" y="5625360"/>
                <a:ext cx="877320" cy="692280"/>
              </a:xfrm>
              <a:custGeom>
                <a:avLst/>
                <a:gdLst/>
                <a:ahLst/>
                <a:rect l="l" t="t" r="r" b="b"/>
                <a:pathLst>
                  <a:path w="855" h="390">
                    <a:moveTo>
                      <a:pt x="0" y="0"/>
                    </a:moveTo>
                    <a:lnTo>
                      <a:pt x="855" y="0"/>
                    </a:lnTo>
                    <a:lnTo>
                      <a:pt x="855" y="390"/>
                    </a:lnTo>
                    <a:lnTo>
                      <a:pt x="45" y="39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96040" y="5625360"/>
                <a:ext cx="5608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627360" y="6317640"/>
                <a:ext cx="55656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942440" y="5730480"/>
                <a:ext cx="10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848480" y="5730480"/>
                <a:ext cx="144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755240" y="5730480"/>
                <a:ext cx="10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661640" y="5717520"/>
                <a:ext cx="10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568040" y="5717520"/>
                <a:ext cx="28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473360" y="5717520"/>
                <a:ext cx="396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741480" y="5958360"/>
                <a:ext cx="5997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>
              <a:off x="2298960" y="5272200"/>
              <a:ext cx="1328760" cy="527760"/>
            </a:xfrm>
            <a:custGeom>
              <a:avLst/>
              <a:gdLst/>
              <a:ahLst/>
              <a:rect l="l" t="t" r="r" b="b"/>
              <a:pathLst>
                <a:path w="992" h="532">
                  <a:moveTo>
                    <a:pt x="0" y="0"/>
                  </a:moveTo>
                  <a:cubicBezTo>
                    <a:pt x="123" y="173"/>
                    <a:pt x="246" y="346"/>
                    <a:pt x="411" y="435"/>
                  </a:cubicBezTo>
                  <a:cubicBezTo>
                    <a:pt x="576" y="524"/>
                    <a:pt x="784" y="528"/>
                    <a:pt x="992" y="532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298960" y="6088680"/>
              <a:ext cx="1328760" cy="527760"/>
            </a:xfrm>
            <a:custGeom>
              <a:avLst/>
              <a:gdLst/>
              <a:ahLst/>
              <a:rect l="l" t="t" r="r" b="b"/>
              <a:pathLst>
                <a:path w="992" h="532">
                  <a:moveTo>
                    <a:pt x="0" y="0"/>
                  </a:moveTo>
                  <a:cubicBezTo>
                    <a:pt x="123" y="173"/>
                    <a:pt x="246" y="346"/>
                    <a:pt x="411" y="435"/>
                  </a:cubicBezTo>
                  <a:cubicBezTo>
                    <a:pt x="576" y="524"/>
                    <a:pt x="784" y="528"/>
                    <a:pt x="992" y="532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266920" y="5944680"/>
              <a:ext cx="13611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53680" y="5944680"/>
              <a:ext cx="1361160" cy="0"/>
            </a:xfrm>
            <a:prstGeom prst="line">
              <a:avLst/>
            </a:prstGeom>
            <a:ln w="63360">
              <a:solidFill>
                <a:srgbClr val="ff33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DA441-CE14-4EFD-9424-CCF835419C1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als of Today’s L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gestion in IP network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navoidable due to best-effort service mod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P philosophy: decentralized control at end hos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gestion control by the TCP send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fers congestion is occurring (e.g., from packet losse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lows down to alleviate congestion, for the greater goo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CP congestion-control algorith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dditive-increase, multiplicative-decrea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low start and slow-start restar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ctive Queue Management (AQM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andom Early Detection (RED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icit Congestion Notification (ECN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82524-3D8A-49E5-BF4E-01E68B0B20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low Feedback from Drop Tai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eedback comes when buffer is completely ful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ven though the buffer has been filling for a whi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lus, the filling buffer is increasing RT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the variance in the RT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ight be better to give early feedbac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et one or two connections to slow down, not all of the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et these connections to slow down before it is too la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2266920" y="5079960"/>
            <a:ext cx="4147920" cy="1344240"/>
            <a:chOff x="2266920" y="5079960"/>
            <a:chExt cx="4147920" cy="1344240"/>
          </a:xfrm>
        </p:grpSpPr>
        <p:grpSp>
          <p:nvGrpSpPr>
            <p:cNvPr id="416" name=""/>
            <p:cNvGrpSpPr/>
            <p:nvPr/>
          </p:nvGrpSpPr>
          <p:grpSpPr>
            <a:xfrm>
              <a:off x="3596040" y="5392440"/>
              <a:ext cx="1464120" cy="745920"/>
              <a:chOff x="3596040" y="5392440"/>
              <a:chExt cx="1464120" cy="745920"/>
            </a:xfrm>
          </p:grpSpPr>
          <p:sp>
            <p:nvSpPr>
              <p:cNvPr id="417" name=""/>
              <p:cNvSpPr/>
              <p:nvPr/>
            </p:nvSpPr>
            <p:spPr>
              <a:xfrm>
                <a:off x="3630600" y="5392440"/>
                <a:ext cx="1429560" cy="7459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156920" y="5433120"/>
                <a:ext cx="877320" cy="692280"/>
              </a:xfrm>
              <a:custGeom>
                <a:avLst/>
                <a:gdLst/>
                <a:ahLst/>
                <a:rect l="l" t="t" r="r" b="b"/>
                <a:pathLst>
                  <a:path w="855" h="390">
                    <a:moveTo>
                      <a:pt x="0" y="0"/>
                    </a:moveTo>
                    <a:lnTo>
                      <a:pt x="855" y="0"/>
                    </a:lnTo>
                    <a:lnTo>
                      <a:pt x="855" y="390"/>
                    </a:lnTo>
                    <a:lnTo>
                      <a:pt x="45" y="39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596040" y="5433120"/>
                <a:ext cx="5608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627360" y="6125400"/>
                <a:ext cx="55656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942440" y="5538240"/>
                <a:ext cx="10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848480" y="5538240"/>
                <a:ext cx="144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755240" y="5538240"/>
                <a:ext cx="10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661640" y="5525280"/>
                <a:ext cx="10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568040" y="5525280"/>
                <a:ext cx="28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473360" y="5525280"/>
                <a:ext cx="396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741480" y="5766120"/>
                <a:ext cx="5997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>
              <a:off x="2298960" y="5079960"/>
              <a:ext cx="1328760" cy="527760"/>
            </a:xfrm>
            <a:custGeom>
              <a:avLst/>
              <a:gdLst/>
              <a:ahLst/>
              <a:rect l="l" t="t" r="r" b="b"/>
              <a:pathLst>
                <a:path w="992" h="532">
                  <a:moveTo>
                    <a:pt x="0" y="0"/>
                  </a:moveTo>
                  <a:cubicBezTo>
                    <a:pt x="123" y="173"/>
                    <a:pt x="246" y="346"/>
                    <a:pt x="411" y="435"/>
                  </a:cubicBezTo>
                  <a:cubicBezTo>
                    <a:pt x="576" y="524"/>
                    <a:pt x="784" y="528"/>
                    <a:pt x="992" y="532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2298960" y="5896440"/>
              <a:ext cx="1328760" cy="527760"/>
            </a:xfrm>
            <a:custGeom>
              <a:avLst/>
              <a:gdLst/>
              <a:ahLst/>
              <a:rect l="l" t="t" r="r" b="b"/>
              <a:pathLst>
                <a:path w="992" h="532">
                  <a:moveTo>
                    <a:pt x="0" y="0"/>
                  </a:moveTo>
                  <a:cubicBezTo>
                    <a:pt x="123" y="173"/>
                    <a:pt x="246" y="346"/>
                    <a:pt x="411" y="435"/>
                  </a:cubicBezTo>
                  <a:cubicBezTo>
                    <a:pt x="576" y="524"/>
                    <a:pt x="784" y="528"/>
                    <a:pt x="992" y="532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266920" y="5752440"/>
              <a:ext cx="13611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053680" y="5752440"/>
              <a:ext cx="1361160" cy="0"/>
            </a:xfrm>
            <a:prstGeom prst="line">
              <a:avLst/>
            </a:prstGeom>
            <a:ln w="63360">
              <a:solidFill>
                <a:srgbClr val="ff33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ACD3F-C3A1-47F5-B56A-805532A80B7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andom Early Detection (RED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4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asic idea of RE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outer notices that the queue is getting backlogg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randomly drops packets to signal conges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acket drop probabilit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rop probability increases as queue length increas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buffer is below some level, don’t drop anyth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therwise, set drop probability as function of queu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300480" y="5057640"/>
            <a:ext cx="2514600" cy="990720"/>
          </a:xfrm>
          <a:custGeom>
            <a:avLst/>
            <a:gdLst/>
            <a:ahLst/>
            <a:rect l="l" t="t" r="r" b="b"/>
            <a:pathLst>
              <a:path w="1584" h="624">
                <a:moveTo>
                  <a:pt x="0" y="624"/>
                </a:moveTo>
                <a:lnTo>
                  <a:pt x="432" y="624"/>
                </a:lnTo>
                <a:lnTo>
                  <a:pt x="1104" y="288"/>
                </a:lnTo>
                <a:lnTo>
                  <a:pt x="1104" y="0"/>
                </a:lnTo>
                <a:lnTo>
                  <a:pt x="1584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300480" y="4829040"/>
            <a:ext cx="2590560" cy="1219320"/>
          </a:xfrm>
          <a:custGeom>
            <a:avLst/>
            <a:gdLst/>
            <a:ahLst/>
            <a:rect l="l" t="t" r="r" b="b"/>
            <a:pathLst>
              <a:path w="1632" h="720">
                <a:moveTo>
                  <a:pt x="0" y="0"/>
                </a:moveTo>
                <a:lnTo>
                  <a:pt x="0" y="720"/>
                </a:lnTo>
                <a:lnTo>
                  <a:pt x="1632" y="72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47840" y="5514840"/>
            <a:ext cx="1905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47840" y="5057640"/>
            <a:ext cx="1905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70240" y="6211800"/>
            <a:ext cx="26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Queue 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rot="16200000">
            <a:off x="2156760" y="532728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137B1-28ED-45A3-9831-FADAC187359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perties of RE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rops packets before queue is ful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 the hope of reducing the rates of some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rops packet in proportion to each flow’s rat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igh-rate flows have more pack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, hence, a higher chance of being select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rops are spaced out in tim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ich should help desynchronize the TCP send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olerant of burstiness in the traffic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y basing the decisions on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averag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queue lengt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6A4D7-C65B-4903-A22F-1F8A6765C24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lems With RE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ard to get the tunable parameters just righ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w early to start dropping packet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at slope for the increase in drop probability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at time scale for averaging the queue length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ometimes RED helps but sometimes no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the parameters aren’t set right, RED doesn’t hel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it is hard to know how to set the paramet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D is implemented in practi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t, often not used due to the challenges of tuning righ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any variations in the research communit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ith cute names like “Blue” and “FRED”… 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58613-40D3-4BC4-956A-AB0F4E53ECE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plicit Congestion Notifi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arly dropping of packe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ood: gives early feedba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ad: has to drop the packet to give the feedba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plicit Congestion Notific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outer marks the packet with an ECN bi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sending host interprets as a sign of conges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urmounting the challeng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ust be supported by the end hosts and the rout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quires two bits in the IP header (one for the ECN mark, and one to indicate the ECN capability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lution: borrow two of the Type-Of-Service bits in the IPv4 packet head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B2E2C-7CFE-4F93-AE5A-57AB1C45FE3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Other TCP Mechanism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gle’s Algorithm and Delayed 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852B2-A25E-4443-AA59-85A2DFD9AF0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ivation for Nagle’s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teractive applica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elnet and rlogi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enerate many small packets (e.g., keystroke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mall packets are wastefu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ostly header (e.g., 40 bytes of header, 1 of data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ppealing to reduce the number of packe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uld force every packet to have some minimum siz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t, what if the person doesn’t type more character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eed to balance competing trade-off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 larger pack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t don’t introduce much delay by wait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4D06C-6CBA-42DD-ADFB-E721917275A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gle’s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ait if the amount of data is smal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maller than Maximum Segment Size (MS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nd some other packet is already in fligh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.e., still awaiting the ACKs for previous pack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at is, send at most one small packet per RT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y waiting until all outstanding ACKs have arriv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fluence on performan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teractive applications: enables batching of byt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lk transfer: transmits in MSS-sized packets anywa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538280" y="4719600"/>
            <a:ext cx="345960" cy="23040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076480" y="4719600"/>
            <a:ext cx="345960" cy="23040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66960" y="4719600"/>
            <a:ext cx="345960" cy="23040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419640" y="4719600"/>
            <a:ext cx="345960" cy="23040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266720" y="461808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10200" y="4719600"/>
            <a:ext cx="345960" cy="23040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992920" y="4719600"/>
            <a:ext cx="652320" cy="24624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991200" y="4719600"/>
            <a:ext cx="346320" cy="23040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302080" y="4335480"/>
            <a:ext cx="730440" cy="345960"/>
          </a:xfrm>
          <a:custGeom>
            <a:avLst/>
            <a:gdLst/>
            <a:ahLst/>
            <a:rect l="l" t="t" r="r" b="b"/>
            <a:pathLst>
              <a:path w="460" h="218">
                <a:moveTo>
                  <a:pt x="0" y="218"/>
                </a:moveTo>
                <a:cubicBezTo>
                  <a:pt x="70" y="109"/>
                  <a:pt x="141" y="0"/>
                  <a:pt x="218" y="0"/>
                </a:cubicBezTo>
                <a:cubicBezTo>
                  <a:pt x="295" y="0"/>
                  <a:pt x="377" y="109"/>
                  <a:pt x="460" y="218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895360" y="411948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7D6F9-83AE-44BD-9370-BA149063645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ivation for Delayed A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CP traffic is often bidirectiona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ata traveling in both direc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CKs traveling in both direc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CK packets have high overhead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40 bytes for the IP header and TCP head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d zero data traffi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iggybacking is appealing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ost B can send an ACK to host 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s part of a data packet from B to 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4A8D3-80FB-43BF-90AA-2811C36BFA1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615960" y="1508040"/>
            <a:ext cx="800100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P Header Allows Piggyback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335400" y="1828800"/>
            <a:ext cx="23619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15200" y="1874880"/>
            <a:ext cx="1497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697360" y="1828800"/>
            <a:ext cx="25146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849280" y="1874880"/>
            <a:ext cx="19638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335400" y="23623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628880" y="2408400"/>
            <a:ext cx="2262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335400" y="28195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630320" y="2865600"/>
            <a:ext cx="228852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knowled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33540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77368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838120" y="3349800"/>
            <a:ext cx="2305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d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265560" y="33526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r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2498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7070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920840" y="3363840"/>
            <a:ext cx="8038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327200" y="3398760"/>
            <a:ext cx="3225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33540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77368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699360" y="3897360"/>
            <a:ext cx="13863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061680" y="3897360"/>
            <a:ext cx="1794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ent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335400" y="434340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780800" y="4389480"/>
            <a:ext cx="21924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335400" y="4800600"/>
            <a:ext cx="4876560" cy="114300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53400" y="27050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507320" y="2739960"/>
            <a:ext cx="74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2B76D-8516-4279-BF60-9DE6993AB0B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 Problem Under Circuit Switch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ource establishes connection to destination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odes reserve resources for the connec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ircuit rejected if the resources aren’t availab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annot have more than the network can hand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5391000" y="5210280"/>
            <a:ext cx="52560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71920" y="4968720"/>
            <a:ext cx="306360" cy="225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525840" y="5208480"/>
            <a:ext cx="449280" cy="47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75120" y="5208480"/>
            <a:ext cx="542880" cy="473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036680" y="5200560"/>
            <a:ext cx="1058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518000" y="5211720"/>
            <a:ext cx="652320" cy="469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933720" y="4746240"/>
            <a:ext cx="825480" cy="406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125520" y="5253120"/>
            <a:ext cx="833400" cy="1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59200" y="4746600"/>
            <a:ext cx="36036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59040" y="5153040"/>
            <a:ext cx="425520" cy="2221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38720" y="5591160"/>
            <a:ext cx="474840" cy="29520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22880" y="5553000"/>
            <a:ext cx="428400" cy="2224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62600" y="5065560"/>
            <a:ext cx="425520" cy="2206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56080" y="4621320"/>
            <a:ext cx="428760" cy="2221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17760" y="5553000"/>
            <a:ext cx="474840" cy="29520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9120" y="5259240"/>
            <a:ext cx="474480" cy="29376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706640" y="5667480"/>
            <a:ext cx="531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391000" y="4906800"/>
            <a:ext cx="533520" cy="227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06760" y="4849920"/>
            <a:ext cx="2587680" cy="379440"/>
          </a:xfrm>
          <a:custGeom>
            <a:avLst/>
            <a:gdLst/>
            <a:ahLst/>
            <a:rect l="l" t="t" r="r" b="b"/>
            <a:pathLst>
              <a:path w="1632" h="240">
                <a:moveTo>
                  <a:pt x="0" y="48"/>
                </a:moveTo>
                <a:lnTo>
                  <a:pt x="288" y="240"/>
                </a:lnTo>
                <a:lnTo>
                  <a:pt x="672" y="0"/>
                </a:lnTo>
                <a:lnTo>
                  <a:pt x="864" y="0"/>
                </a:lnTo>
                <a:lnTo>
                  <a:pt x="1008" y="144"/>
                </a:lnTo>
                <a:lnTo>
                  <a:pt x="1248" y="144"/>
                </a:lnTo>
                <a:lnTo>
                  <a:pt x="1632" y="0"/>
                </a:lnTo>
              </a:path>
            </a:pathLst>
          </a:custGeom>
          <a:noFill/>
          <a:ln w="50760">
            <a:solidFill>
              <a:srgbClr val="f47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766960" y="4214880"/>
            <a:ext cx="785880" cy="887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954760" y="4100400"/>
            <a:ext cx="1182600" cy="1179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916600" y="5253120"/>
            <a:ext cx="473040" cy="29376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DBDC5-95C7-4084-BEE9-E7530C214B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of Piggyback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562200" y="2589120"/>
            <a:ext cx="1603440" cy="2872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3573000" y="3106800"/>
            <a:ext cx="1575000" cy="2998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551400" y="3699000"/>
            <a:ext cx="160020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rot="605400">
            <a:off x="4028400" y="224532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flipV="1" rot="10146600">
            <a:off x="3698280" y="2870280"/>
            <a:ext cx="140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ata+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rot="1044600">
            <a:off x="4257000" y="365328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5148000" y="2381400"/>
            <a:ext cx="4680" cy="38131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534840" y="2397240"/>
            <a:ext cx="34920" cy="37591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388320" y="19292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4680" y="189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3573000" y="4319640"/>
            <a:ext cx="1575000" cy="2998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 flipV="1" rot="10146600">
            <a:off x="3622320" y="4082760"/>
            <a:ext cx="14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3573000" y="4700520"/>
            <a:ext cx="1575000" cy="30024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 flipV="1" rot="10146600">
            <a:off x="3698280" y="4464360"/>
            <a:ext cx="140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573360" y="5199120"/>
            <a:ext cx="160020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rot="1044600">
            <a:off x="3766320" y="5103000"/>
            <a:ext cx="14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 + 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377320" y="2698920"/>
            <a:ext cx="24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has data to 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999000" y="4927680"/>
            <a:ext cx="24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as data to 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161680" y="3992400"/>
            <a:ext cx="356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doesn’t have data to 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DFFAD-D343-420A-8E60-112B72F28CE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reasing Likelihood of Piggyback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5075280" cy="55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crease piggyback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CP allows the receiver to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wait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to send the A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 the hope that the host will have data to sen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ample: rlogin or telne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st A types characters at a UNIX promp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st B receives the character and executes a comman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then data are generat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ould be nice if B could send the ACK with the new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634080" y="2359080"/>
            <a:ext cx="1603440" cy="2872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6644880" y="2876400"/>
            <a:ext cx="1575000" cy="30024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622920" y="3468600"/>
            <a:ext cx="160020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rot="605400">
            <a:off x="7100280" y="201528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 flipV="1" rot="10146600">
            <a:off x="6769800" y="2640240"/>
            <a:ext cx="14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ata+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rot="1044600">
            <a:off x="7329240" y="342288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8219880" y="2151000"/>
            <a:ext cx="4680" cy="38131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6606720" y="2166840"/>
            <a:ext cx="34920" cy="37591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460200" y="1699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026560" y="16610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6644880" y="4089240"/>
            <a:ext cx="1575000" cy="30024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 flipV="1" rot="10146600">
            <a:off x="6693840" y="3853080"/>
            <a:ext cx="14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6644880" y="4470480"/>
            <a:ext cx="1575000" cy="2998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 flipV="1" rot="10146600">
            <a:off x="6770160" y="4233600"/>
            <a:ext cx="14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645240" y="4968720"/>
            <a:ext cx="160020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rot="1044600">
            <a:off x="6837840" y="4872600"/>
            <a:ext cx="14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 + 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838840" y="3773520"/>
            <a:ext cx="2919240" cy="61416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AB5B9-2816-4728-A5A5-2903B391AB0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layed A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lay sending an AC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on receiving a packet, the host B sets a tim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, 200 msec or 500 m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B’s application generates data, go ahead and sen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piggyback the ACK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the timer expires, send a (non-piggybacked) A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imiting the wai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imer of 200 msec or 500 mse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CK every other full-sized pa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D876F-EF20-4B61-B54B-C78C3524971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gestion is inevitab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ternet does not reserve resources in advan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CP actively tries to push the envelop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gestion can be handle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dditive increase, multiplicative decrea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low start, and slow-start restar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ctive Queue Management can help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andom Early Detection (RED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icit Congestion Notification (ECN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undamental tens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eedback from the network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forcement of “TCP friendly” behavior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CE807-0B8D-4364-83C9-676A472C514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P Best-Effort Design Philosoph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22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Best-effort delivery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4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Let everybody send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4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ry to deliver what you ca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4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nd just drop the res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413480" y="5302080"/>
            <a:ext cx="1730520" cy="106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2724120" y="4836960"/>
          <a:ext cx="3608280" cy="206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24120" y="4836960"/>
                    <a:ext cx="3608280" cy="20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 flipV="1">
            <a:off x="1714680" y="5959440"/>
            <a:ext cx="134460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22880" y="5811840"/>
            <a:ext cx="1095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20" y="46530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223760" y="473544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0" y="5084640"/>
            <a:ext cx="1928880" cy="1630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473280" y="5527800"/>
            <a:ext cx="19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089080" y="5421240"/>
            <a:ext cx="326880" cy="457200"/>
            <a:chOff x="2089080" y="5421240"/>
            <a:chExt cx="326880" cy="457200"/>
          </a:xfrm>
        </p:grpSpPr>
        <p:sp>
          <p:nvSpPr>
            <p:cNvPr id="136" name=""/>
            <p:cNvSpPr/>
            <p:nvPr/>
          </p:nvSpPr>
          <p:spPr>
            <a:xfrm>
              <a:off x="2090520" y="5421240"/>
              <a:ext cx="325440" cy="457200"/>
            </a:xfrm>
            <a:prstGeom prst="rect">
              <a:avLst/>
            </a:prstGeom>
            <a:solidFill>
              <a:srgbClr val="777777"/>
            </a:solidFill>
            <a:ln w="381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89080" y="5421240"/>
              <a:ext cx="325440" cy="88920"/>
            </a:xfrm>
            <a:prstGeom prst="rect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584440" y="5425920"/>
            <a:ext cx="326880" cy="457200"/>
            <a:chOff x="2584440" y="5425920"/>
            <a:chExt cx="326880" cy="457200"/>
          </a:xfrm>
        </p:grpSpPr>
        <p:sp>
          <p:nvSpPr>
            <p:cNvPr id="139" name=""/>
            <p:cNvSpPr/>
            <p:nvPr/>
          </p:nvSpPr>
          <p:spPr>
            <a:xfrm>
              <a:off x="2585880" y="5425920"/>
              <a:ext cx="325440" cy="457200"/>
            </a:xfrm>
            <a:prstGeom prst="rect">
              <a:avLst/>
            </a:prstGeom>
            <a:solidFill>
              <a:srgbClr val="777777"/>
            </a:solidFill>
            <a:ln w="381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84440" y="5425920"/>
              <a:ext cx="325440" cy="88920"/>
            </a:xfrm>
            <a:prstGeom prst="rect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438960" y="5280120"/>
            <a:ext cx="326880" cy="457200"/>
            <a:chOff x="6438960" y="5280120"/>
            <a:chExt cx="326880" cy="457200"/>
          </a:xfrm>
        </p:grpSpPr>
        <p:sp>
          <p:nvSpPr>
            <p:cNvPr id="142" name=""/>
            <p:cNvSpPr/>
            <p:nvPr/>
          </p:nvSpPr>
          <p:spPr>
            <a:xfrm>
              <a:off x="6440400" y="5280120"/>
              <a:ext cx="325440" cy="457200"/>
            </a:xfrm>
            <a:prstGeom prst="rect">
              <a:avLst/>
            </a:prstGeom>
            <a:solidFill>
              <a:srgbClr val="777777"/>
            </a:solidFill>
            <a:ln w="381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38960" y="5280120"/>
              <a:ext cx="325440" cy="88920"/>
            </a:xfrm>
            <a:prstGeom prst="rect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9EC12-B18B-41CD-BC3A-D1FAD8AF5C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gestion is Unavoidab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31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19240" indent="-21924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wo packets arrive at the same tim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51880" indent="-21888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node can only transmit on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51880" indent="-21888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d either buffer or drop the oth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19240" indent="-21924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f many packets arrive in short period of tim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51880" indent="-21888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node cannot keep up with the arriving traffi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51880" indent="-21888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d the buffer may eventually overflow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881520" y="4965840"/>
            <a:ext cx="1734840" cy="1193400"/>
            <a:chOff x="3881520" y="4965840"/>
            <a:chExt cx="1734840" cy="1193400"/>
          </a:xfrm>
        </p:grpSpPr>
        <p:sp>
          <p:nvSpPr>
            <p:cNvPr id="147" name=""/>
            <p:cNvSpPr/>
            <p:nvPr/>
          </p:nvSpPr>
          <p:spPr>
            <a:xfrm>
              <a:off x="3922200" y="4965840"/>
              <a:ext cx="1694160" cy="1193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46080" y="5030640"/>
              <a:ext cx="1039680" cy="1107360"/>
            </a:xfrm>
            <a:custGeom>
              <a:avLst/>
              <a:gdLst/>
              <a:ahLst/>
              <a:rect l="l" t="t" r="r" b="b"/>
              <a:pathLst>
                <a:path w="855" h="390">
                  <a:moveTo>
                    <a:pt x="0" y="0"/>
                  </a:moveTo>
                  <a:lnTo>
                    <a:pt x="855" y="0"/>
                  </a:lnTo>
                  <a:lnTo>
                    <a:pt x="855" y="390"/>
                  </a:lnTo>
                  <a:lnTo>
                    <a:pt x="45" y="39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81520" y="5030640"/>
              <a:ext cx="664560" cy="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918960" y="6138360"/>
              <a:ext cx="659520" cy="5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77040" y="5199480"/>
              <a:ext cx="144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366160" y="5199480"/>
              <a:ext cx="18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255640" y="5199480"/>
              <a:ext cx="144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44400" y="5178600"/>
              <a:ext cx="144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33520" y="5178600"/>
              <a:ext cx="324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21200" y="5178600"/>
              <a:ext cx="468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53600" y="5563440"/>
              <a:ext cx="710640" cy="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344680" y="4465800"/>
            <a:ext cx="1575000" cy="844560"/>
          </a:xfrm>
          <a:custGeom>
            <a:avLst/>
            <a:gdLst/>
            <a:ahLst/>
            <a:rect l="l" t="t" r="r" b="b"/>
            <a:pathLst>
              <a:path w="992" h="532">
                <a:moveTo>
                  <a:pt x="0" y="0"/>
                </a:moveTo>
                <a:cubicBezTo>
                  <a:pt x="123" y="173"/>
                  <a:pt x="246" y="346"/>
                  <a:pt x="411" y="435"/>
                </a:cubicBezTo>
                <a:cubicBezTo>
                  <a:pt x="576" y="524"/>
                  <a:pt x="784" y="528"/>
                  <a:pt x="992" y="532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344680" y="5772240"/>
            <a:ext cx="1575000" cy="844560"/>
          </a:xfrm>
          <a:custGeom>
            <a:avLst/>
            <a:gdLst/>
            <a:ahLst/>
            <a:rect l="l" t="t" r="r" b="b"/>
            <a:pathLst>
              <a:path w="992" h="532">
                <a:moveTo>
                  <a:pt x="0" y="0"/>
                </a:moveTo>
                <a:cubicBezTo>
                  <a:pt x="123" y="173"/>
                  <a:pt x="246" y="346"/>
                  <a:pt x="411" y="435"/>
                </a:cubicBezTo>
                <a:cubicBezTo>
                  <a:pt x="576" y="524"/>
                  <a:pt x="784" y="528"/>
                  <a:pt x="992" y="532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06520" y="5541840"/>
            <a:ext cx="16131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608800" y="5541840"/>
            <a:ext cx="1612800" cy="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829BA-F83E-45E7-9184-285A2A4F3C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Problem of Conges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at is congestion?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oad is higher than capac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at do IP routers do?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rop the excess packe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y is this bad?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asted bandwidth for retransmiss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620720" y="4657680"/>
            <a:ext cx="0" cy="169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33680" y="6357960"/>
            <a:ext cx="2358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20280" y="6350040"/>
            <a:ext cx="750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7080" y="5210280"/>
            <a:ext cx="1148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ood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1633680" y="5200200"/>
            <a:ext cx="963360" cy="1157400"/>
          </a:xfrm>
          <a:prstGeom prst="line">
            <a:avLst/>
          </a:prstGeom>
          <a:ln w="5076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"/>
          <p:cNvCxnSpPr/>
          <p:nvPr/>
        </p:nvCxnSpPr>
        <p:spPr>
          <a:xfrm flipH="1" rot="16200000">
            <a:off x="2581920" y="5235840"/>
            <a:ext cx="1092960" cy="1069200"/>
          </a:xfrm>
          <a:prstGeom prst="curvedConnector5">
            <a:avLst>
              <a:gd name="adj1" fmla="val -14958"/>
              <a:gd name="adj2" fmla="val 49983"/>
              <a:gd name="adj3" fmla="val -14958"/>
            </a:avLst>
          </a:prstGeom>
          <a:ln w="50760">
            <a:solidFill>
              <a:srgbClr val="f47a00"/>
            </a:solidFill>
            <a:miter/>
          </a:ln>
        </p:spPr>
      </p:cxnSp>
      <p:sp>
        <p:nvSpPr>
          <p:cNvPr id="170" name=""/>
          <p:cNvSpPr/>
          <p:nvPr/>
        </p:nvSpPr>
        <p:spPr>
          <a:xfrm>
            <a:off x="3533760" y="5111640"/>
            <a:ext cx="136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laps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02080" y="5157720"/>
            <a:ext cx="3330720" cy="11912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crease in load that results in a decrease in useful work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4B96A-8BA6-4AF1-98A5-18DBC325D0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ys to Deal With Conges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gnore the proble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ny dropped (and retransmitted) pack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n cause congestion collap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servations, like in circuit switch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-arrange bandwidth alloca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quires negotiation before sending pack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ic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n’t drop packets for the high-bidd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quires a payment mod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ynamic adjustment (TCP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very sender infers the level of conges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adapts its sending rate, for the greater goo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D39B2-E223-4645-9295-C6AA4C4B9C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y Important Ques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does the sender know there is congestion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icit feedback from the network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ference based on network performance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should the sender adapt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icit sending rate computed by the network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d host coordinates with other host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d host thinks globally but acts locally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is the performance objective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ximizing goodput, even if some users suffer more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airness?  (Whatever the heck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that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means!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fast should new TCP senders send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1FE32-661A-4F8B-AAEE-EEECF5EB48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14:58:21Z</dcterms:created>
  <dc:creator>Kai Li</dc:creator>
  <dc:description/>
  <dc:language>en-US</dc:language>
  <cp:lastModifiedBy>Jennifer Rexford</cp:lastModifiedBy>
  <dcterms:modified xsi:type="dcterms:W3CDTF">2007-02-21T15:06:30Z</dcterms:modified>
  <cp:revision>1298</cp:revision>
  <dc:subject/>
  <dc:title>Communication</dc:title>
</cp:coreProperties>
</file>