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99B5CF1-D706-4100-9D42-E4DEE5EB9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89D0F4E-8B9D-4D96-88A0-0F9DC86D70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23E4A7-7518-4BAF-B831-79D6E7AB4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7D2B704-92C7-48E0-ABC9-D6B381FA1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6C8A061-03E0-4EB4-B7E0-64922548A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94ECE83-3239-4064-BC81-B556A15D3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7518E2-B53B-42F9-8ADA-D61AAABCC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7103-4171-477B-8D4B-7F6957C31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C258-47C5-46F6-8469-760F2EE48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CA7E-5312-4A83-A4BA-160E89E72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6CD9-902A-4724-804D-1F65F6262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2B3E-088E-4CB4-A259-8B56EEE069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C786-CE82-4D78-BFF9-96ED8AE79E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3542-5197-47F6-A9E2-17C6EB2998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FBB5-151F-4DEC-9C7F-9A1CF9B45C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336C-AEA6-4DA7-AA0B-4EF7303BDE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1703-C10C-40C4-BA48-24FF12108B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A9FB-874B-45A9-823E-789C48DE6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0740-67F4-4A0B-9612-F6BA59FC1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7BCA-A733-4162-8021-717E87B8E1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A2D2-8C51-4EC5-9860-6AEDA10186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09AB-9087-4371-A513-35044E614E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75EA-89C5-40C5-B5C6-8803ED0C0C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501B-E345-492B-9F9D-2EF75C76C5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820C-64AB-46E9-B4B4-4A90A2BEF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BEE8-131A-4F61-A0F1-46019ACCC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824D-67C9-4C0E-9B8B-695E79D8C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A632-8A0E-4E3C-A0B3-E82184D71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584B-3B51-4069-A2E6-7CBF9B5C5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B21C-C752-40E9-90B5-EFC60CE43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56F5-1C49-4622-9B1F-9202407F2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CE58-CED5-47B9-AE24-E532B1999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4EF4-7C13-4E89-9556-982A46842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319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6.1-6.4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4350960"/>
            <a:ext cx="7680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7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52840" y="49320"/>
            <a:ext cx="3724200" cy="31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88FE2-35EA-4307-B948-8D9FFE902F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erring From Implicit Feedb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loud"/>
          <p:cNvSpPr/>
          <p:nvPr/>
        </p:nvSpPr>
        <p:spPr>
          <a:xfrm>
            <a:off x="2421000" y="1700280"/>
            <a:ext cx="4262400" cy="2855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9880" y="24685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flipH="1">
            <a:off x="-360" y="250668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14600" y="2968560"/>
            <a:ext cx="88416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84840" y="2968560"/>
            <a:ext cx="88452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89320" y="269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urier New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773240"/>
            <a:ext cx="84582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oes the end host se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can the end host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F765-2312-4BE8-B931-4508A4C86C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Congestion Happens: Lin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resource allocation: FIFO queue &amp; drop-tai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k bandwidth: first-in first-out que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transmitted in the order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 space: drop-tail queu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queue is full, drop the incoming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8300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197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579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436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6600" y="3198960"/>
            <a:ext cx="53640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6600" y="3198960"/>
            <a:ext cx="53676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6480" y="31971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30560" y="3192480"/>
            <a:ext cx="1919160" cy="352440"/>
          </a:xfrm>
          <a:custGeom>
            <a:avLst/>
            <a:gdLst/>
            <a:ahLst/>
            <a:rect l="l" t="t" r="r" b="b"/>
            <a:pathLst>
              <a:path w="1209" h="222">
                <a:moveTo>
                  <a:pt x="0" y="197"/>
                </a:moveTo>
                <a:cubicBezTo>
                  <a:pt x="81" y="98"/>
                  <a:pt x="162" y="0"/>
                  <a:pt x="363" y="4"/>
                </a:cubicBezTo>
                <a:cubicBezTo>
                  <a:pt x="564" y="8"/>
                  <a:pt x="886" y="115"/>
                  <a:pt x="1209" y="22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31120" y="35053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30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197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579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9436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660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066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06480" y="55767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31120" y="58849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38280" y="5388120"/>
            <a:ext cx="1036800" cy="1036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52760" y="5234040"/>
            <a:ext cx="806400" cy="1228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899E-C32E-448F-B523-A979E67EAC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t Looks to the En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dela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experiences high 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los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gets dropped along the w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6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es TCP sender learn this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-trip time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-duplicate acknowle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22D5-FF1D-4FDF-9ECB-54B58E164D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Can the End Host D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the sending rate (e.g., divide in half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does its part to alleviate the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what if conditions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there is more bandwidth avail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a shame to stay at a low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the sending rate, a little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e if the packets are successfully deliver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BEFB-48F7-4200-BA96-84FFF9BA74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Congestion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CP sender maintains a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um number of bytes to have in trans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number of bytes still awaiting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apt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upon losing a packet: backing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upon success: optimistically explo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ways struggling to find the right transfer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oth good and b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: avoids having explicit feedback from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: under-shooting and over-shooting the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4455-C90B-4586-AED4-4B6234AE23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ve Increase, Multiplicative Decr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much to increase and decreas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linearly, decrease multiplicative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necessary condition for stability of 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equences of over-sized window are much worse than having an under-sized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sized window: packets dropped and retrans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-sized window: somewhat lower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icative de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loss of packet, divide congestion window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itive in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success for last window of data, increase linear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A5F1-5144-4F1A-A45F-FBE15FB937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ds to the TCP “Sawtooth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286000"/>
            <a:ext cx="7010280" cy="312408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429000"/>
            <a:ext cx="7162920" cy="198108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240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0960" y="1752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54760" y="446580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93720" y="266076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A11D-F057-4912-8BF2-8136799DCD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Detai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resented in bytes, not in packets (Why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have MSS (Maximum Segment Size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by MSS on success for last window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ver drop congestion window below 1 M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38A8-F35F-4DB6-9178-CC77F98754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 Window vs. Congestion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st sen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whelming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 slow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et of send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loading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concepts, but similar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flow control: receiver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congestion control: congestion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window: min{congestion window, receiver window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FC04-F5FB-41E7-815C-1044D53990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Should a New Flow St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2712960"/>
            <a:ext cx="7010280" cy="312444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855960"/>
            <a:ext cx="7162920" cy="198144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24040" y="576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0960" y="2179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38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69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469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34750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37036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9415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322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33987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66920" y="5661000"/>
            <a:ext cx="2343240" cy="609480"/>
          </a:xfrm>
          <a:prstGeom prst="wedgeRectCallout">
            <a:avLst>
              <a:gd name="adj1" fmla="val -64972"/>
              <a:gd name="adj2" fmla="val -111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t, could take a long time to get start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1040" y="1278000"/>
            <a:ext cx="82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eed to start with a small CWND to avoid overloading the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0654-6651-4378-A933-862C595E8C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rse Announc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programming assignment is pos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b proxy 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Friday March 9 at 6p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hallenging than the first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day’s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oannis Avramopoulos will l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on the first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view of the second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cture on Web Content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od to get started on the next assign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make the most of Monday’s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go to office hours early if you encounter probl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9A90-FF1A-4E34-A6EA-792755EBC3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” Ph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art with a small congestion window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itially, CWND is 1 Max Segment Size (MS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, initial sending rate is MSS/RT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at could be pretty wastefu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ght be much less than the actual bandwid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near increase takes a long time to acceler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low-start phase (really “fast start”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nder starts at a slow rate (hence the nam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t increases the rate exponential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til the first loss ev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B886-FBBA-4156-AE77-E5063D87B2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in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73360" y="1238400"/>
            <a:ext cx="55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WND per round-trip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886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5715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382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2670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3889080"/>
            <a:ext cx="989280" cy="18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4008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7816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486400" y="3659040"/>
            <a:ext cx="792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52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365904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9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86600" y="3962520"/>
            <a:ext cx="30492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9152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240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77320" y="3886200"/>
            <a:ext cx="304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7240" y="45608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53200" y="457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060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54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0720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1212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8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142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07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5984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508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6952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360" y="358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60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4480" y="3886200"/>
            <a:ext cx="838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75960" y="44640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162920" y="3886200"/>
            <a:ext cx="9903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50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6160" y="3324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64080" y="3336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1480" y="3349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8880" y="3362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B95D-89CF-44BF-BE63-C5807CE779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and the TCP Sawtoo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873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3200" y="2330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2558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1797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02360" y="22575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45360" y="2333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01840" y="1935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244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52760" y="4892760"/>
            <a:ext cx="2209680" cy="609480"/>
          </a:xfrm>
          <a:prstGeom prst="wedgeRectCallout">
            <a:avLst>
              <a:gd name="adj1" fmla="val -38074"/>
              <a:gd name="adj2" fmla="val -1234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onential “slow star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24040" y="4768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360" y="133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3280" y="5502240"/>
            <a:ext cx="70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y is it called slow-start? Because TCP originally h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gestion control mechanism. The source would ju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 by sending a whole receiver window’s worth of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711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02360" y="3171960"/>
            <a:ext cx="1600200" cy="99036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416560" y="309528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10080" y="2711520"/>
            <a:ext cx="6480" cy="10666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9E42-EAF6-4BDE-9A15-4068C224A9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Kinds of Loss in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 and detected via a time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ecause all packets in flight were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the timeout, blasting away for the entire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trigger a very large burst in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o, better to start over with a low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iple duplicate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, but packets n+1, n+2, etc.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sends duplicate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retransmits packet n quick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o a multiplicative decrease and keep go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CD37-1084-4059-A3EF-92D7A7A1D1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eating Slow Start After Timeo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035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406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4040" y="4930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360" y="1501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4120" y="5656320"/>
            <a:ext cx="78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-start restart: Go back to CWND of 1, but take advantage of knowing the previous value of CW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2873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0" y="3173400"/>
            <a:ext cx="1600200" cy="99072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3863880"/>
            <a:ext cx="914400" cy="99072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72200" y="317772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2873520"/>
            <a:ext cx="0" cy="19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4549680"/>
            <a:ext cx="2514600" cy="914400"/>
          </a:xfrm>
          <a:prstGeom prst="wedgeRectCallout">
            <a:avLst>
              <a:gd name="adj1" fmla="val -64708"/>
              <a:gd name="adj2" fmla="val -4513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ow start in operation until it reaches half of previous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w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532120" y="2354400"/>
            <a:ext cx="384120" cy="511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146640" y="2481120"/>
            <a:ext cx="268560" cy="1306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6560" y="181620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ABF2-9252-4A49-86AD-854B80E5F2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Slow Start After Idle Peri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a TCP connection goes idle for a wh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net session where you don’t type for an h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the network conditions cha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many more flows are traversing the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maybe everybody has come back from lunch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ngerous to start transmitting at the old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iously-idle TCP sender might blast the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using excessive congestion and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some TCP implementations repeat slow sta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-start restart after an idle peri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26EC-3E31-4AC2-9318-EECB692066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Achieves Some Notion of Fair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ective utilization is not the only go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also want to b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i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he various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what the heck does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definition: equal shares of the bandwid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flows that each get 1/N of the bandwid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flows traverse different path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andwidth shared in proportion to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129200" y="4927680"/>
            <a:ext cx="1074240" cy="535680"/>
            <a:chOff x="4129200" y="4927680"/>
            <a:chExt cx="1074240" cy="535680"/>
          </a:xfrm>
        </p:grpSpPr>
        <p:sp>
          <p:nvSpPr>
            <p:cNvPr id="352" name=""/>
            <p:cNvSpPr/>
            <p:nvPr/>
          </p:nvSpPr>
          <p:spPr>
            <a:xfrm>
              <a:off x="415440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996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920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5188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74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90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806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122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438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7252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3540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22960" y="4927680"/>
            <a:ext cx="1074240" cy="535680"/>
            <a:chOff x="6222960" y="4927680"/>
            <a:chExt cx="1074240" cy="535680"/>
          </a:xfrm>
        </p:grpSpPr>
        <p:sp>
          <p:nvSpPr>
            <p:cNvPr id="364" name=""/>
            <p:cNvSpPr/>
            <p:nvPr/>
          </p:nvSpPr>
          <p:spPr>
            <a:xfrm>
              <a:off x="624816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3372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2296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564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111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27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43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059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375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6628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916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036880" y="4925880"/>
            <a:ext cx="1074240" cy="536400"/>
            <a:chOff x="2036880" y="4925880"/>
            <a:chExt cx="1074240" cy="536400"/>
          </a:xfrm>
        </p:grpSpPr>
        <p:sp>
          <p:nvSpPr>
            <p:cNvPr id="376" name=""/>
            <p:cNvSpPr/>
            <p:nvPr/>
          </p:nvSpPr>
          <p:spPr>
            <a:xfrm>
              <a:off x="2062080" y="4925880"/>
              <a:ext cx="10490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47640" y="4954680"/>
              <a:ext cx="645480" cy="495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6880" y="4954680"/>
              <a:ext cx="410760" cy="2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9560" y="5450040"/>
              <a:ext cx="405000" cy="12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250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66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882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198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14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80200" y="5020920"/>
              <a:ext cx="252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43080" y="5193000"/>
              <a:ext cx="441000" cy="2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192320" y="5157720"/>
            <a:ext cx="7143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76400" y="522432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38840" y="526896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C3D9-04D9-4EE4-8E44-464F5AD452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bout Cheat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 folks are more fair than oth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ning multiple TCP connections in parall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difying the TCP implementation in the 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the User Datagram Protoc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impa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 guys slow down to make room for yo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get an unfair share of the bandwid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ssible solution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 detect cheating and drop excess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er pressu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22F3-F2BE-49A1-B082-C3F2FB3445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Queuing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845640" y="3886200"/>
            <a:ext cx="7796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ngestion Notification (E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B277-89AD-4A84-8C10-677B19EF74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sty Loss From Drop-Tail Queu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depends on packet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loss is the indicatio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fact, TCP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driv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e network into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continuing to increase the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-tail queuing leads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urst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a link becomes congested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arriving packets encounter a full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as a result, many flows divide sending rate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many individual flows lose multipl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66920" y="5272200"/>
            <a:ext cx="4147920" cy="1344240"/>
            <a:chOff x="2266920" y="5272200"/>
            <a:chExt cx="4147920" cy="1344240"/>
          </a:xfrm>
        </p:grpSpPr>
        <p:grpSp>
          <p:nvGrpSpPr>
            <p:cNvPr id="397" name=""/>
            <p:cNvGrpSpPr/>
            <p:nvPr/>
          </p:nvGrpSpPr>
          <p:grpSpPr>
            <a:xfrm>
              <a:off x="3596040" y="5584680"/>
              <a:ext cx="1464120" cy="745920"/>
              <a:chOff x="3596040" y="5584680"/>
              <a:chExt cx="1464120" cy="745920"/>
            </a:xfrm>
          </p:grpSpPr>
          <p:sp>
            <p:nvSpPr>
              <p:cNvPr id="398" name=""/>
              <p:cNvSpPr/>
              <p:nvPr/>
            </p:nvSpPr>
            <p:spPr>
              <a:xfrm>
                <a:off x="3630600" y="558468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56920" y="562536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96040" y="562536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27360" y="631764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9424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48480" y="573048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52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61640" y="571752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68040" y="571752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73360" y="571752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41480" y="595836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2298960" y="527220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298960" y="608868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66920" y="594468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53680" y="594468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F92D-8397-4B65-9F03-C9E470F2AF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n IP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voidable due to best-effort service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hilosophy: decentralized control at end 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 by the TCP send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s congestion is occurring (e.g., from packet loss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s down to alleviate congestion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congestion-control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-increase, multiplicative-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(AQM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E626-5465-4C3E-AD2C-011A56ED6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Feedback from Drop Tai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edback comes when buffer is completely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 though the buffer has been filling for a 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us, the filling buffer is increasing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variance in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ght be better to give early feedb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one or two connections to slow down, not all of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these connections to slow down before it i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66920" y="5079960"/>
            <a:ext cx="4147920" cy="1344240"/>
            <a:chOff x="2266920" y="5079960"/>
            <a:chExt cx="4147920" cy="1344240"/>
          </a:xfrm>
        </p:grpSpPr>
        <p:grpSp>
          <p:nvGrpSpPr>
            <p:cNvPr id="416" name=""/>
            <p:cNvGrpSpPr/>
            <p:nvPr/>
          </p:nvGrpSpPr>
          <p:grpSpPr>
            <a:xfrm>
              <a:off x="3596040" y="5392440"/>
              <a:ext cx="1464120" cy="745920"/>
              <a:chOff x="3596040" y="5392440"/>
              <a:chExt cx="1464120" cy="745920"/>
            </a:xfrm>
          </p:grpSpPr>
          <p:sp>
            <p:nvSpPr>
              <p:cNvPr id="417" name=""/>
              <p:cNvSpPr/>
              <p:nvPr/>
            </p:nvSpPr>
            <p:spPr>
              <a:xfrm>
                <a:off x="3630600" y="539244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156920" y="543312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96040" y="543312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27360" y="612540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9424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8480" y="553824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52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61640" y="55252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68040" y="552528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73360" y="552528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41480" y="576612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298960" y="507996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8960" y="589644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66920" y="575244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53680" y="575244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A2CC-FEB8-44DE-8A51-2E30E11898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sic idea of 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notices that the queue is getting backlogg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andomly drops packets to signal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drop prob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op probability increases as queue length incre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uffer is below some level, don’t drop anyt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wise, set drop probability as function of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00480" y="5057640"/>
            <a:ext cx="2514600" cy="990720"/>
          </a:xfrm>
          <a:custGeom>
            <a:avLst/>
            <a:gdLst/>
            <a:ahLst/>
            <a:rect l="l" t="t" r="r" b="b"/>
            <a:pathLst>
              <a:path w="1584" h="624">
                <a:moveTo>
                  <a:pt x="0" y="624"/>
                </a:moveTo>
                <a:lnTo>
                  <a:pt x="432" y="624"/>
                </a:lnTo>
                <a:lnTo>
                  <a:pt x="1104" y="288"/>
                </a:lnTo>
                <a:lnTo>
                  <a:pt x="1104" y="0"/>
                </a:lnTo>
                <a:lnTo>
                  <a:pt x="1584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00480" y="4829040"/>
            <a:ext cx="2590560" cy="121932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0" y="720"/>
                </a:lnTo>
                <a:lnTo>
                  <a:pt x="1632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7840" y="55148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47840" y="50576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0240" y="62118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2156760" y="53272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8453-9C6A-449F-BA93-052F92B3EF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s before queue is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of reducing the rates of som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 in proportion to each flow’s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-rate flows have mor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hence, a higher chance of being selec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are spaced out in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should help desynchronize the TCP sen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lerant of burstiness in the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basing the decisions on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queue leng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7473-0976-4DDD-923E-D641D844FA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s With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rd to get the tunable parameters just r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early to start dropping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slope for the increase in drop probabilit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time scale for averaging the queue leng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times RED helps but sometimes n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parameters aren’t set right, RED doesn’t hel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it is hard to know how to set the parame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D is implemented in pract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often not used due to the challenges of tuning r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y variations in the research commun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cute names like “Blue” and “FRED”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96D6-6165-4B6E-900F-F4ACCA524E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Congestion No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rly dropping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: gives early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d: has to drop the packet to give the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licit Congestion Notif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marks the packet with an ECN b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ing host interprets as a sig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rmounting the challe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st be supported by the end hosts and the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two bits in the IP header (one for the ECN mark, and one to indicate the ECN capabili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borrow two of the Type-Of-Service bits in the IPv4 packet hea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62D6-5D1B-4700-87D1-3F93E069BE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ther TCP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le’s Algorithm and Delayed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B115-C27B-4F27-89FB-007C3BAAFB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ve 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net and rlog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rate many small packets (e.g., keystrok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s are wastefu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ly header (e.g., 40 bytes of header, 1 of dat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ealing to reduce the number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force every packet to have some minimum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person doesn’t type more characte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balance competing trade-off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larger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don’t introduce much delay by wai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57F7-ACBC-4509-AA22-34E5F86B7E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it if the amount of data is sm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aller than Maximum Segment Size (M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some other packet is already in fl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still awaiting the ACKs for previous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at is, send at most one small packet per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waiting until all outstanding ACKs hav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luence on perform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active applications: enables batching of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lk transfer: transmits in MSS-sized packets any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382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764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6696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1964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66720" y="4618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1020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92920" y="4719600"/>
            <a:ext cx="652320" cy="2462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91200" y="4719600"/>
            <a:ext cx="34632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02080" y="4335480"/>
            <a:ext cx="730440" cy="345960"/>
          </a:xfrm>
          <a:custGeom>
            <a:avLst/>
            <a:gdLst/>
            <a:ahLst/>
            <a:rect l="l" t="t" r="r" b="b"/>
            <a:pathLst>
              <a:path w="460" h="218">
                <a:moveTo>
                  <a:pt x="0" y="218"/>
                </a:moveTo>
                <a:cubicBezTo>
                  <a:pt x="70" y="109"/>
                  <a:pt x="141" y="0"/>
                  <a:pt x="218" y="0"/>
                </a:cubicBezTo>
                <a:cubicBezTo>
                  <a:pt x="295" y="0"/>
                  <a:pt x="377" y="109"/>
                  <a:pt x="460" y="21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95360" y="4119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A503-13C6-4BAE-981B-2CBA134897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CP traffic is often bidirectiona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Ks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K packets have high overhea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0 bytes for the IP header and TCP hea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zero data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iggybacking is appeal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st B can send an ACK to host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part of a data packet from B to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953F-0D94-4FA0-8012-76B5D93D84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Allows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30320" y="2865600"/>
            <a:ext cx="22885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3745-7D10-4216-B708-E237055E03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Problem Under Circuit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urce establishes connection to destin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des reserve resources for the conn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ircuit rejected if the resources aren’t avail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not have more than the network can hand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391000" y="5210280"/>
            <a:ext cx="52560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71920" y="4968720"/>
            <a:ext cx="306360" cy="22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25840" y="5208480"/>
            <a:ext cx="44928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75120" y="5208480"/>
            <a:ext cx="542880" cy="47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36680" y="520056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518000" y="5211720"/>
            <a:ext cx="65232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33720" y="4746240"/>
            <a:ext cx="82548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25520" y="5253120"/>
            <a:ext cx="8334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9200" y="4746600"/>
            <a:ext cx="36036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9040" y="51530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8720" y="559116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2880" y="55530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2600" y="506556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56080" y="4621320"/>
            <a:ext cx="4287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7760" y="555300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9120" y="525924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06640" y="5667480"/>
            <a:ext cx="53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91000" y="4906800"/>
            <a:ext cx="53352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760" y="4849920"/>
            <a:ext cx="2587680" cy="37944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48"/>
                </a:moveTo>
                <a:lnTo>
                  <a:pt x="288" y="240"/>
                </a:lnTo>
                <a:lnTo>
                  <a:pt x="672" y="0"/>
                </a:lnTo>
                <a:lnTo>
                  <a:pt x="864" y="0"/>
                </a:lnTo>
                <a:lnTo>
                  <a:pt x="1008" y="144"/>
                </a:lnTo>
                <a:lnTo>
                  <a:pt x="1248" y="144"/>
                </a:lnTo>
                <a:lnTo>
                  <a:pt x="1632" y="0"/>
                </a:lnTo>
              </a:path>
            </a:pathLst>
          </a:custGeom>
          <a:noFill/>
          <a:ln w="5076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66960" y="4214880"/>
            <a:ext cx="785880" cy="88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954760" y="4100400"/>
            <a:ext cx="1182600" cy="117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16600" y="5253120"/>
            <a:ext cx="4730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6E45-439D-4F66-800F-1714CAC11E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2200" y="258912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573000" y="310680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51400" y="36990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605400">
            <a:off x="4028400" y="22453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 rot="10146600">
            <a:off x="3698280" y="287028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044600">
            <a:off x="4257000" y="365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148000" y="23814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534840" y="23972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88320" y="192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4680" y="189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73000" y="431964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 rot="10146600">
            <a:off x="3622320" y="40827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73000" y="470052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 rot="10146600">
            <a:off x="3698280" y="446436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73360" y="51991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044600">
            <a:off x="3766320" y="5103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7320" y="26989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99000" y="49276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61680" y="3992400"/>
            <a:ext cx="35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doesn’t have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8008-E470-4BB3-8AA7-F0D811D2CE9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Likelihood of Piggyba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5075280" cy="55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 piggyback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llows the receiver t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send th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that the host will have data to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: rlogin or tel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types characters at a UNIX promp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ceives the character and executes a comm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data are genera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nice if B could send the ACK with the new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34080" y="235908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644880" y="287640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2920" y="34686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605400">
            <a:off x="7100280" y="2015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 rot="10146600">
            <a:off x="6769800" y="264024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044600">
            <a:off x="7329240" y="34228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8219880" y="21510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606720" y="21668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60200" y="169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026560" y="1661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644880" y="408924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 rot="10146600">
            <a:off x="6693840" y="385308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644880" y="447048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 rot="10146600">
            <a:off x="6770160" y="42336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45240" y="49687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44600">
            <a:off x="6837840" y="48726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38840" y="3773520"/>
            <a:ext cx="2919240" cy="614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456C-C242-4C02-8F79-F2BFC0BDC1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sending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packet, the host B sets a tim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200 msec or 500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’s application generates data, go ahead and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iggyback the ACK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timer expires, send a (non-piggybacked)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ing the wa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 of 200 msec or 500 mse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every other full-sized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00D9-8E24-4A3D-BAD3-4D67BC9CAB1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s inevi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 does not reserve resources in adv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ctively tries to push the envelop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an be handl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 increase, multiplicative 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,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can hel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ndamental ten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forcement of “TCP friendly” behavio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E459-A9EA-4158-9CF8-B4020B4DD0A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Best-Effort Design Philosop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est-effort delivery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t everybody se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y to deliver what you c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d just drop the re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13480" y="5302080"/>
            <a:ext cx="173052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724120" y="4836960"/>
          <a:ext cx="3608280" cy="206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836960"/>
                    <a:ext cx="360828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flipV="1">
            <a:off x="1714680" y="595944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581184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0" y="4653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23760" y="47354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508464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73280" y="552780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89080" y="5421240"/>
            <a:ext cx="326880" cy="457200"/>
            <a:chOff x="2089080" y="5421240"/>
            <a:chExt cx="326880" cy="457200"/>
          </a:xfrm>
        </p:grpSpPr>
        <p:sp>
          <p:nvSpPr>
            <p:cNvPr id="136" name=""/>
            <p:cNvSpPr/>
            <p:nvPr/>
          </p:nvSpPr>
          <p:spPr>
            <a:xfrm>
              <a:off x="2090520" y="542124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89080" y="542124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84440" y="5425920"/>
            <a:ext cx="326880" cy="457200"/>
            <a:chOff x="2584440" y="5425920"/>
            <a:chExt cx="326880" cy="457200"/>
          </a:xfrm>
        </p:grpSpPr>
        <p:sp>
          <p:nvSpPr>
            <p:cNvPr id="139" name=""/>
            <p:cNvSpPr/>
            <p:nvPr/>
          </p:nvSpPr>
          <p:spPr>
            <a:xfrm>
              <a:off x="2585880" y="54259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84440" y="54259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38960" y="5280120"/>
            <a:ext cx="326880" cy="457200"/>
            <a:chOff x="6438960" y="5280120"/>
            <a:chExt cx="326880" cy="457200"/>
          </a:xfrm>
        </p:grpSpPr>
        <p:sp>
          <p:nvSpPr>
            <p:cNvPr id="142" name=""/>
            <p:cNvSpPr/>
            <p:nvPr/>
          </p:nvSpPr>
          <p:spPr>
            <a:xfrm>
              <a:off x="6440400" y="52801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8960" y="52801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385C-DBFF-4101-87BC-3B81779E25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estion is Unavoid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wo packets arrive at the same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 only transmit 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either buffer or drop the 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f many packets arrive in short period of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not keep up with the arriving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the buffer may eventually over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81520" y="4965840"/>
            <a:ext cx="1734840" cy="1193400"/>
            <a:chOff x="3881520" y="4965840"/>
            <a:chExt cx="1734840" cy="1193400"/>
          </a:xfrm>
        </p:grpSpPr>
        <p:sp>
          <p:nvSpPr>
            <p:cNvPr id="147" name=""/>
            <p:cNvSpPr/>
            <p:nvPr/>
          </p:nvSpPr>
          <p:spPr>
            <a:xfrm>
              <a:off x="3922200" y="4965840"/>
              <a:ext cx="1694160" cy="1193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46080" y="5030640"/>
              <a:ext cx="1039680" cy="1107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1520" y="5030640"/>
              <a:ext cx="664560" cy="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18960" y="6138360"/>
              <a:ext cx="659520" cy="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70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66160" y="5199480"/>
              <a:ext cx="18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56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4400" y="517860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33520" y="5178600"/>
              <a:ext cx="32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21200" y="5178600"/>
              <a:ext cx="46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3600" y="5563440"/>
              <a:ext cx="7106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344680" y="446580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44680" y="577224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6520" y="5541840"/>
            <a:ext cx="16131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08800" y="5541840"/>
            <a:ext cx="161280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32E8-0A31-43C7-B42E-B0BD66C63C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blem of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congestion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ad is higher than capac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o IP routers do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rop the excess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this bad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asted bandwidth for retransmis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20720" y="4657680"/>
            <a:ext cx="0" cy="16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3680" y="6357960"/>
            <a:ext cx="23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20280" y="6350040"/>
            <a:ext cx="75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7080" y="5210280"/>
            <a:ext cx="1148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33680" y="5200200"/>
            <a:ext cx="963360" cy="1157400"/>
          </a:xfrm>
          <a:prstGeom prst="line">
            <a:avLst/>
          </a:prstGeom>
          <a:ln w="507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/>
          <p:nvPr/>
        </p:nvCxnSpPr>
        <p:spPr>
          <a:xfrm flipH="1" rot="16200000">
            <a:off x="2581920" y="5235840"/>
            <a:ext cx="1092960" cy="1069200"/>
          </a:xfrm>
          <a:prstGeom prst="curvedConnector5">
            <a:avLst>
              <a:gd name="adj1" fmla="val -14958"/>
              <a:gd name="adj2" fmla="val 49983"/>
              <a:gd name="adj3" fmla="val -14958"/>
            </a:avLst>
          </a:prstGeom>
          <a:ln w="50760">
            <a:solidFill>
              <a:srgbClr val="f47a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3533760" y="5111640"/>
            <a:ext cx="13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p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5157720"/>
            <a:ext cx="333072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 in load that results in a decrease in useful work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4336-F804-468A-B552-2297952EA2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ys to Deal With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gnore the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dropped (and retransmitted)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cause congestion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ervations, like in circuit switch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-arrange bandwidth allo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negotiation before sending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c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drop packets for the high-bid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a payment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ynamic adjustment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sender infers the level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s its sending rate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FC4C-DD2A-4583-8138-CE35234B6F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 Important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does the sender know there is conges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ence based on network performanc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sender adap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nding rate computed by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coordinates with other hos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thinks globally but acts locall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performance objectiv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izing goodput, even if some users suffer mo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rness?  (Whatever the heck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s!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fast should new TCP senders send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513F-4DB6-46D9-A767-5E45EFB2E2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21T15:06:30Z</dcterms:modified>
  <cp:revision>1298</cp:revision>
  <dc:subject/>
  <dc:title>Communication</dc:title>
</cp:coreProperties>
</file>