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.gif" ContentType="image/gi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7F1EC8-A6B4-44F4-A0CD-AFCBDB2A4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CFE55B-901D-471F-B4DF-62CA2DC4F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87BE11-0E12-497E-B5BB-D5B82712F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C6BDA6-D27C-432C-ACCD-ACAB0590A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4473EE-F030-49EA-B830-6064C3C55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2907-ECCF-461E-900F-FD3269B42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393A-0F8C-441A-B5AD-D3B8542D3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D7E9-52A1-410D-B090-4CA1EDDDA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7742-71D5-4C47-878E-69DFB62CB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BF42-45A9-47DC-BB2A-CB3454531F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68C1-4D9A-48E9-81E1-272DBE866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B71A-60D3-4C56-ACC8-E40C059370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BB4E-8A61-491A-910C-D30C3EBCC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F110-658F-45E7-A824-25051C1080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B6B2-018D-4476-8C54-7E80E6A47F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25A8-F9C7-43D5-8E54-BE42EC64B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DFA9-3B97-4950-8A34-78F1E9B16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2A39-0975-4FF1-817D-8385097F31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DAE8-9992-46AC-8A2C-06716B47D0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8A50-FC27-45E8-A081-17A9BFDF2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697D-7F19-4504-A924-4747A90744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6868-2E01-4F83-BEBC-8F2068E63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62A7-7700-4848-8BC2-722EBED3E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100E-E2B6-4870-B3BB-0EFDF3755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E3EE-FDA7-470B-8AA4-9DC15776A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1DCD-13E2-42EF-8105-99421A5F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7C6C-A9A3-46A9-B3C3-A669524F5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0272-AE16-4FD3-B3A8-73BEC857E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61AA-F5D9-4E34-9B30-7A8D5ACF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AFE-3FD0-4EF9-9344-7257A398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EBDA-4BED-4B77-A2F2-3C7A68C4D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s 2.5, 5.1, and 5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Ioannis Avramopo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7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F691-6E7A-4713-8313-650D079A5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 orien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set-up and tear-down of TC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eam-of-bytes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and receives a stream of bytes, not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s to detect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nowledgments &amp; retransmissions for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to detect losses and reorde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overflow of the receiver’s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to network congestion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65A7-AC5F-4AE8-B872-F3A48F6C14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nalogy: Talking on a Cell Ph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ce and Bob on their cell ph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h Alice and Bob are tal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Alice couldn’t understand Bob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b asks Alice to repeat what she s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Bob hasn’t heard Alice for a wh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lice just being quie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have Bob and Alice lost recep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long should Bob just keep on talk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lice should periodically say “uh huh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 Bob should ask “Can you hear me now?”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183440" y="1278000"/>
            <a:ext cx="1600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AB88-5AFF-4CE2-9FB6-9D7243EA6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Take-Aways from th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knowledgments from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tive: “okay” or “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gative: “please repeat that” or “NACK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 by the sender (“stop and wait”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wait indefinitely without receiving some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a positive or a negative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 by the sen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a “NACK” from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receiving no feedback from the receiv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39A7-D912-4CBF-970A-DBA4775C16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Reliable Data Trans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perfectly reliable chann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just as it was s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e: sender sends data, and receiver receives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of the data arrives in order, but some bits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and says “please repeat tha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the data that we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a lossy channel with bit err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ata are missing, and some bits are corrup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detects errors but cannot always detect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must wait for acknowledgment (“ACK” or “OK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 data after some time if no ACK arri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6823-C36A-4046-AB47-C6D37F0DA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upport for Reliable Deli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corrupted data at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ding the receiver to drop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d to detect miss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 and for putting the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based on estimates of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retransmit algorithm for rapi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3688-DB3E-4349-960B-C06241BECF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egment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D7F6-E10B-4EEC-9BEF-4F80EDF5B5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“Stream of Bytes”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428" name="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471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F5A1-FE3C-4B8A-9AF2-7051070CA5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ulated Using TCP “Segments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530" name="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573" name="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4800" y="16002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8240" y="4805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07320" y="320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26280" y="45133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8DDB-A96E-4F50-8726-31714AD0C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Seg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2468520"/>
            <a:ext cx="84582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bigger than Maximum Transmission Unit (MTU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500 bytes on a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acket with a TCP header and data insi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header is typically 20 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g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ore than Maximum Segment Size (MSS)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up to 1460 consecutive bytes from th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1360440"/>
            <a:ext cx="5029200" cy="685800"/>
          </a:xfrm>
          <a:prstGeom prst="rect">
            <a:avLst/>
          </a:prstGeom>
          <a:solidFill>
            <a:srgbClr val="99ccff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19920" y="1360440"/>
            <a:ext cx="0" cy="68580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48360" y="15890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H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5120" y="1512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143676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4400" y="1328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81080" y="1589040"/>
            <a:ext cx="3962520" cy="380880"/>
            <a:chOff x="1981080" y="1589040"/>
            <a:chExt cx="3962520" cy="380880"/>
          </a:xfrm>
        </p:grpSpPr>
        <p:sp>
          <p:nvSpPr>
            <p:cNvPr id="649" name=""/>
            <p:cNvSpPr/>
            <p:nvPr/>
          </p:nvSpPr>
          <p:spPr>
            <a:xfrm>
              <a:off x="1981080" y="1589040"/>
              <a:ext cx="39625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22880" y="1589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5191560" y="163836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55680" y="1638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CP Data (seg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9BA3-445B-4AF2-B29F-AD5741891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656" name="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94" name="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0400" y="1295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3840" y="50562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72280" y="34545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96280" y="47642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6880" y="3451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16800" y="342432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47466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62760" y="4746600"/>
            <a:ext cx="49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TC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5080" y="185112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647C-CD8D-4DA3-B3A4-E946495B35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for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inciples underlying transport-layer serv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cting co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-layer protocols in the Intern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Datagram Protocol (UD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(unreliable) messag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DGR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ssion Control Protocol (TC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bidirectional stream of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ized by a SOCK_STREAM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88FD-1A78-4091-9D2E-BB22C734B0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actical iss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ddresses and port #s uniquely identify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ough, these port #s do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re is a chance an old packet is still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might be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TCP requires changing the ISN over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from a 32-bit clock that ticks every 4 micro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only wraps around once every 4.55 hour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this means the hosts need to exchange IS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A814-BC2D-4E36-AFB4-40ECC4DEE1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Three-Way Handshak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23E1-E9B4-4C2A-BBA2-4E89688B0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1520" y="477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451240" y="189864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61680" y="241632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40080" y="30081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444760" y="35395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605400">
            <a:off x="2901240" y="155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 rot="10146600">
            <a:off x="2588400" y="219420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1044600">
            <a:off x="3116520" y="2962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003800">
            <a:off x="2904840" y="33832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41720" y="16905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435400" y="17064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77000" y="1238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3720" y="12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73200" y="388080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003800">
            <a:off x="2933280" y="37245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48360" y="2122560"/>
            <a:ext cx="25351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B7D0-7D86-48BA-B3E0-9F139F5E4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335-2FB4-4D75-902A-731185F9A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55520" y="534996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0B8B-3D58-48E9-9E02-F2F55617D1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2: B’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74960" y="5349960"/>
            <a:ext cx="68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169280" y="621972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3E6A-7570-4D20-8944-09CE0F758E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960" y="150804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344320" y="534996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69280" y="6270480"/>
            <a:ext cx="68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94F2-DAA6-47A4-8E9F-A38D248DD8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f the SYN Packet Gets Los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se the SYN packet gets l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is lost inside the network, 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ver rejects the packet (e.g., listen queue is ful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ntually, no SYN-ACK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sets a timer and wait for the SYN-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transmits the SYN-ACK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should the TCP sender set the timer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has no idea how far away the receiver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 to guess a reasonable length of time to w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TCPs use a default of 3 or 6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9C4C-3A47-40AE-8A68-9DF89B29C9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Loss and Web Downlo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clicks on a hypertext lin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socket and does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“connect” triggers the OS to transmit a SY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e SYN is los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3-6 seconds of delay may be very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user may get impati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click the hyperlink again, or click “reload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triggers an “abort” of the “connec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wser creates a new socket and does  a “connec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sentially, forces a faster send of a new SYN packet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imes very effective, and the page comes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1E24-EE7E-4531-A1D0-4B2ADAEF7A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Retransmission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836B-1F66-47BC-8ED4-ABD9E02023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for specific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HyperText Transfer Protocol (HTTP), File Transfer Protocol (FTP), Network News Transfer Protocol (NN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unication between processes (e.g., socke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ies on network layer and serves the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gical communication betwee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des details of the link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001F-5924-402F-A89E-18340382B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Repeat reQuest (ARQ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903" name="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6608160" y="3973680"/>
            <a:ext cx="1431000" cy="502200"/>
            <a:chOff x="6608160" y="3973680"/>
            <a:chExt cx="1431000" cy="502200"/>
          </a:xfrm>
        </p:grpSpPr>
        <p:sp>
          <p:nvSpPr>
            <p:cNvPr id="906" name="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1071400">
              <a:off x="6855480" y="4025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09" name="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3720" y="1523880"/>
            <a:ext cx="480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ceiver sends acknowledgment (ACK) when it receives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er waits for ACK and timeouts if it does not arrive within some tim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implest ARQ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top and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nd a packet, stop and wait until ACK arri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5164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3D5C-1F3C-49E5-A98B-ACBB837994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917" name="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920" name="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2" name="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23" name="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927" name="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9" name="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0" name="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932" name="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4" name="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35" name="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937" name="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940" name="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2" name="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43" name="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946" name="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949" name="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1" name="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52" name="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954" name="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957" name="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9" name="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960" name="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D0C-9EA6-477B-8D46-83B6092DEE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Long Should Sender Wai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er sets a timeout to wait for an AC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short: wasted retransmi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long: excessive delays when packet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sets timeout as a function of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ACK to arrive after an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 a fudge factor to account for queu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how does the sender know the RT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estimate the RTT by watching the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mooth estimate: keep a running average of the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RTT = a * EstimatedRTT + (1 –a ) * Sample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timeout: TimeOut = 2 *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47C4-D394-41AE-9C6B-A37F0EB484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RT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490680" y="1049400"/>
            <a:ext cx="773892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51AB-16B0-43AB-A851-69DF3A532D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law in This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ACK doesn’t really acknowledge a 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, it acknowledges receipt of th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retransmission of a lost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1st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RTT comes out way too lar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 duplicate packe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assume the ACK goes with the 2nd 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ample RTT comes out way too sm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solution in the Karn/Partridg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collect samples for segments sent one singl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5595-0D0D-405B-AFE1-A1092520FD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t Another Limi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n’t consider variance in the RT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variance is small, the EstimatedRTT is pretty accur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if variance is large, the estimate isn’t all that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to directly consider the vari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der difference: SampleRTT – Estimated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ost the estimate based on the dif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acobson/Karels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 Section 5.2 of the Peterson/Davie book for detai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6DA4-803F-48DF-924E-C32D1BFD9F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Sliding Window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DC7F-3EFB-4AC4-BE54-E38E367617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op-and-wait is ineffici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one TCP segment is “in flight” at a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ecially bad when delay-bandwidth produc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umerical exam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5 Mbps link with a 45 msec round-trip 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-bandwidth product is 67.5 Kbits (or 8 K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sender can send at most one packet per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 segment size of 1 KB (8 K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8 Kbits/segment / 45 msec/seg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8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just one-eighth of the 1.5 Mbps lin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 flipH="1">
            <a:off x="539280" y="53499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6607080" y="55800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22400" y="6272280"/>
            <a:ext cx="472284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65600" y="6308640"/>
            <a:ext cx="126828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6080" y="630864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D351-59F6-48E7-9209-190C5CDADF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low a larger amount of data “in flight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sender to get ahead of the recei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no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too f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62680" y="30448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438520" y="30448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421000" y="3659040"/>
            <a:ext cx="1268280" cy="844560"/>
          </a:xfrm>
          <a:custGeom>
            <a:avLst/>
            <a:gdLst/>
            <a:ahLst/>
            <a:rect l="l" t="t" r="r" b="b"/>
            <a:pathLst>
              <a:path w="799" h="460">
                <a:moveTo>
                  <a:pt x="0" y="0"/>
                </a:moveTo>
                <a:cubicBezTo>
                  <a:pt x="127" y="22"/>
                  <a:pt x="254" y="44"/>
                  <a:pt x="387" y="121"/>
                </a:cubicBezTo>
                <a:cubicBezTo>
                  <a:pt x="520" y="198"/>
                  <a:pt x="659" y="329"/>
                  <a:pt x="799" y="4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728800" y="515736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61160" y="56577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5760" y="6335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63680" y="3813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27880" y="3851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6600" y="3583080"/>
            <a:ext cx="1382760" cy="882720"/>
          </a:xfrm>
          <a:custGeom>
            <a:avLst/>
            <a:gdLst/>
            <a:ahLst/>
            <a:rect l="l" t="t" r="r" b="b"/>
            <a:pathLst>
              <a:path w="871" h="556">
                <a:moveTo>
                  <a:pt x="0" y="556"/>
                </a:moveTo>
                <a:cubicBezTo>
                  <a:pt x="278" y="421"/>
                  <a:pt x="556" y="286"/>
                  <a:pt x="701" y="193"/>
                </a:cubicBezTo>
                <a:cubicBezTo>
                  <a:pt x="846" y="100"/>
                  <a:pt x="858" y="50"/>
                  <a:pt x="87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38040" y="5502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27600" y="396720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52280" y="3954600"/>
            <a:ext cx="19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7624800" y="5003640"/>
            <a:ext cx="0" cy="11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760720" y="618156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BA3F-73D0-4034-9E77-F2646B5490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8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needs to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er advertises the window to the recei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lls the receiv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sender agrees not to exceed this am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079720" y="5024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79720" y="5634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6452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6452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079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32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384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36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89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41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94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46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98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451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603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55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08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60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213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365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180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702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229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9752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274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801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324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846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373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8896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418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945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4680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9908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1720" y="5024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0400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56280" y="5024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94120" y="4648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1616040" y="5024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1616040" y="5634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8128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33560" y="5029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65720" y="4648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99412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65000" y="4114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469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889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94120" y="609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65720" y="6095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941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3657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896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609912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84960" y="6099120"/>
            <a:ext cx="95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844960" y="609912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4600" y="6099120"/>
            <a:ext cx="120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BB13-F4FE-4D95-8D9A-08CC51B8EF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959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ogical commun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tween application processes running on different hos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 on end hosts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: breaks application messag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g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asses to network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: reassembles segments into messages, passes to application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transport protocol available to applic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net: TCP and UD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88280" y="3922560"/>
            <a:ext cx="1304640" cy="10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89840" y="25225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10280" y="23796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3830760"/>
            <a:ext cx="2975040" cy="221904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27640" y="2514600"/>
            <a:ext cx="732960" cy="318960"/>
            <a:chOff x="5327640" y="2514600"/>
            <a:chExt cx="732960" cy="3189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27640" y="25146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781240" y="26326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flipV="1">
              <a:off x="5734080" y="27561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27640" y="3110040"/>
            <a:ext cx="732960" cy="318960"/>
            <a:chOff x="5327640" y="3110040"/>
            <a:chExt cx="732960" cy="31896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5327640" y="311004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781240" y="322812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V="1">
              <a:off x="5734080" y="335160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03840" y="2897280"/>
            <a:ext cx="69480" cy="214200"/>
            <a:chOff x="5703840" y="2897280"/>
            <a:chExt cx="69480" cy="214200"/>
          </a:xfrm>
        </p:grpSpPr>
        <p:sp>
          <p:nvSpPr>
            <p:cNvPr id="115" name=""/>
            <p:cNvSpPr/>
            <p:nvPr/>
          </p:nvSpPr>
          <p:spPr>
            <a:xfrm>
              <a:off x="5703840" y="289728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6360" y="297432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9240" y="3051360"/>
              <a:ext cx="64080" cy="601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73640" y="3400560"/>
            <a:ext cx="209520" cy="394920"/>
            <a:chOff x="6173640" y="3400560"/>
            <a:chExt cx="209520" cy="394920"/>
          </a:xfrm>
        </p:grpSpPr>
        <p:sp>
          <p:nvSpPr>
            <p:cNvPr id="119" name=""/>
            <p:cNvSpPr/>
            <p:nvPr/>
          </p:nvSpPr>
          <p:spPr>
            <a:xfrm>
              <a:off x="6173640" y="37044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79840" y="34030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4720" y="34891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3640" y="34005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3160" y="3406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307200" y="3704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1640" y="352908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4240" y="35820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10160" y="3553920"/>
            <a:ext cx="233280" cy="81000"/>
            <a:chOff x="6410160" y="3553920"/>
            <a:chExt cx="233280" cy="81000"/>
          </a:xfrm>
        </p:grpSpPr>
        <p:sp>
          <p:nvSpPr>
            <p:cNvPr id="128" name=""/>
            <p:cNvSpPr/>
            <p:nvPr/>
          </p:nvSpPr>
          <p:spPr>
            <a:xfrm rot="16200000">
              <a:off x="6405840" y="3564720"/>
              <a:ext cx="74520" cy="658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6489360" y="356148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6573240" y="3558240"/>
              <a:ext cx="74520" cy="6552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310440" y="33084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3320" y="3305160"/>
            <a:ext cx="180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8680" y="330372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0200" y="276876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22800" y="3054240"/>
            <a:ext cx="2764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550200" y="3139560"/>
            <a:ext cx="144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69000" y="3378240"/>
            <a:ext cx="209520" cy="394920"/>
            <a:chOff x="6669000" y="3378240"/>
            <a:chExt cx="209520" cy="394920"/>
          </a:xfrm>
        </p:grpSpPr>
        <p:sp>
          <p:nvSpPr>
            <p:cNvPr id="138" name=""/>
            <p:cNvSpPr/>
            <p:nvPr/>
          </p:nvSpPr>
          <p:spPr>
            <a:xfrm>
              <a:off x="6669000" y="3682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75200" y="3380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080" y="3466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69000" y="3378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78520" y="3384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802560" y="3682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7000" y="3506760"/>
              <a:ext cx="87840" cy="174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600" y="3559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11760" y="3997440"/>
            <a:ext cx="479160" cy="925200"/>
            <a:chOff x="5711760" y="3997440"/>
            <a:chExt cx="479160" cy="925200"/>
          </a:xfrm>
        </p:grpSpPr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711760" y="399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flipV="1">
              <a:off x="6118560" y="42440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5711760" y="4592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flipV="1">
              <a:off x="6118560" y="484236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37040" y="4338720"/>
              <a:ext cx="70560" cy="222480"/>
              <a:chOff x="5837040" y="4338720"/>
              <a:chExt cx="70560" cy="2224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37040" y="4338720"/>
                <a:ext cx="65160" cy="62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39560" y="441864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42440" y="4498920"/>
                <a:ext cx="65160" cy="622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185520" y="424116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5965920" y="49957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6200000">
            <a:off x="6382440" y="5099400"/>
            <a:ext cx="637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467400" y="5097240"/>
            <a:ext cx="63360" cy="666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45160" y="5101920"/>
            <a:ext cx="6192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34240" y="49528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210360" y="49413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11800" y="49482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91280" y="4573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92840" y="46195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87720" y="46162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7765920" y="41688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6429240" y="4249800"/>
            <a:ext cx="2034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777000" y="5446800"/>
            <a:ext cx="406080" cy="426960"/>
            <a:chOff x="6777000" y="5446800"/>
            <a:chExt cx="406080" cy="426960"/>
          </a:xfrm>
        </p:grpSpPr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6777000" y="5446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836760" y="5558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7554960" y="5478480"/>
            <a:ext cx="406080" cy="426960"/>
            <a:chOff x="7554960" y="5478480"/>
            <a:chExt cx="406080" cy="426960"/>
          </a:xfrm>
        </p:grpSpPr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7554960" y="54784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7614720" y="55904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7140600" y="5194440"/>
            <a:ext cx="379440" cy="376200"/>
            <a:chOff x="7140600" y="5194440"/>
            <a:chExt cx="379440" cy="376200"/>
          </a:xfrm>
        </p:grpSpPr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7140600" y="519444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7250760" y="532656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6960" y="509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167680" y="4521240"/>
            <a:ext cx="208080" cy="409680"/>
            <a:chOff x="8167680" y="4521240"/>
            <a:chExt cx="208080" cy="409680"/>
          </a:xfrm>
        </p:grpSpPr>
        <p:sp>
          <p:nvSpPr>
            <p:cNvPr id="179" name=""/>
            <p:cNvSpPr/>
            <p:nvPr/>
          </p:nvSpPr>
          <p:spPr>
            <a:xfrm>
              <a:off x="8167680" y="4836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2800" y="45237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68760" y="461304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67680" y="452124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75760" y="45277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300520" y="4836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5320" y="4654440"/>
              <a:ext cx="87480" cy="181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97920" y="47091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155080" y="4965840"/>
            <a:ext cx="207720" cy="408960"/>
            <a:chOff x="8155080" y="4965840"/>
            <a:chExt cx="207720" cy="408960"/>
          </a:xfrm>
        </p:grpSpPr>
        <p:sp>
          <p:nvSpPr>
            <p:cNvPr id="188" name=""/>
            <p:cNvSpPr/>
            <p:nvPr/>
          </p:nvSpPr>
          <p:spPr>
            <a:xfrm>
              <a:off x="8155080" y="528048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0200" y="4968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56160" y="5057640"/>
              <a:ext cx="13140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55080" y="4965840"/>
              <a:ext cx="207720" cy="94320"/>
            </a:xfrm>
            <a:prstGeom prst="parallelogram">
              <a:avLst>
                <a:gd name="adj" fmla="val 8483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2800" y="4972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287560" y="52804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72720" y="5099040"/>
              <a:ext cx="87120" cy="181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85320" y="5153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8086680" y="458928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83440" y="51991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80200" y="47228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804000" y="2819160"/>
            <a:ext cx="458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8920" y="2803680"/>
            <a:ext cx="486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257680" y="31399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8360" y="29163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13560" y="35640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973640" y="40291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746480" y="31082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756560" y="254808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74040" y="272412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284880" y="2916360"/>
            <a:ext cx="501840" cy="232920"/>
            <a:chOff x="6284880" y="2916360"/>
            <a:chExt cx="501840" cy="232920"/>
          </a:xfrm>
        </p:grpSpPr>
        <p:sp>
          <p:nvSpPr>
            <p:cNvPr id="209" name=""/>
            <p:cNvSpPr/>
            <p:nvPr/>
          </p:nvSpPr>
          <p:spPr>
            <a:xfrm>
              <a:off x="6288840" y="30204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8884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6720" y="300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8840" y="30092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84880" y="29163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404400" y="2949120"/>
              <a:ext cx="246240" cy="88200"/>
              <a:chOff x="6404400" y="294912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6404400" y="2949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73240" y="3037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85400" y="2951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404400" y="2948400"/>
              <a:ext cx="246240" cy="88200"/>
              <a:chOff x="6404400" y="294840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6404400" y="303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240" y="2948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485400" y="2948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237440" y="2687760"/>
            <a:ext cx="501480" cy="232920"/>
            <a:chOff x="7237440" y="2687760"/>
            <a:chExt cx="501480" cy="232920"/>
          </a:xfrm>
        </p:grpSpPr>
        <p:sp>
          <p:nvSpPr>
            <p:cNvPr id="223" name=""/>
            <p:cNvSpPr/>
            <p:nvPr/>
          </p:nvSpPr>
          <p:spPr>
            <a:xfrm>
              <a:off x="7241400" y="279180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4140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8920" y="2780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1400" y="278064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7440" y="268776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356960" y="2720520"/>
              <a:ext cx="246240" cy="88200"/>
              <a:chOff x="7356960" y="2720520"/>
              <a:chExt cx="246240" cy="8820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356960" y="272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25800" y="280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37960" y="2722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356960" y="2719800"/>
              <a:ext cx="246240" cy="88200"/>
              <a:chOff x="7356960" y="2719800"/>
              <a:chExt cx="246240" cy="8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7356960" y="2806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25800" y="271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437960" y="2719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7254720" y="3344760"/>
            <a:ext cx="501840" cy="233280"/>
            <a:chOff x="7254720" y="3344760"/>
            <a:chExt cx="501840" cy="233280"/>
          </a:xfrm>
        </p:grpSpPr>
        <p:sp>
          <p:nvSpPr>
            <p:cNvPr id="237" name=""/>
            <p:cNvSpPr/>
            <p:nvPr/>
          </p:nvSpPr>
          <p:spPr>
            <a:xfrm>
              <a:off x="7258680" y="3448800"/>
              <a:ext cx="4975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868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6560" y="343800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58680" y="343800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4720" y="3344760"/>
              <a:ext cx="4971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374240" y="3377520"/>
              <a:ext cx="246240" cy="88560"/>
              <a:chOff x="7374240" y="3377520"/>
              <a:chExt cx="246240" cy="8856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7374240" y="337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43080" y="3466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5240" y="337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374240" y="3376440"/>
              <a:ext cx="246240" cy="88560"/>
              <a:chOff x="7374240" y="3376440"/>
              <a:chExt cx="246240" cy="885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74240" y="3463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3080" y="337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455240" y="33764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8224920" y="2895480"/>
            <a:ext cx="500040" cy="233280"/>
            <a:chOff x="8224920" y="2895480"/>
            <a:chExt cx="500040" cy="233280"/>
          </a:xfrm>
        </p:grpSpPr>
        <p:sp>
          <p:nvSpPr>
            <p:cNvPr id="251" name=""/>
            <p:cNvSpPr/>
            <p:nvPr/>
          </p:nvSpPr>
          <p:spPr>
            <a:xfrm>
              <a:off x="8228880" y="2999520"/>
              <a:ext cx="495720" cy="1292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2888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24960" y="2988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8880" y="298872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24920" y="2895480"/>
              <a:ext cx="495360" cy="1508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8344080" y="2928240"/>
              <a:ext cx="245520" cy="88560"/>
              <a:chOff x="8344080" y="2928240"/>
              <a:chExt cx="245520" cy="885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8344080" y="2928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12560" y="301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424720" y="29304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344080" y="2927160"/>
              <a:ext cx="245520" cy="88560"/>
              <a:chOff x="8344080" y="2927160"/>
              <a:chExt cx="245520" cy="88560"/>
            </a:xfrm>
          </p:grpSpPr>
          <p:sp>
            <p:nvSpPr>
              <p:cNvPr id="261" name=""/>
              <p:cNvSpPr/>
              <p:nvPr/>
            </p:nvSpPr>
            <p:spPr>
              <a:xfrm>
                <a:off x="8344080" y="3013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512560" y="2927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24720" y="29271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031240" y="3792600"/>
            <a:ext cx="501480" cy="232920"/>
            <a:chOff x="8031240" y="3792600"/>
            <a:chExt cx="501480" cy="232920"/>
          </a:xfrm>
        </p:grpSpPr>
        <p:sp>
          <p:nvSpPr>
            <p:cNvPr id="265" name=""/>
            <p:cNvSpPr/>
            <p:nvPr/>
          </p:nvSpPr>
          <p:spPr>
            <a:xfrm>
              <a:off x="8035200" y="3896640"/>
              <a:ext cx="49716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520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32720" y="388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35200" y="3885480"/>
              <a:ext cx="49284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31240" y="3792600"/>
              <a:ext cx="49680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8150760" y="3825360"/>
              <a:ext cx="246240" cy="88200"/>
              <a:chOff x="8150760" y="3825360"/>
              <a:chExt cx="246240" cy="88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8150760" y="382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319600" y="391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231760" y="382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8150760" y="3824640"/>
              <a:ext cx="246240" cy="88200"/>
              <a:chOff x="8150760" y="3824640"/>
              <a:chExt cx="246240" cy="88200"/>
            </a:xfrm>
          </p:grpSpPr>
          <p:sp>
            <p:nvSpPr>
              <p:cNvPr id="275" name=""/>
              <p:cNvSpPr/>
              <p:nvPr/>
            </p:nvSpPr>
            <p:spPr>
              <a:xfrm>
                <a:off x="8150760" y="391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19600" y="382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231760" y="382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97880" y="4376880"/>
            <a:ext cx="501480" cy="234360"/>
            <a:chOff x="7697880" y="4376880"/>
            <a:chExt cx="501480" cy="234360"/>
          </a:xfrm>
        </p:grpSpPr>
        <p:sp>
          <p:nvSpPr>
            <p:cNvPr id="279" name=""/>
            <p:cNvSpPr/>
            <p:nvPr/>
          </p:nvSpPr>
          <p:spPr>
            <a:xfrm>
              <a:off x="7701840" y="4481280"/>
              <a:ext cx="497160" cy="1299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184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99360" y="4470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01840" y="4470480"/>
              <a:ext cx="492840" cy="792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7880" y="4376880"/>
              <a:ext cx="496800" cy="1515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17400" y="4410000"/>
              <a:ext cx="246240" cy="88920"/>
              <a:chOff x="7817400" y="4410000"/>
              <a:chExt cx="246240" cy="88920"/>
            </a:xfrm>
          </p:grpSpPr>
          <p:sp>
            <p:nvSpPr>
              <p:cNvPr id="285" name=""/>
              <p:cNvSpPr/>
              <p:nvPr/>
            </p:nvSpPr>
            <p:spPr>
              <a:xfrm flipV="1">
                <a:off x="7817400" y="4410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6240" y="449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98400" y="4412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817400" y="4408920"/>
              <a:ext cx="246240" cy="88920"/>
              <a:chOff x="7817400" y="4408920"/>
              <a:chExt cx="246240" cy="88920"/>
            </a:xfrm>
          </p:grpSpPr>
          <p:sp>
            <p:nvSpPr>
              <p:cNvPr id="289" name=""/>
              <p:cNvSpPr/>
              <p:nvPr/>
            </p:nvSpPr>
            <p:spPr>
              <a:xfrm>
                <a:off x="7817400" y="4496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86240" y="440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898400" y="4408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7088040" y="4865760"/>
            <a:ext cx="500040" cy="232920"/>
            <a:chOff x="7088040" y="4865760"/>
            <a:chExt cx="500040" cy="232920"/>
          </a:xfrm>
        </p:grpSpPr>
        <p:sp>
          <p:nvSpPr>
            <p:cNvPr id="293" name=""/>
            <p:cNvSpPr/>
            <p:nvPr/>
          </p:nvSpPr>
          <p:spPr>
            <a:xfrm>
              <a:off x="7092000" y="4969800"/>
              <a:ext cx="4957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9200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88080" y="4958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2000" y="4958640"/>
              <a:ext cx="4914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8040" y="4865760"/>
              <a:ext cx="4953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207200" y="4898520"/>
              <a:ext cx="245520" cy="88200"/>
              <a:chOff x="7207200" y="4898520"/>
              <a:chExt cx="245520" cy="8820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7207200" y="4898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75680" y="4986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87840" y="4900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207200" y="4897800"/>
              <a:ext cx="245520" cy="88200"/>
              <a:chOff x="7207200" y="4897800"/>
              <a:chExt cx="245520" cy="88200"/>
            </a:xfrm>
          </p:grpSpPr>
          <p:sp>
            <p:nvSpPr>
              <p:cNvPr id="303" name=""/>
              <p:cNvSpPr/>
              <p:nvPr/>
            </p:nvSpPr>
            <p:spPr>
              <a:xfrm>
                <a:off x="7207200" y="4984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5680" y="4897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7287840" y="4897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284880" y="4489560"/>
            <a:ext cx="501840" cy="232920"/>
            <a:chOff x="6284880" y="4489560"/>
            <a:chExt cx="501840" cy="232920"/>
          </a:xfrm>
        </p:grpSpPr>
        <p:sp>
          <p:nvSpPr>
            <p:cNvPr id="307" name=""/>
            <p:cNvSpPr/>
            <p:nvPr/>
          </p:nvSpPr>
          <p:spPr>
            <a:xfrm>
              <a:off x="6288840" y="4593600"/>
              <a:ext cx="497520" cy="1288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8884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6720" y="4582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88840" y="4582440"/>
              <a:ext cx="493200" cy="788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284880" y="4489560"/>
              <a:ext cx="497160" cy="15048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404400" y="4522320"/>
              <a:ext cx="246240" cy="88200"/>
              <a:chOff x="6404400" y="4522320"/>
              <a:chExt cx="246240" cy="8820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404400" y="45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73240" y="46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5400" y="45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404400" y="4521600"/>
              <a:ext cx="246240" cy="88200"/>
              <a:chOff x="6404400" y="4521600"/>
              <a:chExt cx="246240" cy="88200"/>
            </a:xfrm>
          </p:grpSpPr>
          <p:sp>
            <p:nvSpPr>
              <p:cNvPr id="317" name=""/>
              <p:cNvSpPr/>
              <p:nvPr/>
            </p:nvSpPr>
            <p:spPr>
              <a:xfrm>
                <a:off x="6404400" y="460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573240" y="452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485400" y="452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 flipV="1">
            <a:off x="6540480" y="470232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994280" y="2036880"/>
            <a:ext cx="814320" cy="1007640"/>
            <a:chOff x="4994280" y="2036880"/>
            <a:chExt cx="814320" cy="1007640"/>
          </a:xfrm>
        </p:grpSpPr>
        <p:sp>
          <p:nvSpPr>
            <p:cNvPr id="322" name=""/>
            <p:cNvSpPr/>
            <p:nvPr/>
          </p:nvSpPr>
          <p:spPr>
            <a:xfrm>
              <a:off x="5092560" y="204156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9080" y="206532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4120" y="224172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94280" y="203688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9080" y="2408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8800" y="2546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68800" y="26845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118360" y="4923000"/>
            <a:ext cx="814320" cy="1007640"/>
            <a:chOff x="8118360" y="4923000"/>
            <a:chExt cx="814320" cy="1007640"/>
          </a:xfrm>
        </p:grpSpPr>
        <p:sp>
          <p:nvSpPr>
            <p:cNvPr id="330" name=""/>
            <p:cNvSpPr/>
            <p:nvPr/>
          </p:nvSpPr>
          <p:spPr>
            <a:xfrm>
              <a:off x="8216640" y="4927680"/>
              <a:ext cx="676440" cy="7761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83160" y="49514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8200" y="51278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18360" y="49230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83160" y="52945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92880" y="543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2880" y="5570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56320" y="4041720"/>
            <a:ext cx="814320" cy="703080"/>
            <a:chOff x="7456320" y="4041720"/>
            <a:chExt cx="814320" cy="703080"/>
          </a:xfrm>
        </p:grpSpPr>
        <p:sp>
          <p:nvSpPr>
            <p:cNvPr id="338" name=""/>
            <p:cNvSpPr/>
            <p:nvPr/>
          </p:nvSpPr>
          <p:spPr>
            <a:xfrm>
              <a:off x="7559280" y="41986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16440" y="42321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6320" y="40417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1760" y="45367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21120" y="43844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989840" y="3460680"/>
            <a:ext cx="814320" cy="703080"/>
            <a:chOff x="7989840" y="3460680"/>
            <a:chExt cx="814320" cy="703080"/>
          </a:xfrm>
        </p:grpSpPr>
        <p:sp>
          <p:nvSpPr>
            <p:cNvPr id="344" name=""/>
            <p:cNvSpPr/>
            <p:nvPr/>
          </p:nvSpPr>
          <p:spPr>
            <a:xfrm>
              <a:off x="8092800" y="36176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9960" y="3651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9840" y="3460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5280" y="3955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54640" y="3803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104240" y="3156120"/>
            <a:ext cx="814320" cy="703080"/>
            <a:chOff x="7104240" y="3156120"/>
            <a:chExt cx="814320" cy="703080"/>
          </a:xfrm>
        </p:grpSpPr>
        <p:sp>
          <p:nvSpPr>
            <p:cNvPr id="350" name=""/>
            <p:cNvSpPr/>
            <p:nvPr/>
          </p:nvSpPr>
          <p:spPr>
            <a:xfrm>
              <a:off x="7207200" y="3313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3346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04240" y="3156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9680" y="3651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9040" y="3498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37280" y="2384280"/>
            <a:ext cx="814320" cy="703080"/>
            <a:chOff x="7037280" y="2384280"/>
            <a:chExt cx="814320" cy="703080"/>
          </a:xfrm>
        </p:grpSpPr>
        <p:sp>
          <p:nvSpPr>
            <p:cNvPr id="356" name=""/>
            <p:cNvSpPr/>
            <p:nvPr/>
          </p:nvSpPr>
          <p:spPr>
            <a:xfrm>
              <a:off x="7140240" y="254124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97400" y="25747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37280" y="23842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2720" y="28792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02080" y="27270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03800" y="2670120"/>
            <a:ext cx="814320" cy="703080"/>
            <a:chOff x="6103800" y="2670120"/>
            <a:chExt cx="814320" cy="703080"/>
          </a:xfrm>
        </p:grpSpPr>
        <p:sp>
          <p:nvSpPr>
            <p:cNvPr id="362" name=""/>
            <p:cNvSpPr/>
            <p:nvPr/>
          </p:nvSpPr>
          <p:spPr>
            <a:xfrm>
              <a:off x="6206760" y="2827080"/>
              <a:ext cx="676440" cy="485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3920" y="286056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03800" y="267012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240" y="3165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68600" y="30128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46880" y="2138040"/>
            <a:ext cx="2787120" cy="3137400"/>
            <a:chOff x="5546880" y="2138040"/>
            <a:chExt cx="2787120" cy="3137400"/>
          </a:xfrm>
        </p:grpSpPr>
        <p:sp>
          <p:nvSpPr>
            <p:cNvPr id="368" name=""/>
            <p:cNvSpPr/>
            <p:nvPr/>
          </p:nvSpPr>
          <p:spPr>
            <a:xfrm rot="2937600">
              <a:off x="5415120" y="356976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937600">
              <a:off x="5659200" y="35733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937600">
              <a:off x="5627880" y="22348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937000">
              <a:off x="7805160" y="47595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C562-25D3-4414-AEC2-FFFF1BDB4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eader for Receiver 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61080" y="3349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09B0-E7CE-4A91-86D4-2488E583AA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F64E-884E-4F4A-9724-C8D254A2D0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out is Ineffici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out-based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transmits a packet and waits until timer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retransmits from the lost packet on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00200" y="2584440"/>
            <a:ext cx="5867280" cy="423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2095560" y="2631960"/>
            <a:ext cx="4952880" cy="40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9B99-37D4-468E-B602-E65B624EC9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t Retrans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tter solution possible under sliding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packet n might have been l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n+1, n+2, and so on might get throu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: have the receiver send ACK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K says that receiver is still awaiting n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e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s suggest later packets have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view the “duplicate ACKs” as an early h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 must have been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form the retransmission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 retrans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retransmits data after the triple duplicate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AACC-23BC-492F-8BEF-F396DFFFE28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iveness of Fast Retransm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oes Fast Retransmit work be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ng data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window s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ikelihood of many packets in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burstiness in packet lo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ikelihood that later packets arrive success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ications for Web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 Web transfers are short (e.g., 10 packe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HTML files or small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often there aren’t many packets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fast retransmit less likely to “kick in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cing users to like “reload” more often…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2DDD-D513-4B4F-913A-65657E274C8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C76B-0A5C-44E1-9C1C-D21E05FF478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01120" y="450324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sing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4688400">
            <a:off x="5871240" y="23252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6543-DE40-45CF-9849-A377AE88CA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/Receiving the FI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ding a FIN: close(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done sending data via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nvokes “close()” to close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ce TCP has sent all of the outstanding bytes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 TCP sends a F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ceiving a FIN: E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 is reading data from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, the attempt to read returns an EO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72E2-773C-4297-9D7F-A588E26778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port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xing and de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r-based retransmi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-base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this wee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s 2.5, 5.1-5.2, and 6.1-6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lect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2AD4-61D2-41D8-9D85-775E1E05E2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Transport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gram messaging service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-frills extension of “best-effort” 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le, in-order delivery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ing of corrupted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 (next l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ther services not avail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ay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guarant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93D1-A3C6-494C-A9FB-F52C9F5D3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xing and Demultiplex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5560" y="1355760"/>
            <a:ext cx="4646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receives IP datagram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has source and destination IP addres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datagram carries one transport-laye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egment has source and destination port numbe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uses IP addresses and port numbers to direct the segment to appropriate socke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0DD0-F173-457D-B505-4251BEEF1B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liable Message Delivery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ghtweight communication between proc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overhead and delays of ordered, reliabl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messages to and receive them from a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lus port numbers to support (de)multiplex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ror checking on the packet cont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926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53000" y="447984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26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53000" y="501336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26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5200" y="55468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7664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81600" y="459756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76640" y="510372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29280" y="5103720"/>
            <a:ext cx="895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90840" y="5775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AE74-6876-473D-9AB3-BEA2A2193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Would Anyone Use UD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er control over what data is sent and whe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soon as an application process writes into the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will package the data and send the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delay for connection establishment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just blasts away without any formal prelimina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ch avoids introducing any unnecessary dela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connection st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allocation of buffers, parameters, sequence #s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it easier to handle many active clients at o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mall packet header overh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header is only eight-bytes lo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EB1E-F6C6-4027-94B2-D10D2F831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ular Applications That Use UD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media stream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/corrupted packets is not worthwh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the time the packet is retransmitted, it’s too l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elephone calls, video conferencing, gam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e query protocols like Domain Name Syst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 of connection establishment is overki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sier to have the application retransmit if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00120" y="510228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222960" y="552456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035160" y="5210280"/>
            <a:ext cx="3687840" cy="430200"/>
          </a:xfrm>
          <a:custGeom>
            <a:avLst/>
            <a:gdLst/>
            <a:ahLst/>
            <a:rect l="l" t="t" r="r" b="b"/>
            <a:pathLst>
              <a:path w="2323" h="271">
                <a:moveTo>
                  <a:pt x="0" y="271"/>
                </a:moveTo>
                <a:cubicBezTo>
                  <a:pt x="302" y="139"/>
                  <a:pt x="605" y="8"/>
                  <a:pt x="992" y="4"/>
                </a:cubicBezTo>
                <a:cubicBezTo>
                  <a:pt x="1379" y="0"/>
                  <a:pt x="1851" y="123"/>
                  <a:pt x="2323" y="24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6292800"/>
            <a:ext cx="3726000" cy="358920"/>
          </a:xfrm>
          <a:custGeom>
            <a:avLst/>
            <a:gdLst/>
            <a:ahLst/>
            <a:rect l="l" t="t" r="r" b="b"/>
            <a:pathLst>
              <a:path w="2347" h="226">
                <a:moveTo>
                  <a:pt x="2347" y="48"/>
                </a:moveTo>
                <a:cubicBezTo>
                  <a:pt x="1925" y="137"/>
                  <a:pt x="1504" y="226"/>
                  <a:pt x="1113" y="218"/>
                </a:cubicBezTo>
                <a:cubicBezTo>
                  <a:pt x="722" y="210"/>
                  <a:pt x="361" y="10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6920" y="487188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21480" y="613872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Click To Preview"/>
          <p:cNvPicPr/>
          <p:nvPr/>
        </p:nvPicPr>
        <p:blipFill>
          <a:blip r:embed="rId3"/>
          <a:stretch/>
        </p:blipFill>
        <p:spPr>
          <a:xfrm>
            <a:off x="8105760" y="2276640"/>
            <a:ext cx="731880" cy="73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9DF3-C6C0-4110-ADB8-752A0B3435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Jennifer Rexford</cp:lastModifiedBy>
  <dcterms:modified xsi:type="dcterms:W3CDTF">2007-02-18T18:38:49Z</dcterms:modified>
  <cp:revision>1043</cp:revision>
  <dc:subject/>
  <dc:title>Communication</dc:title>
</cp:coreProperties>
</file>