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2.gif" ContentType="image/gif"/>
  <Override PartName="/ppt/media/image13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2B81EB4-C91E-4636-93BE-6E620F394E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D204D1C-F1B4-4135-BA48-2CD2294CC5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423DF04-5AAB-4EB7-8DAA-16D726AF47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AEC960C-7D69-4518-94AD-5B2795A125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E9D2A67-7801-423F-B32F-15392303BE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may get duplicates in the case of early timeo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667E8-0D51-4A28-84B1-76A799748B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28832-D376-404A-9EC8-0C7990255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A0CB8-7DCA-4DBB-95E6-57D77225D9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D7CB1-AEB3-4A7A-8F52-DB9169F78E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5C5AC-F2EE-4012-8FA6-B40809B17D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6B043-6EF4-49F1-B03F-7D2CBB397A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47234-308C-4E82-9C0C-6B0BFD282F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B8277-2007-43FB-8763-214991D4CB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8AF63-82C0-4708-B871-2FD9B59346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E0CE3-F9B5-4AE9-96D2-CCC7176F4F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E7452-190D-440D-A363-AE4CDD69DB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21BA9-F3AE-4C4F-B45C-DD7B02A148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2CDE4-B8B8-4203-B784-1A59A70F50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444A1-E8C5-4BB1-9A2B-3896B405D9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0CDCF-3A93-424F-8386-F242B294B2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57B40-749D-48F6-B6CE-2EFE1D047B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CA0C6-26F1-41A9-A530-9165743FC0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44AF2-E184-4896-8C18-B4A3DE754D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27BC7-4561-48AF-96F4-D57AF6FF0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5480-C860-4AB7-B3CD-C26EF2A15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F72A-9A97-4BA3-8078-D4791169C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92876-09E9-4635-8101-E5203DC9A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31C42-7D76-408C-8BD8-FC6EFF728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A2249-2C01-40F3-B0DE-39F5384FA1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4898-281E-4541-A96C-37610C5B2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2302-A581-4070-813E-1D13FFD26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677880" algn="ctr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5640" algn="ctr">
              <a:spcBef>
                <a:spcPts val="249"/>
              </a:spcBef>
              <a:buClr>
                <a:srgbClr val="0000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373040" algn="ctr"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7.wmf"/><Relationship Id="rId13" Type="http://schemas.openxmlformats.org/officeDocument/2006/relationships/image" Target="../media/image6.wmf"/><Relationship Id="rId14" Type="http://schemas.openxmlformats.org/officeDocument/2006/relationships/image" Target="../media/image7.wmf"/><Relationship Id="rId15" Type="http://schemas.openxmlformats.org/officeDocument/2006/relationships/image" Target="../media/image6.wmf"/><Relationship Id="rId1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1880" y="262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ransport Protocols</a:t>
            </a:r>
            <a:br>
              <a:rPr sz="36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ing: Sections 2.5, 5.1, and 5.2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5960" y="3885840"/>
            <a:ext cx="7680240" cy="25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461: Comput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2006 (MW 1:30-2:50 in Friend 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Assistant: Ioannis Avramopoul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s.princeton.edu/courses/archive/spring07/cos46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151080" y="395280"/>
            <a:ext cx="2957760" cy="22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6ACAA-9941-4E37-B50F-C90F542F18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mission Control Protocol (TCP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nection orient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icit set-up and tear-down of TCP se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ream-of-bytes servi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s and receives a stream of bytes, not messa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liable, in-order delive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ecksums to detect corrupted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knowledgments &amp; retransmissions for reliable delive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quence numbers to detect losses and reorder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low contro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vent overflow of the receiver’s buffer sp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contro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apt to network congestion for the greater go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A6383-30FB-4588-B359-9960B2D81B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Analogy: Talking on a Cell Ph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lice and Bob on their cell phon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oth Alice and Bob are talk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f Alice couldn’t understand Bob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ob asks Alice to repeat what she sai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f Bob hasn’t heard Alice for a whil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 Alice just being quie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r, have Bob and Alice lost reception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w long should Bob just keep on talking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ybe Alice should periodically say “uh huh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r Bob should ask “Can you hear me now?”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7183440" y="1278000"/>
            <a:ext cx="1600200" cy="180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3703F-2D88-43A0-9469-3C0D37A16B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Take-Aways from th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knowledgments from receiv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sitive: “okay” or “ACK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gative: “please repeat that” or “NACK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out by the sender (“stop and wait”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n’t wait indefinitely without receiving some respon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ther a positive or a negative acknowledg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transmission by the send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receiving a “NACK” from the recei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receiving no feedback from the receiver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056D-B026-4C08-92B9-20C8E3DA23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s of Reliable Data Transf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ver a perfectly reliable chann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 of the data arrives in order, just as it was s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mple: sender sends data, and receiver receives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ver a channel with bit erro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 of the data arrives in order, but some bits corrup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 detects errors and says “please repeat that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retransmits the data that were corrup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ver a lossy channel with bit erro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 data are missing, and some bits are corrup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 detects errors but cannot always detect lo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must wait for acknowledgment (“ACK” or “OK”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transmit data after some time if no ACK arriv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BE0EC-E843-4AEB-B613-753AD157A5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Support for Reliable Delive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ecksu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d to detect corrupted data at the recei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eading the receiver to drop the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quence numb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d to detect missing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.. and for putting the data back in or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transmis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retransmits lost or corrupted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meout based on estimates of round-trip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st retransmit algorithm for rapid retransmi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0E4B-21CE-4CC8-BEAF-F1FF25BC7C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CP Segment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75B92-0CD3-416C-9E3A-E05FD69403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“Stream of Bytes” Servi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460520" y="2122560"/>
            <a:ext cx="5028840" cy="609480"/>
            <a:chOff x="1460520" y="2122560"/>
            <a:chExt cx="5028840" cy="609480"/>
          </a:xfrm>
        </p:grpSpPr>
        <p:sp>
          <p:nvSpPr>
            <p:cNvPr id="428" name=""/>
            <p:cNvSpPr/>
            <p:nvPr/>
          </p:nvSpPr>
          <p:spPr>
            <a:xfrm>
              <a:off x="1460520" y="212256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60520" y="273204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026400" y="212256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026400" y="273204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447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752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05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057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09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362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66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19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971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76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429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81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33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038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91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343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95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648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00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952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05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257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410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562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715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867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9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7220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2448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5390400">
            <a:off x="124452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5390400">
            <a:off x="139716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5390400">
            <a:off x="155088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5390400">
            <a:off x="170352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133720" y="25858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2743200" y="5334120"/>
            <a:ext cx="5028840" cy="609480"/>
            <a:chOff x="2743200" y="5334120"/>
            <a:chExt cx="5028840" cy="609480"/>
          </a:xfrm>
        </p:grpSpPr>
        <p:sp>
          <p:nvSpPr>
            <p:cNvPr id="471" name=""/>
            <p:cNvSpPr/>
            <p:nvPr/>
          </p:nvSpPr>
          <p:spPr>
            <a:xfrm>
              <a:off x="2743200" y="53341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43200" y="594360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7309080" y="53341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7309080" y="594360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2743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48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200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52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05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657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9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62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14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67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419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572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724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876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29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81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4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86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38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91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943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95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48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400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53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05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58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010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62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315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46748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62012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rot="5390400">
            <a:off x="25416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rot="5390400">
            <a:off x="269388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rot="5390400">
            <a:off x="284652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rot="5390400">
            <a:off x="29988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429000" y="548640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29000" y="579132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34800" y="160020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18240" y="480528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5390400">
            <a:off x="2273400" y="234756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23572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5390400">
            <a:off x="3570120" y="554940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486080" y="281772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81080" y="281952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76440" y="282096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971800" y="282240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467160" y="282420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62520" y="282564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57880" y="282744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952880" y="282888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48240" y="283068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A3EA7-537D-44A8-8F05-DE7BB0EBBE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ulated Using TCP “Segments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447920" y="2128680"/>
            <a:ext cx="5028840" cy="609840"/>
            <a:chOff x="1447920" y="2128680"/>
            <a:chExt cx="5028840" cy="609840"/>
          </a:xfrm>
        </p:grpSpPr>
        <p:sp>
          <p:nvSpPr>
            <p:cNvPr id="530" name=""/>
            <p:cNvSpPr/>
            <p:nvPr/>
          </p:nvSpPr>
          <p:spPr>
            <a:xfrm>
              <a:off x="1447920" y="212868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7920" y="27385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6013800" y="212868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013800" y="27385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1447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0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752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905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057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62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14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666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819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971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24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76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429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33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86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38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91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3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495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648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800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952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105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257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410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562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15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867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019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17220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32448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5390400">
            <a:off x="124452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5390400">
            <a:off x="139716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5390400">
            <a:off x="155088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rot="5390400">
            <a:off x="170352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133720" y="25858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2743200" y="5334120"/>
            <a:ext cx="5028840" cy="609480"/>
            <a:chOff x="2743200" y="5334120"/>
            <a:chExt cx="5028840" cy="609480"/>
          </a:xfrm>
        </p:grpSpPr>
        <p:sp>
          <p:nvSpPr>
            <p:cNvPr id="573" name=""/>
            <p:cNvSpPr/>
            <p:nvPr/>
          </p:nvSpPr>
          <p:spPr>
            <a:xfrm>
              <a:off x="2743200" y="53341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43200" y="594360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7309080" y="53341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7309080" y="594360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2743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95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8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00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352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05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09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62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14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419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72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724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76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029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81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34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86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638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1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943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95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248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400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553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05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58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010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162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15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46748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2012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390400">
            <a:off x="25416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rot="5390400">
            <a:off x="269388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5390400">
            <a:off x="284652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rot="5390400">
            <a:off x="29988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429000" y="548640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429000" y="579132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34800" y="160020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18240" y="480528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447920" y="3200400"/>
            <a:ext cx="1218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5390400">
            <a:off x="2273400" y="234756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133720" y="23572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43200" y="4495680"/>
            <a:ext cx="121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447920" y="358128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66880" y="358128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5238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65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9810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5909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67120"/>
            <a:ext cx="30456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8195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9718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240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767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86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429000" y="5100480"/>
            <a:ext cx="30492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507320" y="32036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726280" y="45133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5390400">
            <a:off x="3570120" y="554940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727440" y="2890800"/>
            <a:ext cx="4992840" cy="1293840"/>
          </a:xfrm>
          <a:prstGeom prst="wedgeRectCallout">
            <a:avLst>
              <a:gd name="adj1" fmla="val -72481"/>
              <a:gd name="adj2" fmla="val -987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ment sent w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gment full (Max Segment Size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full, but times out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shed” by appl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4C95A-B199-4B2A-8C67-BEE380EED4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Seg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6840" y="2468520"/>
            <a:ext cx="845820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P pack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bigger than Maximum Transmission Unit (MTU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up to 1500 bytes on an Ethern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pack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packet with a TCP header and data insid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header is typically 20 bytes lo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segm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more than Maximum Segment Size (MSS)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up to 1460 consecutive bytes from the strea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1360440"/>
            <a:ext cx="5029200" cy="685800"/>
          </a:xfrm>
          <a:prstGeom prst="rect">
            <a:avLst/>
          </a:prstGeom>
          <a:solidFill>
            <a:srgbClr val="99ccff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019920" y="1360440"/>
            <a:ext cx="0" cy="685800"/>
          </a:xfrm>
          <a:prstGeom prst="line">
            <a:avLst/>
          </a:prstGeom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048360" y="158904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H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905120" y="15127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581280" y="143676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524400" y="132876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981080" y="1589040"/>
            <a:ext cx="3962520" cy="380880"/>
            <a:chOff x="1981080" y="1589040"/>
            <a:chExt cx="3962520" cy="380880"/>
          </a:xfrm>
        </p:grpSpPr>
        <p:sp>
          <p:nvSpPr>
            <p:cNvPr id="649" name=""/>
            <p:cNvSpPr/>
            <p:nvPr/>
          </p:nvSpPr>
          <p:spPr>
            <a:xfrm>
              <a:off x="1981080" y="1589040"/>
              <a:ext cx="396252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22880" y="15890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5191560" y="163836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CP H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055680" y="1638360"/>
            <a:ext cx="159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CP Data (seg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3C076-BCBB-4CBB-B400-D7DAF63806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2617920" y="2384280"/>
            <a:ext cx="1218960" cy="609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quence Nu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703520" y="2379600"/>
            <a:ext cx="5028840" cy="609840"/>
            <a:chOff x="1703520" y="2379600"/>
            <a:chExt cx="5028840" cy="609840"/>
          </a:xfrm>
        </p:grpSpPr>
        <p:sp>
          <p:nvSpPr>
            <p:cNvPr id="656" name=""/>
            <p:cNvSpPr/>
            <p:nvPr/>
          </p:nvSpPr>
          <p:spPr>
            <a:xfrm>
              <a:off x="1703520" y="237960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703520" y="298944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269400" y="237960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269400" y="298944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1703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8558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0080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1607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3130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4652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6179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7702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9224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0751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2274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3796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5323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846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368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89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1418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2940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4467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990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7512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039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0562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2084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611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5134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6656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8183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9706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1228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275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427800" y="23796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580080" y="23796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2998800" y="5584680"/>
            <a:ext cx="5028840" cy="609840"/>
            <a:chOff x="2998800" y="5584680"/>
            <a:chExt cx="5028840" cy="609840"/>
          </a:xfrm>
        </p:grpSpPr>
        <p:sp>
          <p:nvSpPr>
            <p:cNvPr id="694" name=""/>
            <p:cNvSpPr/>
            <p:nvPr/>
          </p:nvSpPr>
          <p:spPr>
            <a:xfrm>
              <a:off x="2998800" y="558468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998800" y="61945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7564680" y="558468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7564680" y="61945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2998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510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3037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560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6082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7609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9132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0654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2181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3704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5226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6753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8276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9798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1325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284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4370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5897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7420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8942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0469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1992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3514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5041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6564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086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9613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1136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2658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4185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570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723080" y="5584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875720" y="5584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90400" y="129528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73840" y="505620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612880" y="34513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13200" y="474660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617920" y="3832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836880" y="383220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68920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84148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9412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14640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75588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298680" y="3218040"/>
            <a:ext cx="30492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98952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14180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9408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4672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05620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599000" y="5351400"/>
            <a:ext cx="30492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672280" y="34545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96280" y="47642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36880" y="34513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916800" y="3424320"/>
            <a:ext cx="49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</a:rPr>
              <a:t>TC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132520" y="474660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162760" y="4746600"/>
            <a:ext cx="49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</a:rPr>
              <a:t>TC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05080" y="1851120"/>
            <a:ext cx="33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ISN (initial sequence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703520" y="215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60520" y="3298680"/>
            <a:ext cx="1904760" cy="914400"/>
          </a:xfrm>
          <a:prstGeom prst="wedgeRectCallout">
            <a:avLst>
              <a:gd name="adj1" fmla="val 58583"/>
              <a:gd name="adj2" fmla="val -8316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quence number =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913200" y="5584680"/>
            <a:ext cx="121932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742000" y="3755880"/>
            <a:ext cx="1905120" cy="914400"/>
          </a:xfrm>
          <a:prstGeom prst="wedgeRectCallout">
            <a:avLst>
              <a:gd name="adj1" fmla="val -76666"/>
              <a:gd name="adj2" fmla="val 15052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K sequence number = next expected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132520" y="5584680"/>
            <a:ext cx="15228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2628-D145-49B3-A963-061DC66389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als for Today’s L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inciples underlying transport-layer servic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De)multiplex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tecting corrup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liable delive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low contr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ansport-layer protocols in the Intern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r Datagram Protocol (UDP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(unreliable) messag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zed by a SOCK_DGRAM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mission Control Protocol (TCP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bidirectional stream of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zed by a SOCK_STREAM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0BC0C-5786-4540-8604-0CC7068F6F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itial Sequence Number (ISN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quence number for the very first by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Why not a de facto ISN of 0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actical issu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addresses and port #s uniquely identify a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ntually, though, these port #s do get used aga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re is a chance an old packet is still in fligh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might be associated with the new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, TCP requires changing the ISN over tim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t from a 32-bit clock that ticks every 4 microsecon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ich only wraps around once every 4.55 hours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t, this means the hosts need to exchange IS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2CFB-0317-471A-A527-D7D763A9D8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CP Three-Way Handshak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64041-2980-4F0B-9E3E-E7F2423366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tablishing a TCP Conn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61520" y="4773240"/>
            <a:ext cx="84582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ree-way handshake to establish conn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A sends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YN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(open) to the host 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B returns a SYN acknowledgment (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YN ACK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A sends a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K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acknowledge the SYN 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451240" y="1898640"/>
            <a:ext cx="1603080" cy="2872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461680" y="241632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440080" y="300816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444760" y="3539520"/>
            <a:ext cx="1598760" cy="4698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rot="605400">
            <a:off x="2901240" y="15548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 flipV="1" rot="10146600">
            <a:off x="2588400" y="219420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YN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rot="1044600">
            <a:off x="3116520" y="2962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rot="1003800">
            <a:off x="2904840" y="33832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041720" y="1690560"/>
            <a:ext cx="6480" cy="2890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2435400" y="1706400"/>
            <a:ext cx="23760" cy="279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277000" y="1238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43720" y="12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473200" y="3880800"/>
            <a:ext cx="1598760" cy="4698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1003800">
            <a:off x="2933280" y="37245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148360" y="2122560"/>
            <a:ext cx="25351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host tells its ISN to the other h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B2F64-14E9-44E9-A430-6E08F591DC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Head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715200" y="1874880"/>
            <a:ext cx="1497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849280" y="1874880"/>
            <a:ext cx="19638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335400" y="23623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629960" y="2865600"/>
            <a:ext cx="21207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265560" y="3352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r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335400" y="4800600"/>
            <a:ext cx="4876560" cy="11430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E81F6-65E7-414A-BF75-614DE21A13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1: A’s Initial SYN Pack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71700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44724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177080" y="2408400"/>
            <a:ext cx="33919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Initial 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629960" y="2865600"/>
            <a:ext cx="21207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955520" y="5349960"/>
            <a:ext cx="51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 tells B it wants to open a connection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69CE4-4A33-448C-B2C3-916725A039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2: B’s SYN-ACK Pack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71700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44724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77080" y="2408400"/>
            <a:ext cx="33919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Initial 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752000" y="2865600"/>
            <a:ext cx="17780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ISN plu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74960" y="5349960"/>
            <a:ext cx="68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B tells A it accepts, and is ready to hear the next byt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169280" y="6219720"/>
            <a:ext cx="68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pon receiving this packet, A can start send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F2246-BCB2-4398-AA7B-F779BC6674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3: A’s ACK of the SYN-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71700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44724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752000" y="2865600"/>
            <a:ext cx="17780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ISN plu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344320" y="5349960"/>
            <a:ext cx="433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 tells B it is okay to start se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169280" y="6270480"/>
            <a:ext cx="68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pon receiving this packet, B can start send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70F29-38F6-4551-A810-037F562176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f the SYN Packet Gets Los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ppose the SYN packet gets los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 is lost inside the network, 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rver rejects the packet (e.g., listen queue is full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ventually, no SYN-ACK arriv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sets a timer and wait for the SYN-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transmits the SYN-ACK if need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should the TCP sender set the timer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has no idea how far away the receiver i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ard to guess a reasonable length of time to wai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 TCPs use a default of 3 or 6 secon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C8B8E-5C33-4D68-8CB7-248DED48A2C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 Loss and Web Downlo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r clicks on a hypertext lin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owser creates a socket and does a “connect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“connect” triggers the OS to transmit a SY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f the SYN is lost…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3-6 seconds of delay may be very lo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user may get impati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click the hyperlink again, or click “reload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r triggers an “abort” of the “connect”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owser creates a new socket and does  a “connect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ssentially, forces a faster send of a new SYN packet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times very effective, and the page comes fa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1A090-16A8-4FE8-AC06-233529FE855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CP Retransmission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FDF2D-2D39-48DD-B466-D4984A73528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le of Transport Lay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lication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munication for specific applic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HyperText Transfer Protocol (HTTP), File Transfer Protocol (FTP), Network News Transfer Protocol (NNTP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ansport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munication between processes (e.g., socket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lies on network layer and serves the application lay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CP and UD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twork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gical communication between nod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des details of the link technolog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I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BEEC-2367-40F5-95D4-BFD16ED613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5334120" y="2057400"/>
            <a:ext cx="342900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omatic Repeat reQuest (ARQ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411520" y="495216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062920" y="3075120"/>
            <a:ext cx="3240" cy="186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666120" y="3144960"/>
            <a:ext cx="1357560" cy="617040"/>
            <a:chOff x="6666120" y="3144960"/>
            <a:chExt cx="1357560" cy="617040"/>
          </a:xfrm>
        </p:grpSpPr>
        <p:sp>
          <p:nvSpPr>
            <p:cNvPr id="903" name=""/>
            <p:cNvSpPr/>
            <p:nvPr/>
          </p:nvSpPr>
          <p:spPr>
            <a:xfrm>
              <a:off x="6666120" y="3484800"/>
              <a:ext cx="1357560" cy="27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688200">
              <a:off x="6816240" y="32360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6608160" y="3973680"/>
            <a:ext cx="1431000" cy="502200"/>
            <a:chOff x="6608160" y="3973680"/>
            <a:chExt cx="1431000" cy="502200"/>
          </a:xfrm>
        </p:grpSpPr>
        <p:sp>
          <p:nvSpPr>
            <p:cNvPr id="906" name=""/>
            <p:cNvSpPr/>
            <p:nvPr/>
          </p:nvSpPr>
          <p:spPr>
            <a:xfrm flipV="1">
              <a:off x="6608160" y="42537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21071400">
              <a:off x="6855480" y="40251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8" name=""/>
          <p:cNvCxnSpPr/>
          <p:nvPr/>
        </p:nvCxnSpPr>
        <p:spPr>
          <a:xfrm flipH="1" rot="16200000">
            <a:off x="5682240" y="400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84618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09" name=""/>
          <p:cNvSpPr/>
          <p:nvPr/>
        </p:nvSpPr>
        <p:spPr>
          <a:xfrm rot="16200000">
            <a:off x="5625360" y="376056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23720" y="1523880"/>
            <a:ext cx="4807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Receiver sends acknowledgment (ACK) when it receives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Sender waits for ACK and timeouts if it does not arrive within some time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implest ARQ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Stop and 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Send a packet, stop and wait until ACK arri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096240" y="258984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451640" y="258984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791320" y="3048120"/>
            <a:ext cx="0" cy="19047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629400" y="3075120"/>
            <a:ext cx="3240" cy="186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4FF6F-626F-48FE-9AF4-7864866A3C0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sons for Retransmi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7125840" y="2018520"/>
            <a:ext cx="1418400" cy="605160"/>
            <a:chOff x="7125840" y="2018520"/>
            <a:chExt cx="1418400" cy="605160"/>
          </a:xfrm>
        </p:grpSpPr>
        <p:sp>
          <p:nvSpPr>
            <p:cNvPr id="917" name=""/>
            <p:cNvSpPr/>
            <p:nvPr/>
          </p:nvSpPr>
          <p:spPr>
            <a:xfrm>
              <a:off x="7125840" y="23342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rot="688200">
              <a:off x="7297920" y="21096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7051680" y="2657520"/>
            <a:ext cx="1407960" cy="1225440"/>
            <a:chOff x="7051680" y="2657520"/>
            <a:chExt cx="1407960" cy="1225440"/>
          </a:xfrm>
        </p:grpSpPr>
        <p:sp>
          <p:nvSpPr>
            <p:cNvPr id="920" name=""/>
            <p:cNvSpPr/>
            <p:nvPr/>
          </p:nvSpPr>
          <p:spPr>
            <a:xfrm flipV="1">
              <a:off x="7051680" y="2840040"/>
              <a:ext cx="1407960" cy="10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19405200">
              <a:off x="7535520" y="28274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2" name=""/>
          <p:cNvCxnSpPr/>
          <p:nvPr/>
        </p:nvCxnSpPr>
        <p:spPr>
          <a:xfrm flipH="1" rot="16200000">
            <a:off x="6120360" y="283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8545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23" name=""/>
          <p:cNvSpPr/>
          <p:nvPr/>
        </p:nvSpPr>
        <p:spPr>
          <a:xfrm rot="16200000">
            <a:off x="6074640" y="27345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049160" y="3570120"/>
            <a:ext cx="1487160" cy="303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rot="688200">
            <a:off x="7539120" y="33818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7056000" y="4006800"/>
            <a:ext cx="1430640" cy="502200"/>
            <a:chOff x="7056000" y="4006800"/>
            <a:chExt cx="1430640" cy="502200"/>
          </a:xfrm>
        </p:grpSpPr>
        <p:sp>
          <p:nvSpPr>
            <p:cNvPr id="927" name=""/>
            <p:cNvSpPr/>
            <p:nvPr/>
          </p:nvSpPr>
          <p:spPr>
            <a:xfrm flipV="1">
              <a:off x="7056000" y="4286880"/>
              <a:ext cx="143064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21071400">
              <a:off x="7302960" y="405828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9" name=""/>
          <p:cNvCxnSpPr/>
          <p:nvPr/>
        </p:nvCxnSpPr>
        <p:spPr>
          <a:xfrm flipH="1" rot="16200000">
            <a:off x="6120360" y="4310640"/>
            <a:ext cx="1891440" cy="3960"/>
          </a:xfrm>
          <a:prstGeom prst="bentConnector5">
            <a:avLst>
              <a:gd name="adj1" fmla="val 10660"/>
              <a:gd name="adj2" fmla="val -6800000"/>
              <a:gd name="adj3" fmla="val 77327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30" name=""/>
          <p:cNvSpPr/>
          <p:nvPr/>
        </p:nvSpPr>
        <p:spPr>
          <a:xfrm rot="16200000">
            <a:off x="607284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246320" y="2019600"/>
            <a:ext cx="1063800" cy="582840"/>
            <a:chOff x="1246320" y="2019600"/>
            <a:chExt cx="1063800" cy="582840"/>
          </a:xfrm>
        </p:grpSpPr>
        <p:sp>
          <p:nvSpPr>
            <p:cNvPr id="932" name=""/>
            <p:cNvSpPr/>
            <p:nvPr/>
          </p:nvSpPr>
          <p:spPr>
            <a:xfrm>
              <a:off x="1264680" y="2388960"/>
              <a:ext cx="1045440" cy="21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688200">
              <a:off x="1276200" y="211068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4" name=""/>
          <p:cNvCxnSpPr/>
          <p:nvPr/>
        </p:nvCxnSpPr>
        <p:spPr>
          <a:xfrm flipH="1" rot="16200000">
            <a:off x="272160" y="283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10066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35" name=""/>
          <p:cNvSpPr/>
          <p:nvPr/>
        </p:nvSpPr>
        <p:spPr>
          <a:xfrm rot="16200000">
            <a:off x="227880" y="273348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1276200" y="3493440"/>
            <a:ext cx="1418400" cy="605160"/>
            <a:chOff x="1276200" y="3493440"/>
            <a:chExt cx="1418400" cy="605160"/>
          </a:xfrm>
        </p:grpSpPr>
        <p:sp>
          <p:nvSpPr>
            <p:cNvPr id="937" name=""/>
            <p:cNvSpPr/>
            <p:nvPr/>
          </p:nvSpPr>
          <p:spPr>
            <a:xfrm>
              <a:off x="1276200" y="38091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rot="688200">
              <a:off x="1448280" y="35845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1207440" y="4335480"/>
            <a:ext cx="1431000" cy="502200"/>
            <a:chOff x="1207440" y="4335480"/>
            <a:chExt cx="1431000" cy="502200"/>
          </a:xfrm>
        </p:grpSpPr>
        <p:sp>
          <p:nvSpPr>
            <p:cNvPr id="940" name=""/>
            <p:cNvSpPr/>
            <p:nvPr/>
          </p:nvSpPr>
          <p:spPr>
            <a:xfrm flipV="1">
              <a:off x="1207440" y="46155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rot="21071400">
              <a:off x="1454760" y="43869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2" name=""/>
          <p:cNvCxnSpPr/>
          <p:nvPr/>
        </p:nvCxnSpPr>
        <p:spPr>
          <a:xfrm flipH="1" rot="16200000">
            <a:off x="270360" y="431064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9712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43" name=""/>
          <p:cNvSpPr/>
          <p:nvPr/>
        </p:nvSpPr>
        <p:spPr>
          <a:xfrm rot="16200000">
            <a:off x="22608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2130480" y="2362320"/>
            <a:ext cx="380880" cy="457200"/>
          </a:xfrm>
          <a:prstGeom prst="lightningBol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4236840" y="2018520"/>
            <a:ext cx="1418400" cy="605160"/>
            <a:chOff x="4236840" y="2018520"/>
            <a:chExt cx="1418400" cy="605160"/>
          </a:xfrm>
        </p:grpSpPr>
        <p:sp>
          <p:nvSpPr>
            <p:cNvPr id="946" name=""/>
            <p:cNvSpPr/>
            <p:nvPr/>
          </p:nvSpPr>
          <p:spPr>
            <a:xfrm>
              <a:off x="4236840" y="23342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rot="688200">
              <a:off x="4408920" y="21096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4614480" y="2772720"/>
            <a:ext cx="971640" cy="502200"/>
            <a:chOff x="4614480" y="2772720"/>
            <a:chExt cx="971640" cy="502200"/>
          </a:xfrm>
        </p:grpSpPr>
        <p:sp>
          <p:nvSpPr>
            <p:cNvPr id="949" name=""/>
            <p:cNvSpPr/>
            <p:nvPr/>
          </p:nvSpPr>
          <p:spPr>
            <a:xfrm flipV="1">
              <a:off x="4614480" y="3093840"/>
              <a:ext cx="971640" cy="14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rot="21071400">
              <a:off x="4646520" y="282420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51" name=""/>
          <p:cNvCxnSpPr/>
          <p:nvPr/>
        </p:nvCxnSpPr>
        <p:spPr>
          <a:xfrm flipH="1" rot="16200000">
            <a:off x="3231360" y="2835720"/>
            <a:ext cx="1891440" cy="3600"/>
          </a:xfrm>
          <a:prstGeom prst="bentConnector5">
            <a:avLst>
              <a:gd name="adj1" fmla="val 22825"/>
              <a:gd name="adj2" fmla="val -6800000"/>
              <a:gd name="adj3" fmla="val 10066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52" name=""/>
          <p:cNvSpPr/>
          <p:nvPr/>
        </p:nvSpPr>
        <p:spPr>
          <a:xfrm rot="16200000">
            <a:off x="3185280" y="27345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4235040" y="3493440"/>
            <a:ext cx="1418400" cy="605160"/>
            <a:chOff x="4235040" y="3493440"/>
            <a:chExt cx="1418400" cy="605160"/>
          </a:xfrm>
        </p:grpSpPr>
        <p:sp>
          <p:nvSpPr>
            <p:cNvPr id="954" name=""/>
            <p:cNvSpPr/>
            <p:nvPr/>
          </p:nvSpPr>
          <p:spPr>
            <a:xfrm>
              <a:off x="4235040" y="38091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rot="688200">
              <a:off x="4407120" y="35845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4166640" y="4335480"/>
            <a:ext cx="1431000" cy="502200"/>
            <a:chOff x="4166640" y="4335480"/>
            <a:chExt cx="1431000" cy="502200"/>
          </a:xfrm>
        </p:grpSpPr>
        <p:sp>
          <p:nvSpPr>
            <p:cNvPr id="957" name=""/>
            <p:cNvSpPr/>
            <p:nvPr/>
          </p:nvSpPr>
          <p:spPr>
            <a:xfrm flipV="1">
              <a:off x="4166640" y="46155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rot="21071400">
              <a:off x="4413960" y="43869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59" name=""/>
          <p:cNvCxnSpPr/>
          <p:nvPr/>
        </p:nvCxnSpPr>
        <p:spPr>
          <a:xfrm flipH="1" rot="16200000">
            <a:off x="3229560" y="431064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9712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60" name=""/>
          <p:cNvSpPr/>
          <p:nvPr/>
        </p:nvSpPr>
        <p:spPr>
          <a:xfrm rot="16200000">
            <a:off x="318384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17528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327560" y="3048120"/>
            <a:ext cx="380880" cy="457200"/>
          </a:xfrm>
          <a:prstGeom prst="lightningBol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158000" y="5455080"/>
            <a:ext cx="167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K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UPLICATE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239480" y="5591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acket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891120" y="5485320"/>
            <a:ext cx="17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rly 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UPLICATE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66244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21428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70180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06284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855036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F0E7-2AE3-44D0-9A58-69AD669D12F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Long Should Sender Wai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nder sets a timeout to wait for an A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o short: wasted retransmiss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o long: excessive delays when packet lo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sets timeout as a function of the RT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ect ACK to arrive after an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lus a fudge factor to account for queu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t, how does the sender know the RTT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estimate the RTT by watching the ACK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mooth estimate: keep a running average of the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RTT = a * EstimatedRTT + (1 –a ) * SampleR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pute timeout: TimeOut = 2 * Estimated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8B896-21E0-4A2D-9462-52D8D7CC09A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RTT Esti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490680" y="1049400"/>
            <a:ext cx="7738920" cy="529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E712B-B59D-4BC4-9386-39C68CC696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Flaw in This Approa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 ACK doesn’t really acknowledge a transmis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ther, it acknowledges receipt of the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sider a retransmission of a lost pack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you assume the ACK goes with the 1st transmi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ampleRTT comes out way too lar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sider a duplicate packet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you assume the ACK goes with the 2nd transmi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ample RTT comes out way too smal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e solution in the Karn/Partridge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ly collect samples for segments sent one single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743D8-26AA-4E2B-B0CF-415D57022A7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t Another Limitati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oesn’t consider variance in the RT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variance is small, the EstimatedRTT is pretty accur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if variance is large, the estimate isn’t all that go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etter to directly consider the varia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sider difference: SampleRTT – Estimated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oost the estimate based on the differe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acobson/Karels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e Section 5.2 of the Peterson/Davie book for detai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77A02-7626-45B3-9570-14C76366324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CP Sliding Window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F8398-865B-4D47-B332-ACE5327D426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for Sliding Wind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op-and-wait is ineffici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ly one TCP segment is “in flight” at a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specially bad when delay-bandwidth product is hig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umerical examp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.5 Mbps link with a 45 msec round-trip time (RTT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-bandwidth product is 67.5 Kbits (or 8 K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sender can send at most one packet per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ing a segment size of 1 KB (8 K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 8 Kbits/segment / 45 msec/segm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82 K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’s just one-eighth of the 1.5 Mbps link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 flipH="1">
            <a:off x="539280" y="5349960"/>
            <a:ext cx="1476360" cy="150804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/>
          <p:cNvPicPr/>
          <p:nvPr/>
        </p:nvPicPr>
        <p:blipFill>
          <a:blip r:embed="rId2"/>
          <a:stretch/>
        </p:blipFill>
        <p:spPr>
          <a:xfrm>
            <a:off x="6607080" y="5580000"/>
            <a:ext cx="1824120" cy="112068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1922400" y="6272280"/>
            <a:ext cx="4722840" cy="268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765600" y="6308640"/>
            <a:ext cx="1268280" cy="192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726080" y="6308640"/>
            <a:ext cx="30636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E4505-1DDE-4A1E-AB48-3CD7F2B3C18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iding Wind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llow a larger amount of data “in flight”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ow sender to get ahead of the recei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ough not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too fa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he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116000" y="2890800"/>
            <a:ext cx="2879640" cy="768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462680" y="304488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187960" y="2890800"/>
            <a:ext cx="2879640" cy="768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438520" y="304488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54120" y="3863880"/>
            <a:ext cx="35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916520" y="3889440"/>
            <a:ext cx="35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808200" y="4581360"/>
            <a:ext cx="958680" cy="46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768320" y="4581360"/>
            <a:ext cx="959040" cy="460440"/>
          </a:xfrm>
          <a:prstGeom prst="rect">
            <a:avLst/>
          </a:prstGeom>
          <a:solidFill>
            <a:srgbClr val="99c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728800" y="4581360"/>
            <a:ext cx="959040" cy="460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687840" y="4583160"/>
            <a:ext cx="614160" cy="460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421000" y="3659040"/>
            <a:ext cx="1268280" cy="844560"/>
          </a:xfrm>
          <a:custGeom>
            <a:avLst/>
            <a:gdLst/>
            <a:ahLst/>
            <a:rect l="l" t="t" r="r" b="b"/>
            <a:pathLst>
              <a:path w="799" h="460">
                <a:moveTo>
                  <a:pt x="0" y="0"/>
                </a:moveTo>
                <a:cubicBezTo>
                  <a:pt x="127" y="22"/>
                  <a:pt x="254" y="44"/>
                  <a:pt x="387" y="121"/>
                </a:cubicBezTo>
                <a:cubicBezTo>
                  <a:pt x="520" y="198"/>
                  <a:pt x="659" y="329"/>
                  <a:pt x="799" y="46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1768320" y="5157360"/>
            <a:ext cx="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2728800" y="5157360"/>
            <a:ext cx="0" cy="1190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61160" y="565776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A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355760" y="633564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63680" y="38131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072040" y="4478400"/>
            <a:ext cx="614520" cy="46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686560" y="4478400"/>
            <a:ext cx="1304640" cy="460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953400" y="4478400"/>
            <a:ext cx="34596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643880" y="4479840"/>
            <a:ext cx="614160" cy="460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727880" y="38512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646600" y="3583080"/>
            <a:ext cx="1382760" cy="882720"/>
          </a:xfrm>
          <a:custGeom>
            <a:avLst/>
            <a:gdLst/>
            <a:ahLst/>
            <a:rect l="l" t="t" r="r" b="b"/>
            <a:pathLst>
              <a:path w="871" h="556">
                <a:moveTo>
                  <a:pt x="0" y="556"/>
                </a:moveTo>
                <a:cubicBezTo>
                  <a:pt x="278" y="421"/>
                  <a:pt x="556" y="286"/>
                  <a:pt x="701" y="193"/>
                </a:cubicBezTo>
                <a:cubicBezTo>
                  <a:pt x="846" y="100"/>
                  <a:pt x="858" y="50"/>
                  <a:pt x="871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6953400" y="4965480"/>
            <a:ext cx="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838040" y="5502240"/>
            <a:ext cx="25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byte exp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227600" y="396720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w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452280" y="3954600"/>
            <a:ext cx="19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299360" y="4465800"/>
            <a:ext cx="345960" cy="460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7624800" y="5003640"/>
            <a:ext cx="0" cy="119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760720" y="618156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D7FF1-C8E9-43AD-BF26-5D07C380D5A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iver Buff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8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indow siz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mount that can be sent without acknowledg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 needs to be able to store this amount of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ceiver advertises the window to the receiv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ells the receiver the amount of free space lef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 sender agrees not to exceed this amou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079720" y="5024520"/>
            <a:ext cx="456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079720" y="5634000"/>
            <a:ext cx="456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6645240" y="502452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6645240" y="563400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0797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2320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3842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5369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6892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8414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9941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1464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2986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4513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6036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7558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9085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0608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2130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3657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5180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6702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8229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9752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1274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2801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4324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5846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7373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8896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418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945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3468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4990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6517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804000" y="50245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956280" y="50245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994120" y="4648320"/>
            <a:ext cx="2895480" cy="137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1616040" y="502452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H="1">
            <a:off x="1616040" y="563400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781280" y="502920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933560" y="502920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365720" y="4648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994120" y="44956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465000" y="4114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indow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1469880" y="6095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889600" y="6095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994120" y="6095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365720" y="6095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9941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3657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88960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913120" y="6099120"/>
            <a:ext cx="140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Outsta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Un-ack’d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84960" y="6099120"/>
            <a:ext cx="95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Data O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to s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844960" y="6099120"/>
            <a:ext cx="13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ta not O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o send y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614600" y="6099120"/>
            <a:ext cx="120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ta ACK’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28F27-9C50-46D5-A9E0-61D79121FC5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port Protoc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959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vide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logical communicat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between application processes running on different host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un on end hosts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: breaks application messages in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gment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passes to network lay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: reassembles segments into messages, passes to application lay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ultiple transport protocol available to application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ernet: TCP and UD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488280" y="3922560"/>
            <a:ext cx="1304640" cy="1086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089840" y="252252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10280" y="237960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78560" y="3830760"/>
            <a:ext cx="2975040" cy="221904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327640" y="2514600"/>
            <a:ext cx="732960" cy="318960"/>
            <a:chOff x="5327640" y="2514600"/>
            <a:chExt cx="732960" cy="31896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5327640" y="251460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5781240" y="263268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flipV="1">
              <a:off x="5734080" y="275616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27640" y="3110040"/>
            <a:ext cx="732960" cy="318960"/>
            <a:chOff x="5327640" y="3110040"/>
            <a:chExt cx="732960" cy="318960"/>
          </a:xfrm>
        </p:grpSpPr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>
              <a:off x="5327640" y="311004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5"/>
            <a:stretch/>
          </p:blipFill>
          <p:spPr>
            <a:xfrm>
              <a:off x="5781240" y="322812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 flipV="1">
              <a:off x="5734080" y="335160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703840" y="2897280"/>
            <a:ext cx="69480" cy="214200"/>
            <a:chOff x="5703840" y="2897280"/>
            <a:chExt cx="69480" cy="214200"/>
          </a:xfrm>
        </p:grpSpPr>
        <p:sp>
          <p:nvSpPr>
            <p:cNvPr id="115" name=""/>
            <p:cNvSpPr/>
            <p:nvPr/>
          </p:nvSpPr>
          <p:spPr>
            <a:xfrm>
              <a:off x="5703840" y="2897280"/>
              <a:ext cx="64080" cy="6012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06360" y="2974320"/>
              <a:ext cx="64080" cy="6012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09240" y="3051360"/>
              <a:ext cx="64080" cy="6012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173640" y="3400560"/>
            <a:ext cx="209520" cy="394920"/>
            <a:chOff x="6173640" y="3400560"/>
            <a:chExt cx="209520" cy="394920"/>
          </a:xfrm>
        </p:grpSpPr>
        <p:sp>
          <p:nvSpPr>
            <p:cNvPr id="119" name=""/>
            <p:cNvSpPr/>
            <p:nvPr/>
          </p:nvSpPr>
          <p:spPr>
            <a:xfrm>
              <a:off x="6173640" y="37044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79840" y="340308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74720" y="348912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73640" y="34005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83160" y="34066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307200" y="37044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91640" y="3529080"/>
              <a:ext cx="87840" cy="174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04240" y="358200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410160" y="3553920"/>
            <a:ext cx="233280" cy="81000"/>
            <a:chOff x="6410160" y="3553920"/>
            <a:chExt cx="233280" cy="81000"/>
          </a:xfrm>
        </p:grpSpPr>
        <p:sp>
          <p:nvSpPr>
            <p:cNvPr id="128" name=""/>
            <p:cNvSpPr/>
            <p:nvPr/>
          </p:nvSpPr>
          <p:spPr>
            <a:xfrm rot="16200000">
              <a:off x="6405840" y="3564720"/>
              <a:ext cx="74520" cy="658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6489360" y="3561480"/>
              <a:ext cx="74520" cy="6552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6200000">
              <a:off x="6573240" y="3558240"/>
              <a:ext cx="74520" cy="6552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310440" y="3308400"/>
            <a:ext cx="495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13320" y="3305160"/>
            <a:ext cx="180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08680" y="3303720"/>
            <a:ext cx="18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0200" y="2768760"/>
            <a:ext cx="289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022800" y="3054240"/>
            <a:ext cx="27648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550200" y="3139560"/>
            <a:ext cx="144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669000" y="3378240"/>
            <a:ext cx="209520" cy="394920"/>
            <a:chOff x="6669000" y="3378240"/>
            <a:chExt cx="209520" cy="394920"/>
          </a:xfrm>
        </p:grpSpPr>
        <p:sp>
          <p:nvSpPr>
            <p:cNvPr id="138" name=""/>
            <p:cNvSpPr/>
            <p:nvPr/>
          </p:nvSpPr>
          <p:spPr>
            <a:xfrm>
              <a:off x="6669000" y="36820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75200" y="338076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70080" y="346680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69000" y="33782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78520" y="33843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802560" y="36820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87000" y="3506760"/>
              <a:ext cx="87840" cy="174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99600" y="355968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711760" y="3997440"/>
            <a:ext cx="479160" cy="925200"/>
            <a:chOff x="5711760" y="3997440"/>
            <a:chExt cx="479160" cy="925200"/>
          </a:xfrm>
        </p:grpSpPr>
        <p:pic>
          <p:nvPicPr>
            <p:cNvPr id="147" name="" descr=""/>
            <p:cNvPicPr/>
            <p:nvPr/>
          </p:nvPicPr>
          <p:blipFill>
            <a:blip r:embed="rId6"/>
            <a:stretch/>
          </p:blipFill>
          <p:spPr>
            <a:xfrm>
              <a:off x="5711760" y="39974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 flipV="1">
              <a:off x="6118560" y="424404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7"/>
            <a:stretch/>
          </p:blipFill>
          <p:spPr>
            <a:xfrm>
              <a:off x="5711760" y="45921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 flipV="1">
              <a:off x="6118560" y="484236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5837040" y="4338720"/>
              <a:ext cx="70560" cy="222480"/>
              <a:chOff x="5837040" y="4338720"/>
              <a:chExt cx="70560" cy="222480"/>
            </a:xfrm>
          </p:grpSpPr>
          <p:sp>
            <p:nvSpPr>
              <p:cNvPr id="152" name=""/>
              <p:cNvSpPr/>
              <p:nvPr/>
            </p:nvSpPr>
            <p:spPr>
              <a:xfrm>
                <a:off x="5837040" y="4338720"/>
                <a:ext cx="65160" cy="626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39560" y="4418640"/>
                <a:ext cx="65160" cy="6228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842440" y="4498920"/>
                <a:ext cx="65160" cy="6228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6185520" y="424116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5965920" y="4995720"/>
            <a:ext cx="415800" cy="330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rot="16200000">
            <a:off x="6382440" y="5099400"/>
            <a:ext cx="63720" cy="6516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6467400" y="5097240"/>
            <a:ext cx="63360" cy="6660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545160" y="5101920"/>
            <a:ext cx="61920" cy="6516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834240" y="4952880"/>
            <a:ext cx="144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210360" y="494136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211800" y="494820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191280" y="457308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92840" y="4619520"/>
            <a:ext cx="30312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587720" y="4616280"/>
            <a:ext cx="279720" cy="3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7765920" y="4168800"/>
            <a:ext cx="203400" cy="241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0"/>
          <a:stretch/>
        </p:blipFill>
        <p:spPr>
          <a:xfrm>
            <a:off x="6429240" y="4249800"/>
            <a:ext cx="203400" cy="23976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6777000" y="5446800"/>
            <a:ext cx="406080" cy="426960"/>
            <a:chOff x="6777000" y="5446800"/>
            <a:chExt cx="406080" cy="426960"/>
          </a:xfrm>
        </p:grpSpPr>
        <p:pic>
          <p:nvPicPr>
            <p:cNvPr id="169" name="" descr=""/>
            <p:cNvPicPr/>
            <p:nvPr/>
          </p:nvPicPr>
          <p:blipFill>
            <a:blip r:embed="rId11"/>
            <a:stretch/>
          </p:blipFill>
          <p:spPr>
            <a:xfrm>
              <a:off x="6777000" y="54468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12"/>
            <a:stretch/>
          </p:blipFill>
          <p:spPr>
            <a:xfrm>
              <a:off x="6836760" y="55587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"/>
          <p:cNvGrpSpPr/>
          <p:nvPr/>
        </p:nvGrpSpPr>
        <p:grpSpPr>
          <a:xfrm>
            <a:off x="7554960" y="5478480"/>
            <a:ext cx="406080" cy="426960"/>
            <a:chOff x="7554960" y="5478480"/>
            <a:chExt cx="406080" cy="426960"/>
          </a:xfrm>
        </p:grpSpPr>
        <p:pic>
          <p:nvPicPr>
            <p:cNvPr id="172" name="" descr=""/>
            <p:cNvPicPr/>
            <p:nvPr/>
          </p:nvPicPr>
          <p:blipFill>
            <a:blip r:embed="rId13"/>
            <a:stretch/>
          </p:blipFill>
          <p:spPr>
            <a:xfrm>
              <a:off x="7554960" y="54784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4"/>
            <a:stretch/>
          </p:blipFill>
          <p:spPr>
            <a:xfrm>
              <a:off x="7614720" y="55904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"/>
          <p:cNvGrpSpPr/>
          <p:nvPr/>
        </p:nvGrpSpPr>
        <p:grpSpPr>
          <a:xfrm>
            <a:off x="7140600" y="5194440"/>
            <a:ext cx="379440" cy="376200"/>
            <a:chOff x="7140600" y="5194440"/>
            <a:chExt cx="379440" cy="376200"/>
          </a:xfrm>
        </p:grpSpPr>
        <p:pic>
          <p:nvPicPr>
            <p:cNvPr id="175" name="" descr=""/>
            <p:cNvPicPr/>
            <p:nvPr/>
          </p:nvPicPr>
          <p:blipFill>
            <a:blip r:embed="rId15"/>
            <a:stretch/>
          </p:blipFill>
          <p:spPr>
            <a:xfrm>
              <a:off x="7140600" y="5194440"/>
              <a:ext cx="37944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7250760" y="532656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7446960" y="509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8167680" y="4521240"/>
            <a:ext cx="208080" cy="409680"/>
            <a:chOff x="8167680" y="4521240"/>
            <a:chExt cx="208080" cy="409680"/>
          </a:xfrm>
        </p:grpSpPr>
        <p:sp>
          <p:nvSpPr>
            <p:cNvPr id="179" name=""/>
            <p:cNvSpPr/>
            <p:nvPr/>
          </p:nvSpPr>
          <p:spPr>
            <a:xfrm>
              <a:off x="8167680" y="483624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272800" y="452376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68760" y="461304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67680" y="452124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375760" y="452772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8300520" y="483624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185320" y="4654440"/>
              <a:ext cx="87480" cy="1814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197920" y="47091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8155080" y="4965840"/>
            <a:ext cx="207720" cy="408960"/>
            <a:chOff x="8155080" y="4965840"/>
            <a:chExt cx="207720" cy="408960"/>
          </a:xfrm>
        </p:grpSpPr>
        <p:sp>
          <p:nvSpPr>
            <p:cNvPr id="188" name=""/>
            <p:cNvSpPr/>
            <p:nvPr/>
          </p:nvSpPr>
          <p:spPr>
            <a:xfrm>
              <a:off x="8155080" y="5280480"/>
              <a:ext cx="207720" cy="94320"/>
            </a:xfrm>
            <a:prstGeom prst="parallelogram">
              <a:avLst>
                <a:gd name="adj" fmla="val 84839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60200" y="496836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56160" y="5057640"/>
              <a:ext cx="13140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55080" y="4965840"/>
              <a:ext cx="207720" cy="94320"/>
            </a:xfrm>
            <a:prstGeom prst="parallelogram">
              <a:avLst>
                <a:gd name="adj" fmla="val 84839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62800" y="49723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8287560" y="5280480"/>
              <a:ext cx="7452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72720" y="5099040"/>
              <a:ext cx="87120" cy="1810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85320" y="51537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 flipV="1">
            <a:off x="8086680" y="458928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83440" y="519912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80200" y="47228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804000" y="2819160"/>
            <a:ext cx="45864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38920" y="2803680"/>
            <a:ext cx="48600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8257680" y="3139920"/>
            <a:ext cx="24156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88360" y="291636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13560" y="3564000"/>
            <a:ext cx="53496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7973640" y="402912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746480" y="3108240"/>
            <a:ext cx="56052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7756560" y="2548080"/>
            <a:ext cx="35064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8474040" y="2724120"/>
            <a:ext cx="20160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284880" y="2916360"/>
            <a:ext cx="501840" cy="232920"/>
            <a:chOff x="6284880" y="2916360"/>
            <a:chExt cx="501840" cy="232920"/>
          </a:xfrm>
        </p:grpSpPr>
        <p:sp>
          <p:nvSpPr>
            <p:cNvPr id="209" name=""/>
            <p:cNvSpPr/>
            <p:nvPr/>
          </p:nvSpPr>
          <p:spPr>
            <a:xfrm>
              <a:off x="6288840" y="3020400"/>
              <a:ext cx="497520" cy="1288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88840" y="300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86720" y="300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88840" y="3009240"/>
              <a:ext cx="49320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84880" y="2916360"/>
              <a:ext cx="497160" cy="1504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404400" y="2949120"/>
              <a:ext cx="246240" cy="88200"/>
              <a:chOff x="6404400" y="2949120"/>
              <a:chExt cx="246240" cy="88200"/>
            </a:xfrm>
          </p:grpSpPr>
          <p:sp>
            <p:nvSpPr>
              <p:cNvPr id="215" name=""/>
              <p:cNvSpPr/>
              <p:nvPr/>
            </p:nvSpPr>
            <p:spPr>
              <a:xfrm flipV="1">
                <a:off x="6404400" y="2949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573240" y="3037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85400" y="29512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6404400" y="2948400"/>
              <a:ext cx="246240" cy="88200"/>
              <a:chOff x="6404400" y="2948400"/>
              <a:chExt cx="246240" cy="88200"/>
            </a:xfrm>
          </p:grpSpPr>
          <p:sp>
            <p:nvSpPr>
              <p:cNvPr id="219" name=""/>
              <p:cNvSpPr/>
              <p:nvPr/>
            </p:nvSpPr>
            <p:spPr>
              <a:xfrm>
                <a:off x="6404400" y="3034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573240" y="2948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6485400" y="2948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2" name=""/>
          <p:cNvGrpSpPr/>
          <p:nvPr/>
        </p:nvGrpSpPr>
        <p:grpSpPr>
          <a:xfrm>
            <a:off x="7237440" y="2687760"/>
            <a:ext cx="501480" cy="232920"/>
            <a:chOff x="7237440" y="2687760"/>
            <a:chExt cx="501480" cy="232920"/>
          </a:xfrm>
        </p:grpSpPr>
        <p:sp>
          <p:nvSpPr>
            <p:cNvPr id="223" name=""/>
            <p:cNvSpPr/>
            <p:nvPr/>
          </p:nvSpPr>
          <p:spPr>
            <a:xfrm>
              <a:off x="7241400" y="2791800"/>
              <a:ext cx="497160" cy="1288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41400" y="2780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38920" y="2780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41400" y="2780640"/>
              <a:ext cx="49284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237440" y="2687760"/>
              <a:ext cx="496800" cy="1504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7356960" y="2720520"/>
              <a:ext cx="246240" cy="88200"/>
              <a:chOff x="7356960" y="2720520"/>
              <a:chExt cx="246240" cy="88200"/>
            </a:xfrm>
          </p:grpSpPr>
          <p:sp>
            <p:nvSpPr>
              <p:cNvPr id="229" name=""/>
              <p:cNvSpPr/>
              <p:nvPr/>
            </p:nvSpPr>
            <p:spPr>
              <a:xfrm flipV="1">
                <a:off x="7356960" y="2720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25800" y="2808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437960" y="27226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356960" y="2719800"/>
              <a:ext cx="246240" cy="88200"/>
              <a:chOff x="7356960" y="2719800"/>
              <a:chExt cx="246240" cy="88200"/>
            </a:xfrm>
          </p:grpSpPr>
          <p:sp>
            <p:nvSpPr>
              <p:cNvPr id="233" name=""/>
              <p:cNvSpPr/>
              <p:nvPr/>
            </p:nvSpPr>
            <p:spPr>
              <a:xfrm>
                <a:off x="7356960" y="2806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525800" y="2719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7437960" y="27198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7254720" y="3344760"/>
            <a:ext cx="501840" cy="233280"/>
            <a:chOff x="7254720" y="3344760"/>
            <a:chExt cx="501840" cy="233280"/>
          </a:xfrm>
        </p:grpSpPr>
        <p:sp>
          <p:nvSpPr>
            <p:cNvPr id="237" name=""/>
            <p:cNvSpPr/>
            <p:nvPr/>
          </p:nvSpPr>
          <p:spPr>
            <a:xfrm>
              <a:off x="7258680" y="3448800"/>
              <a:ext cx="497520" cy="1292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58680" y="3438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6560" y="3438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58680" y="3438000"/>
              <a:ext cx="49320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54720" y="3344760"/>
              <a:ext cx="497160" cy="1508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7374240" y="3377520"/>
              <a:ext cx="246240" cy="88560"/>
              <a:chOff x="7374240" y="3377520"/>
              <a:chExt cx="246240" cy="8856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7374240" y="3377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543080" y="3466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455240" y="33796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7374240" y="3376440"/>
              <a:ext cx="246240" cy="88560"/>
              <a:chOff x="7374240" y="3376440"/>
              <a:chExt cx="246240" cy="88560"/>
            </a:xfrm>
          </p:grpSpPr>
          <p:sp>
            <p:nvSpPr>
              <p:cNvPr id="247" name=""/>
              <p:cNvSpPr/>
              <p:nvPr/>
            </p:nvSpPr>
            <p:spPr>
              <a:xfrm>
                <a:off x="7374240" y="3463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43080" y="3376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7455240" y="33764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8224920" y="2895480"/>
            <a:ext cx="500040" cy="233280"/>
            <a:chOff x="8224920" y="2895480"/>
            <a:chExt cx="500040" cy="233280"/>
          </a:xfrm>
        </p:grpSpPr>
        <p:sp>
          <p:nvSpPr>
            <p:cNvPr id="251" name=""/>
            <p:cNvSpPr/>
            <p:nvPr/>
          </p:nvSpPr>
          <p:spPr>
            <a:xfrm>
              <a:off x="8228880" y="2999520"/>
              <a:ext cx="495720" cy="1292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228880" y="2988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724960" y="2988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28880" y="2988720"/>
              <a:ext cx="49140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24920" y="2895480"/>
              <a:ext cx="495360" cy="1508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8344080" y="2928240"/>
              <a:ext cx="245520" cy="88560"/>
              <a:chOff x="8344080" y="2928240"/>
              <a:chExt cx="245520" cy="88560"/>
            </a:xfrm>
          </p:grpSpPr>
          <p:sp>
            <p:nvSpPr>
              <p:cNvPr id="257" name=""/>
              <p:cNvSpPr/>
              <p:nvPr/>
            </p:nvSpPr>
            <p:spPr>
              <a:xfrm flipV="1">
                <a:off x="8344080" y="29282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512560" y="30168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424720" y="293040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8344080" y="2927160"/>
              <a:ext cx="245520" cy="88560"/>
              <a:chOff x="8344080" y="2927160"/>
              <a:chExt cx="245520" cy="88560"/>
            </a:xfrm>
          </p:grpSpPr>
          <p:sp>
            <p:nvSpPr>
              <p:cNvPr id="261" name=""/>
              <p:cNvSpPr/>
              <p:nvPr/>
            </p:nvSpPr>
            <p:spPr>
              <a:xfrm>
                <a:off x="8344080" y="30139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512560" y="29271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8424720" y="292716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8031240" y="3792600"/>
            <a:ext cx="501480" cy="232920"/>
            <a:chOff x="8031240" y="3792600"/>
            <a:chExt cx="501480" cy="232920"/>
          </a:xfrm>
        </p:grpSpPr>
        <p:sp>
          <p:nvSpPr>
            <p:cNvPr id="265" name=""/>
            <p:cNvSpPr/>
            <p:nvPr/>
          </p:nvSpPr>
          <p:spPr>
            <a:xfrm>
              <a:off x="8035200" y="3896640"/>
              <a:ext cx="497160" cy="1288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035200" y="38854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532720" y="38854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35200" y="3885480"/>
              <a:ext cx="49284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31240" y="3792600"/>
              <a:ext cx="496800" cy="1504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8150760" y="3825360"/>
              <a:ext cx="246240" cy="88200"/>
              <a:chOff x="8150760" y="3825360"/>
              <a:chExt cx="246240" cy="88200"/>
            </a:xfrm>
          </p:grpSpPr>
          <p:sp>
            <p:nvSpPr>
              <p:cNvPr id="271" name=""/>
              <p:cNvSpPr/>
              <p:nvPr/>
            </p:nvSpPr>
            <p:spPr>
              <a:xfrm flipV="1">
                <a:off x="8150760" y="3825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319600" y="39135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231760" y="38275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8150760" y="3824640"/>
              <a:ext cx="246240" cy="88200"/>
              <a:chOff x="8150760" y="3824640"/>
              <a:chExt cx="246240" cy="88200"/>
            </a:xfrm>
          </p:grpSpPr>
          <p:sp>
            <p:nvSpPr>
              <p:cNvPr id="275" name=""/>
              <p:cNvSpPr/>
              <p:nvPr/>
            </p:nvSpPr>
            <p:spPr>
              <a:xfrm>
                <a:off x="8150760" y="3911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319600" y="3824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8231760" y="3824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7697880" y="4376880"/>
            <a:ext cx="501480" cy="234360"/>
            <a:chOff x="7697880" y="4376880"/>
            <a:chExt cx="501480" cy="234360"/>
          </a:xfrm>
        </p:grpSpPr>
        <p:sp>
          <p:nvSpPr>
            <p:cNvPr id="279" name=""/>
            <p:cNvSpPr/>
            <p:nvPr/>
          </p:nvSpPr>
          <p:spPr>
            <a:xfrm>
              <a:off x="7701840" y="4481280"/>
              <a:ext cx="497160" cy="12996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01840" y="4470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99360" y="4470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01840" y="4470480"/>
              <a:ext cx="492840" cy="792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97880" y="4376880"/>
              <a:ext cx="496800" cy="15156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7817400" y="4410000"/>
              <a:ext cx="246240" cy="88920"/>
              <a:chOff x="7817400" y="4410000"/>
              <a:chExt cx="246240" cy="88920"/>
            </a:xfrm>
          </p:grpSpPr>
          <p:sp>
            <p:nvSpPr>
              <p:cNvPr id="285" name=""/>
              <p:cNvSpPr/>
              <p:nvPr/>
            </p:nvSpPr>
            <p:spPr>
              <a:xfrm flipV="1">
                <a:off x="7817400" y="4410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986240" y="4498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898400" y="44121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7817400" y="4408920"/>
              <a:ext cx="246240" cy="88920"/>
              <a:chOff x="7817400" y="4408920"/>
              <a:chExt cx="246240" cy="88920"/>
            </a:xfrm>
          </p:grpSpPr>
          <p:sp>
            <p:nvSpPr>
              <p:cNvPr id="289" name=""/>
              <p:cNvSpPr/>
              <p:nvPr/>
            </p:nvSpPr>
            <p:spPr>
              <a:xfrm>
                <a:off x="7817400" y="4496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986240" y="4408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7898400" y="44089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7088040" y="4865760"/>
            <a:ext cx="500040" cy="232920"/>
            <a:chOff x="7088040" y="4865760"/>
            <a:chExt cx="500040" cy="232920"/>
          </a:xfrm>
        </p:grpSpPr>
        <p:sp>
          <p:nvSpPr>
            <p:cNvPr id="293" name=""/>
            <p:cNvSpPr/>
            <p:nvPr/>
          </p:nvSpPr>
          <p:spPr>
            <a:xfrm>
              <a:off x="7092000" y="4969800"/>
              <a:ext cx="495720" cy="1288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92000" y="4958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88080" y="4958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92000" y="4958640"/>
              <a:ext cx="49140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88040" y="4865760"/>
              <a:ext cx="495360" cy="1504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7207200" y="4898520"/>
              <a:ext cx="245520" cy="88200"/>
              <a:chOff x="7207200" y="4898520"/>
              <a:chExt cx="245520" cy="88200"/>
            </a:xfrm>
          </p:grpSpPr>
          <p:sp>
            <p:nvSpPr>
              <p:cNvPr id="299" name=""/>
              <p:cNvSpPr/>
              <p:nvPr/>
            </p:nvSpPr>
            <p:spPr>
              <a:xfrm flipV="1">
                <a:off x="7207200" y="48985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375680" y="49867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287840" y="49006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7207200" y="4897800"/>
              <a:ext cx="245520" cy="88200"/>
              <a:chOff x="7207200" y="4897800"/>
              <a:chExt cx="245520" cy="88200"/>
            </a:xfrm>
          </p:grpSpPr>
          <p:sp>
            <p:nvSpPr>
              <p:cNvPr id="303" name=""/>
              <p:cNvSpPr/>
              <p:nvPr/>
            </p:nvSpPr>
            <p:spPr>
              <a:xfrm>
                <a:off x="7207200" y="49842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375680" y="48978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7287840" y="48978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6" name=""/>
          <p:cNvGrpSpPr/>
          <p:nvPr/>
        </p:nvGrpSpPr>
        <p:grpSpPr>
          <a:xfrm>
            <a:off x="6284880" y="4489560"/>
            <a:ext cx="501840" cy="232920"/>
            <a:chOff x="6284880" y="4489560"/>
            <a:chExt cx="501840" cy="232920"/>
          </a:xfrm>
        </p:grpSpPr>
        <p:sp>
          <p:nvSpPr>
            <p:cNvPr id="307" name=""/>
            <p:cNvSpPr/>
            <p:nvPr/>
          </p:nvSpPr>
          <p:spPr>
            <a:xfrm>
              <a:off x="6288840" y="4593600"/>
              <a:ext cx="497520" cy="1288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88840" y="4582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86720" y="4582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288840" y="4582440"/>
              <a:ext cx="49320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284880" y="4489560"/>
              <a:ext cx="497160" cy="1504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6404400" y="4522320"/>
              <a:ext cx="246240" cy="88200"/>
              <a:chOff x="6404400" y="4522320"/>
              <a:chExt cx="246240" cy="88200"/>
            </a:xfrm>
          </p:grpSpPr>
          <p:sp>
            <p:nvSpPr>
              <p:cNvPr id="313" name=""/>
              <p:cNvSpPr/>
              <p:nvPr/>
            </p:nvSpPr>
            <p:spPr>
              <a:xfrm flipV="1">
                <a:off x="6404400" y="4522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573240" y="4610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485400" y="4524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6404400" y="4521600"/>
              <a:ext cx="246240" cy="88200"/>
              <a:chOff x="6404400" y="4521600"/>
              <a:chExt cx="246240" cy="88200"/>
            </a:xfrm>
          </p:grpSpPr>
          <p:sp>
            <p:nvSpPr>
              <p:cNvPr id="317" name=""/>
              <p:cNvSpPr/>
              <p:nvPr/>
            </p:nvSpPr>
            <p:spPr>
              <a:xfrm>
                <a:off x="6404400" y="4608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573240" y="4521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6485400" y="4521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0" name=""/>
          <p:cNvSpPr/>
          <p:nvPr/>
        </p:nvSpPr>
        <p:spPr>
          <a:xfrm flipV="1">
            <a:off x="6540480" y="4702320"/>
            <a:ext cx="144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4994280" y="2036880"/>
            <a:ext cx="814320" cy="1007640"/>
            <a:chOff x="4994280" y="2036880"/>
            <a:chExt cx="814320" cy="1007640"/>
          </a:xfrm>
        </p:grpSpPr>
        <p:sp>
          <p:nvSpPr>
            <p:cNvPr id="322" name=""/>
            <p:cNvSpPr/>
            <p:nvPr/>
          </p:nvSpPr>
          <p:spPr>
            <a:xfrm>
              <a:off x="5092560" y="2041560"/>
              <a:ext cx="676440" cy="7761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59080" y="2065320"/>
              <a:ext cx="690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64120" y="2241720"/>
              <a:ext cx="67608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94280" y="203688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059080" y="24084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68800" y="25462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68800" y="268452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8118360" y="4923000"/>
            <a:ext cx="814320" cy="1007640"/>
            <a:chOff x="8118360" y="4923000"/>
            <a:chExt cx="814320" cy="1007640"/>
          </a:xfrm>
        </p:grpSpPr>
        <p:sp>
          <p:nvSpPr>
            <p:cNvPr id="330" name=""/>
            <p:cNvSpPr/>
            <p:nvPr/>
          </p:nvSpPr>
          <p:spPr>
            <a:xfrm>
              <a:off x="8216640" y="4927680"/>
              <a:ext cx="676440" cy="7761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183160" y="4951440"/>
              <a:ext cx="690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8200" y="5127840"/>
              <a:ext cx="67608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118360" y="492300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83160" y="52945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192880" y="54324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2880" y="557064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456320" y="4041720"/>
            <a:ext cx="814320" cy="703080"/>
            <a:chOff x="7456320" y="4041720"/>
            <a:chExt cx="814320" cy="703080"/>
          </a:xfrm>
        </p:grpSpPr>
        <p:sp>
          <p:nvSpPr>
            <p:cNvPr id="338" name=""/>
            <p:cNvSpPr/>
            <p:nvPr/>
          </p:nvSpPr>
          <p:spPr>
            <a:xfrm>
              <a:off x="7559280" y="4198680"/>
              <a:ext cx="676440" cy="485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16440" y="423216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56320" y="404172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511760" y="453672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521120" y="438444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7989840" y="3460680"/>
            <a:ext cx="814320" cy="703080"/>
            <a:chOff x="7989840" y="3460680"/>
            <a:chExt cx="814320" cy="703080"/>
          </a:xfrm>
        </p:grpSpPr>
        <p:sp>
          <p:nvSpPr>
            <p:cNvPr id="344" name=""/>
            <p:cNvSpPr/>
            <p:nvPr/>
          </p:nvSpPr>
          <p:spPr>
            <a:xfrm>
              <a:off x="8092800" y="3617640"/>
              <a:ext cx="676440" cy="485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049960" y="36511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89840" y="34606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045280" y="39556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54640" y="38034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7104240" y="3156120"/>
            <a:ext cx="814320" cy="703080"/>
            <a:chOff x="7104240" y="3156120"/>
            <a:chExt cx="814320" cy="703080"/>
          </a:xfrm>
        </p:grpSpPr>
        <p:sp>
          <p:nvSpPr>
            <p:cNvPr id="350" name=""/>
            <p:cNvSpPr/>
            <p:nvPr/>
          </p:nvSpPr>
          <p:spPr>
            <a:xfrm>
              <a:off x="7207200" y="3313080"/>
              <a:ext cx="676440" cy="485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4360" y="334656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04240" y="315612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159680" y="365112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69040" y="349884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7037280" y="2384280"/>
            <a:ext cx="814320" cy="703080"/>
            <a:chOff x="7037280" y="2384280"/>
            <a:chExt cx="814320" cy="703080"/>
          </a:xfrm>
        </p:grpSpPr>
        <p:sp>
          <p:nvSpPr>
            <p:cNvPr id="356" name=""/>
            <p:cNvSpPr/>
            <p:nvPr/>
          </p:nvSpPr>
          <p:spPr>
            <a:xfrm>
              <a:off x="7140240" y="2541240"/>
              <a:ext cx="676440" cy="485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97400" y="25747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37280" y="23842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92720" y="28792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102080" y="27270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103800" y="2670120"/>
            <a:ext cx="814320" cy="703080"/>
            <a:chOff x="6103800" y="2670120"/>
            <a:chExt cx="814320" cy="703080"/>
          </a:xfrm>
        </p:grpSpPr>
        <p:sp>
          <p:nvSpPr>
            <p:cNvPr id="362" name=""/>
            <p:cNvSpPr/>
            <p:nvPr/>
          </p:nvSpPr>
          <p:spPr>
            <a:xfrm>
              <a:off x="6206760" y="2827080"/>
              <a:ext cx="676440" cy="485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163920" y="286056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03800" y="267012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59240" y="316512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68600" y="301284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546880" y="2138040"/>
            <a:ext cx="2787120" cy="3137400"/>
            <a:chOff x="5546880" y="2138040"/>
            <a:chExt cx="2787120" cy="3137400"/>
          </a:xfrm>
        </p:grpSpPr>
        <p:sp>
          <p:nvSpPr>
            <p:cNvPr id="368" name=""/>
            <p:cNvSpPr/>
            <p:nvPr/>
          </p:nvSpPr>
          <p:spPr>
            <a:xfrm rot="2937600">
              <a:off x="5415120" y="3569760"/>
              <a:ext cx="3048120" cy="27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937600">
              <a:off x="5659200" y="357336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2937600">
              <a:off x="5627880" y="2234880"/>
              <a:ext cx="44784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rot="2937000">
              <a:off x="7805160" y="4759560"/>
              <a:ext cx="44748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4F4BE-6594-4089-BCAA-09A30BC109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"/>
          <p:cNvSpPr/>
          <p:nvPr/>
        </p:nvSpPr>
        <p:spPr>
          <a:xfrm>
            <a:off x="609480" y="152388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Header for Receiver Buff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715200" y="187488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849280" y="1874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335400" y="2362320"/>
            <a:ext cx="4876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629960" y="286560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761080" y="334980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276720" y="33498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r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335400" y="4800600"/>
            <a:ext cx="4876560" cy="11430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2E333-C78D-47D2-AD8D-DFFC294EDE1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ast Retransmission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4DE4E-4128-4DA0-BBFD-5B72ED93DF6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out is Ineffici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out-based retransmis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transmits a packet and waits until timer expir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n retransmits from the lost packet onwar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00200" y="2584440"/>
            <a:ext cx="5867280" cy="423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1"/>
          <a:stretch/>
        </p:blipFill>
        <p:spPr>
          <a:xfrm>
            <a:off x="2095560" y="2631960"/>
            <a:ext cx="4952880" cy="407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8961-7E02-44CA-8108-5478B11B708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st Retransmi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etter solution possible under sliding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though packet n might have been lo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s n+1, n+2, and so on might get throug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dea: have the receiver send ACK packe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K says that receiver is still awaiting n</a:t>
            </a:r>
            <a:r>
              <a:rPr b="0" lang="en-US" sz="24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peat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s suggest later packets have arr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can view the “duplicate ACKs” as an early hi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the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cket must have been 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perform the retransmission e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ast retransmis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retransmits data after the triple duplicate 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C3536-C58C-4C9B-9DD0-340CCDDE213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ectiveness of Fast Retransm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n does Fast Retransmit work best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ng data transf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likelihood of many packets in f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gh window siz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likelihood of many packets in f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w burstiness in packet los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likelihood that later packets arrive successfu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lications for Web traffic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st Web transfers are short (e.g., 10 packet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HTML files or small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often there aren’t many packets in fligh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fast retransmit less likely to “kick in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cing users to like “reload” more often…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0233-F976-4190-83D9-852ECAC616D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earing Down the Connection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588BE-B206-4675-8929-BC713950F98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aring Down the Conn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01120" y="4503240"/>
            <a:ext cx="84582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osing the conn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nish (FIN) to close and receive remaining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other host sends a FIN ACK to acknowled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et (RST) to close and not receive remaining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2044800" y="1758960"/>
            <a:ext cx="2872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562120" y="1776240"/>
            <a:ext cx="300240" cy="1575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3154320" y="1773000"/>
            <a:ext cx="457200" cy="160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3686040" y="1767960"/>
            <a:ext cx="470160" cy="1598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rot="16805400">
            <a:off x="1554840" y="23648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rot="4713000">
            <a:off x="2277000" y="2358000"/>
            <a:ext cx="129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rot="17244600">
            <a:off x="2949120" y="21362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rot="17203800">
            <a:off x="3398400" y="23785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5637240" y="1770120"/>
            <a:ext cx="2350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149880" y="1768320"/>
            <a:ext cx="277920" cy="157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rot="16897200">
            <a:off x="5308920" y="23349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rot="4688400">
            <a:off x="5871240" y="232524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280040" y="1770120"/>
            <a:ext cx="379440" cy="158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36720" y="1739880"/>
            <a:ext cx="642132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1852560" y="3352320"/>
            <a:ext cx="6445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rot="4676400">
            <a:off x="4299120" y="23662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127320" y="3594240"/>
            <a:ext cx="177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524680" y="339480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350000" y="310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306800" y="1567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819680" y="310500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025960" y="3112920"/>
            <a:ext cx="810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241960" y="3105000"/>
            <a:ext cx="810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799320" y="1778040"/>
            <a:ext cx="277920" cy="157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rot="4688400">
            <a:off x="6822000" y="233532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7602480" y="1739880"/>
            <a:ext cx="2350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rot="16897200">
            <a:off x="7211160" y="2302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9A01D-5794-4011-BF5D-5EF17EE8B1C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nding/Receiving the FIN Pack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152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nding a FIN: close(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cess is done sending data via the so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cess invokes “close()” to close the so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ce TCP has sent all of the outstanding bytes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n TCP sends a F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762440" y="1219320"/>
            <a:ext cx="4152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ceiving a FIN: EOF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cess is reading data from the so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ntually, the attempt to read returns an EO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A1440-D711-4A5F-97FC-94E9AECCDCC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ansport protocol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ultiplexing and demultiplex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quence numb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ndow-based flow contr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mer-based retransmi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ecksum-based error det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ading for this wee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tions 2.5, 5.1-5.2, and 6.1-6.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xt lectur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gestion contr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90AD3-5240-479A-A71D-6BBB5E51518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Transport Protoc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gram messaging service (UD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-frills extension of “best-effort” I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liable, in-order delivery (TC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nection set-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carding of corrupted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transmission of lost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low contr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gestion control (next lectur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ther services not availa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lay guarante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andwidth guarante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962B-780E-4274-A5DC-CAC398F211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exing and Demultiplex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5560" y="1355760"/>
            <a:ext cx="46465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st receives IP datagram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datagram has source and destination IP address,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datagram carries one transport-layer seg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segment has source and destination port number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st uses IP addresses and port numbers to direct the segment to appropriate socke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276160" y="211788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75080" y="211788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267160" y="348624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35000" y="16653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23960" y="3951360"/>
            <a:ext cx="15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695560" y="2860560"/>
            <a:ext cx="24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header f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94240" y="551808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/UDP segmen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BF159-CE22-4AF2-AC80-45BAA81EB2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reliable Message Delivery 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ghtweight communication between process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void overhead and delays of ordered, reliable delive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 messages to and receive them from a so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r Datagram Protocol (UD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plus port numbers to support (de)multiplex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rror checking on the packet cont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892600" y="4479840"/>
            <a:ext cx="1760400" cy="533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53000" y="4479840"/>
            <a:ext cx="1760400" cy="533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92600" y="5013360"/>
            <a:ext cx="1760400" cy="533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53000" y="5013360"/>
            <a:ext cx="1760400" cy="533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92600" y="554688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15200" y="554688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76640" y="4597560"/>
            <a:ext cx="12952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RC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81600" y="4597560"/>
            <a:ext cx="12952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ST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76640" y="5103720"/>
            <a:ext cx="12952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29280" y="5103720"/>
            <a:ext cx="8953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90840" y="57754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05E15-FF79-4A49-B845-46680575ED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Would Anyone Use UDP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ner control over what data is sent and whe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 soon as an application process writes into the so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DP will package the data and send the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 delay for connection establishment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DP just blasts away without any formal preliminar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ich avoids introducing any unnecessary delay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 connection sta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allocation of buffers, parameters, sequence #s, et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it easier to handle many active clients at o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mall packet header overhea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DP header is only eight-bytes lo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01E8F-CD4B-4BE2-9884-6DB9B6B0E5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pular Applications That Use UD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ultimedia stream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transmitting lost/corrupted packets is not worthwhi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y the time the packet is retransmitted, it’s too l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elephone calls, video conferencing, gam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e query protocols like Domain Name Syst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verhead of connection establishment is overkil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sier to have the application retransmit if need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500120" y="5102280"/>
            <a:ext cx="1636920" cy="15526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6222960" y="5524560"/>
            <a:ext cx="1730520" cy="10620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035160" y="5210280"/>
            <a:ext cx="3687840" cy="430200"/>
          </a:xfrm>
          <a:custGeom>
            <a:avLst/>
            <a:gdLst/>
            <a:ahLst/>
            <a:rect l="l" t="t" r="r" b="b"/>
            <a:pathLst>
              <a:path w="2323" h="271">
                <a:moveTo>
                  <a:pt x="0" y="271"/>
                </a:moveTo>
                <a:cubicBezTo>
                  <a:pt x="302" y="139"/>
                  <a:pt x="605" y="8"/>
                  <a:pt x="992" y="4"/>
                </a:cubicBezTo>
                <a:cubicBezTo>
                  <a:pt x="1379" y="0"/>
                  <a:pt x="1851" y="123"/>
                  <a:pt x="2323" y="24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73320" y="6292800"/>
            <a:ext cx="3726000" cy="358920"/>
          </a:xfrm>
          <a:custGeom>
            <a:avLst/>
            <a:gdLst/>
            <a:ahLst/>
            <a:rect l="l" t="t" r="r" b="b"/>
            <a:pathLst>
              <a:path w="2347" h="226">
                <a:moveTo>
                  <a:pt x="2347" y="48"/>
                </a:moveTo>
                <a:cubicBezTo>
                  <a:pt x="1925" y="137"/>
                  <a:pt x="1504" y="226"/>
                  <a:pt x="1113" y="218"/>
                </a:cubicBezTo>
                <a:cubicBezTo>
                  <a:pt x="722" y="210"/>
                  <a:pt x="361" y="105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06920" y="4871880"/>
            <a:ext cx="414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ress for www.cnn.com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21480" y="6138720"/>
            <a:ext cx="18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.3.4.15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Click To Preview"/>
          <p:cNvPicPr/>
          <p:nvPr/>
        </p:nvPicPr>
        <p:blipFill>
          <a:blip r:embed="rId3"/>
          <a:stretch/>
        </p:blipFill>
        <p:spPr>
          <a:xfrm>
            <a:off x="8105760" y="2276640"/>
            <a:ext cx="731880" cy="73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75CB6-22EB-4762-BE82-33914A458E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4:58:21Z</dcterms:created>
  <dc:creator>Kai Li</dc:creator>
  <dc:description/>
  <dc:language>en-US</dc:language>
  <cp:lastModifiedBy>Jennifer Rexford</cp:lastModifiedBy>
  <dcterms:modified xsi:type="dcterms:W3CDTF">2007-02-18T18:38:49Z</dcterms:modified>
  <cp:revision>1043</cp:revision>
  <dc:subject/>
  <dc:title>Communication</dc:title>
</cp:coreProperties>
</file>