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6.xml" ContentType="application/vnd.openxmlformats-officedocument.presentationml.notesSlide+xml"/>
  <Override PartName="/ppt/notesSlides/_rels/notesSlide3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2.gif" ContentType="image/gif"/>
  <Override PartName="/ppt/media/image13.wmf" ContentType="image/x-wmf"/>
  <Override PartName="/ppt/media/image9.wmf" ContentType="image/x-wmf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marL="216000"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3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marL="216000" indent="0" algn="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4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lstStyle>
            <a:lvl1pPr marL="216000"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5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lstStyle>
            <a:lvl1pPr marL="216000" indent="0" algn="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19DEAFBF-1903-46A0-8663-80A7495FEA7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"/>
          <p:cNvSpPr txBox="1"/>
          <p:nvPr/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0DB09AEA-1A6A-4C8D-B16C-20847A5A745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 txBox="1"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 txBox="1"/>
          <p:nvPr/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53" name="PlaceHolder 2"/>
          <p:cNvSpPr>
            <a:spLocks noGrp="1"/>
          </p:cNvSpPr>
          <p:nvPr>
            <p:ph type="body"/>
          </p:nvPr>
        </p:nvSpPr>
        <p:spPr>
          <a:xfrm>
            <a:off x="977760" y="4560480"/>
            <a:ext cx="53596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"/>
          <p:cNvSpPr txBox="1"/>
          <p:nvPr/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5585DFBA-69E6-42D7-85D7-D45C54E5EB3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 txBox="1"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 txBox="1"/>
          <p:nvPr/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59" name="PlaceHolder 2"/>
          <p:cNvSpPr>
            <a:spLocks noGrp="1"/>
          </p:cNvSpPr>
          <p:nvPr>
            <p:ph type="body"/>
          </p:nvPr>
        </p:nvSpPr>
        <p:spPr>
          <a:xfrm>
            <a:off x="977760" y="4560480"/>
            <a:ext cx="53596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"/>
          <p:cNvSpPr txBox="1"/>
          <p:nvPr/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4363DEB0-BFD4-4E9F-946D-3C8F81DEB5C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 txBox="1"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 txBox="1"/>
          <p:nvPr/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65" name="PlaceHolder 2"/>
          <p:cNvSpPr>
            <a:spLocks noGrp="1"/>
          </p:cNvSpPr>
          <p:nvPr>
            <p:ph type="body"/>
          </p:nvPr>
        </p:nvSpPr>
        <p:spPr>
          <a:xfrm>
            <a:off x="977760" y="4560480"/>
            <a:ext cx="53596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"/>
          <p:cNvSpPr txBox="1"/>
          <p:nvPr/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4CCC584B-8FF7-4173-A3E2-1D6DB39DE59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 txBox="1"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 txBox="1"/>
          <p:nvPr/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7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lication may get duplicates in the case of early timeou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372612-E701-4E12-860C-760451F2AF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0852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F5FECF-CB5E-4952-8839-DFDA84B955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9088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0852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90880" y="40852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72DDC5-01D3-42DF-9BCD-DA2929745A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6680" y="12193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6880" y="12193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0852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6680" y="40852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6880" y="40852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6DF81D-8B06-4E30-9149-D54D3B62B0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26A9EC-67A9-47F7-8B77-ACA7CA6C1E4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0DBEF3-1D73-4E36-BECE-FD5E277B386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00A3C0-3A33-40EE-900C-046C2433C6B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2193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E0FDEF-C32D-4703-8447-DF3810D81F0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8F0908-E0A3-4885-B614-903145EF4C2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4920" y="380520"/>
            <a:ext cx="80690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D7C393-AE3B-406E-83C9-CA6A6076FA0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90880" y="12193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40852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C9EA0D-8C25-41C8-8FA4-EE526BA8E88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D16CA4-DA20-4F9A-A279-A52544085D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9088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90880" y="40852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F438CA-242F-4A41-940A-0F20FC05D6D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9088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40852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EA77FF-5863-49D8-A1CC-FA68F967D53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40852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B0C5DB-3908-4E46-B10F-62C49702003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9088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40852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90880" y="40852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E3A986-2EFA-419A-B1C4-999B5F96BCB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6680" y="12193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76880" y="12193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40852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6680" y="40852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76880" y="40852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CABB1E-872E-48D7-9170-3EDC986EB02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46F189-98EB-4242-B7FE-C83F60B8A3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2193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429FD1-0EB1-463F-A311-AAF72F0FF9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E3B8EC-A3CF-4952-8501-3A2684544D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920" y="380520"/>
            <a:ext cx="80690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4F4662-815F-4573-8548-BA069F4BDF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90880" y="12193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0852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EB329A-1188-4104-9E94-1301374F4D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9088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90880" y="40852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8713FC-A4D4-4F2F-BAFD-CDC26CF904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9088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0852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F490C4-3F6D-494D-9A32-1DBCD3A2AD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17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2" marL="911160" indent="-233280">
              <a:spcBef>
                <a:spcPts val="174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3" marL="1258920" indent="-233280">
              <a:spcBef>
                <a:spcPts val="1749"/>
              </a:spcBef>
              <a:buClr>
                <a:srgbClr val="00006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4" marL="1596960" indent="-223920">
              <a:spcBef>
                <a:spcPts val="17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5" marL="1596960" indent="-223920">
              <a:spcBef>
                <a:spcPts val="17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6" marL="1596960" indent="-223920">
              <a:spcBef>
                <a:spcPts val="17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001000" y="6324120"/>
            <a:ext cx="914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82045-541E-4AAD-A218-55C7BCB829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280" y="1143000"/>
            <a:ext cx="8839440" cy="0"/>
          </a:xfrm>
          <a:prstGeom prst="line">
            <a:avLst/>
          </a:prstGeom>
          <a:ln w="28440">
            <a:solidFill>
              <a:srgbClr val="f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80880" y="1143000"/>
            <a:ext cx="0" cy="5562720"/>
          </a:xfrm>
          <a:prstGeom prst="line">
            <a:avLst/>
          </a:prstGeom>
          <a:ln w="28440">
            <a:solidFill>
              <a:srgbClr val="f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8298000" y="317520"/>
            <a:ext cx="641160" cy="72396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152280" y="152280"/>
            <a:ext cx="8839440" cy="6553440"/>
          </a:xfrm>
          <a:prstGeom prst="roundRect">
            <a:avLst>
              <a:gd name="adj" fmla="val 4144"/>
            </a:avLst>
          </a:prstGeom>
          <a:noFill/>
          <a:ln w="28440">
            <a:solidFill>
              <a:srgbClr val="f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34ECB-683B-4A05-98C7-972678400E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52280" y="1143000"/>
            <a:ext cx="8839440" cy="0"/>
          </a:xfrm>
          <a:prstGeom prst="line">
            <a:avLst/>
          </a:prstGeom>
          <a:ln w="28440">
            <a:solidFill>
              <a:srgbClr val="f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143000"/>
            <a:ext cx="0" cy="5562720"/>
          </a:xfrm>
          <a:prstGeom prst="line">
            <a:avLst/>
          </a:prstGeom>
          <a:ln w="28440">
            <a:solidFill>
              <a:srgbClr val="f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298000" y="317520"/>
            <a:ext cx="641160" cy="7239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52280" y="152280"/>
            <a:ext cx="8839440" cy="6553440"/>
          </a:xfrm>
          <a:prstGeom prst="roundRect">
            <a:avLst>
              <a:gd name="adj" fmla="val 4144"/>
            </a:avLst>
          </a:prstGeom>
          <a:noFill/>
          <a:ln w="28440">
            <a:solidFill>
              <a:srgbClr val="f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39840" indent="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2" marL="677880" algn="ctr">
              <a:spcBef>
                <a:spcPts val="24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5640" algn="ctr">
              <a:spcBef>
                <a:spcPts val="249"/>
              </a:spcBef>
              <a:buClr>
                <a:srgbClr val="000066"/>
              </a:buClr>
              <a:buFont typeface="Helvetic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4" marL="1373040" algn="ctr">
              <a:spcBef>
                <a:spcPts val="249"/>
              </a:spcBef>
              <a:buClr>
                <a:srgbClr val="000000"/>
              </a:buClr>
              <a:buFont typeface="Helvetic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304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304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3.wmf"/><Relationship Id="rId5" Type="http://schemas.openxmlformats.org/officeDocument/2006/relationships/image" Target="../media/image4.wmf"/><Relationship Id="rId6" Type="http://schemas.openxmlformats.org/officeDocument/2006/relationships/image" Target="../media/image3.wmf"/><Relationship Id="rId7" Type="http://schemas.openxmlformats.org/officeDocument/2006/relationships/image" Target="../media/image3.wmf"/><Relationship Id="rId8" Type="http://schemas.openxmlformats.org/officeDocument/2006/relationships/image" Target="../media/image3.wmf"/><Relationship Id="rId9" Type="http://schemas.openxmlformats.org/officeDocument/2006/relationships/image" Target="../media/image5.wmf"/><Relationship Id="rId10" Type="http://schemas.openxmlformats.org/officeDocument/2006/relationships/image" Target="../media/image5.wmf"/><Relationship Id="rId11" Type="http://schemas.openxmlformats.org/officeDocument/2006/relationships/image" Target="../media/image6.wmf"/><Relationship Id="rId12" Type="http://schemas.openxmlformats.org/officeDocument/2006/relationships/image" Target="../media/image7.wmf"/><Relationship Id="rId13" Type="http://schemas.openxmlformats.org/officeDocument/2006/relationships/image" Target="../media/image6.wmf"/><Relationship Id="rId14" Type="http://schemas.openxmlformats.org/officeDocument/2006/relationships/image" Target="../media/image7.wmf"/><Relationship Id="rId15" Type="http://schemas.openxmlformats.org/officeDocument/2006/relationships/image" Target="../media/image6.wmf"/><Relationship Id="rId16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31880" y="2622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Transport Protocols</a:t>
            </a:r>
            <a:br>
              <a:rPr sz="3600"/>
            </a:b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Reading: Sections 2.5, 5.1, and 5.2</a:t>
            </a: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885960" y="3885840"/>
            <a:ext cx="7680240" cy="25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S 461: Computer Networ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ring 2006 (MW 1:30-2:50 in Friend 00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nnifer Rexfo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aching Assistant: Ioannis Avramopoulo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cs.princeton.edu/courses/archive/spring07/cos461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151080" y="395280"/>
            <a:ext cx="2957760" cy="2227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9B12A3-AF9D-44C4-83A8-4F42B65B4B4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ransmission Control Protocol (TCP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lnSpc>
                <a:spcPct val="90000"/>
              </a:lnSpc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Connection oriented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lnSpc>
                <a:spcPct val="9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xplicit set-up and tear-down of TCP sessio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lnSpc>
                <a:spcPct val="90000"/>
              </a:lnSpc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tream-of-bytes service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lnSpc>
                <a:spcPct val="9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ends and receives a stream of bytes, not message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lnSpc>
                <a:spcPct val="90000"/>
              </a:lnSpc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Reliable, in-order delivery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lnSpc>
                <a:spcPct val="9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hecksums to detect corrupted data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lnSpc>
                <a:spcPct val="9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cknowledgments &amp; retransmissions for reliable delivery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lnSpc>
                <a:spcPct val="9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equence numbers to detect losses and reorder data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lnSpc>
                <a:spcPct val="90000"/>
              </a:lnSpc>
              <a:spcBef>
                <a:spcPts val="1749"/>
              </a:spcBef>
              <a:buClr>
                <a:srgbClr val="00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Flow contro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lnSpc>
                <a:spcPct val="90000"/>
              </a:lnSpc>
              <a:spcBef>
                <a:spcPts val="300"/>
              </a:spcBef>
              <a:buClr>
                <a:srgbClr val="000066"/>
              </a:buClr>
              <a:buSzPct val="75000"/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Prevent overflow of the receiver’s buffer spac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lnSpc>
                <a:spcPct val="90000"/>
              </a:lnSpc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Congestion contro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dapt to network congestion for the greater good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F89C2A-CFD9-472C-A0DC-78636382C24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 Analogy: Talking on a Cell Phon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Alice and Bob on their cell phone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Both Alice and Bob are talking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What if Alice couldn’t understand Bob?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Bob asks Alice to repeat what she said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What if Bob hasn’t heard Alice for a while?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s Alice just being quiet?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Or, have Bob and Alice lost reception?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How long should Bob just keep on talking?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Maybe Alice should periodically say “uh huh”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or Bob should ask “Can you hear me now?” </a:t>
            </a:r>
            <a:r>
              <a:rPr b="0" lang="en-US" sz="2400" spc="-1" strike="noStrike">
                <a:solidFill>
                  <a:srgbClr val="000066"/>
                </a:solidFill>
                <a:latin typeface="Wingdings"/>
                <a:ea typeface="Wingdings"/>
              </a:rPr>
              <a:t>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417" name="" descr=""/>
          <p:cNvPicPr/>
          <p:nvPr/>
        </p:nvPicPr>
        <p:blipFill>
          <a:blip r:embed="rId1"/>
          <a:stretch/>
        </p:blipFill>
        <p:spPr>
          <a:xfrm>
            <a:off x="7183440" y="1278000"/>
            <a:ext cx="1600200" cy="1808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3C20BE-847F-40A4-BC7F-7054E71E734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Take-Aways from the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Acknowledgments from receiver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Positive: “okay” or “ACK”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Negative: “please repeat that” or “NACK”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Timeout by the sender (“stop and wait”)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on’t wait indefinitely without receiving some respons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whether a positive or a negative acknowledgmen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Retransmission by the sender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fter receiving a “NACK” from the receiver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fter receiving no feedback from the receiver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39F43C-A7A8-4025-8B5B-B368DB9051A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allenges of Reliable Data Transfe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Over a perfectly reliable chann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ll of the data arrives in order, just as it was sen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imple: sender sends data, and receiver receives data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Over a channel with bit error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ll of the data arrives in order, but some bits corrupted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Receiver detects errors and says “please repeat that”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ender retransmits the data that were corrupted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Over a lossy channel with bit error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ome data are missing, and some bits are corrupted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Receiver detects errors but cannot always detect los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ender must wait for acknowledgment (“ACK” or “OK”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nd retransmit data after some time if no ACK arrive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CEF3D2-C425-4333-A229-0BB0EAAB0DD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P Support for Reliable Deliver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Checksum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SzPct val="75000"/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Used to detect corrupted data at the receiver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SzPct val="75000"/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…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leading the receiver to drop the packe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equence number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SzPct val="75000"/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Used to detect missing data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SzPct val="75000"/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... and for putting the data back in order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Retransmission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SzPct val="75000"/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ender retransmits lost or corrupted data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SzPct val="75000"/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imeout based on estimates of round-trip tim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SzPct val="75000"/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Fast retransmit algorithm for rapid retransmissio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63E613-B1A8-4D9C-917D-7319A261938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TCP Segments</a:t>
            </a: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3639AB-AE5E-4E47-8C0D-7C1FDA86C6C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P “Stream of Bytes” Servic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1460520" y="2122560"/>
            <a:ext cx="5028840" cy="609480"/>
            <a:chOff x="1460520" y="2122560"/>
            <a:chExt cx="5028840" cy="609480"/>
          </a:xfrm>
        </p:grpSpPr>
        <p:sp>
          <p:nvSpPr>
            <p:cNvPr id="428" name=""/>
            <p:cNvSpPr/>
            <p:nvPr/>
          </p:nvSpPr>
          <p:spPr>
            <a:xfrm>
              <a:off x="1460520" y="2122560"/>
              <a:ext cx="4565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1460520" y="2732040"/>
              <a:ext cx="4565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6026400" y="2122560"/>
              <a:ext cx="46296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6026400" y="2732040"/>
              <a:ext cx="46296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2" name=""/>
          <p:cNvSpPr/>
          <p:nvPr/>
        </p:nvSpPr>
        <p:spPr>
          <a:xfrm>
            <a:off x="144792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160020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175248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190512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205740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220968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36232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251460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66688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81952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297180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12408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27672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42900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58128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73392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88620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03848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419112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434340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449568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464832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80060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95288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510552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525780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41008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556272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571500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586728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992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6172200" y="2128680"/>
            <a:ext cx="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6324480" y="2128680"/>
            <a:ext cx="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 rot="5390400">
            <a:off x="1244520" y="2282760"/>
            <a:ext cx="58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te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 rot="5390400">
            <a:off x="1397160" y="2282760"/>
            <a:ext cx="58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t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 rot="5390400">
            <a:off x="1550880" y="2284200"/>
            <a:ext cx="58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t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 rot="5390400">
            <a:off x="1703520" y="2284200"/>
            <a:ext cx="58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t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2133720" y="2585880"/>
            <a:ext cx="304560" cy="50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0" name=""/>
          <p:cNvGrpSpPr/>
          <p:nvPr/>
        </p:nvGrpSpPr>
        <p:grpSpPr>
          <a:xfrm>
            <a:off x="2743200" y="5334120"/>
            <a:ext cx="5028840" cy="609480"/>
            <a:chOff x="2743200" y="5334120"/>
            <a:chExt cx="5028840" cy="609480"/>
          </a:xfrm>
        </p:grpSpPr>
        <p:sp>
          <p:nvSpPr>
            <p:cNvPr id="471" name=""/>
            <p:cNvSpPr/>
            <p:nvPr/>
          </p:nvSpPr>
          <p:spPr>
            <a:xfrm>
              <a:off x="2743200" y="5334120"/>
              <a:ext cx="4565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743200" y="5943600"/>
              <a:ext cx="4565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 flipH="1">
              <a:off x="7309080" y="5334120"/>
              <a:ext cx="46296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 flipH="1">
              <a:off x="7309080" y="5943600"/>
              <a:ext cx="46296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5" name=""/>
          <p:cNvSpPr/>
          <p:nvPr/>
        </p:nvSpPr>
        <p:spPr>
          <a:xfrm>
            <a:off x="274320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89548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304812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320040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335268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350532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65760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80988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96252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411480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426708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441972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457200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472428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487692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502920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18148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33412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548640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563868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579132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594360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609588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624852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640080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655308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670572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685800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01028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16292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31520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467480" y="5334120"/>
            <a:ext cx="0" cy="6094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620120" y="5334120"/>
            <a:ext cx="0" cy="6094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 rot="5390400">
            <a:off x="2541600" y="5489280"/>
            <a:ext cx="58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te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rot="5390400">
            <a:off x="2693880" y="5489280"/>
            <a:ext cx="58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t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 rot="5390400">
            <a:off x="2846520" y="5489280"/>
            <a:ext cx="58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t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 rot="5390400">
            <a:off x="2998800" y="5489280"/>
            <a:ext cx="58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t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3429000" y="5486400"/>
            <a:ext cx="4572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3429000" y="5791320"/>
            <a:ext cx="4572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334800" y="1600200"/>
            <a:ext cx="112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318240" y="4805280"/>
            <a:ext cx="112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 rot="5390400">
            <a:off x="2273400" y="2347560"/>
            <a:ext cx="659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te 8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2133720" y="2357280"/>
            <a:ext cx="304560" cy="50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 rot="5390400">
            <a:off x="3570120" y="5549400"/>
            <a:ext cx="659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te 8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1486080" y="2817720"/>
            <a:ext cx="1295280" cy="2444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981080" y="2819520"/>
            <a:ext cx="1295640" cy="2444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476440" y="2820960"/>
            <a:ext cx="1295640" cy="2444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2971800" y="2822400"/>
            <a:ext cx="1295280" cy="2444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3467160" y="2824200"/>
            <a:ext cx="1295280" cy="2444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3962520" y="2825640"/>
            <a:ext cx="1295280" cy="2444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4457880" y="2827440"/>
            <a:ext cx="1295280" cy="2444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952880" y="2828880"/>
            <a:ext cx="1295640" cy="2444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5448240" y="2830680"/>
            <a:ext cx="1295640" cy="2444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E41EA0-5268-4D64-A074-1DAC00EC854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mulated Using TCP “Segments”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9" name=""/>
          <p:cNvGrpSpPr/>
          <p:nvPr/>
        </p:nvGrpSpPr>
        <p:grpSpPr>
          <a:xfrm>
            <a:off x="1447920" y="2128680"/>
            <a:ext cx="5028840" cy="609840"/>
            <a:chOff x="1447920" y="2128680"/>
            <a:chExt cx="5028840" cy="609840"/>
          </a:xfrm>
        </p:grpSpPr>
        <p:sp>
          <p:nvSpPr>
            <p:cNvPr id="530" name=""/>
            <p:cNvSpPr/>
            <p:nvPr/>
          </p:nvSpPr>
          <p:spPr>
            <a:xfrm>
              <a:off x="1447920" y="2128680"/>
              <a:ext cx="4565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447920" y="2738520"/>
              <a:ext cx="4565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 flipH="1">
              <a:off x="6013800" y="2128680"/>
              <a:ext cx="46296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 flipH="1">
              <a:off x="6013800" y="2738520"/>
              <a:ext cx="46296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4" name=""/>
          <p:cNvSpPr/>
          <p:nvPr/>
        </p:nvSpPr>
        <p:spPr>
          <a:xfrm>
            <a:off x="144792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160020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175248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190512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205740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220968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236232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251460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266688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281952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297180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12408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327672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342900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358128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373392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388620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403848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419112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434340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449568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464832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80060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95288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510552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525780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541008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556272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571500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586728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601992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6172200" y="2128680"/>
            <a:ext cx="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6324480" y="2128680"/>
            <a:ext cx="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 rot="5390400">
            <a:off x="1244520" y="2282760"/>
            <a:ext cx="58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te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 rot="5390400">
            <a:off x="1397160" y="2282760"/>
            <a:ext cx="58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t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 rot="5390400">
            <a:off x="1550880" y="2284200"/>
            <a:ext cx="58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t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 rot="5390400">
            <a:off x="1703520" y="2284200"/>
            <a:ext cx="58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t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2133720" y="2585880"/>
            <a:ext cx="304560" cy="50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2" name=""/>
          <p:cNvGrpSpPr/>
          <p:nvPr/>
        </p:nvGrpSpPr>
        <p:grpSpPr>
          <a:xfrm>
            <a:off x="2743200" y="5334120"/>
            <a:ext cx="5028840" cy="609480"/>
            <a:chOff x="2743200" y="5334120"/>
            <a:chExt cx="5028840" cy="609480"/>
          </a:xfrm>
        </p:grpSpPr>
        <p:sp>
          <p:nvSpPr>
            <p:cNvPr id="573" name=""/>
            <p:cNvSpPr/>
            <p:nvPr/>
          </p:nvSpPr>
          <p:spPr>
            <a:xfrm>
              <a:off x="2743200" y="5334120"/>
              <a:ext cx="4565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743200" y="5943600"/>
              <a:ext cx="4565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 flipH="1">
              <a:off x="7309080" y="5334120"/>
              <a:ext cx="46296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 flipH="1">
              <a:off x="7309080" y="5943600"/>
              <a:ext cx="46296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7" name=""/>
          <p:cNvSpPr/>
          <p:nvPr/>
        </p:nvSpPr>
        <p:spPr>
          <a:xfrm>
            <a:off x="274320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289548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304812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320040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335268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350532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365760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380988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396252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411480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426708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441972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457200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472428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487692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502920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518148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33412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48640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563868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579132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94360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609588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624852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640080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655308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670572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685800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701028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716292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31520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7467480" y="5334120"/>
            <a:ext cx="0" cy="6094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7620120" y="5334120"/>
            <a:ext cx="0" cy="6094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 rot="5390400">
            <a:off x="2541600" y="5489280"/>
            <a:ext cx="58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te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 rot="5390400">
            <a:off x="2693880" y="5489280"/>
            <a:ext cx="58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t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 rot="5390400">
            <a:off x="2846520" y="5489280"/>
            <a:ext cx="58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t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 rot="5390400">
            <a:off x="2998800" y="5489280"/>
            <a:ext cx="58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t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3429000" y="5486400"/>
            <a:ext cx="4572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3429000" y="5791320"/>
            <a:ext cx="4572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334800" y="1600200"/>
            <a:ext cx="112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18240" y="4805280"/>
            <a:ext cx="112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1447920" y="3200400"/>
            <a:ext cx="12189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 rot="5390400">
            <a:off x="2273400" y="2347560"/>
            <a:ext cx="659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te 8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133720" y="2357280"/>
            <a:ext cx="304560" cy="50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743200" y="4495680"/>
            <a:ext cx="12193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1447920" y="3581280"/>
            <a:ext cx="12952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66880" y="3581280"/>
            <a:ext cx="129564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1523880" y="2743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1676520" y="2743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1828800" y="2743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1981080" y="2743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590920" y="2743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33720" y="2967120"/>
            <a:ext cx="304560" cy="46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819520" y="4876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971800" y="4876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3124080" y="4876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3276720" y="4876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3886200" y="4876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3429000" y="5100480"/>
            <a:ext cx="304920" cy="50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1507320" y="3203640"/>
            <a:ext cx="115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mic Sans MS"/>
              </a:rPr>
              <a:t>TCP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2726280" y="4513320"/>
            <a:ext cx="115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mic Sans MS"/>
              </a:rPr>
              <a:t>TCP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 rot="5390400">
            <a:off x="3570120" y="5549400"/>
            <a:ext cx="659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te 8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3727440" y="2890800"/>
            <a:ext cx="4992840" cy="1293840"/>
          </a:xfrm>
          <a:prstGeom prst="wedgeRectCallout">
            <a:avLst>
              <a:gd name="adj1" fmla="val -72481"/>
              <a:gd name="adj2" fmla="val -9875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gment sent wh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gment full (Max Segment Size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ot full, but times out, 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ushed” by appli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7F6F54-15C1-44D4-B502-4028F7BC828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P Segmen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6840" y="2468520"/>
            <a:ext cx="8458200" cy="42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1400" indent="-22140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IP packet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57640" indent="-22104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No bigger than Maximum Transmission Unit (MTU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57640" indent="-22104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.g., up to 1500 bytes on an Etherne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1400" indent="-22140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TCP packet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57640" indent="-22104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P packet with a TCP header and data insid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57640" indent="-22104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CP header is typically 20 bytes long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1400" indent="-22140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TCP segment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57640" indent="-22104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No more than Maximum Segment Size (MSS) byte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57640" indent="-22104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.g., up to 1460 consecutive bytes from the stream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1905120" y="1360440"/>
            <a:ext cx="5029200" cy="685800"/>
          </a:xfrm>
          <a:prstGeom prst="rect">
            <a:avLst/>
          </a:prstGeom>
          <a:solidFill>
            <a:srgbClr val="99ccff"/>
          </a:solidFill>
          <a:ln w="381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6019920" y="1360440"/>
            <a:ext cx="0" cy="685800"/>
          </a:xfrm>
          <a:prstGeom prst="line">
            <a:avLst/>
          </a:prstGeom>
          <a:ln w="381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6048360" y="1589040"/>
            <a:ext cx="784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P Hd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1905120" y="1512720"/>
            <a:ext cx="4114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3581280" y="1436760"/>
            <a:ext cx="7621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3524400" y="1328760"/>
            <a:ext cx="874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P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8" name=""/>
          <p:cNvGrpSpPr/>
          <p:nvPr/>
        </p:nvGrpSpPr>
        <p:grpSpPr>
          <a:xfrm>
            <a:off x="1981080" y="1589040"/>
            <a:ext cx="3962520" cy="380880"/>
            <a:chOff x="1981080" y="1589040"/>
            <a:chExt cx="3962520" cy="380880"/>
          </a:xfrm>
        </p:grpSpPr>
        <p:sp>
          <p:nvSpPr>
            <p:cNvPr id="649" name=""/>
            <p:cNvSpPr/>
            <p:nvPr/>
          </p:nvSpPr>
          <p:spPr>
            <a:xfrm>
              <a:off x="1981080" y="1589040"/>
              <a:ext cx="3962520" cy="380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5222880" y="158904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1" name=""/>
          <p:cNvSpPr/>
          <p:nvPr/>
        </p:nvSpPr>
        <p:spPr>
          <a:xfrm>
            <a:off x="5191560" y="1638360"/>
            <a:ext cx="76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CP Hd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3055680" y="1638360"/>
            <a:ext cx="159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CP Data (segme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8F03A5-5F66-4BD6-AD5F-24CC5DB98D5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"/>
          <p:cNvSpPr/>
          <p:nvPr/>
        </p:nvSpPr>
        <p:spPr>
          <a:xfrm>
            <a:off x="2617920" y="2384280"/>
            <a:ext cx="1218960" cy="6098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equence Number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"/>
          <p:cNvGrpSpPr/>
          <p:nvPr/>
        </p:nvGrpSpPr>
        <p:grpSpPr>
          <a:xfrm>
            <a:off x="1703520" y="2379600"/>
            <a:ext cx="5028840" cy="609840"/>
            <a:chOff x="1703520" y="2379600"/>
            <a:chExt cx="5028840" cy="609840"/>
          </a:xfrm>
        </p:grpSpPr>
        <p:sp>
          <p:nvSpPr>
            <p:cNvPr id="656" name=""/>
            <p:cNvSpPr/>
            <p:nvPr/>
          </p:nvSpPr>
          <p:spPr>
            <a:xfrm>
              <a:off x="1703520" y="2379600"/>
              <a:ext cx="4565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1703520" y="2989440"/>
              <a:ext cx="4565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6269400" y="2379600"/>
              <a:ext cx="46296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6269400" y="2989440"/>
              <a:ext cx="46296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1703520" y="23796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1855800" y="23796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2008080" y="23796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2160720" y="23796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2313000" y="23796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465280" y="23796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2617920" y="23796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2770200" y="23796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2922480" y="23796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3075120" y="23796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3227400" y="23796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3379680" y="23796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3532320" y="23796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3684600" y="23796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3836880" y="23796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3989520" y="23796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4141800" y="23796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4294080" y="23796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4446720" y="23796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4599000" y="23796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4751280" y="23796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903920" y="23796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5056200" y="23796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5208480" y="23796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5361120" y="23796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5513400" y="23796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5665680" y="23796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5818320" y="23796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5970600" y="23796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6122880" y="23796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6275520" y="23796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6427800" y="2379600"/>
            <a:ext cx="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6580080" y="2379600"/>
            <a:ext cx="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3" name=""/>
          <p:cNvGrpSpPr/>
          <p:nvPr/>
        </p:nvGrpSpPr>
        <p:grpSpPr>
          <a:xfrm>
            <a:off x="2998800" y="5584680"/>
            <a:ext cx="5028840" cy="609840"/>
            <a:chOff x="2998800" y="5584680"/>
            <a:chExt cx="5028840" cy="609840"/>
          </a:xfrm>
        </p:grpSpPr>
        <p:sp>
          <p:nvSpPr>
            <p:cNvPr id="694" name=""/>
            <p:cNvSpPr/>
            <p:nvPr/>
          </p:nvSpPr>
          <p:spPr>
            <a:xfrm>
              <a:off x="2998800" y="5584680"/>
              <a:ext cx="4565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2998800" y="6194520"/>
              <a:ext cx="4565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 flipH="1">
              <a:off x="7564680" y="5584680"/>
              <a:ext cx="46296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 flipH="1">
              <a:off x="7564680" y="6194520"/>
              <a:ext cx="46296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8" name=""/>
          <p:cNvSpPr/>
          <p:nvPr/>
        </p:nvSpPr>
        <p:spPr>
          <a:xfrm>
            <a:off x="2998800" y="5584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3151080" y="5584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3303720" y="5584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3456000" y="5584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3608280" y="5584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3760920" y="5584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3913200" y="5584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4065480" y="5584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4218120" y="5584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4370400" y="5584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4522680" y="5584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4675320" y="5584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4827600" y="5584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4979880" y="5584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5132520" y="5584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5284800" y="5584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5437080" y="5584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5589720" y="5584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5742000" y="5584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5894280" y="5584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6046920" y="5584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6199200" y="5584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6351480" y="5584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6504120" y="5584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6656400" y="5584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6808680" y="5584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961320" y="5584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7113600" y="5584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7265880" y="5584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7418520" y="5584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7570800" y="5584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7723080" y="5584680"/>
            <a:ext cx="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7875720" y="5584680"/>
            <a:ext cx="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590400" y="1295280"/>
            <a:ext cx="112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573840" y="5056200"/>
            <a:ext cx="112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2612880" y="3451320"/>
            <a:ext cx="12193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3913200" y="4746600"/>
            <a:ext cx="12193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2617920" y="3832200"/>
            <a:ext cx="12952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3836880" y="3832200"/>
            <a:ext cx="129564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2689200" y="29941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841480" y="29941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994120" y="29941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3146400" y="29941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3755880" y="29941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3298680" y="3218040"/>
            <a:ext cx="304920" cy="46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3989520" y="51274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4141800" y="51274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4294080" y="51274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4446720" y="51274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5056200" y="51274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4599000" y="5351400"/>
            <a:ext cx="304920" cy="46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2672280" y="3454560"/>
            <a:ext cx="115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mic Sans MS"/>
              </a:rPr>
              <a:t>TCP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3896280" y="4764240"/>
            <a:ext cx="115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mic Sans MS"/>
              </a:rPr>
              <a:t>TCP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3836880" y="3451320"/>
            <a:ext cx="5335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3916800" y="3424320"/>
            <a:ext cx="499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Comic Sans MS"/>
              </a:rPr>
              <a:t>TC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Comic Sans MS"/>
              </a:rPr>
              <a:t>HD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5132520" y="4746600"/>
            <a:ext cx="5331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5162760" y="4746600"/>
            <a:ext cx="499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Comic Sans MS"/>
              </a:rPr>
              <a:t>TC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Comic Sans MS"/>
              </a:rPr>
              <a:t>HD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1405080" y="1851120"/>
            <a:ext cx="335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mic Sans MS"/>
              </a:rPr>
              <a:t>ISN (initial sequence numbe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1703520" y="21556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560520" y="3298680"/>
            <a:ext cx="1904760" cy="914400"/>
          </a:xfrm>
          <a:prstGeom prst="wedgeRectCallout">
            <a:avLst>
              <a:gd name="adj1" fmla="val 58583"/>
              <a:gd name="adj2" fmla="val -83162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equence number = 1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omic Sans MS"/>
              </a:rPr>
              <a:t>st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by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3913200" y="5584680"/>
            <a:ext cx="1219320" cy="6098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5742000" y="3755880"/>
            <a:ext cx="1905120" cy="914400"/>
          </a:xfrm>
          <a:prstGeom prst="wedgeRectCallout">
            <a:avLst>
              <a:gd name="adj1" fmla="val -76666"/>
              <a:gd name="adj2" fmla="val 150523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CK sequence number = next expected by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5132520" y="5584680"/>
            <a:ext cx="152280" cy="6098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840E09-17B4-4724-B420-032B275D2E4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oals for Today’s Lectu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Principles underlying transport-layer service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(De)multiplexing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etecting corruptio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Reliable delivery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Flow contro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Transport-layer protocols in the Internet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User Datagram Protocol (UDP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2" marL="911160" indent="-233280">
              <a:spcBef>
                <a:spcPts val="24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e (unreliable) message deliv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1160" indent="-233280">
              <a:spcBef>
                <a:spcPts val="24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lized by a SOCK_DGRAM sock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ransmission Control Protocol (TCP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2" marL="911160" indent="-233280">
              <a:spcBef>
                <a:spcPts val="24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iable bidirectional stream of by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1160" indent="-233280">
              <a:spcBef>
                <a:spcPts val="24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lized by a SOCK_STREAM sock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7FD621-B21F-4CFB-9FD0-008BA495502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itial Sequence Number (ISN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equence number for the very first byte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.g., Why not a de facto ISN of 0?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Practical issue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P addresses and port #s uniquely identify a connectio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ventually, though, these port #s do get used agai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nd there is a chance an old packet is still in fligh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nd might be associated with the new connectio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o, TCP requires changing the ISN over time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et from a 32-bit clock that ticks every 4 microsecond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which only wraps around once every 4.55 hours!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But, this means the hosts need to exchange ISN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A1339B-1709-4CAE-ACC3-4FBB599806B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TCP Three-Way Handshake</a:t>
            </a: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F9F45E-22A8-479A-84D9-101CBB0CDA0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stablishing a TCP Connec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61520" y="4773240"/>
            <a:ext cx="84582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Three-way handshake to establish connection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Host A sends a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SYN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(open) to the host B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Host B returns a SYN acknowledgment (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SYN ACK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Host A sends an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ACK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to acknowledge the SYN ACK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2451240" y="1898640"/>
            <a:ext cx="1603080" cy="287280"/>
          </a:xfrm>
          <a:prstGeom prst="line">
            <a:avLst/>
          </a:prstGeom>
          <a:ln w="19080">
            <a:solidFill>
              <a:srgbClr val="0066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 flipH="1">
            <a:off x="2461680" y="2416320"/>
            <a:ext cx="1575000" cy="299880"/>
          </a:xfrm>
          <a:prstGeom prst="line">
            <a:avLst/>
          </a:prstGeom>
          <a:ln w="19080">
            <a:solidFill>
              <a:srgbClr val="ff33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2440080" y="3008160"/>
            <a:ext cx="1600200" cy="457200"/>
          </a:xfrm>
          <a:prstGeom prst="line">
            <a:avLst/>
          </a:prstGeom>
          <a:ln w="19080">
            <a:solidFill>
              <a:srgbClr val="0066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2444760" y="3539520"/>
            <a:ext cx="1598760" cy="469800"/>
          </a:xfrm>
          <a:prstGeom prst="line">
            <a:avLst/>
          </a:prstGeom>
          <a:ln w="19080">
            <a:solidFill>
              <a:srgbClr val="0066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 rot="605400">
            <a:off x="2901240" y="1554840"/>
            <a:ext cx="69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SY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 flipH="1" flipV="1" rot="10146600">
            <a:off x="2588400" y="2194200"/>
            <a:ext cx="130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SYN 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 rot="1044600">
            <a:off x="3116520" y="2962800"/>
            <a:ext cx="71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 rot="1003800">
            <a:off x="2904840" y="3383280"/>
            <a:ext cx="66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4041720" y="1690560"/>
            <a:ext cx="6480" cy="28908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 flipH="1">
            <a:off x="2435400" y="1706400"/>
            <a:ext cx="23760" cy="27972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2277000" y="12387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3843720" y="12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2473200" y="3880800"/>
            <a:ext cx="1598760" cy="469800"/>
          </a:xfrm>
          <a:prstGeom prst="line">
            <a:avLst/>
          </a:prstGeom>
          <a:ln w="19080">
            <a:solidFill>
              <a:srgbClr val="0066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 rot="1003800">
            <a:off x="2933280" y="3724560"/>
            <a:ext cx="66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5148360" y="2122560"/>
            <a:ext cx="2535120" cy="11912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ch host tells its ISN to the other ho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471654-FB96-4282-B457-60AE08462BC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"/>
          <p:cNvSpPr/>
          <p:nvPr/>
        </p:nvSpPr>
        <p:spPr>
          <a:xfrm>
            <a:off x="615960" y="1508040"/>
            <a:ext cx="8001000" cy="4648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P Heade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3335400" y="1828800"/>
            <a:ext cx="2361960" cy="5335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3715200" y="1874880"/>
            <a:ext cx="149760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5697360" y="1828800"/>
            <a:ext cx="2514600" cy="5335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5849280" y="1874880"/>
            <a:ext cx="196380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tination 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3335400" y="2362320"/>
            <a:ext cx="4876560" cy="4572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4628880" y="2408400"/>
            <a:ext cx="226260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quence nu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3335400" y="2819520"/>
            <a:ext cx="4876560" cy="4572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4629960" y="2865600"/>
            <a:ext cx="212076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knowledg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3335400" y="3276720"/>
            <a:ext cx="2438280" cy="5331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5773680" y="3276720"/>
            <a:ext cx="2438280" cy="5331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5838120" y="3349800"/>
            <a:ext cx="230508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vertised wind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3265560" y="335268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drL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4249800" y="32767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4707000" y="32767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4920840" y="3363840"/>
            <a:ext cx="80388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a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4327200" y="3398760"/>
            <a:ext cx="32256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3335400" y="3809880"/>
            <a:ext cx="2438280" cy="5335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5773680" y="3809880"/>
            <a:ext cx="2438280" cy="5335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3699360" y="3897360"/>
            <a:ext cx="138636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cks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6061680" y="3897360"/>
            <a:ext cx="179460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rgent poin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3335400" y="4343400"/>
            <a:ext cx="4876560" cy="4572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4780800" y="4389480"/>
            <a:ext cx="219240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tions (variabl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3335400" y="4800600"/>
            <a:ext cx="4876560" cy="1143000"/>
          </a:xfrm>
          <a:prstGeom prst="rect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653400" y="2705040"/>
            <a:ext cx="87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ag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1507320" y="2739960"/>
            <a:ext cx="747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S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B72FB4-B7AC-4E4A-AF1C-14F6275A84F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ep 1: A’s Initial SYN Packe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615960" y="1508040"/>
            <a:ext cx="8001000" cy="4648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3335400" y="1828800"/>
            <a:ext cx="2361960" cy="5335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3717000" y="1874880"/>
            <a:ext cx="104328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A’s 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5697360" y="1828800"/>
            <a:ext cx="2514600" cy="5335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6447240" y="1874880"/>
            <a:ext cx="104328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B’s 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3343320" y="2362320"/>
            <a:ext cx="4876920" cy="4572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4177080" y="2408400"/>
            <a:ext cx="339192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A’s Initial Sequence Nu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3335400" y="2819520"/>
            <a:ext cx="4876560" cy="4572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4629960" y="2865600"/>
            <a:ext cx="212076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knowledg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3335400" y="3276720"/>
            <a:ext cx="2438280" cy="5331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5773680" y="3276720"/>
            <a:ext cx="2438280" cy="5331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5838120" y="3349800"/>
            <a:ext cx="230508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vertised wind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3573360" y="3352680"/>
            <a:ext cx="106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4249800" y="32767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4707000" y="32767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4920840" y="3363840"/>
            <a:ext cx="80388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a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4327200" y="3398760"/>
            <a:ext cx="32256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3335400" y="3809880"/>
            <a:ext cx="2438280" cy="5335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5773680" y="3809880"/>
            <a:ext cx="2438280" cy="5335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3699360" y="3897360"/>
            <a:ext cx="138636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cks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6061680" y="3897360"/>
            <a:ext cx="179460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rgent poin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3335400" y="4343400"/>
            <a:ext cx="4876560" cy="4572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4780800" y="4389480"/>
            <a:ext cx="219240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tions (variabl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653400" y="2705040"/>
            <a:ext cx="87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ag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1507320" y="2739960"/>
            <a:ext cx="747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SY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S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1955520" y="5349960"/>
            <a:ext cx="510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A tells B it wants to open a connection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1001A8-121B-453A-9EA4-425CC25D961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ep 2: B’s SYN-ACK Packe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615960" y="1508040"/>
            <a:ext cx="8001000" cy="4648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3335400" y="1828800"/>
            <a:ext cx="2361960" cy="5335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3717000" y="1874880"/>
            <a:ext cx="104328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B’s 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5697360" y="1828800"/>
            <a:ext cx="2514600" cy="5335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6447240" y="1874880"/>
            <a:ext cx="104328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A’s 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3343320" y="2362320"/>
            <a:ext cx="4876920" cy="4572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4177080" y="2408400"/>
            <a:ext cx="339192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B’s Initial Sequence Nu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3335400" y="2819520"/>
            <a:ext cx="4876560" cy="4572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4752000" y="2865600"/>
            <a:ext cx="177804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A’s ISN plus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3335400" y="3276720"/>
            <a:ext cx="2438280" cy="5331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5773680" y="3276720"/>
            <a:ext cx="2438280" cy="5331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5838120" y="3349800"/>
            <a:ext cx="230508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vertised wind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3573360" y="3352680"/>
            <a:ext cx="106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4249800" y="32767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4707000" y="32767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4920840" y="3363840"/>
            <a:ext cx="80388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a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4327200" y="3398760"/>
            <a:ext cx="32256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3335400" y="3809880"/>
            <a:ext cx="2438280" cy="5335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5773680" y="3809880"/>
            <a:ext cx="2438280" cy="5335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3699360" y="3897360"/>
            <a:ext cx="138636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cks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6061680" y="3897360"/>
            <a:ext cx="179460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rgent poin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3335400" y="4343400"/>
            <a:ext cx="4876560" cy="4572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4780800" y="4389480"/>
            <a:ext cx="219240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tions (variabl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653400" y="2705040"/>
            <a:ext cx="87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ag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1507320" y="2739960"/>
            <a:ext cx="747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SY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S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1074960" y="5349960"/>
            <a:ext cx="688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B tells A it accepts, and is ready to hear the next byte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1169280" y="6219720"/>
            <a:ext cx="681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…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upon receiving this packet, A can start sending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17E344-0B77-4E2A-8243-FFAC5559C4A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ep 3: A’s ACK of the SYN-ACK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615960" y="1508040"/>
            <a:ext cx="8001000" cy="4648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3335400" y="1828800"/>
            <a:ext cx="2361960" cy="5335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3717000" y="1874880"/>
            <a:ext cx="104328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A’s 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5697360" y="1828800"/>
            <a:ext cx="2514600" cy="5335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6447240" y="1874880"/>
            <a:ext cx="104328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B’s 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3343320" y="2362320"/>
            <a:ext cx="4876920" cy="4572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3335400" y="2819520"/>
            <a:ext cx="4876560" cy="4572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4752000" y="2865600"/>
            <a:ext cx="177804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B’s ISN plus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3335400" y="3276720"/>
            <a:ext cx="2438280" cy="5331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5773680" y="3276720"/>
            <a:ext cx="2438280" cy="5331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5838120" y="3349800"/>
            <a:ext cx="230508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vertised wind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3573360" y="3352680"/>
            <a:ext cx="106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4249800" y="32767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4707000" y="32767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4920840" y="3363840"/>
            <a:ext cx="80388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a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4327200" y="3398760"/>
            <a:ext cx="32256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3335400" y="3809880"/>
            <a:ext cx="2438280" cy="5335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5773680" y="3809880"/>
            <a:ext cx="2438280" cy="5335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3699360" y="3897360"/>
            <a:ext cx="138636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cks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6061680" y="3897360"/>
            <a:ext cx="179460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rgent poin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3335400" y="4343400"/>
            <a:ext cx="4876560" cy="4572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4780800" y="4389480"/>
            <a:ext cx="219240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tions (variabl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653400" y="2705040"/>
            <a:ext cx="87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ag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1507320" y="2739960"/>
            <a:ext cx="747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S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2344320" y="5349960"/>
            <a:ext cx="433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A tells B it is okay to start sen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4628880" y="2408400"/>
            <a:ext cx="226260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quence nu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1169280" y="6270480"/>
            <a:ext cx="681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…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upon receiving this packet, B can start sending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AD021E-63E3-4FC3-B07B-69F8D6A0BA4B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hat if the SYN Packet Gets Lost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uppose the SYN packet gets lost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Packet is lost inside the network, or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erver rejects the packet (e.g., listen queue is full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Eventually, no SYN-ACK arrive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ender sets a timer and wait for the SYN-ACK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nd retransmits the SYN-ACK if needed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How should the TCP sender set the timer?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ender has no idea how far away the receiver i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Hard to guess a reasonable length of time to wai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ome TCPs use a default of 3 or 6 second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90DCD9-0BAF-4FFB-A7EF-17CFFF108420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YN Loss and Web Download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User clicks on a hypertext link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Browser creates a socket and does a “connect”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e “connect” triggers the OS to transmit a SY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If the SYN is lost…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e 3-6 seconds of delay may be very long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e user may get impatien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nd click the hyperlink again, or click “reload”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User triggers an “abort” of the “connect”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Browser creates a new socket and does  a “connect”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ssentially, forces a faster send of a new SYN packet!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ometimes very effective, and the page comes fas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7DB28B-8391-4E8B-84DE-7ABD64D6EF08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TCP Retransmissions</a:t>
            </a: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3739C2-9530-48A1-9D4B-7460062BFB90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ole of Transport Laye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Application layer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ommunication for specific application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.g., HyperText Transfer Protocol (HTTP), File Transfer Protocol (FTP), Network News Transfer Protocol (NNTP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Transport layer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ommunication between processes (e.g., socket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Relies on network layer and serves the application layer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.g., TCP and UDP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Network layer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Logical communication between node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Hides details of the link technology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.g., IP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547788-525C-480B-8C69-44CF0576829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"/>
          <p:cNvSpPr/>
          <p:nvPr/>
        </p:nvSpPr>
        <p:spPr>
          <a:xfrm>
            <a:off x="5334120" y="2057400"/>
            <a:ext cx="3429000" cy="380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utomatic Repeat reQuest (ARQ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5411520" y="4952160"/>
            <a:ext cx="74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8062920" y="3075120"/>
            <a:ext cx="3240" cy="1865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2" name=""/>
          <p:cNvGrpSpPr/>
          <p:nvPr/>
        </p:nvGrpSpPr>
        <p:grpSpPr>
          <a:xfrm>
            <a:off x="6666120" y="3144960"/>
            <a:ext cx="1357560" cy="617040"/>
            <a:chOff x="6666120" y="3144960"/>
            <a:chExt cx="1357560" cy="617040"/>
          </a:xfrm>
        </p:grpSpPr>
        <p:sp>
          <p:nvSpPr>
            <p:cNvPr id="903" name=""/>
            <p:cNvSpPr/>
            <p:nvPr/>
          </p:nvSpPr>
          <p:spPr>
            <a:xfrm>
              <a:off x="6666120" y="3484800"/>
              <a:ext cx="1357560" cy="27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 rot="688200">
              <a:off x="6816240" y="3236040"/>
              <a:ext cx="959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ack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5" name=""/>
          <p:cNvGrpSpPr/>
          <p:nvPr/>
        </p:nvGrpSpPr>
        <p:grpSpPr>
          <a:xfrm>
            <a:off x="6608160" y="3973680"/>
            <a:ext cx="1431000" cy="502200"/>
            <a:chOff x="6608160" y="3973680"/>
            <a:chExt cx="1431000" cy="502200"/>
          </a:xfrm>
        </p:grpSpPr>
        <p:sp>
          <p:nvSpPr>
            <p:cNvPr id="906" name=""/>
            <p:cNvSpPr/>
            <p:nvPr/>
          </p:nvSpPr>
          <p:spPr>
            <a:xfrm flipV="1">
              <a:off x="6608160" y="4253760"/>
              <a:ext cx="1431000" cy="220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 rot="21071400">
              <a:off x="6855480" y="4025160"/>
              <a:ext cx="703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C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08" name=""/>
          <p:cNvCxnSpPr/>
          <p:nvPr/>
        </p:nvCxnSpPr>
        <p:spPr>
          <a:xfrm flipH="1" rot="16200000">
            <a:off x="5682240" y="4005720"/>
            <a:ext cx="1891440" cy="3960"/>
          </a:xfrm>
          <a:prstGeom prst="bentConnector5">
            <a:avLst>
              <a:gd name="adj1" fmla="val 22825"/>
              <a:gd name="adj2" fmla="val -6800000"/>
              <a:gd name="adj3" fmla="val 84618"/>
            </a:avLst>
          </a:prstGeom>
          <a:ln w="12600">
            <a:solidFill>
              <a:srgbClr val="000000"/>
            </a:solidFill>
            <a:prstDash val="dash"/>
            <a:miter/>
          </a:ln>
        </p:spPr>
      </p:cxnSp>
      <p:sp>
        <p:nvSpPr>
          <p:cNvPr id="909" name=""/>
          <p:cNvSpPr/>
          <p:nvPr/>
        </p:nvSpPr>
        <p:spPr>
          <a:xfrm rot="16200000">
            <a:off x="5625360" y="3760560"/>
            <a:ext cx="121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meo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423720" y="1523880"/>
            <a:ext cx="480708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223920" indent="-223920">
              <a:lnSpc>
                <a:spcPct val="100000"/>
              </a:lnSpc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Automatic Repeat Requ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3400" indent="-223560">
              <a:lnSpc>
                <a:spcPct val="10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Receiver sends acknowledgment (ACK) when it receives pack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3400" indent="-223560">
              <a:lnSpc>
                <a:spcPct val="10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Sender waits for ACK and timeouts if it does not arrive within some time peri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lnSpc>
                <a:spcPct val="100000"/>
              </a:lnSpc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Simplest ARQ protoc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3400" indent="-223560">
              <a:lnSpc>
                <a:spcPct val="10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Stop and wa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3400" indent="-223560">
              <a:lnSpc>
                <a:spcPct val="10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Send a packet, stop and wait until ACK arriv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6096240" y="258984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7451640" y="2589840"/>
            <a:ext cx="118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5791320" y="3048120"/>
            <a:ext cx="0" cy="190476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6629400" y="3075120"/>
            <a:ext cx="3240" cy="1865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C6AAAA-8E32-4E49-87FB-DB33103A329A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asons for Retransmiss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6" name=""/>
          <p:cNvGrpSpPr/>
          <p:nvPr/>
        </p:nvGrpSpPr>
        <p:grpSpPr>
          <a:xfrm>
            <a:off x="7125840" y="2018520"/>
            <a:ext cx="1418400" cy="605160"/>
            <a:chOff x="7125840" y="2018520"/>
            <a:chExt cx="1418400" cy="605160"/>
          </a:xfrm>
        </p:grpSpPr>
        <p:sp>
          <p:nvSpPr>
            <p:cNvPr id="917" name=""/>
            <p:cNvSpPr/>
            <p:nvPr/>
          </p:nvSpPr>
          <p:spPr>
            <a:xfrm>
              <a:off x="7125840" y="2334240"/>
              <a:ext cx="1418400" cy="289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 rot="688200">
              <a:off x="7297920" y="2109600"/>
              <a:ext cx="959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ack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9" name=""/>
          <p:cNvGrpSpPr/>
          <p:nvPr/>
        </p:nvGrpSpPr>
        <p:grpSpPr>
          <a:xfrm>
            <a:off x="7051680" y="2657520"/>
            <a:ext cx="1407960" cy="1225440"/>
            <a:chOff x="7051680" y="2657520"/>
            <a:chExt cx="1407960" cy="1225440"/>
          </a:xfrm>
        </p:grpSpPr>
        <p:sp>
          <p:nvSpPr>
            <p:cNvPr id="920" name=""/>
            <p:cNvSpPr/>
            <p:nvPr/>
          </p:nvSpPr>
          <p:spPr>
            <a:xfrm flipV="1">
              <a:off x="7051680" y="2840040"/>
              <a:ext cx="1407960" cy="1042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 rot="19405200">
              <a:off x="7535520" y="2827440"/>
              <a:ext cx="703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C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22" name=""/>
          <p:cNvCxnSpPr/>
          <p:nvPr/>
        </p:nvCxnSpPr>
        <p:spPr>
          <a:xfrm flipH="1" rot="16200000">
            <a:off x="6120360" y="2835720"/>
            <a:ext cx="1891440" cy="3960"/>
          </a:xfrm>
          <a:prstGeom prst="bentConnector5">
            <a:avLst>
              <a:gd name="adj1" fmla="val 22825"/>
              <a:gd name="adj2" fmla="val -6800000"/>
              <a:gd name="adj3" fmla="val 85455"/>
            </a:avLst>
          </a:prstGeom>
          <a:ln w="12600">
            <a:solidFill>
              <a:srgbClr val="000000"/>
            </a:solidFill>
            <a:prstDash val="dash"/>
            <a:miter/>
          </a:ln>
        </p:spPr>
      </p:cxnSp>
      <p:sp>
        <p:nvSpPr>
          <p:cNvPr id="923" name=""/>
          <p:cNvSpPr/>
          <p:nvPr/>
        </p:nvSpPr>
        <p:spPr>
          <a:xfrm rot="16200000">
            <a:off x="6074640" y="273456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meo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7049160" y="3570120"/>
            <a:ext cx="1487160" cy="303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 rot="688200">
            <a:off x="7539120" y="3381840"/>
            <a:ext cx="95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ck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6" name=""/>
          <p:cNvGrpSpPr/>
          <p:nvPr/>
        </p:nvGrpSpPr>
        <p:grpSpPr>
          <a:xfrm>
            <a:off x="7056000" y="4006800"/>
            <a:ext cx="1430640" cy="502200"/>
            <a:chOff x="7056000" y="4006800"/>
            <a:chExt cx="1430640" cy="502200"/>
          </a:xfrm>
        </p:grpSpPr>
        <p:sp>
          <p:nvSpPr>
            <p:cNvPr id="927" name=""/>
            <p:cNvSpPr/>
            <p:nvPr/>
          </p:nvSpPr>
          <p:spPr>
            <a:xfrm flipV="1">
              <a:off x="7056000" y="4286880"/>
              <a:ext cx="1430640" cy="220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 rot="21071400">
              <a:off x="7302960" y="4058280"/>
              <a:ext cx="703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C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29" name=""/>
          <p:cNvCxnSpPr/>
          <p:nvPr/>
        </p:nvCxnSpPr>
        <p:spPr>
          <a:xfrm flipH="1" rot="16200000">
            <a:off x="6120360" y="4310640"/>
            <a:ext cx="1891440" cy="3960"/>
          </a:xfrm>
          <a:prstGeom prst="bentConnector5">
            <a:avLst>
              <a:gd name="adj1" fmla="val 10660"/>
              <a:gd name="adj2" fmla="val -6800000"/>
              <a:gd name="adj3" fmla="val 77327"/>
            </a:avLst>
          </a:prstGeom>
          <a:ln w="12600">
            <a:solidFill>
              <a:srgbClr val="000000"/>
            </a:solidFill>
            <a:prstDash val="dash"/>
            <a:miter/>
          </a:ln>
        </p:spPr>
      </p:cxnSp>
      <p:sp>
        <p:nvSpPr>
          <p:cNvPr id="930" name=""/>
          <p:cNvSpPr/>
          <p:nvPr/>
        </p:nvSpPr>
        <p:spPr>
          <a:xfrm rot="16200000">
            <a:off x="6072840" y="4209840"/>
            <a:ext cx="121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meo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1" name=""/>
          <p:cNvGrpSpPr/>
          <p:nvPr/>
        </p:nvGrpSpPr>
        <p:grpSpPr>
          <a:xfrm>
            <a:off x="1246320" y="2019600"/>
            <a:ext cx="1063800" cy="582840"/>
            <a:chOff x="1246320" y="2019600"/>
            <a:chExt cx="1063800" cy="582840"/>
          </a:xfrm>
        </p:grpSpPr>
        <p:sp>
          <p:nvSpPr>
            <p:cNvPr id="932" name=""/>
            <p:cNvSpPr/>
            <p:nvPr/>
          </p:nvSpPr>
          <p:spPr>
            <a:xfrm>
              <a:off x="1264680" y="2388960"/>
              <a:ext cx="1045440" cy="213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 rot="688200">
              <a:off x="1276200" y="2110680"/>
              <a:ext cx="959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ack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34" name=""/>
          <p:cNvCxnSpPr/>
          <p:nvPr/>
        </p:nvCxnSpPr>
        <p:spPr>
          <a:xfrm flipH="1" rot="16200000">
            <a:off x="272160" y="2835720"/>
            <a:ext cx="1891440" cy="3960"/>
          </a:xfrm>
          <a:prstGeom prst="bentConnector5">
            <a:avLst>
              <a:gd name="adj1" fmla="val 22825"/>
              <a:gd name="adj2" fmla="val -6800000"/>
              <a:gd name="adj3" fmla="val 100666"/>
            </a:avLst>
          </a:prstGeom>
          <a:ln w="12600">
            <a:solidFill>
              <a:srgbClr val="000000"/>
            </a:solidFill>
            <a:prstDash val="dash"/>
            <a:miter/>
          </a:ln>
        </p:spPr>
      </p:cxnSp>
      <p:sp>
        <p:nvSpPr>
          <p:cNvPr id="935" name=""/>
          <p:cNvSpPr/>
          <p:nvPr/>
        </p:nvSpPr>
        <p:spPr>
          <a:xfrm rot="16200000">
            <a:off x="227880" y="2733480"/>
            <a:ext cx="121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meo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6" name=""/>
          <p:cNvGrpSpPr/>
          <p:nvPr/>
        </p:nvGrpSpPr>
        <p:grpSpPr>
          <a:xfrm>
            <a:off x="1276200" y="3493440"/>
            <a:ext cx="1418400" cy="605160"/>
            <a:chOff x="1276200" y="3493440"/>
            <a:chExt cx="1418400" cy="605160"/>
          </a:xfrm>
        </p:grpSpPr>
        <p:sp>
          <p:nvSpPr>
            <p:cNvPr id="937" name=""/>
            <p:cNvSpPr/>
            <p:nvPr/>
          </p:nvSpPr>
          <p:spPr>
            <a:xfrm>
              <a:off x="1276200" y="3809160"/>
              <a:ext cx="1418400" cy="289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 rot="688200">
              <a:off x="1448280" y="3584520"/>
              <a:ext cx="959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ack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9" name=""/>
          <p:cNvGrpSpPr/>
          <p:nvPr/>
        </p:nvGrpSpPr>
        <p:grpSpPr>
          <a:xfrm>
            <a:off x="1207440" y="4335480"/>
            <a:ext cx="1431000" cy="502200"/>
            <a:chOff x="1207440" y="4335480"/>
            <a:chExt cx="1431000" cy="502200"/>
          </a:xfrm>
        </p:grpSpPr>
        <p:sp>
          <p:nvSpPr>
            <p:cNvPr id="940" name=""/>
            <p:cNvSpPr/>
            <p:nvPr/>
          </p:nvSpPr>
          <p:spPr>
            <a:xfrm flipV="1">
              <a:off x="1207440" y="4615560"/>
              <a:ext cx="1431000" cy="220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 rot="21071400">
              <a:off x="1454760" y="4386960"/>
              <a:ext cx="703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C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42" name=""/>
          <p:cNvCxnSpPr/>
          <p:nvPr/>
        </p:nvCxnSpPr>
        <p:spPr>
          <a:xfrm flipH="1" rot="16200000">
            <a:off x="270360" y="4310640"/>
            <a:ext cx="1891440" cy="3960"/>
          </a:xfrm>
          <a:prstGeom prst="bentConnector5">
            <a:avLst>
              <a:gd name="adj1" fmla="val 22825"/>
              <a:gd name="adj2" fmla="val -6800000"/>
              <a:gd name="adj3" fmla="val 97125"/>
            </a:avLst>
          </a:prstGeom>
          <a:ln w="12600">
            <a:solidFill>
              <a:srgbClr val="000000"/>
            </a:solidFill>
            <a:prstDash val="dash"/>
            <a:miter/>
          </a:ln>
        </p:spPr>
      </p:cxnSp>
      <p:sp>
        <p:nvSpPr>
          <p:cNvPr id="943" name=""/>
          <p:cNvSpPr/>
          <p:nvPr/>
        </p:nvSpPr>
        <p:spPr>
          <a:xfrm rot="16200000">
            <a:off x="226080" y="4209840"/>
            <a:ext cx="121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meo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 flipH="1">
            <a:off x="2130480" y="2362320"/>
            <a:ext cx="380880" cy="457200"/>
          </a:xfrm>
          <a:prstGeom prst="lightningBolt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5" name=""/>
          <p:cNvGrpSpPr/>
          <p:nvPr/>
        </p:nvGrpSpPr>
        <p:grpSpPr>
          <a:xfrm>
            <a:off x="4236840" y="2018520"/>
            <a:ext cx="1418400" cy="605160"/>
            <a:chOff x="4236840" y="2018520"/>
            <a:chExt cx="1418400" cy="605160"/>
          </a:xfrm>
        </p:grpSpPr>
        <p:sp>
          <p:nvSpPr>
            <p:cNvPr id="946" name=""/>
            <p:cNvSpPr/>
            <p:nvPr/>
          </p:nvSpPr>
          <p:spPr>
            <a:xfrm>
              <a:off x="4236840" y="2334240"/>
              <a:ext cx="1418400" cy="289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 rot="688200">
              <a:off x="4408920" y="2109600"/>
              <a:ext cx="959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ack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8" name=""/>
          <p:cNvGrpSpPr/>
          <p:nvPr/>
        </p:nvGrpSpPr>
        <p:grpSpPr>
          <a:xfrm>
            <a:off x="4614480" y="2772720"/>
            <a:ext cx="971640" cy="502200"/>
            <a:chOff x="4614480" y="2772720"/>
            <a:chExt cx="971640" cy="502200"/>
          </a:xfrm>
        </p:grpSpPr>
        <p:sp>
          <p:nvSpPr>
            <p:cNvPr id="949" name=""/>
            <p:cNvSpPr/>
            <p:nvPr/>
          </p:nvSpPr>
          <p:spPr>
            <a:xfrm flipV="1">
              <a:off x="4614480" y="3093840"/>
              <a:ext cx="971640" cy="149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 rot="21071400">
              <a:off x="4646520" y="2824200"/>
              <a:ext cx="703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C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51" name=""/>
          <p:cNvCxnSpPr/>
          <p:nvPr/>
        </p:nvCxnSpPr>
        <p:spPr>
          <a:xfrm flipH="1" rot="16200000">
            <a:off x="3231360" y="2835720"/>
            <a:ext cx="1891440" cy="3600"/>
          </a:xfrm>
          <a:prstGeom prst="bentConnector5">
            <a:avLst>
              <a:gd name="adj1" fmla="val 22825"/>
              <a:gd name="adj2" fmla="val -6800000"/>
              <a:gd name="adj3" fmla="val 100666"/>
            </a:avLst>
          </a:prstGeom>
          <a:ln w="12600">
            <a:solidFill>
              <a:srgbClr val="000000"/>
            </a:solidFill>
            <a:prstDash val="dash"/>
            <a:miter/>
          </a:ln>
        </p:spPr>
      </p:cxnSp>
      <p:sp>
        <p:nvSpPr>
          <p:cNvPr id="952" name=""/>
          <p:cNvSpPr/>
          <p:nvPr/>
        </p:nvSpPr>
        <p:spPr>
          <a:xfrm rot="16200000">
            <a:off x="3185280" y="273456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meo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3" name=""/>
          <p:cNvGrpSpPr/>
          <p:nvPr/>
        </p:nvGrpSpPr>
        <p:grpSpPr>
          <a:xfrm>
            <a:off x="4235040" y="3493440"/>
            <a:ext cx="1418400" cy="605160"/>
            <a:chOff x="4235040" y="3493440"/>
            <a:chExt cx="1418400" cy="605160"/>
          </a:xfrm>
        </p:grpSpPr>
        <p:sp>
          <p:nvSpPr>
            <p:cNvPr id="954" name=""/>
            <p:cNvSpPr/>
            <p:nvPr/>
          </p:nvSpPr>
          <p:spPr>
            <a:xfrm>
              <a:off x="4235040" y="3809160"/>
              <a:ext cx="1418400" cy="289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 rot="688200">
              <a:off x="4407120" y="3584520"/>
              <a:ext cx="959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ack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6" name=""/>
          <p:cNvGrpSpPr/>
          <p:nvPr/>
        </p:nvGrpSpPr>
        <p:grpSpPr>
          <a:xfrm>
            <a:off x="4166640" y="4335480"/>
            <a:ext cx="1431000" cy="502200"/>
            <a:chOff x="4166640" y="4335480"/>
            <a:chExt cx="1431000" cy="502200"/>
          </a:xfrm>
        </p:grpSpPr>
        <p:sp>
          <p:nvSpPr>
            <p:cNvPr id="957" name=""/>
            <p:cNvSpPr/>
            <p:nvPr/>
          </p:nvSpPr>
          <p:spPr>
            <a:xfrm flipV="1">
              <a:off x="4166640" y="4615560"/>
              <a:ext cx="1431000" cy="220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 rot="21071400">
              <a:off x="4413960" y="4386960"/>
              <a:ext cx="703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C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59" name=""/>
          <p:cNvCxnSpPr/>
          <p:nvPr/>
        </p:nvCxnSpPr>
        <p:spPr>
          <a:xfrm flipH="1" rot="16200000">
            <a:off x="3229560" y="4310640"/>
            <a:ext cx="1891440" cy="3960"/>
          </a:xfrm>
          <a:prstGeom prst="bentConnector5">
            <a:avLst>
              <a:gd name="adj1" fmla="val 22825"/>
              <a:gd name="adj2" fmla="val -6800000"/>
              <a:gd name="adj3" fmla="val 97125"/>
            </a:avLst>
          </a:prstGeom>
          <a:ln w="12600">
            <a:solidFill>
              <a:srgbClr val="000000"/>
            </a:solidFill>
            <a:prstDash val="dash"/>
            <a:miter/>
          </a:ln>
        </p:spPr>
      </p:cxnSp>
      <p:sp>
        <p:nvSpPr>
          <p:cNvPr id="960" name=""/>
          <p:cNvSpPr/>
          <p:nvPr/>
        </p:nvSpPr>
        <p:spPr>
          <a:xfrm rot="16200000">
            <a:off x="3183840" y="4209840"/>
            <a:ext cx="121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meo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4175280" y="1752480"/>
            <a:ext cx="0" cy="3810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4327560" y="3048120"/>
            <a:ext cx="380880" cy="457200"/>
          </a:xfrm>
          <a:prstGeom prst="lightningBol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4158000" y="5455080"/>
            <a:ext cx="1678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ACK lo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DUPLICATE 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PACK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1239480" y="5591880"/>
            <a:ext cx="152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Packet lo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6891120" y="5485320"/>
            <a:ext cx="1791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Early timeo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DUPLICATE</a:t>
            </a: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PACKE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5662440" y="1752480"/>
            <a:ext cx="0" cy="3810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1214280" y="1752480"/>
            <a:ext cx="0" cy="3810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2701800" y="1752480"/>
            <a:ext cx="0" cy="3810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7062840" y="1752480"/>
            <a:ext cx="0" cy="3810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8550360" y="1752480"/>
            <a:ext cx="0" cy="3810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8A4616-C3B9-45E9-9048-A6EFF7AE115F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ow Long Should Sender Wait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ender sets a timeout to wait for an ACK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oo short: wasted retransmission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oo long: excessive delays when packet los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TCP sets timeout as a function of the RTT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xpect ACK to arrive after an RT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plus a fudge factor to account for queuing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But, how does the sender know the RTT?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an estimate the RTT by watching the ACK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mooth estimate: keep a running average of the RT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2" marL="911160" indent="-233280">
              <a:spcBef>
                <a:spcPts val="24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imatedRTT = a * EstimatedRTT + (1 –a ) * SampleRT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ompute timeout: TimeOut = 2 * EstimatedRT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66AF71-A9FB-417D-8677-B2718BD34567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ample RTT Estim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4" name="" descr=""/>
          <p:cNvPicPr/>
          <p:nvPr/>
        </p:nvPicPr>
        <p:blipFill>
          <a:blip r:embed="rId1"/>
          <a:stretch/>
        </p:blipFill>
        <p:spPr>
          <a:xfrm>
            <a:off x="490680" y="1049400"/>
            <a:ext cx="7738920" cy="5297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9C2689-FBC9-457D-BA67-86C20AB5A0FF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 Flaw in This Approach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An ACK doesn’t really acknowledge a transmission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Rather, it acknowledges receipt of the data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Consider a retransmission of a lost packet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f you assume the ACK goes with the 1st transmissio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e SampleRTT comes out way too larg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Consider a duplicate packet 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f you assume the ACK goes with the 2nd transmissio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e Sample RTT comes out way too smal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imple solution in the Karn/Partridge algorithm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Only collect samples for segments sent one single tim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28BD0D-2333-44CA-8442-9E33C4015774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Yet Another Limitation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Doesn’t consider variance in the RTT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f variance is small, the EstimatedRTT is pretty accurat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but, if variance is large, the estimate isn’t all that good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Better to directly consider the variance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onsider difference: SampleRTT – EstimatedRT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Boost the estimate based on the differenc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Jacobson/Karels algorithm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ee Section 5.2 of the Peterson/Davie book for detail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C3712D-BB45-489E-B004-EB796C8C4105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TCP Sliding Window</a:t>
            </a: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00AF20-6DBE-4167-9E20-3A704EA3DD5F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otivation for Sliding Window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top-and-wait is inefficient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Only one TCP segment is “in flight” at a tim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specially bad when delay-bandwidth product is high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Numerical example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1.5 Mbps link with a 45 msec round-trip time (RTT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2" marL="911160" indent="-233280">
              <a:spcBef>
                <a:spcPts val="24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lay-bandwidth product is 67.5 Kbits (or 8 K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But, sender can send at most one packet per RT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2" marL="911160" indent="-233280">
              <a:spcBef>
                <a:spcPts val="24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uming a segment size of 1 KB (8 Kbi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1160" indent="-233280">
              <a:spcBef>
                <a:spcPts val="24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ds to 8 Kbits/segment / 45 msec/segment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182 Kb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1160" indent="-233280">
              <a:spcBef>
                <a:spcPts val="24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at’s just one-eighth of the 1.5 Mbps link capac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2" name="" descr=""/>
          <p:cNvPicPr/>
          <p:nvPr/>
        </p:nvPicPr>
        <p:blipFill>
          <a:blip r:embed="rId1"/>
          <a:stretch/>
        </p:blipFill>
        <p:spPr>
          <a:xfrm flipH="1">
            <a:off x="539280" y="5349960"/>
            <a:ext cx="1476360" cy="1508040"/>
          </a:xfrm>
          <a:prstGeom prst="rect">
            <a:avLst/>
          </a:prstGeom>
          <a:ln w="0">
            <a:noFill/>
          </a:ln>
        </p:spPr>
      </p:pic>
      <p:pic>
        <p:nvPicPr>
          <p:cNvPr id="983" name="" descr=""/>
          <p:cNvPicPr/>
          <p:nvPr/>
        </p:nvPicPr>
        <p:blipFill>
          <a:blip r:embed="rId2"/>
          <a:stretch/>
        </p:blipFill>
        <p:spPr>
          <a:xfrm>
            <a:off x="6607080" y="5580000"/>
            <a:ext cx="1824120" cy="1120680"/>
          </a:xfrm>
          <a:prstGeom prst="rect">
            <a:avLst/>
          </a:prstGeom>
          <a:ln w="0">
            <a:noFill/>
          </a:ln>
        </p:spPr>
      </p:pic>
      <p:sp>
        <p:nvSpPr>
          <p:cNvPr id="984" name=""/>
          <p:cNvSpPr/>
          <p:nvPr/>
        </p:nvSpPr>
        <p:spPr>
          <a:xfrm>
            <a:off x="1922400" y="6272280"/>
            <a:ext cx="4722840" cy="268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3765600" y="6308640"/>
            <a:ext cx="1268280" cy="19224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4726080" y="6308640"/>
            <a:ext cx="306360" cy="192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298D34-831C-462E-A6AC-DD07B61B6C89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liding Window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Allow a larger amount of data “in flight”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llow sender to get ahead of the receiver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ough not </a:t>
            </a:r>
            <a:r>
              <a:rPr b="0" i="1" lang="en-US" sz="2400" spc="-1" strike="noStrike">
                <a:solidFill>
                  <a:srgbClr val="000066"/>
                </a:solidFill>
                <a:latin typeface="Arial"/>
              </a:rPr>
              <a:t>too far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ahead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>
            <a:off x="1116000" y="2890800"/>
            <a:ext cx="2879640" cy="7682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1462680" y="3044880"/>
            <a:ext cx="223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nding pro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5187960" y="2890800"/>
            <a:ext cx="2879640" cy="7682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5438520" y="3044880"/>
            <a:ext cx="243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eiving pro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654120" y="3863880"/>
            <a:ext cx="3533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4916520" y="3889440"/>
            <a:ext cx="3533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808200" y="4581360"/>
            <a:ext cx="958680" cy="4604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1768320" y="4581360"/>
            <a:ext cx="959040" cy="460440"/>
          </a:xfrm>
          <a:prstGeom prst="rect">
            <a:avLst/>
          </a:prstGeom>
          <a:solidFill>
            <a:srgbClr val="99cc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2728800" y="4581360"/>
            <a:ext cx="959040" cy="46044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3687840" y="4583160"/>
            <a:ext cx="614160" cy="46044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2421000" y="3659040"/>
            <a:ext cx="1268280" cy="844560"/>
          </a:xfrm>
          <a:custGeom>
            <a:avLst/>
            <a:gdLst/>
            <a:ahLst/>
            <a:rect l="l" t="t" r="r" b="b"/>
            <a:pathLst>
              <a:path w="799" h="460">
                <a:moveTo>
                  <a:pt x="0" y="0"/>
                </a:moveTo>
                <a:cubicBezTo>
                  <a:pt x="127" y="22"/>
                  <a:pt x="254" y="44"/>
                  <a:pt x="387" y="121"/>
                </a:cubicBezTo>
                <a:cubicBezTo>
                  <a:pt x="520" y="198"/>
                  <a:pt x="659" y="329"/>
                  <a:pt x="799" y="46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 flipV="1">
            <a:off x="1768320" y="5157360"/>
            <a:ext cx="0" cy="538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 flipV="1">
            <a:off x="2728800" y="5157360"/>
            <a:ext cx="0" cy="1190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461160" y="5657760"/>
            <a:ext cx="221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st byte ACK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1355760" y="6335640"/>
            <a:ext cx="189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st byte s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463680" y="3813120"/>
            <a:ext cx="68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C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5072040" y="4478400"/>
            <a:ext cx="614520" cy="4604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5686560" y="4478400"/>
            <a:ext cx="1304640" cy="460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6953400" y="4478400"/>
            <a:ext cx="34596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7643880" y="4479840"/>
            <a:ext cx="614160" cy="46044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4727880" y="3851280"/>
            <a:ext cx="68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C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5646600" y="3583080"/>
            <a:ext cx="1382760" cy="882720"/>
          </a:xfrm>
          <a:custGeom>
            <a:avLst/>
            <a:gdLst/>
            <a:ahLst/>
            <a:rect l="l" t="t" r="r" b="b"/>
            <a:pathLst>
              <a:path w="871" h="556">
                <a:moveTo>
                  <a:pt x="0" y="556"/>
                </a:moveTo>
                <a:cubicBezTo>
                  <a:pt x="278" y="421"/>
                  <a:pt x="556" y="286"/>
                  <a:pt x="701" y="193"/>
                </a:cubicBezTo>
                <a:cubicBezTo>
                  <a:pt x="846" y="100"/>
                  <a:pt x="858" y="50"/>
                  <a:pt x="871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 flipV="1">
            <a:off x="6953400" y="4965480"/>
            <a:ext cx="0" cy="538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4838040" y="5502240"/>
            <a:ext cx="25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xt byte expec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1227600" y="3967200"/>
            <a:ext cx="220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st byte writ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6452280" y="3954600"/>
            <a:ext cx="190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st byte re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7299360" y="4465800"/>
            <a:ext cx="345960" cy="4600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 flipV="1">
            <a:off x="7624800" y="5003640"/>
            <a:ext cx="0" cy="119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5760720" y="6181560"/>
            <a:ext cx="240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st byte recei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1E8565-8D89-4313-8801-3EADC6665D1D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ceiver Bufferi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28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Window size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mount that can be sent without acknowledgmen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Receiver needs to be able to store this amount of data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Receiver advertises the window to the receiver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ells the receiver the amount of free space lef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nd the sender agrees not to exceed this amoun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20" name=""/>
          <p:cNvSpPr/>
          <p:nvPr/>
        </p:nvSpPr>
        <p:spPr>
          <a:xfrm>
            <a:off x="2079720" y="5024520"/>
            <a:ext cx="4565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2079720" y="5634000"/>
            <a:ext cx="4565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 flipH="1">
            <a:off x="6645240" y="5024520"/>
            <a:ext cx="4636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 flipH="1">
            <a:off x="6645240" y="5634000"/>
            <a:ext cx="4636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2079720" y="50245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2232000" y="50245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2384280" y="50245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2536920" y="50245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2689200" y="50245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2841480" y="50245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2994120" y="50245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3146400" y="50245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3298680" y="50245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3451320" y="50245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3603600" y="50245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3755880" y="50245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3908520" y="50245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4060800" y="50245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4213080" y="50245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4365720" y="50245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4518000" y="50245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4670280" y="50245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4822920" y="50245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4975200" y="50245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5127480" y="50245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5280120" y="50245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5432400" y="50245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5584680" y="50245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5737320" y="50245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5889600" y="50245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6041880" y="50245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6194520" y="50245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6346800" y="50245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6499080" y="50245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6651720" y="50245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6804000" y="5024520"/>
            <a:ext cx="0" cy="6094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6956280" y="5024520"/>
            <a:ext cx="0" cy="6094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2994120" y="4648320"/>
            <a:ext cx="2895480" cy="1371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 flipH="1">
            <a:off x="1616040" y="5024520"/>
            <a:ext cx="4636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 flipH="1">
            <a:off x="1616040" y="5634000"/>
            <a:ext cx="4636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1781280" y="5029200"/>
            <a:ext cx="0" cy="6094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1933560" y="5029200"/>
            <a:ext cx="0" cy="6094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4365720" y="464832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2994120" y="4495680"/>
            <a:ext cx="2895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3465000" y="4114800"/>
            <a:ext cx="198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Window Si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 flipH="1">
            <a:off x="1469880" y="609588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5889600" y="60958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2994120" y="60958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4365720" y="60958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2994120" y="6019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4365720" y="6019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5889600" y="6019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2913120" y="6099120"/>
            <a:ext cx="140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Comic Sans MS"/>
              </a:rPr>
              <a:t>Outstan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Comic Sans MS"/>
              </a:rPr>
              <a:t>Un-ack’d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4584960" y="6099120"/>
            <a:ext cx="959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Comic Sans MS"/>
              </a:rPr>
              <a:t>Data OK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Comic Sans MS"/>
              </a:rPr>
              <a:t>to s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5844960" y="6099120"/>
            <a:ext cx="1310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ata not OK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o send y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1614600" y="6099120"/>
            <a:ext cx="1206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ata ACK’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B7F479-97AD-45CC-9241-F3877D2E1634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ransport Protocol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959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Provide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 logical communication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between application processes running on different hosts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marL="223920" indent="-223920"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Run on end hosts 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ender: breaks application messages into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egments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, </a:t>
            </a:r>
            <a:br>
              <a:rPr sz="2400"/>
            </a:b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nd passes to network layer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Receiver: reassembles segments into messages, passes to application layer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Multiple transport protocol available to applications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nternet: TCP and UDP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6488280" y="3922560"/>
            <a:ext cx="1304640" cy="108612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7089840" y="2522520"/>
            <a:ext cx="1798560" cy="1674720"/>
          </a:xfrm>
          <a:custGeom>
            <a:avLst/>
            <a:gdLst/>
            <a:ahLst/>
            <a:rect l="l" t="t" r="r" b="b"/>
            <a:pathLst>
              <a:path w="1292" h="1255">
                <a:moveTo>
                  <a:pt x="239" y="7"/>
                </a:moveTo>
                <a:cubicBezTo>
                  <a:pt x="120" y="14"/>
                  <a:pt x="70" y="71"/>
                  <a:pt x="35" y="157"/>
                </a:cubicBezTo>
                <a:cubicBezTo>
                  <a:pt x="0" y="243"/>
                  <a:pt x="26" y="411"/>
                  <a:pt x="29" y="523"/>
                </a:cubicBezTo>
                <a:cubicBezTo>
                  <a:pt x="32" y="635"/>
                  <a:pt x="17" y="771"/>
                  <a:pt x="53" y="829"/>
                </a:cubicBezTo>
                <a:cubicBezTo>
                  <a:pt x="89" y="887"/>
                  <a:pt x="146" y="821"/>
                  <a:pt x="245" y="871"/>
                </a:cubicBezTo>
                <a:cubicBezTo>
                  <a:pt x="344" y="921"/>
                  <a:pt x="522" y="1068"/>
                  <a:pt x="647" y="1129"/>
                </a:cubicBezTo>
                <a:cubicBezTo>
                  <a:pt x="772" y="1190"/>
                  <a:pt x="903" y="1255"/>
                  <a:pt x="995" y="1237"/>
                </a:cubicBezTo>
                <a:cubicBezTo>
                  <a:pt x="1087" y="1219"/>
                  <a:pt x="1153" y="1153"/>
                  <a:pt x="1199" y="1021"/>
                </a:cubicBezTo>
                <a:cubicBezTo>
                  <a:pt x="1245" y="889"/>
                  <a:pt x="1270" y="580"/>
                  <a:pt x="1271" y="445"/>
                </a:cubicBezTo>
                <a:cubicBezTo>
                  <a:pt x="1272" y="310"/>
                  <a:pt x="1292" y="266"/>
                  <a:pt x="1205" y="211"/>
                </a:cubicBezTo>
                <a:cubicBezTo>
                  <a:pt x="1118" y="156"/>
                  <a:pt x="908" y="150"/>
                  <a:pt x="749" y="115"/>
                </a:cubicBezTo>
                <a:cubicBezTo>
                  <a:pt x="590" y="80"/>
                  <a:pt x="358" y="0"/>
                  <a:pt x="239" y="7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210280" y="2379600"/>
            <a:ext cx="1866960" cy="1589040"/>
          </a:xfrm>
          <a:custGeom>
            <a:avLst/>
            <a:gdLst/>
            <a:ahLst/>
            <a:rect l="l" t="t" r="r" b="b"/>
            <a:pathLst>
              <a:path w="1340" h="1191">
                <a:moveTo>
                  <a:pt x="550" y="42"/>
                </a:moveTo>
                <a:cubicBezTo>
                  <a:pt x="437" y="4"/>
                  <a:pt x="164" y="0"/>
                  <a:pt x="82" y="60"/>
                </a:cubicBezTo>
                <a:cubicBezTo>
                  <a:pt x="0" y="120"/>
                  <a:pt x="67" y="292"/>
                  <a:pt x="58" y="402"/>
                </a:cubicBezTo>
                <a:cubicBezTo>
                  <a:pt x="49" y="512"/>
                  <a:pt x="19" y="642"/>
                  <a:pt x="28" y="720"/>
                </a:cubicBezTo>
                <a:cubicBezTo>
                  <a:pt x="37" y="798"/>
                  <a:pt x="27" y="844"/>
                  <a:pt x="112" y="870"/>
                </a:cubicBezTo>
                <a:cubicBezTo>
                  <a:pt x="197" y="896"/>
                  <a:pt x="450" y="833"/>
                  <a:pt x="538" y="876"/>
                </a:cubicBezTo>
                <a:cubicBezTo>
                  <a:pt x="626" y="919"/>
                  <a:pt x="524" y="1091"/>
                  <a:pt x="640" y="1128"/>
                </a:cubicBezTo>
                <a:cubicBezTo>
                  <a:pt x="756" y="1165"/>
                  <a:pt x="1128" y="1191"/>
                  <a:pt x="1234" y="1098"/>
                </a:cubicBezTo>
                <a:cubicBezTo>
                  <a:pt x="1340" y="1005"/>
                  <a:pt x="1281" y="696"/>
                  <a:pt x="1276" y="570"/>
                </a:cubicBezTo>
                <a:cubicBezTo>
                  <a:pt x="1271" y="444"/>
                  <a:pt x="1290" y="389"/>
                  <a:pt x="1204" y="342"/>
                </a:cubicBezTo>
                <a:cubicBezTo>
                  <a:pt x="1118" y="295"/>
                  <a:pt x="868" y="338"/>
                  <a:pt x="760" y="288"/>
                </a:cubicBezTo>
                <a:cubicBezTo>
                  <a:pt x="652" y="238"/>
                  <a:pt x="663" y="80"/>
                  <a:pt x="550" y="42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578560" y="3830760"/>
            <a:ext cx="2975040" cy="2219040"/>
          </a:xfrm>
          <a:custGeom>
            <a:avLst/>
            <a:gdLst/>
            <a:ahLst/>
            <a:rect l="l" t="t" r="r" b="b"/>
            <a:pathLst>
              <a:path w="2135" h="1662">
                <a:moveTo>
                  <a:pt x="27" y="652"/>
                </a:moveTo>
                <a:cubicBezTo>
                  <a:pt x="14" y="487"/>
                  <a:pt x="0" y="152"/>
                  <a:pt x="105" y="76"/>
                </a:cubicBezTo>
                <a:cubicBezTo>
                  <a:pt x="210" y="0"/>
                  <a:pt x="473" y="192"/>
                  <a:pt x="657" y="196"/>
                </a:cubicBezTo>
                <a:cubicBezTo>
                  <a:pt x="841" y="200"/>
                  <a:pt x="985" y="65"/>
                  <a:pt x="1209" y="100"/>
                </a:cubicBezTo>
                <a:cubicBezTo>
                  <a:pt x="1433" y="135"/>
                  <a:pt x="1867" y="232"/>
                  <a:pt x="2001" y="406"/>
                </a:cubicBezTo>
                <a:cubicBezTo>
                  <a:pt x="2135" y="580"/>
                  <a:pt x="2083" y="945"/>
                  <a:pt x="2013" y="1144"/>
                </a:cubicBezTo>
                <a:cubicBezTo>
                  <a:pt x="1943" y="1343"/>
                  <a:pt x="1781" y="1538"/>
                  <a:pt x="1581" y="1600"/>
                </a:cubicBezTo>
                <a:cubicBezTo>
                  <a:pt x="1381" y="1662"/>
                  <a:pt x="993" y="1571"/>
                  <a:pt x="813" y="1516"/>
                </a:cubicBezTo>
                <a:cubicBezTo>
                  <a:pt x="633" y="1461"/>
                  <a:pt x="606" y="1345"/>
                  <a:pt x="501" y="1270"/>
                </a:cubicBezTo>
                <a:cubicBezTo>
                  <a:pt x="396" y="1195"/>
                  <a:pt x="262" y="1169"/>
                  <a:pt x="183" y="1066"/>
                </a:cubicBezTo>
                <a:cubicBezTo>
                  <a:pt x="104" y="963"/>
                  <a:pt x="25" y="819"/>
                  <a:pt x="27" y="652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5327640" y="2514600"/>
            <a:ext cx="732960" cy="318960"/>
            <a:chOff x="5327640" y="2514600"/>
            <a:chExt cx="732960" cy="318960"/>
          </a:xfrm>
        </p:grpSpPr>
        <p:pic>
          <p:nvPicPr>
            <p:cNvPr id="107" name="" descr=""/>
            <p:cNvPicPr/>
            <p:nvPr/>
          </p:nvPicPr>
          <p:blipFill>
            <a:blip r:embed="rId2"/>
            <a:stretch/>
          </p:blipFill>
          <p:spPr>
            <a:xfrm>
              <a:off x="5327640" y="2514600"/>
              <a:ext cx="416160" cy="31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" name="" descr=""/>
            <p:cNvPicPr/>
            <p:nvPr/>
          </p:nvPicPr>
          <p:blipFill>
            <a:blip r:embed="rId3"/>
            <a:stretch/>
          </p:blipFill>
          <p:spPr>
            <a:xfrm>
              <a:off x="5781240" y="2632680"/>
              <a:ext cx="279360" cy="18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"/>
            <p:cNvSpPr/>
            <p:nvPr/>
          </p:nvSpPr>
          <p:spPr>
            <a:xfrm flipV="1">
              <a:off x="5734080" y="2756160"/>
              <a:ext cx="114120" cy="2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5327640" y="3110040"/>
            <a:ext cx="732960" cy="318960"/>
            <a:chOff x="5327640" y="3110040"/>
            <a:chExt cx="732960" cy="318960"/>
          </a:xfrm>
        </p:grpSpPr>
        <p:pic>
          <p:nvPicPr>
            <p:cNvPr id="111" name="" descr=""/>
            <p:cNvPicPr/>
            <p:nvPr/>
          </p:nvPicPr>
          <p:blipFill>
            <a:blip r:embed="rId4"/>
            <a:stretch/>
          </p:blipFill>
          <p:spPr>
            <a:xfrm>
              <a:off x="5327640" y="3110040"/>
              <a:ext cx="416160" cy="31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" name="" descr=""/>
            <p:cNvPicPr/>
            <p:nvPr/>
          </p:nvPicPr>
          <p:blipFill>
            <a:blip r:embed="rId5"/>
            <a:stretch/>
          </p:blipFill>
          <p:spPr>
            <a:xfrm>
              <a:off x="5781240" y="3228120"/>
              <a:ext cx="279360" cy="18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"/>
            <p:cNvSpPr/>
            <p:nvPr/>
          </p:nvSpPr>
          <p:spPr>
            <a:xfrm flipV="1">
              <a:off x="5734080" y="3351600"/>
              <a:ext cx="114120" cy="2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5703840" y="2897280"/>
            <a:ext cx="69480" cy="214200"/>
            <a:chOff x="5703840" y="2897280"/>
            <a:chExt cx="69480" cy="214200"/>
          </a:xfrm>
        </p:grpSpPr>
        <p:sp>
          <p:nvSpPr>
            <p:cNvPr id="115" name=""/>
            <p:cNvSpPr/>
            <p:nvPr/>
          </p:nvSpPr>
          <p:spPr>
            <a:xfrm>
              <a:off x="5703840" y="2897280"/>
              <a:ext cx="64080" cy="60120"/>
            </a:xfrm>
            <a:prstGeom prst="ellipse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706360" y="2974320"/>
              <a:ext cx="64080" cy="60120"/>
            </a:xfrm>
            <a:prstGeom prst="ellipse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709240" y="3051360"/>
              <a:ext cx="64080" cy="60120"/>
            </a:xfrm>
            <a:prstGeom prst="ellipse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6173640" y="3400560"/>
            <a:ext cx="209520" cy="394920"/>
            <a:chOff x="6173640" y="3400560"/>
            <a:chExt cx="209520" cy="394920"/>
          </a:xfrm>
        </p:grpSpPr>
        <p:sp>
          <p:nvSpPr>
            <p:cNvPr id="119" name=""/>
            <p:cNvSpPr/>
            <p:nvPr/>
          </p:nvSpPr>
          <p:spPr>
            <a:xfrm>
              <a:off x="6173640" y="3704400"/>
              <a:ext cx="209520" cy="91080"/>
            </a:xfrm>
            <a:prstGeom prst="parallelogram">
              <a:avLst>
                <a:gd name="adj" fmla="val 88618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279840" y="3403080"/>
              <a:ext cx="96120" cy="30348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174720" y="3489120"/>
              <a:ext cx="132480" cy="3038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173640" y="3400560"/>
              <a:ext cx="209520" cy="91080"/>
            </a:xfrm>
            <a:prstGeom prst="parallelogram">
              <a:avLst>
                <a:gd name="adj" fmla="val 88618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83160" y="3406680"/>
              <a:ext cx="0" cy="297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6307200" y="3704400"/>
              <a:ext cx="75240" cy="8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191640" y="3529080"/>
              <a:ext cx="87840" cy="17496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204240" y="3582000"/>
              <a:ext cx="66600" cy="61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6410160" y="3553920"/>
            <a:ext cx="233280" cy="81000"/>
            <a:chOff x="6410160" y="3553920"/>
            <a:chExt cx="233280" cy="81000"/>
          </a:xfrm>
        </p:grpSpPr>
        <p:sp>
          <p:nvSpPr>
            <p:cNvPr id="128" name=""/>
            <p:cNvSpPr/>
            <p:nvPr/>
          </p:nvSpPr>
          <p:spPr>
            <a:xfrm rot="16200000">
              <a:off x="6405840" y="3564720"/>
              <a:ext cx="74520" cy="65880"/>
            </a:xfrm>
            <a:prstGeom prst="ellipse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 rot="16200000">
              <a:off x="6489360" y="3561480"/>
              <a:ext cx="74520" cy="65520"/>
            </a:xfrm>
            <a:prstGeom prst="ellipse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16200000">
              <a:off x="6573240" y="3558240"/>
              <a:ext cx="74520" cy="65520"/>
            </a:xfrm>
            <a:prstGeom prst="ellipse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310440" y="3308400"/>
            <a:ext cx="4950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313320" y="3305160"/>
            <a:ext cx="1800" cy="95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808680" y="3303720"/>
            <a:ext cx="1800" cy="82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010200" y="2768760"/>
            <a:ext cx="289080" cy="264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6022800" y="3054240"/>
            <a:ext cx="276480" cy="330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6550200" y="3139560"/>
            <a:ext cx="1440" cy="163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6669000" y="3378240"/>
            <a:ext cx="209520" cy="394920"/>
            <a:chOff x="6669000" y="3378240"/>
            <a:chExt cx="209520" cy="394920"/>
          </a:xfrm>
        </p:grpSpPr>
        <p:sp>
          <p:nvSpPr>
            <p:cNvPr id="138" name=""/>
            <p:cNvSpPr/>
            <p:nvPr/>
          </p:nvSpPr>
          <p:spPr>
            <a:xfrm>
              <a:off x="6669000" y="3682080"/>
              <a:ext cx="209520" cy="91080"/>
            </a:xfrm>
            <a:prstGeom prst="parallelogram">
              <a:avLst>
                <a:gd name="adj" fmla="val 88618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775200" y="3380760"/>
              <a:ext cx="96120" cy="30348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670080" y="3466800"/>
              <a:ext cx="132480" cy="3038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669000" y="3378240"/>
              <a:ext cx="209520" cy="91080"/>
            </a:xfrm>
            <a:prstGeom prst="parallelogram">
              <a:avLst>
                <a:gd name="adj" fmla="val 88618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878520" y="3384360"/>
              <a:ext cx="0" cy="297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6802560" y="3682080"/>
              <a:ext cx="75240" cy="8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687000" y="3506760"/>
              <a:ext cx="87840" cy="17496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699600" y="3559680"/>
              <a:ext cx="66600" cy="61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5711760" y="3997440"/>
            <a:ext cx="479160" cy="925200"/>
            <a:chOff x="5711760" y="3997440"/>
            <a:chExt cx="479160" cy="925200"/>
          </a:xfrm>
        </p:grpSpPr>
        <p:pic>
          <p:nvPicPr>
            <p:cNvPr id="147" name="" descr=""/>
            <p:cNvPicPr/>
            <p:nvPr/>
          </p:nvPicPr>
          <p:blipFill>
            <a:blip r:embed="rId6"/>
            <a:stretch/>
          </p:blipFill>
          <p:spPr>
            <a:xfrm>
              <a:off x="5711760" y="3997440"/>
              <a:ext cx="416520" cy="33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"/>
            <p:cNvSpPr/>
            <p:nvPr/>
          </p:nvSpPr>
          <p:spPr>
            <a:xfrm flipV="1">
              <a:off x="6118560" y="4244040"/>
              <a:ext cx="7236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9" name="" descr=""/>
            <p:cNvPicPr/>
            <p:nvPr/>
          </p:nvPicPr>
          <p:blipFill>
            <a:blip r:embed="rId7"/>
            <a:stretch/>
          </p:blipFill>
          <p:spPr>
            <a:xfrm>
              <a:off x="5711760" y="4592160"/>
              <a:ext cx="416520" cy="33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"/>
            <p:cNvSpPr/>
            <p:nvPr/>
          </p:nvSpPr>
          <p:spPr>
            <a:xfrm flipV="1">
              <a:off x="6118560" y="4842360"/>
              <a:ext cx="72360" cy="2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1" name=""/>
            <p:cNvGrpSpPr/>
            <p:nvPr/>
          </p:nvGrpSpPr>
          <p:grpSpPr>
            <a:xfrm>
              <a:off x="5837040" y="4338720"/>
              <a:ext cx="70560" cy="222480"/>
              <a:chOff x="5837040" y="4338720"/>
              <a:chExt cx="70560" cy="222480"/>
            </a:xfrm>
          </p:grpSpPr>
          <p:sp>
            <p:nvSpPr>
              <p:cNvPr id="152" name=""/>
              <p:cNvSpPr/>
              <p:nvPr/>
            </p:nvSpPr>
            <p:spPr>
              <a:xfrm>
                <a:off x="5837040" y="4338720"/>
                <a:ext cx="65160" cy="62640"/>
              </a:xfrm>
              <a:prstGeom prst="ellipse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5839560" y="4418640"/>
                <a:ext cx="65160" cy="62280"/>
              </a:xfrm>
              <a:prstGeom prst="ellipse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5842440" y="4498920"/>
                <a:ext cx="65160" cy="62280"/>
              </a:xfrm>
              <a:prstGeom prst="ellipse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5" name=""/>
            <p:cNvSpPr/>
            <p:nvPr/>
          </p:nvSpPr>
          <p:spPr>
            <a:xfrm>
              <a:off x="6185520" y="4241160"/>
              <a:ext cx="0" cy="600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56" name="" descr=""/>
          <p:cNvPicPr/>
          <p:nvPr/>
        </p:nvPicPr>
        <p:blipFill>
          <a:blip r:embed="rId8"/>
          <a:stretch/>
        </p:blipFill>
        <p:spPr>
          <a:xfrm>
            <a:off x="5965920" y="4995720"/>
            <a:ext cx="415800" cy="33048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 rot="16200000">
            <a:off x="6382440" y="5099400"/>
            <a:ext cx="63720" cy="65160"/>
          </a:xfrm>
          <a:prstGeom prst="ellipse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rot="16200000">
            <a:off x="6467400" y="5097240"/>
            <a:ext cx="63360" cy="66600"/>
          </a:xfrm>
          <a:prstGeom prst="ellipse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rot="16200000">
            <a:off x="6545160" y="5101920"/>
            <a:ext cx="61920" cy="65160"/>
          </a:xfrm>
          <a:prstGeom prst="ellipse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6834240" y="4952880"/>
            <a:ext cx="1440" cy="60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6210360" y="4941360"/>
            <a:ext cx="0" cy="63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6211800" y="4948200"/>
            <a:ext cx="627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6191280" y="4573080"/>
            <a:ext cx="9360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792840" y="4619520"/>
            <a:ext cx="303120" cy="385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7587720" y="4616280"/>
            <a:ext cx="279720" cy="392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9"/>
          <a:stretch/>
        </p:blipFill>
        <p:spPr>
          <a:xfrm>
            <a:off x="7765920" y="4168800"/>
            <a:ext cx="203400" cy="24120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10"/>
          <a:stretch/>
        </p:blipFill>
        <p:spPr>
          <a:xfrm>
            <a:off x="6429240" y="4249800"/>
            <a:ext cx="203400" cy="239760"/>
          </a:xfrm>
          <a:prstGeom prst="rect">
            <a:avLst/>
          </a:prstGeom>
          <a:ln w="0">
            <a:noFill/>
          </a:ln>
        </p:spPr>
      </p:pic>
      <p:grpSp>
        <p:nvGrpSpPr>
          <p:cNvPr id="168" name=""/>
          <p:cNvGrpSpPr/>
          <p:nvPr/>
        </p:nvGrpSpPr>
        <p:grpSpPr>
          <a:xfrm>
            <a:off x="6777000" y="5446800"/>
            <a:ext cx="406080" cy="426960"/>
            <a:chOff x="6777000" y="5446800"/>
            <a:chExt cx="406080" cy="426960"/>
          </a:xfrm>
        </p:grpSpPr>
        <p:pic>
          <p:nvPicPr>
            <p:cNvPr id="169" name="" descr=""/>
            <p:cNvPicPr/>
            <p:nvPr/>
          </p:nvPicPr>
          <p:blipFill>
            <a:blip r:embed="rId11"/>
            <a:stretch/>
          </p:blipFill>
          <p:spPr>
            <a:xfrm>
              <a:off x="6777000" y="5446800"/>
              <a:ext cx="378360" cy="376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" name="" descr=""/>
            <p:cNvPicPr/>
            <p:nvPr/>
          </p:nvPicPr>
          <p:blipFill>
            <a:blip r:embed="rId12"/>
            <a:stretch/>
          </p:blipFill>
          <p:spPr>
            <a:xfrm>
              <a:off x="6836760" y="5558760"/>
              <a:ext cx="346320" cy="315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1" name=""/>
          <p:cNvGrpSpPr/>
          <p:nvPr/>
        </p:nvGrpSpPr>
        <p:grpSpPr>
          <a:xfrm>
            <a:off x="7554960" y="5478480"/>
            <a:ext cx="406080" cy="426960"/>
            <a:chOff x="7554960" y="5478480"/>
            <a:chExt cx="406080" cy="426960"/>
          </a:xfrm>
        </p:grpSpPr>
        <p:pic>
          <p:nvPicPr>
            <p:cNvPr id="172" name="" descr=""/>
            <p:cNvPicPr/>
            <p:nvPr/>
          </p:nvPicPr>
          <p:blipFill>
            <a:blip r:embed="rId13"/>
            <a:stretch/>
          </p:blipFill>
          <p:spPr>
            <a:xfrm>
              <a:off x="7554960" y="5478480"/>
              <a:ext cx="378360" cy="376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" name="" descr=""/>
            <p:cNvPicPr/>
            <p:nvPr/>
          </p:nvPicPr>
          <p:blipFill>
            <a:blip r:embed="rId14"/>
            <a:stretch/>
          </p:blipFill>
          <p:spPr>
            <a:xfrm>
              <a:off x="7614720" y="5590440"/>
              <a:ext cx="346320" cy="315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4" name=""/>
          <p:cNvGrpSpPr/>
          <p:nvPr/>
        </p:nvGrpSpPr>
        <p:grpSpPr>
          <a:xfrm>
            <a:off x="7140600" y="5194440"/>
            <a:ext cx="379440" cy="376200"/>
            <a:chOff x="7140600" y="5194440"/>
            <a:chExt cx="379440" cy="376200"/>
          </a:xfrm>
        </p:grpSpPr>
        <p:pic>
          <p:nvPicPr>
            <p:cNvPr id="175" name="" descr=""/>
            <p:cNvPicPr/>
            <p:nvPr/>
          </p:nvPicPr>
          <p:blipFill>
            <a:blip r:embed="rId15"/>
            <a:stretch/>
          </p:blipFill>
          <p:spPr>
            <a:xfrm>
              <a:off x="7140600" y="5194440"/>
              <a:ext cx="379440" cy="37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"/>
            <p:cNvSpPr/>
            <p:nvPr/>
          </p:nvSpPr>
          <p:spPr>
            <a:xfrm>
              <a:off x="7250760" y="5326560"/>
              <a:ext cx="267480" cy="24408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7" name=""/>
          <p:cNvSpPr/>
          <p:nvPr/>
        </p:nvSpPr>
        <p:spPr>
          <a:xfrm>
            <a:off x="7446960" y="5097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8167680" y="4521240"/>
            <a:ext cx="208080" cy="409680"/>
            <a:chOff x="8167680" y="4521240"/>
            <a:chExt cx="208080" cy="409680"/>
          </a:xfrm>
        </p:grpSpPr>
        <p:sp>
          <p:nvSpPr>
            <p:cNvPr id="179" name=""/>
            <p:cNvSpPr/>
            <p:nvPr/>
          </p:nvSpPr>
          <p:spPr>
            <a:xfrm>
              <a:off x="8167680" y="4836240"/>
              <a:ext cx="208080" cy="94680"/>
            </a:xfrm>
            <a:prstGeom prst="parallelogram">
              <a:avLst>
                <a:gd name="adj" fmla="val 84663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8272800" y="4523760"/>
              <a:ext cx="95400" cy="31464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8168760" y="4613040"/>
              <a:ext cx="131760" cy="31500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8167680" y="4521240"/>
              <a:ext cx="208080" cy="94680"/>
            </a:xfrm>
            <a:prstGeom prst="parallelogram">
              <a:avLst>
                <a:gd name="adj" fmla="val 84663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8375760" y="4527720"/>
              <a:ext cx="0" cy="30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flipH="1">
              <a:off x="8300520" y="4836240"/>
              <a:ext cx="74880" cy="9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8185320" y="4654440"/>
              <a:ext cx="87480" cy="18144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8197920" y="4709160"/>
              <a:ext cx="66240" cy="6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7" name=""/>
          <p:cNvGrpSpPr/>
          <p:nvPr/>
        </p:nvGrpSpPr>
        <p:grpSpPr>
          <a:xfrm>
            <a:off x="8155080" y="4965840"/>
            <a:ext cx="207720" cy="408960"/>
            <a:chOff x="8155080" y="4965840"/>
            <a:chExt cx="207720" cy="408960"/>
          </a:xfrm>
        </p:grpSpPr>
        <p:sp>
          <p:nvSpPr>
            <p:cNvPr id="188" name=""/>
            <p:cNvSpPr/>
            <p:nvPr/>
          </p:nvSpPr>
          <p:spPr>
            <a:xfrm>
              <a:off x="8155080" y="5280480"/>
              <a:ext cx="207720" cy="94320"/>
            </a:xfrm>
            <a:prstGeom prst="parallelogram">
              <a:avLst>
                <a:gd name="adj" fmla="val 84839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260200" y="4968360"/>
              <a:ext cx="95400" cy="31428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8156160" y="5057640"/>
              <a:ext cx="131400" cy="314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55080" y="4965840"/>
              <a:ext cx="207720" cy="94320"/>
            </a:xfrm>
            <a:prstGeom prst="parallelogram">
              <a:avLst>
                <a:gd name="adj" fmla="val 84839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62800" y="4972320"/>
              <a:ext cx="0" cy="307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>
              <a:off x="8287560" y="5280480"/>
              <a:ext cx="74520" cy="9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72720" y="5099040"/>
              <a:ext cx="87120" cy="18108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8185320" y="5153760"/>
              <a:ext cx="66240" cy="6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6" name=""/>
          <p:cNvSpPr/>
          <p:nvPr/>
        </p:nvSpPr>
        <p:spPr>
          <a:xfrm flipV="1">
            <a:off x="8086680" y="4589280"/>
            <a:ext cx="0" cy="610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8083440" y="5199120"/>
            <a:ext cx="103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8080200" y="4722840"/>
            <a:ext cx="88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804000" y="2819160"/>
            <a:ext cx="458640" cy="207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738920" y="2803680"/>
            <a:ext cx="486000" cy="207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8257680" y="3139920"/>
            <a:ext cx="241560" cy="681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488360" y="2916360"/>
            <a:ext cx="0" cy="431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513560" y="3564000"/>
            <a:ext cx="53496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7973640" y="4029120"/>
            <a:ext cx="266760" cy="36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7746480" y="3108240"/>
            <a:ext cx="560520" cy="38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7756560" y="2548080"/>
            <a:ext cx="350640" cy="255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8474040" y="2724120"/>
            <a:ext cx="201600" cy="176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6284880" y="2916360"/>
            <a:ext cx="501840" cy="232920"/>
            <a:chOff x="6284880" y="2916360"/>
            <a:chExt cx="501840" cy="232920"/>
          </a:xfrm>
        </p:grpSpPr>
        <p:sp>
          <p:nvSpPr>
            <p:cNvPr id="209" name=""/>
            <p:cNvSpPr/>
            <p:nvPr/>
          </p:nvSpPr>
          <p:spPr>
            <a:xfrm>
              <a:off x="6288840" y="3020400"/>
              <a:ext cx="497520" cy="128880"/>
            </a:xfrm>
            <a:prstGeom prst="ellipse">
              <a:avLst/>
            </a:prstGeom>
            <a:solidFill>
              <a:srgbClr val="a5002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288840" y="300924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786720" y="300924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288840" y="3009240"/>
              <a:ext cx="493200" cy="78840"/>
            </a:xfrm>
            <a:prstGeom prst="rect">
              <a:avLst/>
            </a:prstGeom>
            <a:solidFill>
              <a:srgbClr val="a50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284880" y="2916360"/>
              <a:ext cx="497160" cy="150480"/>
            </a:xfrm>
            <a:prstGeom prst="ellipse">
              <a:avLst/>
            </a:prstGeom>
            <a:solidFill>
              <a:srgbClr val="a5002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4" name=""/>
            <p:cNvGrpSpPr/>
            <p:nvPr/>
          </p:nvGrpSpPr>
          <p:grpSpPr>
            <a:xfrm>
              <a:off x="6404400" y="2949120"/>
              <a:ext cx="246240" cy="88200"/>
              <a:chOff x="6404400" y="2949120"/>
              <a:chExt cx="246240" cy="88200"/>
            </a:xfrm>
          </p:grpSpPr>
          <p:sp>
            <p:nvSpPr>
              <p:cNvPr id="215" name=""/>
              <p:cNvSpPr/>
              <p:nvPr/>
            </p:nvSpPr>
            <p:spPr>
              <a:xfrm flipV="1">
                <a:off x="6404400" y="294912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6573240" y="303732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6485400" y="295128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8" name=""/>
            <p:cNvGrpSpPr/>
            <p:nvPr/>
          </p:nvGrpSpPr>
          <p:grpSpPr>
            <a:xfrm>
              <a:off x="6404400" y="2948400"/>
              <a:ext cx="246240" cy="88200"/>
              <a:chOff x="6404400" y="2948400"/>
              <a:chExt cx="246240" cy="88200"/>
            </a:xfrm>
          </p:grpSpPr>
          <p:sp>
            <p:nvSpPr>
              <p:cNvPr id="219" name=""/>
              <p:cNvSpPr/>
              <p:nvPr/>
            </p:nvSpPr>
            <p:spPr>
              <a:xfrm>
                <a:off x="6404400" y="303480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6573240" y="294840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flipV="1">
                <a:off x="6485400" y="294840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22" name=""/>
          <p:cNvGrpSpPr/>
          <p:nvPr/>
        </p:nvGrpSpPr>
        <p:grpSpPr>
          <a:xfrm>
            <a:off x="7237440" y="2687760"/>
            <a:ext cx="501480" cy="232920"/>
            <a:chOff x="7237440" y="2687760"/>
            <a:chExt cx="501480" cy="232920"/>
          </a:xfrm>
        </p:grpSpPr>
        <p:sp>
          <p:nvSpPr>
            <p:cNvPr id="223" name=""/>
            <p:cNvSpPr/>
            <p:nvPr/>
          </p:nvSpPr>
          <p:spPr>
            <a:xfrm>
              <a:off x="7241400" y="2791800"/>
              <a:ext cx="497160" cy="128880"/>
            </a:xfrm>
            <a:prstGeom prst="ellipse">
              <a:avLst/>
            </a:prstGeom>
            <a:solidFill>
              <a:srgbClr val="a5002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241400" y="278064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738920" y="278064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241400" y="2780640"/>
              <a:ext cx="492840" cy="78840"/>
            </a:xfrm>
            <a:prstGeom prst="rect">
              <a:avLst/>
            </a:prstGeom>
            <a:solidFill>
              <a:srgbClr val="a50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237440" y="2687760"/>
              <a:ext cx="496800" cy="150480"/>
            </a:xfrm>
            <a:prstGeom prst="ellipse">
              <a:avLst/>
            </a:prstGeom>
            <a:solidFill>
              <a:srgbClr val="a5002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8" name=""/>
            <p:cNvGrpSpPr/>
            <p:nvPr/>
          </p:nvGrpSpPr>
          <p:grpSpPr>
            <a:xfrm>
              <a:off x="7356960" y="2720520"/>
              <a:ext cx="246240" cy="88200"/>
              <a:chOff x="7356960" y="2720520"/>
              <a:chExt cx="246240" cy="88200"/>
            </a:xfrm>
          </p:grpSpPr>
          <p:sp>
            <p:nvSpPr>
              <p:cNvPr id="229" name=""/>
              <p:cNvSpPr/>
              <p:nvPr/>
            </p:nvSpPr>
            <p:spPr>
              <a:xfrm flipV="1">
                <a:off x="7356960" y="272052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7525800" y="280872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7437960" y="272268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2" name=""/>
            <p:cNvGrpSpPr/>
            <p:nvPr/>
          </p:nvGrpSpPr>
          <p:grpSpPr>
            <a:xfrm>
              <a:off x="7356960" y="2719800"/>
              <a:ext cx="246240" cy="88200"/>
              <a:chOff x="7356960" y="2719800"/>
              <a:chExt cx="246240" cy="88200"/>
            </a:xfrm>
          </p:grpSpPr>
          <p:sp>
            <p:nvSpPr>
              <p:cNvPr id="233" name=""/>
              <p:cNvSpPr/>
              <p:nvPr/>
            </p:nvSpPr>
            <p:spPr>
              <a:xfrm>
                <a:off x="7356960" y="280620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7525800" y="271980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flipV="1">
                <a:off x="7437960" y="271980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36" name=""/>
          <p:cNvGrpSpPr/>
          <p:nvPr/>
        </p:nvGrpSpPr>
        <p:grpSpPr>
          <a:xfrm>
            <a:off x="7254720" y="3344760"/>
            <a:ext cx="501840" cy="233280"/>
            <a:chOff x="7254720" y="3344760"/>
            <a:chExt cx="501840" cy="233280"/>
          </a:xfrm>
        </p:grpSpPr>
        <p:sp>
          <p:nvSpPr>
            <p:cNvPr id="237" name=""/>
            <p:cNvSpPr/>
            <p:nvPr/>
          </p:nvSpPr>
          <p:spPr>
            <a:xfrm>
              <a:off x="7258680" y="3448800"/>
              <a:ext cx="497520" cy="129240"/>
            </a:xfrm>
            <a:prstGeom prst="ellipse">
              <a:avLst/>
            </a:prstGeom>
            <a:solidFill>
              <a:srgbClr val="a5002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258680" y="3438000"/>
              <a:ext cx="0" cy="80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756560" y="3438000"/>
              <a:ext cx="0" cy="80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258680" y="3438000"/>
              <a:ext cx="493200" cy="78840"/>
            </a:xfrm>
            <a:prstGeom prst="rect">
              <a:avLst/>
            </a:prstGeom>
            <a:solidFill>
              <a:srgbClr val="a50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254720" y="3344760"/>
              <a:ext cx="497160" cy="150840"/>
            </a:xfrm>
            <a:prstGeom prst="ellipse">
              <a:avLst/>
            </a:prstGeom>
            <a:solidFill>
              <a:srgbClr val="a5002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2" name=""/>
            <p:cNvGrpSpPr/>
            <p:nvPr/>
          </p:nvGrpSpPr>
          <p:grpSpPr>
            <a:xfrm>
              <a:off x="7374240" y="3377520"/>
              <a:ext cx="246240" cy="88560"/>
              <a:chOff x="7374240" y="3377520"/>
              <a:chExt cx="246240" cy="88560"/>
            </a:xfrm>
          </p:grpSpPr>
          <p:sp>
            <p:nvSpPr>
              <p:cNvPr id="243" name=""/>
              <p:cNvSpPr/>
              <p:nvPr/>
            </p:nvSpPr>
            <p:spPr>
              <a:xfrm flipV="1">
                <a:off x="7374240" y="337752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7543080" y="346608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7455240" y="3379680"/>
                <a:ext cx="91440" cy="86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6" name=""/>
            <p:cNvGrpSpPr/>
            <p:nvPr/>
          </p:nvGrpSpPr>
          <p:grpSpPr>
            <a:xfrm>
              <a:off x="7374240" y="3376440"/>
              <a:ext cx="246240" cy="88560"/>
              <a:chOff x="7374240" y="3376440"/>
              <a:chExt cx="246240" cy="88560"/>
            </a:xfrm>
          </p:grpSpPr>
          <p:sp>
            <p:nvSpPr>
              <p:cNvPr id="247" name=""/>
              <p:cNvSpPr/>
              <p:nvPr/>
            </p:nvSpPr>
            <p:spPr>
              <a:xfrm>
                <a:off x="7374240" y="346320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7543080" y="337644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flipV="1">
                <a:off x="7455240" y="3376440"/>
                <a:ext cx="91440" cy="86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50" name=""/>
          <p:cNvGrpSpPr/>
          <p:nvPr/>
        </p:nvGrpSpPr>
        <p:grpSpPr>
          <a:xfrm>
            <a:off x="8224920" y="2895480"/>
            <a:ext cx="500040" cy="233280"/>
            <a:chOff x="8224920" y="2895480"/>
            <a:chExt cx="500040" cy="233280"/>
          </a:xfrm>
        </p:grpSpPr>
        <p:sp>
          <p:nvSpPr>
            <p:cNvPr id="251" name=""/>
            <p:cNvSpPr/>
            <p:nvPr/>
          </p:nvSpPr>
          <p:spPr>
            <a:xfrm>
              <a:off x="8228880" y="2999520"/>
              <a:ext cx="495720" cy="129240"/>
            </a:xfrm>
            <a:prstGeom prst="ellipse">
              <a:avLst/>
            </a:prstGeom>
            <a:solidFill>
              <a:srgbClr val="a5002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8228880" y="2988720"/>
              <a:ext cx="0" cy="80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724960" y="2988720"/>
              <a:ext cx="0" cy="80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8228880" y="2988720"/>
              <a:ext cx="491400" cy="78840"/>
            </a:xfrm>
            <a:prstGeom prst="rect">
              <a:avLst/>
            </a:prstGeom>
            <a:solidFill>
              <a:srgbClr val="a50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8224920" y="2895480"/>
              <a:ext cx="495360" cy="150840"/>
            </a:xfrm>
            <a:prstGeom prst="ellipse">
              <a:avLst/>
            </a:prstGeom>
            <a:solidFill>
              <a:srgbClr val="a5002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6" name=""/>
            <p:cNvGrpSpPr/>
            <p:nvPr/>
          </p:nvGrpSpPr>
          <p:grpSpPr>
            <a:xfrm>
              <a:off x="8344080" y="2928240"/>
              <a:ext cx="245520" cy="88560"/>
              <a:chOff x="8344080" y="2928240"/>
              <a:chExt cx="245520" cy="88560"/>
            </a:xfrm>
          </p:grpSpPr>
          <p:sp>
            <p:nvSpPr>
              <p:cNvPr id="257" name=""/>
              <p:cNvSpPr/>
              <p:nvPr/>
            </p:nvSpPr>
            <p:spPr>
              <a:xfrm flipV="1">
                <a:off x="8344080" y="2928240"/>
                <a:ext cx="8748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8512560" y="3016800"/>
                <a:ext cx="77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8424720" y="2930400"/>
                <a:ext cx="91080" cy="86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0" name=""/>
            <p:cNvGrpSpPr/>
            <p:nvPr/>
          </p:nvGrpSpPr>
          <p:grpSpPr>
            <a:xfrm>
              <a:off x="8344080" y="2927160"/>
              <a:ext cx="245520" cy="88560"/>
              <a:chOff x="8344080" y="2927160"/>
              <a:chExt cx="245520" cy="88560"/>
            </a:xfrm>
          </p:grpSpPr>
          <p:sp>
            <p:nvSpPr>
              <p:cNvPr id="261" name=""/>
              <p:cNvSpPr/>
              <p:nvPr/>
            </p:nvSpPr>
            <p:spPr>
              <a:xfrm>
                <a:off x="8344080" y="3013920"/>
                <a:ext cx="8748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8512560" y="2927160"/>
                <a:ext cx="77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flipV="1">
                <a:off x="8424720" y="2927160"/>
                <a:ext cx="91080" cy="86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64" name=""/>
          <p:cNvGrpSpPr/>
          <p:nvPr/>
        </p:nvGrpSpPr>
        <p:grpSpPr>
          <a:xfrm>
            <a:off x="8031240" y="3792600"/>
            <a:ext cx="501480" cy="232920"/>
            <a:chOff x="8031240" y="3792600"/>
            <a:chExt cx="501480" cy="232920"/>
          </a:xfrm>
        </p:grpSpPr>
        <p:sp>
          <p:nvSpPr>
            <p:cNvPr id="265" name=""/>
            <p:cNvSpPr/>
            <p:nvPr/>
          </p:nvSpPr>
          <p:spPr>
            <a:xfrm>
              <a:off x="8035200" y="3896640"/>
              <a:ext cx="497160" cy="128880"/>
            </a:xfrm>
            <a:prstGeom prst="ellipse">
              <a:avLst/>
            </a:prstGeom>
            <a:solidFill>
              <a:srgbClr val="a5002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035200" y="388548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532720" y="388548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8035200" y="3885480"/>
              <a:ext cx="492840" cy="78840"/>
            </a:xfrm>
            <a:prstGeom prst="rect">
              <a:avLst/>
            </a:prstGeom>
            <a:solidFill>
              <a:srgbClr val="a50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8031240" y="3792600"/>
              <a:ext cx="496800" cy="150480"/>
            </a:xfrm>
            <a:prstGeom prst="ellipse">
              <a:avLst/>
            </a:prstGeom>
            <a:solidFill>
              <a:srgbClr val="a5002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0" name=""/>
            <p:cNvGrpSpPr/>
            <p:nvPr/>
          </p:nvGrpSpPr>
          <p:grpSpPr>
            <a:xfrm>
              <a:off x="8150760" y="3825360"/>
              <a:ext cx="246240" cy="88200"/>
              <a:chOff x="8150760" y="3825360"/>
              <a:chExt cx="246240" cy="88200"/>
            </a:xfrm>
          </p:grpSpPr>
          <p:sp>
            <p:nvSpPr>
              <p:cNvPr id="271" name=""/>
              <p:cNvSpPr/>
              <p:nvPr/>
            </p:nvSpPr>
            <p:spPr>
              <a:xfrm flipV="1">
                <a:off x="8150760" y="382536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8319600" y="391356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8231760" y="382752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8150760" y="3824640"/>
              <a:ext cx="246240" cy="88200"/>
              <a:chOff x="8150760" y="3824640"/>
              <a:chExt cx="246240" cy="88200"/>
            </a:xfrm>
          </p:grpSpPr>
          <p:sp>
            <p:nvSpPr>
              <p:cNvPr id="275" name=""/>
              <p:cNvSpPr/>
              <p:nvPr/>
            </p:nvSpPr>
            <p:spPr>
              <a:xfrm>
                <a:off x="8150760" y="391104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8319600" y="382464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flipV="1">
                <a:off x="8231760" y="382464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78" name=""/>
          <p:cNvGrpSpPr/>
          <p:nvPr/>
        </p:nvGrpSpPr>
        <p:grpSpPr>
          <a:xfrm>
            <a:off x="7697880" y="4376880"/>
            <a:ext cx="501480" cy="234360"/>
            <a:chOff x="7697880" y="4376880"/>
            <a:chExt cx="501480" cy="234360"/>
          </a:xfrm>
        </p:grpSpPr>
        <p:sp>
          <p:nvSpPr>
            <p:cNvPr id="279" name=""/>
            <p:cNvSpPr/>
            <p:nvPr/>
          </p:nvSpPr>
          <p:spPr>
            <a:xfrm>
              <a:off x="7701840" y="4481280"/>
              <a:ext cx="497160" cy="129960"/>
            </a:xfrm>
            <a:prstGeom prst="ellipse">
              <a:avLst/>
            </a:prstGeom>
            <a:solidFill>
              <a:srgbClr val="a5002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701840" y="4470480"/>
              <a:ext cx="0" cy="8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8199360" y="4470480"/>
              <a:ext cx="0" cy="8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7701840" y="4470480"/>
              <a:ext cx="492840" cy="79200"/>
            </a:xfrm>
            <a:prstGeom prst="rect">
              <a:avLst/>
            </a:prstGeom>
            <a:solidFill>
              <a:srgbClr val="a50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7697880" y="4376880"/>
              <a:ext cx="496800" cy="151560"/>
            </a:xfrm>
            <a:prstGeom prst="ellipse">
              <a:avLst/>
            </a:prstGeom>
            <a:solidFill>
              <a:srgbClr val="a5002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4" name=""/>
            <p:cNvGrpSpPr/>
            <p:nvPr/>
          </p:nvGrpSpPr>
          <p:grpSpPr>
            <a:xfrm>
              <a:off x="7817400" y="4410000"/>
              <a:ext cx="246240" cy="88920"/>
              <a:chOff x="7817400" y="4410000"/>
              <a:chExt cx="246240" cy="88920"/>
            </a:xfrm>
          </p:grpSpPr>
          <p:sp>
            <p:nvSpPr>
              <p:cNvPr id="285" name=""/>
              <p:cNvSpPr/>
              <p:nvPr/>
            </p:nvSpPr>
            <p:spPr>
              <a:xfrm flipV="1">
                <a:off x="7817400" y="441000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7986240" y="449892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7898400" y="4412160"/>
                <a:ext cx="91440" cy="86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8" name=""/>
            <p:cNvGrpSpPr/>
            <p:nvPr/>
          </p:nvGrpSpPr>
          <p:grpSpPr>
            <a:xfrm>
              <a:off x="7817400" y="4408920"/>
              <a:ext cx="246240" cy="88920"/>
              <a:chOff x="7817400" y="4408920"/>
              <a:chExt cx="246240" cy="88920"/>
            </a:xfrm>
          </p:grpSpPr>
          <p:sp>
            <p:nvSpPr>
              <p:cNvPr id="289" name=""/>
              <p:cNvSpPr/>
              <p:nvPr/>
            </p:nvSpPr>
            <p:spPr>
              <a:xfrm>
                <a:off x="7817400" y="449604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7986240" y="440892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flipV="1">
                <a:off x="7898400" y="4408920"/>
                <a:ext cx="91440" cy="86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92" name=""/>
          <p:cNvGrpSpPr/>
          <p:nvPr/>
        </p:nvGrpSpPr>
        <p:grpSpPr>
          <a:xfrm>
            <a:off x="7088040" y="4865760"/>
            <a:ext cx="500040" cy="232920"/>
            <a:chOff x="7088040" y="4865760"/>
            <a:chExt cx="500040" cy="232920"/>
          </a:xfrm>
        </p:grpSpPr>
        <p:sp>
          <p:nvSpPr>
            <p:cNvPr id="293" name=""/>
            <p:cNvSpPr/>
            <p:nvPr/>
          </p:nvSpPr>
          <p:spPr>
            <a:xfrm>
              <a:off x="7092000" y="4969800"/>
              <a:ext cx="495720" cy="128880"/>
            </a:xfrm>
            <a:prstGeom prst="ellipse">
              <a:avLst/>
            </a:prstGeom>
            <a:solidFill>
              <a:srgbClr val="a5002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092000" y="495864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588080" y="495864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092000" y="4958640"/>
              <a:ext cx="491400" cy="78840"/>
            </a:xfrm>
            <a:prstGeom prst="rect">
              <a:avLst/>
            </a:prstGeom>
            <a:solidFill>
              <a:srgbClr val="a50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7088040" y="4865760"/>
              <a:ext cx="495360" cy="150480"/>
            </a:xfrm>
            <a:prstGeom prst="ellipse">
              <a:avLst/>
            </a:prstGeom>
            <a:solidFill>
              <a:srgbClr val="a5002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8" name=""/>
            <p:cNvGrpSpPr/>
            <p:nvPr/>
          </p:nvGrpSpPr>
          <p:grpSpPr>
            <a:xfrm>
              <a:off x="7207200" y="4898520"/>
              <a:ext cx="245520" cy="88200"/>
              <a:chOff x="7207200" y="4898520"/>
              <a:chExt cx="245520" cy="88200"/>
            </a:xfrm>
          </p:grpSpPr>
          <p:sp>
            <p:nvSpPr>
              <p:cNvPr id="299" name=""/>
              <p:cNvSpPr/>
              <p:nvPr/>
            </p:nvSpPr>
            <p:spPr>
              <a:xfrm flipV="1">
                <a:off x="7207200" y="4898520"/>
                <a:ext cx="8748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7375680" y="4986720"/>
                <a:ext cx="77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7287840" y="4900680"/>
                <a:ext cx="9108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2" name=""/>
            <p:cNvGrpSpPr/>
            <p:nvPr/>
          </p:nvGrpSpPr>
          <p:grpSpPr>
            <a:xfrm>
              <a:off x="7207200" y="4897800"/>
              <a:ext cx="245520" cy="88200"/>
              <a:chOff x="7207200" y="4897800"/>
              <a:chExt cx="245520" cy="88200"/>
            </a:xfrm>
          </p:grpSpPr>
          <p:sp>
            <p:nvSpPr>
              <p:cNvPr id="303" name=""/>
              <p:cNvSpPr/>
              <p:nvPr/>
            </p:nvSpPr>
            <p:spPr>
              <a:xfrm>
                <a:off x="7207200" y="4984200"/>
                <a:ext cx="8748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7375680" y="4897800"/>
                <a:ext cx="77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flipV="1">
                <a:off x="7287840" y="4897800"/>
                <a:ext cx="9108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6" name=""/>
          <p:cNvGrpSpPr/>
          <p:nvPr/>
        </p:nvGrpSpPr>
        <p:grpSpPr>
          <a:xfrm>
            <a:off x="6284880" y="4489560"/>
            <a:ext cx="501840" cy="232920"/>
            <a:chOff x="6284880" y="4489560"/>
            <a:chExt cx="501840" cy="232920"/>
          </a:xfrm>
        </p:grpSpPr>
        <p:sp>
          <p:nvSpPr>
            <p:cNvPr id="307" name=""/>
            <p:cNvSpPr/>
            <p:nvPr/>
          </p:nvSpPr>
          <p:spPr>
            <a:xfrm>
              <a:off x="6288840" y="4593600"/>
              <a:ext cx="497520" cy="128880"/>
            </a:xfrm>
            <a:prstGeom prst="ellipse">
              <a:avLst/>
            </a:prstGeom>
            <a:solidFill>
              <a:srgbClr val="a5002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288840" y="458244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786720" y="458244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288840" y="4582440"/>
              <a:ext cx="493200" cy="78840"/>
            </a:xfrm>
            <a:prstGeom prst="rect">
              <a:avLst/>
            </a:prstGeom>
            <a:solidFill>
              <a:srgbClr val="a50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284880" y="4489560"/>
              <a:ext cx="497160" cy="150480"/>
            </a:xfrm>
            <a:prstGeom prst="ellipse">
              <a:avLst/>
            </a:prstGeom>
            <a:solidFill>
              <a:srgbClr val="a5002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2" name=""/>
            <p:cNvGrpSpPr/>
            <p:nvPr/>
          </p:nvGrpSpPr>
          <p:grpSpPr>
            <a:xfrm>
              <a:off x="6404400" y="4522320"/>
              <a:ext cx="246240" cy="88200"/>
              <a:chOff x="6404400" y="4522320"/>
              <a:chExt cx="246240" cy="88200"/>
            </a:xfrm>
          </p:grpSpPr>
          <p:sp>
            <p:nvSpPr>
              <p:cNvPr id="313" name=""/>
              <p:cNvSpPr/>
              <p:nvPr/>
            </p:nvSpPr>
            <p:spPr>
              <a:xfrm flipV="1">
                <a:off x="6404400" y="452232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6573240" y="461052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6485400" y="452448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6" name=""/>
            <p:cNvGrpSpPr/>
            <p:nvPr/>
          </p:nvGrpSpPr>
          <p:grpSpPr>
            <a:xfrm>
              <a:off x="6404400" y="4521600"/>
              <a:ext cx="246240" cy="88200"/>
              <a:chOff x="6404400" y="4521600"/>
              <a:chExt cx="246240" cy="88200"/>
            </a:xfrm>
          </p:grpSpPr>
          <p:sp>
            <p:nvSpPr>
              <p:cNvPr id="317" name=""/>
              <p:cNvSpPr/>
              <p:nvPr/>
            </p:nvSpPr>
            <p:spPr>
              <a:xfrm>
                <a:off x="6404400" y="460800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573240" y="452160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flipV="1">
                <a:off x="6485400" y="452160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0" name=""/>
          <p:cNvSpPr/>
          <p:nvPr/>
        </p:nvSpPr>
        <p:spPr>
          <a:xfrm flipV="1">
            <a:off x="6540480" y="4702320"/>
            <a:ext cx="1440" cy="249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4994280" y="2036880"/>
            <a:ext cx="814320" cy="1007640"/>
            <a:chOff x="4994280" y="2036880"/>
            <a:chExt cx="814320" cy="1007640"/>
          </a:xfrm>
        </p:grpSpPr>
        <p:sp>
          <p:nvSpPr>
            <p:cNvPr id="322" name=""/>
            <p:cNvSpPr/>
            <p:nvPr/>
          </p:nvSpPr>
          <p:spPr>
            <a:xfrm>
              <a:off x="5092560" y="2041560"/>
              <a:ext cx="676440" cy="77616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059080" y="2065320"/>
              <a:ext cx="690840" cy="800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064120" y="2241720"/>
              <a:ext cx="676080" cy="171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4994280" y="2036880"/>
              <a:ext cx="81432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applicat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Comic Sans MS"/>
                </a:rPr>
                <a:t>transpor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networ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data lin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physica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059080" y="2408400"/>
              <a:ext cx="69084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068800" y="2546280"/>
              <a:ext cx="690480" cy="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068800" y="2684520"/>
              <a:ext cx="69048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8118360" y="4923000"/>
            <a:ext cx="814320" cy="1007640"/>
            <a:chOff x="8118360" y="4923000"/>
            <a:chExt cx="814320" cy="1007640"/>
          </a:xfrm>
        </p:grpSpPr>
        <p:sp>
          <p:nvSpPr>
            <p:cNvPr id="330" name=""/>
            <p:cNvSpPr/>
            <p:nvPr/>
          </p:nvSpPr>
          <p:spPr>
            <a:xfrm>
              <a:off x="8216640" y="4927680"/>
              <a:ext cx="676440" cy="77616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8183160" y="4951440"/>
              <a:ext cx="690840" cy="800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8188200" y="5127840"/>
              <a:ext cx="676080" cy="171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8118360" y="4923000"/>
              <a:ext cx="81432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applicat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Comic Sans MS"/>
                </a:rPr>
                <a:t>transpor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networ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data lin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physica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8183160" y="5294520"/>
              <a:ext cx="69084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8192880" y="5432400"/>
              <a:ext cx="690480" cy="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8192880" y="5570640"/>
              <a:ext cx="69048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7" name=""/>
          <p:cNvGrpSpPr/>
          <p:nvPr/>
        </p:nvGrpSpPr>
        <p:grpSpPr>
          <a:xfrm>
            <a:off x="7456320" y="4041720"/>
            <a:ext cx="814320" cy="703080"/>
            <a:chOff x="7456320" y="4041720"/>
            <a:chExt cx="814320" cy="703080"/>
          </a:xfrm>
        </p:grpSpPr>
        <p:sp>
          <p:nvSpPr>
            <p:cNvPr id="338" name=""/>
            <p:cNvSpPr/>
            <p:nvPr/>
          </p:nvSpPr>
          <p:spPr>
            <a:xfrm>
              <a:off x="7559280" y="4198680"/>
              <a:ext cx="676440" cy="48564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516440" y="4232160"/>
              <a:ext cx="690480" cy="495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456320" y="4041720"/>
              <a:ext cx="8143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networ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data lin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physica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511760" y="4536720"/>
              <a:ext cx="690480" cy="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521120" y="4384440"/>
              <a:ext cx="69084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3" name=""/>
          <p:cNvGrpSpPr/>
          <p:nvPr/>
        </p:nvGrpSpPr>
        <p:grpSpPr>
          <a:xfrm>
            <a:off x="7989840" y="3460680"/>
            <a:ext cx="814320" cy="703080"/>
            <a:chOff x="7989840" y="3460680"/>
            <a:chExt cx="814320" cy="703080"/>
          </a:xfrm>
        </p:grpSpPr>
        <p:sp>
          <p:nvSpPr>
            <p:cNvPr id="344" name=""/>
            <p:cNvSpPr/>
            <p:nvPr/>
          </p:nvSpPr>
          <p:spPr>
            <a:xfrm>
              <a:off x="8092800" y="3617640"/>
              <a:ext cx="676440" cy="48564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049960" y="3651120"/>
              <a:ext cx="690480" cy="495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989840" y="3460680"/>
              <a:ext cx="8143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networ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data lin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physica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8045280" y="3955680"/>
              <a:ext cx="690480" cy="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8054640" y="3803400"/>
              <a:ext cx="69084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9" name=""/>
          <p:cNvGrpSpPr/>
          <p:nvPr/>
        </p:nvGrpSpPr>
        <p:grpSpPr>
          <a:xfrm>
            <a:off x="7104240" y="3156120"/>
            <a:ext cx="814320" cy="703080"/>
            <a:chOff x="7104240" y="3156120"/>
            <a:chExt cx="814320" cy="703080"/>
          </a:xfrm>
        </p:grpSpPr>
        <p:sp>
          <p:nvSpPr>
            <p:cNvPr id="350" name=""/>
            <p:cNvSpPr/>
            <p:nvPr/>
          </p:nvSpPr>
          <p:spPr>
            <a:xfrm>
              <a:off x="7207200" y="3313080"/>
              <a:ext cx="676440" cy="48564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4360" y="3346560"/>
              <a:ext cx="690480" cy="495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04240" y="3156120"/>
              <a:ext cx="8143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networ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data lin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physica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7159680" y="3651120"/>
              <a:ext cx="690480" cy="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169040" y="3498840"/>
              <a:ext cx="69084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5" name=""/>
          <p:cNvGrpSpPr/>
          <p:nvPr/>
        </p:nvGrpSpPr>
        <p:grpSpPr>
          <a:xfrm>
            <a:off x="7037280" y="2384280"/>
            <a:ext cx="814320" cy="703080"/>
            <a:chOff x="7037280" y="2384280"/>
            <a:chExt cx="814320" cy="703080"/>
          </a:xfrm>
        </p:grpSpPr>
        <p:sp>
          <p:nvSpPr>
            <p:cNvPr id="356" name=""/>
            <p:cNvSpPr/>
            <p:nvPr/>
          </p:nvSpPr>
          <p:spPr>
            <a:xfrm>
              <a:off x="7140240" y="2541240"/>
              <a:ext cx="676440" cy="48564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097400" y="2574720"/>
              <a:ext cx="690480" cy="495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037280" y="2384280"/>
              <a:ext cx="8143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networ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data lin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physica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092720" y="2879280"/>
              <a:ext cx="690480" cy="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7102080" y="2727000"/>
              <a:ext cx="69084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1" name=""/>
          <p:cNvGrpSpPr/>
          <p:nvPr/>
        </p:nvGrpSpPr>
        <p:grpSpPr>
          <a:xfrm>
            <a:off x="6103800" y="2670120"/>
            <a:ext cx="814320" cy="703080"/>
            <a:chOff x="6103800" y="2670120"/>
            <a:chExt cx="814320" cy="703080"/>
          </a:xfrm>
        </p:grpSpPr>
        <p:sp>
          <p:nvSpPr>
            <p:cNvPr id="362" name=""/>
            <p:cNvSpPr/>
            <p:nvPr/>
          </p:nvSpPr>
          <p:spPr>
            <a:xfrm>
              <a:off x="6206760" y="2827080"/>
              <a:ext cx="676440" cy="48564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6163920" y="2860560"/>
              <a:ext cx="690480" cy="495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6103800" y="2670120"/>
              <a:ext cx="8143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networ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data lin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physica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159240" y="3165120"/>
              <a:ext cx="690480" cy="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6168600" y="3012840"/>
              <a:ext cx="69084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5546880" y="2138040"/>
            <a:ext cx="2787120" cy="3137400"/>
            <a:chOff x="5546880" y="2138040"/>
            <a:chExt cx="2787120" cy="3137400"/>
          </a:xfrm>
        </p:grpSpPr>
        <p:sp>
          <p:nvSpPr>
            <p:cNvPr id="368" name=""/>
            <p:cNvSpPr/>
            <p:nvPr/>
          </p:nvSpPr>
          <p:spPr>
            <a:xfrm rot="2937600">
              <a:off x="5415120" y="3569760"/>
              <a:ext cx="3048120" cy="2761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rot="2937600">
              <a:off x="5659200" y="3573360"/>
              <a:ext cx="2593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Comic Sans MS"/>
                </a:rPr>
                <a:t>logical end-end transpor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 rot="2937600">
              <a:off x="5627880" y="2234880"/>
              <a:ext cx="447840" cy="419040"/>
            </a:xfrm>
            <a:custGeom>
              <a:avLst/>
              <a:gdLst/>
              <a:ahLst/>
              <a:rect l="l" t="t" r="r" b="b"/>
              <a:pathLst>
                <a:path w="282" h="264">
                  <a:moveTo>
                    <a:pt x="282" y="0"/>
                  </a:moveTo>
                  <a:cubicBezTo>
                    <a:pt x="282" y="132"/>
                    <a:pt x="282" y="264"/>
                    <a:pt x="282" y="264"/>
                  </a:cubicBezTo>
                  <a:cubicBezTo>
                    <a:pt x="159" y="150"/>
                    <a:pt x="0" y="153"/>
                    <a:pt x="0" y="129"/>
                  </a:cubicBezTo>
                  <a:cubicBezTo>
                    <a:pt x="0" y="108"/>
                    <a:pt x="153" y="108"/>
                    <a:pt x="282" y="0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 rot="2937000">
              <a:off x="7805160" y="4759560"/>
              <a:ext cx="447480" cy="419040"/>
            </a:xfrm>
            <a:custGeom>
              <a:avLst/>
              <a:gdLst/>
              <a:ahLst/>
              <a:rect l="l" t="t" r="r" b="b"/>
              <a:pathLst>
                <a:path w="282" h="264">
                  <a:moveTo>
                    <a:pt x="282" y="0"/>
                  </a:moveTo>
                  <a:cubicBezTo>
                    <a:pt x="282" y="132"/>
                    <a:pt x="282" y="264"/>
                    <a:pt x="282" y="264"/>
                  </a:cubicBezTo>
                  <a:cubicBezTo>
                    <a:pt x="159" y="150"/>
                    <a:pt x="0" y="153"/>
                    <a:pt x="0" y="129"/>
                  </a:cubicBezTo>
                  <a:cubicBezTo>
                    <a:pt x="0" y="108"/>
                    <a:pt x="153" y="108"/>
                    <a:pt x="282" y="0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C91057-E50D-459F-B194-09722D6AA10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"/>
          <p:cNvSpPr/>
          <p:nvPr/>
        </p:nvSpPr>
        <p:spPr>
          <a:xfrm>
            <a:off x="609480" y="1523880"/>
            <a:ext cx="8001000" cy="4648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P Header for Receiver Bufferi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"/>
          <p:cNvSpPr/>
          <p:nvPr/>
        </p:nvSpPr>
        <p:spPr>
          <a:xfrm>
            <a:off x="3335400" y="1828800"/>
            <a:ext cx="236196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3715200" y="1874880"/>
            <a:ext cx="149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5697360" y="1828800"/>
            <a:ext cx="25146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5849280" y="1874880"/>
            <a:ext cx="196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tination 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3335400" y="2362320"/>
            <a:ext cx="48765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4628880" y="2408400"/>
            <a:ext cx="226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quence nu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3335400" y="2819520"/>
            <a:ext cx="48765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4629960" y="2865600"/>
            <a:ext cx="212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knowledg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3335400" y="3276720"/>
            <a:ext cx="243828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5773680" y="3276720"/>
            <a:ext cx="243828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5761080" y="3349800"/>
            <a:ext cx="25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Advertised wind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3276720" y="3349800"/>
            <a:ext cx="101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drL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4249800" y="32767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4707000" y="32767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4920840" y="3363840"/>
            <a:ext cx="80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a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4327200" y="33987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3335400" y="3809880"/>
            <a:ext cx="243828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5773680" y="3809880"/>
            <a:ext cx="243828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3699360" y="3897360"/>
            <a:ext cx="138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cks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6061680" y="3897360"/>
            <a:ext cx="179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rgent poin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3335400" y="4343400"/>
            <a:ext cx="48765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4780800" y="4389480"/>
            <a:ext cx="21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tions (variabl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3335400" y="4800600"/>
            <a:ext cx="4876560" cy="1143000"/>
          </a:xfrm>
          <a:prstGeom prst="rect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653400" y="2705040"/>
            <a:ext cx="87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ag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1507320" y="2739960"/>
            <a:ext cx="747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S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A125A0-A388-48B3-84C6-875F46D7819A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Fast Retransmission</a:t>
            </a: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0F6F3A-9581-46C9-910A-255A5305D6D5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imeout is Inefficien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Timeout-based retransmission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ender transmits a packet and waits until timer expire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nd then retransmits from the lost packet onward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07" name=""/>
          <p:cNvSpPr/>
          <p:nvPr/>
        </p:nvSpPr>
        <p:spPr>
          <a:xfrm>
            <a:off x="1600200" y="2584440"/>
            <a:ext cx="5867280" cy="4233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8" name="" descr=""/>
          <p:cNvPicPr/>
          <p:nvPr/>
        </p:nvPicPr>
        <p:blipFill>
          <a:blip r:embed="rId1"/>
          <a:stretch/>
        </p:blipFill>
        <p:spPr>
          <a:xfrm>
            <a:off x="2095560" y="2631960"/>
            <a:ext cx="4952880" cy="4075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0666C4-4CA3-4788-ABBC-2FE55F322B03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ast Retransmiss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Better solution possible under sliding window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lthough packet n might have been los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packets n+1, n+2, and so on might get through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Idea: have the receiver send ACK packet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CK says that receiver is still awaiting n</a:t>
            </a:r>
            <a:r>
              <a:rPr b="0" lang="en-US" sz="2400" spc="-1" strike="noStrike" baseline="30000">
                <a:solidFill>
                  <a:srgbClr val="000066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packe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2" marL="911160" indent="-233280">
              <a:spcBef>
                <a:spcPts val="24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peated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Ks suggest later packets have arriv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ender can view the “duplicate ACKs” as an early hin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2" marL="911160" indent="-233280">
              <a:spcBef>
                <a:spcPts val="24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at the n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acket must have been l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1160" indent="-233280">
              <a:spcBef>
                <a:spcPts val="24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perform the retransmission ear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Fast retransmission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ender retransmits data after the triple duplicate ACK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05292A-6103-442F-B5A6-D78A6EFFD111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ffectiveness of Fast Retransmi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When does Fast Retransmit work best?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Long data transfer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2" marL="911160" indent="-233280">
              <a:spcBef>
                <a:spcPts val="24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 likelihood of many packets in fl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High window siz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2" marL="911160" indent="-233280">
              <a:spcBef>
                <a:spcPts val="24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 likelihood of many packets in fl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Low burstiness in packet losse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2" marL="911160" indent="-233280">
              <a:spcBef>
                <a:spcPts val="24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er likelihood that later packets arrive successful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Implications for Web traffic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Most Web transfers are short (e.g., 10 packets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2" marL="911160" indent="-233280">
              <a:spcBef>
                <a:spcPts val="24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rt HTML files or small im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o, often there aren’t many packets in fligh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making fast retransmit less likely to “kick in”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Forcing users to like “reload” more often… </a:t>
            </a:r>
            <a:r>
              <a:rPr b="0" lang="en-US" sz="2400" spc="-1" strike="noStrike">
                <a:solidFill>
                  <a:srgbClr val="000066"/>
                </a:solidFill>
                <a:latin typeface="Wingdings"/>
                <a:ea typeface="Wingdings"/>
              </a:rPr>
              <a:t>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500466-B416-4833-A9C7-35C81BACB235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Tearing Down the Connection</a:t>
            </a: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E48E54-B2A1-4DCD-A966-DD88DD127F42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earing Down the Connec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501120" y="4503240"/>
            <a:ext cx="84582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Closing the connection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Finish (FIN) to close and receive remaining byte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nd other host sends a FIN ACK to acknowledg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Reset (RST) to close and not receive remaining byte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16" name=""/>
          <p:cNvSpPr/>
          <p:nvPr/>
        </p:nvSpPr>
        <p:spPr>
          <a:xfrm flipV="1">
            <a:off x="2044800" y="1758960"/>
            <a:ext cx="287280" cy="1603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2562120" y="1776240"/>
            <a:ext cx="300240" cy="1575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 flipV="1">
            <a:off x="3154320" y="1773000"/>
            <a:ext cx="457200" cy="1600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 flipV="1">
            <a:off x="3686040" y="1767960"/>
            <a:ext cx="470160" cy="1598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 rot="16805400">
            <a:off x="1554840" y="2364840"/>
            <a:ext cx="69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Y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 rot="4713000">
            <a:off x="2277000" y="2358000"/>
            <a:ext cx="129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YN 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 rot="17244600">
            <a:off x="2949120" y="2136240"/>
            <a:ext cx="71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 rot="17203800">
            <a:off x="3398400" y="2378520"/>
            <a:ext cx="66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 flipV="1">
            <a:off x="5637240" y="1770120"/>
            <a:ext cx="235080" cy="1603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6149880" y="1768320"/>
            <a:ext cx="277920" cy="157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 rot="16897200">
            <a:off x="5308920" y="233496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 rot="4688400">
            <a:off x="5871240" y="2325240"/>
            <a:ext cx="1194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N 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4280040" y="1770120"/>
            <a:ext cx="379440" cy="1584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 flipV="1">
            <a:off x="1836720" y="1739880"/>
            <a:ext cx="6421320" cy="31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 flipV="1">
            <a:off x="1852560" y="3352320"/>
            <a:ext cx="64454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 rot="4676400">
            <a:off x="4299120" y="2366280"/>
            <a:ext cx="71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3127320" y="3594240"/>
            <a:ext cx="177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2524680" y="3394800"/>
            <a:ext cx="58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1350000" y="3105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1306800" y="15674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4819680" y="3105000"/>
            <a:ext cx="82440" cy="842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5025960" y="3112920"/>
            <a:ext cx="81000" cy="842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5241960" y="3105000"/>
            <a:ext cx="81000" cy="842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6799320" y="1778040"/>
            <a:ext cx="277920" cy="157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 rot="4688400">
            <a:off x="6822000" y="233532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 flipV="1">
            <a:off x="7602480" y="1739880"/>
            <a:ext cx="235080" cy="1603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 rot="16897200">
            <a:off x="7211160" y="2302920"/>
            <a:ext cx="71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E79CFD-712F-42CF-B3E4-C10313FAC460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ending/Receiving the FIN Packe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1529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ending a FIN: close()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Process is done sending data via the socke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Process invokes “close()” to close the socke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Once TCP has sent all of the outstanding bytes…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en TCP sends a FI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45" name="PlaceHolder 3"/>
          <p:cNvSpPr>
            <a:spLocks noGrp="1"/>
          </p:cNvSpPr>
          <p:nvPr>
            <p:ph/>
          </p:nvPr>
        </p:nvSpPr>
        <p:spPr>
          <a:xfrm>
            <a:off x="4762440" y="1219320"/>
            <a:ext cx="41529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Receiving a FIN: EOF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Process is reading data from the socke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ventually, the attempt to read returns an EOF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DCF66A-B900-4EF3-AD68-4B9F67BCFE99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Transport protocol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Multiplexing and demultiplexing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equence number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Window-based flow contro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imer-based retransmissio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hecksum-based error detectio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Reading for this week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ections 2.5, 5.1-5.2, and 6.1-6.4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Next lecture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ongestion contro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0C28A3-5598-42A3-B54B-9CFAC11FC9F2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ternet Transport Protocol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Datagram messaging service (UDP)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No-frills extension of “best-effort” IP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Reliable, in-order delivery (TCP)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onnection set-up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iscarding of corrupted packet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Retransmission of lost packet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Flow contro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ongestion control (next lecture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Other services not available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elay guarantee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Bandwidth guarantee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B1F32F-FAE4-49C4-9114-580DD7E54F2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/>
          <p:nvPr/>
        </p:nvSpPr>
        <p:spPr>
          <a:xfrm>
            <a:off x="5343480" y="2000160"/>
            <a:ext cx="3324240" cy="32004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267160" y="2095560"/>
            <a:ext cx="3324240" cy="32004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ultiplexing and Demultiplex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85560" y="1355760"/>
            <a:ext cx="464652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Host receives IP datagrams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ach datagram has source and destination IP address,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ach datagram carries one transport-layer segmen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ach segment has source and destination port number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Host uses IP addresses and port numbers to direct the segment to appropriate socket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276160" y="211788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source port #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7075080" y="2117880"/>
            <a:ext cx="136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dest port #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257800" y="2495520"/>
            <a:ext cx="3328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267160" y="3486240"/>
            <a:ext cx="33242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 flipV="1">
            <a:off x="6905520" y="2095560"/>
            <a:ext cx="0" cy="395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6435000" y="1665360"/>
            <a:ext cx="89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2 b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7362720" y="1862280"/>
            <a:ext cx="120024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 flipH="1">
            <a:off x="5252760" y="1871640"/>
            <a:ext cx="11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6123960" y="3951360"/>
            <a:ext cx="1501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ppl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at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messag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695560" y="2860560"/>
            <a:ext cx="245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ther header fiel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394240" y="5518080"/>
            <a:ext cx="325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CP/UDP segmen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4714D2-1E22-4362-B9E3-969BBF72FFF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nreliable Message Delivery Servic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Lightweight communication between processe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void overhead and delays of ordered, reliable delivery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end messages to and receive them from a socke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User Datagram Protocol (UDP)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P plus port numbers to support (de)multiplexing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rror checking on the packet content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2892600" y="4479840"/>
            <a:ext cx="1760400" cy="53352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653000" y="4479840"/>
            <a:ext cx="1760400" cy="53352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2892600" y="5013360"/>
            <a:ext cx="1760400" cy="53352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653000" y="5013360"/>
            <a:ext cx="1760400" cy="53352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2892600" y="5546880"/>
            <a:ext cx="0" cy="761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6415200" y="5546880"/>
            <a:ext cx="0" cy="761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176640" y="4597560"/>
            <a:ext cx="129528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RC 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881600" y="4597560"/>
            <a:ext cx="129528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ST 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176640" y="5103720"/>
            <a:ext cx="129528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hecks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129280" y="5103720"/>
            <a:ext cx="89532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4290840" y="577548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C58765-9290-496F-A81C-D2B3C07978F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hy Would Anyone Use UDP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Finer control over what data is sent and when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s soon as an application process writes into the socke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UDP will package the data and send the packe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No delay for connection establishment 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UDP just blasts away without any formal preliminarie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which avoids introducing any unnecessary delay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No connection state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No allocation of buffers, parameters, sequence #s, etc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making it easier to handle many active clients at onc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mall packet header overhead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UDP header is only eight-bytes long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8BAFC4-631C-4AE2-BEC2-553DDC0083E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opular Applications That Use UDP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Multimedia streaming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Retransmitting lost/corrupted packets is not worthwhil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By the time the packet is retransmitted, it’s too lat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.g., telephone calls, video conferencing, gaming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imple query protocols like Domain Name System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Overhead of connection establishment is overkil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asier to have the application retransmit if needed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406" name="" descr=""/>
          <p:cNvPicPr/>
          <p:nvPr/>
        </p:nvPicPr>
        <p:blipFill>
          <a:blip r:embed="rId1"/>
          <a:stretch/>
        </p:blipFill>
        <p:spPr>
          <a:xfrm>
            <a:off x="1500120" y="5102280"/>
            <a:ext cx="1636920" cy="1552680"/>
          </a:xfrm>
          <a:prstGeom prst="rect">
            <a:avLst/>
          </a:prstGeom>
          <a:ln w="0">
            <a:noFill/>
          </a:ln>
        </p:spPr>
      </p:pic>
      <p:pic>
        <p:nvPicPr>
          <p:cNvPr id="407" name="" descr=""/>
          <p:cNvPicPr/>
          <p:nvPr/>
        </p:nvPicPr>
        <p:blipFill>
          <a:blip r:embed="rId2"/>
          <a:stretch/>
        </p:blipFill>
        <p:spPr>
          <a:xfrm>
            <a:off x="6222960" y="5524560"/>
            <a:ext cx="1730520" cy="106200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/>
          <p:nvPr/>
        </p:nvSpPr>
        <p:spPr>
          <a:xfrm>
            <a:off x="3035160" y="5210280"/>
            <a:ext cx="3687840" cy="430200"/>
          </a:xfrm>
          <a:custGeom>
            <a:avLst/>
            <a:gdLst/>
            <a:ahLst/>
            <a:rect l="l" t="t" r="r" b="b"/>
            <a:pathLst>
              <a:path w="2323" h="271">
                <a:moveTo>
                  <a:pt x="0" y="271"/>
                </a:moveTo>
                <a:cubicBezTo>
                  <a:pt x="302" y="139"/>
                  <a:pt x="605" y="8"/>
                  <a:pt x="992" y="4"/>
                </a:cubicBezTo>
                <a:cubicBezTo>
                  <a:pt x="1379" y="0"/>
                  <a:pt x="1851" y="123"/>
                  <a:pt x="2323" y="24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073320" y="6292800"/>
            <a:ext cx="3726000" cy="358920"/>
          </a:xfrm>
          <a:custGeom>
            <a:avLst/>
            <a:gdLst/>
            <a:ahLst/>
            <a:rect l="l" t="t" r="r" b="b"/>
            <a:pathLst>
              <a:path w="2347" h="226">
                <a:moveTo>
                  <a:pt x="2347" y="48"/>
                </a:moveTo>
                <a:cubicBezTo>
                  <a:pt x="1925" y="137"/>
                  <a:pt x="1504" y="226"/>
                  <a:pt x="1113" y="218"/>
                </a:cubicBezTo>
                <a:cubicBezTo>
                  <a:pt x="722" y="210"/>
                  <a:pt x="361" y="105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806920" y="4871880"/>
            <a:ext cx="414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ress for www.cnn.com?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3921480" y="6138720"/>
            <a:ext cx="185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2.3.4.15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2" name="" descr="Click To Preview"/>
          <p:cNvPicPr/>
          <p:nvPr/>
        </p:nvPicPr>
        <p:blipFill>
          <a:blip r:embed="rId3"/>
          <a:stretch/>
        </p:blipFill>
        <p:spPr>
          <a:xfrm>
            <a:off x="8105760" y="2276640"/>
            <a:ext cx="731880" cy="731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0A8AEF-FDDE-4BAA-9406-AAB946DD208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06T14:58:21Z</dcterms:created>
  <dc:creator>Kai Li</dc:creator>
  <dc:description/>
  <dc:language>en-US</dc:language>
  <cp:lastModifiedBy>Jennifer Rexford</cp:lastModifiedBy>
  <dcterms:modified xsi:type="dcterms:W3CDTF">2007-02-18T18:38:49Z</dcterms:modified>
  <cp:revision>1043</cp:revision>
  <dc:subject/>
  <dc:title>Communication</dc:title>
</cp:coreProperties>
</file>