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0186-6AA5-4AD0-8229-A26522D34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BA27-02BA-46BA-8582-C1E4E59FE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8FA3-B110-4159-A780-983FB9F0B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0D54-C706-4A7C-AEFE-041E9BDBC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69A0-CB54-49D9-BD2E-0B8372EC5D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6690-1677-460F-94F2-1A69A4F428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841C-0B18-4050-833A-61999EBB00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4205-2288-4F1A-B993-A30268BBB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2B89-060C-43D6-AA1F-62DE6D8830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636D-8A91-45A4-AF4A-8E472DBDD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52B3-3469-4656-879E-DF387598A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5719-4901-4444-BD2F-95F33BFAB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F9EA-CC17-4F21-8BD1-AAA478C1A5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DA5F-AB90-4B80-9051-A5F38F7C94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9FEF-0FA0-477E-96D2-770FC7817A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CABD-A7C1-4B67-ABD3-9E01081CDC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A15A-5813-4044-92B1-A5CC48712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A1B1-E2E6-40D5-8CC7-4AF93A61E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0850-999E-46FB-B3D7-EDDD26B03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451E-E963-4C09-AC44-B358FC289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1EA3-4EE0-46D0-86E9-5C3554ABF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6D4C-030F-49FE-BF77-6B95B4633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DC10-18E8-4D34-AD4A-64508F98B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7166-7347-41C2-89DB-8622D6FF6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9F0-203C-4DAD-89BF-5E056D91F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0496-9DFB-4F97-A0C7-80283CC0B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witche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 3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Mike Wawrzoni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6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6828-3709-48AF-A85D-69D2CAFFBA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icated Access and Full Dupl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dicat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has direct connection to the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a shared LAN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 connection can send in both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sending to switch, and host receiving from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n 10BaseT and 100Base 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ly avoids coll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connection is a bidirectional point-to-point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need for carrier sense, collision detection, and so 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7268-202D-4BCF-8CD2-471B99D8E0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1400" y="3992400"/>
            <a:ext cx="278100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8200" y="4030560"/>
            <a:ext cx="177984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89360"/>
            <a:ext cx="312912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dges/Switches: Traffic Iso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breaks subnet into LAN 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filters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me only forwarded to the necessary seg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gments become separate collision domai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555920" y="5084640"/>
            <a:ext cx="417240" cy="33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234" name="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237" name="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9720" y="5056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760" y="4929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5320" y="36590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74320" y="629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3160" y="63658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8400" y="418608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099D-5B38-45AA-AB7B-879739012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ver Hubs/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forwards frames as nee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ters frames to avoid unnecessary load on se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frames only to segments that need to see the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the geographic span of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collision domains allow longer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s privacy by limiting scope of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 can “snoop” the traffic traversing thei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not all the rest of th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es carrier sense and collision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transmit when the link is bus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s exponential back-off after a colli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segments using different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FA38-2F03-4EC5-B54D-5C92D6E2A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 Over Hubs/Repea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in forwarding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must receive and parse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erform a look-up to decide where to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ing and forwarding the packet introduces de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learn where to forwar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needs to construct a forwarding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ally, without intervention from network administra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self-lear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c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omplicated devices that cost more mon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4E57-9D73-49C1-AB95-7C326B4959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Cut-Through Sw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a frame takes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L is the length of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 is the transmission rate of the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receiving the frame takes L/R time un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delay can be a high fraction of total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is small over short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buffering delay a large fraction of to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large group walking through NY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3520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9280" y="58165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21040" y="5580000"/>
            <a:ext cx="65232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580000"/>
            <a:ext cx="15372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1F99-2154-44BB-BACB-33584A3284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-Through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rt transmitting as soon as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frame header and do the look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outgoing link is idle, start forwarding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lapping trans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 the head of the packet via the outgo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le still receiving the tail via the incom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different folks crossing different inter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104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6560" y="58165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9720" y="558000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56080" y="558000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5560" y="5580000"/>
            <a:ext cx="34596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9F72-862B-4157-8AA1-F835AE2C3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elf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forward frames sele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frames only on segments that need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s destination MAC address to outgoing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al: construct the switch table automat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92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52BC-54BE-47D6-A783-A726FFD639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Building th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rame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ociate the address with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om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mapping in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ime-to-live field to eventually forget the m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200" y="3774960"/>
            <a:ext cx="226692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witch learns how to reach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F5E6-C5A3-455F-9A3A-222AF6C1BB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Handling Mi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frame arrives with unfamiliar destin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the frame out all of the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for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pefully, this case won’t happen very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4120" y="385128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in doubt, shou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7480" y="4581360"/>
            <a:ext cx="179640" cy="363600"/>
          </a:xfrm>
          <a:custGeom>
            <a:avLst/>
            <a:gdLst/>
            <a:ahLst/>
            <a:rect l="l" t="t" r="r" b="b"/>
            <a:pathLst>
              <a:path w="113" h="229">
                <a:moveTo>
                  <a:pt x="0" y="218"/>
                </a:moveTo>
                <a:cubicBezTo>
                  <a:pt x="40" y="223"/>
                  <a:pt x="81" y="229"/>
                  <a:pt x="97" y="193"/>
                </a:cubicBezTo>
                <a:cubicBezTo>
                  <a:pt x="113" y="157"/>
                  <a:pt x="105" y="78"/>
                  <a:pt x="9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49680" y="5272200"/>
            <a:ext cx="498600" cy="538200"/>
          </a:xfrm>
          <a:custGeom>
            <a:avLst/>
            <a:gdLst/>
            <a:ahLst/>
            <a:rect l="l" t="t" r="r" b="b"/>
            <a:pathLst>
              <a:path w="314" h="339">
                <a:moveTo>
                  <a:pt x="0" y="0"/>
                </a:moveTo>
                <a:cubicBezTo>
                  <a:pt x="109" y="32"/>
                  <a:pt x="218" y="65"/>
                  <a:pt x="266" y="121"/>
                </a:cubicBezTo>
                <a:cubicBezTo>
                  <a:pt x="314" y="177"/>
                  <a:pt x="302" y="258"/>
                  <a:pt x="290" y="33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C43E-A1AF-4EE8-91EB-22B582C371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iltering/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2480" y="1150560"/>
            <a:ext cx="820116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switch receives a frame: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dex switch table using MAC dest addr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rop the fra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orward the frame on interface indic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l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8935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74360" y="5618160"/>
            <a:ext cx="472680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ward on all but the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n which the fram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807160"/>
            <a:ext cx="5252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0F42-9923-4D93-88EA-03CBCDB65F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term Ex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104 in the Computer Science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in the usual Friend class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:30pm-2:50pm on Wednesday March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ual class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book, notes, slides, etc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no computer, PDA, calculator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d reading from textbook, plus lectur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actice exams, plus questions in the text bo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D52C-62B0-4ECD-B550-A543DCE7EC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oding Can Lead to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sometimes need to broadcast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with an unfamiliar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sent to the broadcas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casting is implemented by floo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ting fram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oding can lead to forwarding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f the network contains a cycle of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ither accidentally, or by design for higher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7512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55560" y="5580000"/>
            <a:ext cx="828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812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9200" y="558000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96160" y="5580000"/>
            <a:ext cx="792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95800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657864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274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F61D-5341-493A-BAAA-E2FD59DAAC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panning Tr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the topology has no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using some of the links when floo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forming a lo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-graph that covers all vertices but contains no cyc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s not in the spanning tree do not forward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60560" y="39290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541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24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82880" y="6002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5772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61945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499760" y="42735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4680" y="42354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0120" y="50799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28760" y="56563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7360" y="51577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0600" y="43117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30480" y="56559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84240" y="56941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190520" y="60782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477360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0760" y="396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943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071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4800" y="538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3080" y="6040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6560" y="58104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62326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39960" y="431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4880" y="427356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40320" y="51181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68960" y="569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7560" y="51958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31160" y="434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70680" y="569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24800" y="573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030720" y="61164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35EB-DE6A-454A-9182-A2DC5505AE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a Spanning T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a distributed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cooperate to build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 automatically when failur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ngredients of th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need to elect a “roo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witch with the small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witch identifies if its interfac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on the shortest path from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exclude from the tree if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(Y, d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no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ing Y i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distance i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83440" y="369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70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98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7120" y="511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577044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68880" y="554040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5640" y="5962680"/>
            <a:ext cx="42192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722640" y="404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67560" y="400356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23000" y="484812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42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0240" y="492588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3480" y="407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53360" y="542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107120" y="546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13400" y="584676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93720" y="327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4320" y="4772160"/>
            <a:ext cx="1881000" cy="538200"/>
          </a:xfrm>
          <a:custGeom>
            <a:avLst/>
            <a:gdLst/>
            <a:ahLst/>
            <a:rect l="l" t="t" r="r" b="b"/>
            <a:pathLst>
              <a:path w="1185" h="339">
                <a:moveTo>
                  <a:pt x="0" y="339"/>
                </a:moveTo>
                <a:cubicBezTo>
                  <a:pt x="0" y="339"/>
                  <a:pt x="592" y="169"/>
                  <a:pt x="1185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58600" y="51181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e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21640" y="5694480"/>
            <a:ext cx="39600" cy="653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74640" y="6335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4C43-6616-48ED-A3E7-CCB5E3F81C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ly, each switch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sends a messag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ing itself as the root with distance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: switch X announces (X, 0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update their view of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message, check the root 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new id is smaller, start viewing that switch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compute their distance from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1 to the distance received from a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interfaces not on a shortest path to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exclude them from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0ECD-2DE8-4C30-ABCC-FE7D17E789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(4, 0, 4) message to 2 and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0, 2) message from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inks that #2 is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it is just one hop a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1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on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l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09C0-3622-4592-93C4-72F1376F8A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2 hears about switch #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hears (1, 1, 3) from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2, 2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3, 4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receives (1, 3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thre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I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B767-D4ED-49D6-93F9-744C62F19B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gorithm must react to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the root n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lect a new root, with the next low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other switches and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mpute the spanning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ot switch continues sending mess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iodically reannouncing itself as the root (1, 0,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 switches continue forward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failures through timeout (soft state!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waits to hear from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times out and claims to be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3760" y="61945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ee Section 3.2.2 in the textbook for details and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9394-3863-42E5-A937-488B835AAF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Toward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olden day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ck cables snaked through cable ducts in buil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computer they passed was plugged 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people in adjacent offices were put on the same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ependent of whether they belonged together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recentl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 and switches changed all t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office connected to central wiring clo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ten multiple LANs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) connected by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ibility in mapping offices to differen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68280" y="5810400"/>
            <a:ext cx="6413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roup users based on organizational structure, rather than the physical layout of the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4D85-A1EF-4434-ACD9-E952D6DC5B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Group by Organizational 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is a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interface card can be put into “promiscuous”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get a copy of all of the traffic (e.g., midterm ex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isolating traffic on separate LANs improves secu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LAN segments are more heavily used than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researchers running experiments get out of h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aturate their own segment and not the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, there may be natural locality of commun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raffic between people in the same research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9EE5-9212-4877-BD7F-0EC120C998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ople Move, and Roles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zational changes are frequ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aculty office becomes a grad-student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graduate student becomes a faculty me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hysical rewiring is a major p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unplugging the cable from one 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lugging it in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the cable is long enough to r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you don’t make a mist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uld like to “rewire” the building in softwa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sulting concept is a Virtual LAN (VLA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6DD5-D285-4AD9-B80A-83E2DAC3E1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ices that shuttling packets at different 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 and hub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s and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protocols and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dicated access and full-duplex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AE84-D04A-4B2E-AAD6-1929ABECE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660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3884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4468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3006720"/>
            <a:ext cx="2727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94280" y="3006720"/>
            <a:ext cx="2727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3467160"/>
            <a:ext cx="0" cy="188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77040" y="3467160"/>
            <a:ext cx="0" cy="1920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424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8424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8424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8424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9612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9612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9612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612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46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6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974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402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92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08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230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49760" y="5772240"/>
            <a:ext cx="50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00200" y="345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7440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1128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7680" y="3429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2601-C9F3-45D8-A306-99D04344A5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4240" y="3621240"/>
            <a:ext cx="1113120" cy="115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84240" y="3850920"/>
            <a:ext cx="95904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84240" y="388944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84240" y="388908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00680" y="362088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00680" y="3851280"/>
            <a:ext cx="105588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388944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8800" y="392904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3880" y="2546280"/>
            <a:ext cx="138276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6920" y="2546280"/>
            <a:ext cx="84600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82160" y="254628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5560" y="254628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40240" y="2546280"/>
            <a:ext cx="19224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08440" y="254628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724000" y="254628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838480" y="254628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6880" y="57722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9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453360" y="3272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23840" y="450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23840" y="40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23840" y="358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848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221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839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4784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3560" y="2506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57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865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2440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3360" y="372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3360" y="418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53360" y="4617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83F8-49C8-432E-B0CD-01BAC75085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ing VLAN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dges/switches need configuration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ying which VLANs are accessible via which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pping to V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terface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if all hosts on same segment belong to sam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MAC address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on same segment belong to different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move from one physical locati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ing the Ethernet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ng a field for a VLAN t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ed on the bridges/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can still interoperate with old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9620-181E-4F17-A6AA-F25968DBDE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rom Switches to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g-and-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filtering and forwarding of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pronunciation ambiguity (e.g., “rooter” vs. “row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pology is restricted to a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networks require large ARP tab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adcast storms can cause the network to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219D-51D2-4069-9101-52554CF085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Hubs, Switches, &amp;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66840" y="1797120"/>
          <a:ext cx="918180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797120"/>
                    <a:ext cx="91818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17520" y="35290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280" y="4346640"/>
            <a:ext cx="859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800" y="5433840"/>
            <a:ext cx="843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88CC-AB69-419A-8A90-14FB5875D8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uttling data from one link to an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ts, frames, packet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/hubs, bridges/switches, rout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deas in swit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time: midterm ex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fter the brea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-level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B6AF-53D5-43A5-ACD3-CA20756FCF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uttling Data at Differen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devices switch different thing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al layer: electrical signals (repeaters and hu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layer: frames (bridges and switch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layer: packets (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960" y="338940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400356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461952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523404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960" y="584820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1520" y="34671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1880" y="41068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46832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7240" y="529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964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728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7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5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1040" y="4471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6177-6732-48E1-9C3A-A0E5433A3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ance limitation in local-area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al signal becomes weaker as it tra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s a limit on the length of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eaters join LANs toge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 electronic de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ously monitors electrical signals on each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s an amplified cop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1480" y="450360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50360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C1B3-2E2A-409D-BB25-FFCA09133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multiple input lines electr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ed to hold multiple line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necessarily amplify the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y similar to repea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so operates at the physical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5514840"/>
            <a:ext cx="36180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7360" y="586584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58802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72080" y="582948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309760" y="58928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69040" y="5524560"/>
            <a:ext cx="3603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0760" y="5511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382920" y="5710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882960" y="62406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237440" y="56754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377040" y="60865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055520" y="533412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1483920" y="551664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25640" y="556884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5600880"/>
            <a:ext cx="9036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27160" y="5559480"/>
            <a:ext cx="4316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84280" y="5580000"/>
            <a:ext cx="1587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551664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990760" y="560088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64240" y="5568840"/>
            <a:ext cx="1440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7160" y="5483160"/>
            <a:ext cx="641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93640" y="417348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1920" y="4162320"/>
            <a:ext cx="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651200" y="410832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5600" y="529416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4280" y="53038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23360" y="5164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8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0320" y="4125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891A-E0B6-4F36-947E-23341CD8A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Repeaters and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large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bit is sent everyw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aggregate throughput is limi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hree departments each get 10 Mbps independ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connect via a hub and must share 10 M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not support multiple LAN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buffer or interpr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can’t interconnect between different rates or form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0 Mbps Ethernet and 100 Mbps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ations on maximum nodes and distan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circumvent the limitations of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ill cannot go beyond 2500 meters o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CC4E-C9EF-47AE-A41C-465B1BECE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Bri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s two or more LANs at the lin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cts destination address from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s up the destination in a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s the frame to the appropriate LAN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egment is its own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D400-D6B0-4F78-A66A-2BBCA76183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ly connects individual comp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switch is essentially the same as a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typically used to connect hosts, no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bridges, support concurrent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can talk to C, while B talks to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9673-153E-494E-B463-DE315E82D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Rexford</cp:lastModifiedBy>
  <dcterms:modified xsi:type="dcterms:W3CDTF">2006-03-13T18:18:35Z</dcterms:modified>
  <cp:revision>2147</cp:revision>
  <dc:subject/>
  <dc:title>Communication</dc:title>
</cp:coreProperties>
</file>