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7388-E385-4C2F-9C07-4C31109A9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2295-9793-4FCB-B86D-501CCEDC0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F920-0B57-4E39-BCF4-B08A7F3F3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C830-352B-45A5-BA47-D831D3CBB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4A737-B26C-4D51-9890-F7B237D127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FCBF-E450-4F29-A06A-4A9DAB6EDA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3037-4999-459D-81B8-9216D15EF2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9A0A-F931-4500-B657-1FA8087432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27F7-34F6-4AB2-BA54-6C6DE59E86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E859-72A0-40D3-9548-FA5635F268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C905-55C9-4A5E-A2EA-3A23243D6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6829-A7FE-4E97-AB5C-FFD6592E1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E11E-B846-4EB4-8105-99AC18764C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668E-6454-4CFF-9F65-667FF6C891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F134-6460-46C0-B474-66C77C2291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1C60-243F-4E8E-8839-1D04789310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AE62-A6DA-4D55-8992-D8ED3FC88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FBBC-D791-4600-B0DE-96AC98B18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A626-BFF4-45F5-8EE4-E519F6445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1127-A606-44C4-9421-F12479312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CD0E-55B9-4B70-8C03-C989AF02C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3D63-6CD8-4D80-855C-CC202942D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B494-187A-4B02-946D-37EAE6B56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1557-D42C-4018-9ECC-22D2E7307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10B-CF9E-4858-87E4-89642A09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ADC-4B09-4928-9D36-8A827C76D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witche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 3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Mike Wawrzoni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6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F486-6496-40D7-8B30-AAD5C09FF5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icated Access and Full Dupl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dicat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has direct connection to the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a shared LAN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 connection can send in both dir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sending to switch, and host receiving from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n 10BaseT and 100Base 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ly avoids colli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connection is a bidirectional point-to-point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need for carrier sense, collision detection, and so 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3FB6-7C58-4051-B1F2-70D3CF0CCE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21400" y="3992400"/>
            <a:ext cx="2781000" cy="2575080"/>
          </a:xfrm>
          <a:custGeom>
            <a:avLst/>
            <a:gdLst/>
            <a:ahLst/>
            <a:rect l="l" t="t" r="r" b="b"/>
            <a:pathLst>
              <a:path w="1752" h="1622">
                <a:moveTo>
                  <a:pt x="0" y="0"/>
                </a:moveTo>
                <a:cubicBezTo>
                  <a:pt x="66" y="66"/>
                  <a:pt x="98" y="149"/>
                  <a:pt x="146" y="227"/>
                </a:cubicBezTo>
                <a:cubicBezTo>
                  <a:pt x="170" y="265"/>
                  <a:pt x="202" y="295"/>
                  <a:pt x="227" y="333"/>
                </a:cubicBezTo>
                <a:cubicBezTo>
                  <a:pt x="257" y="379"/>
                  <a:pt x="287" y="424"/>
                  <a:pt x="316" y="470"/>
                </a:cubicBezTo>
                <a:cubicBezTo>
                  <a:pt x="326" y="487"/>
                  <a:pt x="349" y="519"/>
                  <a:pt x="349" y="519"/>
                </a:cubicBezTo>
                <a:cubicBezTo>
                  <a:pt x="363" y="561"/>
                  <a:pt x="385" y="601"/>
                  <a:pt x="405" y="641"/>
                </a:cubicBezTo>
                <a:cubicBezTo>
                  <a:pt x="421" y="673"/>
                  <a:pt x="419" y="687"/>
                  <a:pt x="446" y="714"/>
                </a:cubicBezTo>
                <a:cubicBezTo>
                  <a:pt x="454" y="764"/>
                  <a:pt x="469" y="813"/>
                  <a:pt x="487" y="860"/>
                </a:cubicBezTo>
                <a:cubicBezTo>
                  <a:pt x="490" y="917"/>
                  <a:pt x="489" y="974"/>
                  <a:pt x="495" y="1030"/>
                </a:cubicBezTo>
                <a:cubicBezTo>
                  <a:pt x="500" y="1075"/>
                  <a:pt x="529" y="1134"/>
                  <a:pt x="543" y="1176"/>
                </a:cubicBezTo>
                <a:cubicBezTo>
                  <a:pt x="557" y="1219"/>
                  <a:pt x="563" y="1295"/>
                  <a:pt x="592" y="1330"/>
                </a:cubicBezTo>
                <a:cubicBezTo>
                  <a:pt x="619" y="1362"/>
                  <a:pt x="626" y="1349"/>
                  <a:pt x="657" y="1371"/>
                </a:cubicBezTo>
                <a:cubicBezTo>
                  <a:pt x="666" y="1378"/>
                  <a:pt x="671" y="1389"/>
                  <a:pt x="681" y="1395"/>
                </a:cubicBezTo>
                <a:cubicBezTo>
                  <a:pt x="745" y="1435"/>
                  <a:pt x="821" y="1458"/>
                  <a:pt x="892" y="1485"/>
                </a:cubicBezTo>
                <a:cubicBezTo>
                  <a:pt x="926" y="1519"/>
                  <a:pt x="966" y="1569"/>
                  <a:pt x="1014" y="1590"/>
                </a:cubicBezTo>
                <a:cubicBezTo>
                  <a:pt x="1045" y="1604"/>
                  <a:pt x="1111" y="1622"/>
                  <a:pt x="1111" y="1622"/>
                </a:cubicBezTo>
                <a:cubicBezTo>
                  <a:pt x="1144" y="1619"/>
                  <a:pt x="1177" y="1622"/>
                  <a:pt x="1209" y="1614"/>
                </a:cubicBezTo>
                <a:cubicBezTo>
                  <a:pt x="1220" y="1611"/>
                  <a:pt x="1224" y="1596"/>
                  <a:pt x="1233" y="1590"/>
                </a:cubicBezTo>
                <a:cubicBezTo>
                  <a:pt x="1263" y="1570"/>
                  <a:pt x="1291" y="1556"/>
                  <a:pt x="1322" y="1533"/>
                </a:cubicBezTo>
                <a:cubicBezTo>
                  <a:pt x="1422" y="1458"/>
                  <a:pt x="1496" y="1368"/>
                  <a:pt x="1566" y="1266"/>
                </a:cubicBezTo>
                <a:cubicBezTo>
                  <a:pt x="1631" y="1172"/>
                  <a:pt x="1715" y="1101"/>
                  <a:pt x="1752" y="990"/>
                </a:cubicBezTo>
                <a:cubicBezTo>
                  <a:pt x="1751" y="981"/>
                  <a:pt x="1744" y="897"/>
                  <a:pt x="1736" y="876"/>
                </a:cubicBezTo>
                <a:cubicBezTo>
                  <a:pt x="1723" y="842"/>
                  <a:pt x="1698" y="814"/>
                  <a:pt x="1687" y="779"/>
                </a:cubicBezTo>
                <a:cubicBezTo>
                  <a:pt x="1675" y="742"/>
                  <a:pt x="1667" y="709"/>
                  <a:pt x="1630" y="681"/>
                </a:cubicBezTo>
                <a:cubicBezTo>
                  <a:pt x="1594" y="654"/>
                  <a:pt x="1540" y="603"/>
                  <a:pt x="1517" y="568"/>
                </a:cubicBezTo>
                <a:cubicBezTo>
                  <a:pt x="1469" y="497"/>
                  <a:pt x="1420" y="413"/>
                  <a:pt x="1347" y="365"/>
                </a:cubicBezTo>
                <a:cubicBezTo>
                  <a:pt x="1325" y="324"/>
                  <a:pt x="1289" y="268"/>
                  <a:pt x="1249" y="243"/>
                </a:cubicBezTo>
                <a:cubicBezTo>
                  <a:pt x="1223" y="227"/>
                  <a:pt x="1190" y="226"/>
                  <a:pt x="1160" y="219"/>
                </a:cubicBezTo>
                <a:cubicBezTo>
                  <a:pt x="1098" y="204"/>
                  <a:pt x="1037" y="194"/>
                  <a:pt x="973" y="187"/>
                </a:cubicBezTo>
                <a:cubicBezTo>
                  <a:pt x="851" y="141"/>
                  <a:pt x="749" y="136"/>
                  <a:pt x="616" y="130"/>
                </a:cubicBezTo>
                <a:cubicBezTo>
                  <a:pt x="516" y="97"/>
                  <a:pt x="434" y="23"/>
                  <a:pt x="324" y="16"/>
                </a:cubicBezTo>
                <a:cubicBezTo>
                  <a:pt x="216" y="9"/>
                  <a:pt x="108" y="5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8200" y="4030560"/>
            <a:ext cx="1779840" cy="2370240"/>
          </a:xfrm>
          <a:custGeom>
            <a:avLst/>
            <a:gdLst/>
            <a:ahLst/>
            <a:rect l="l" t="t" r="r" b="b"/>
            <a:pathLst>
              <a:path w="1121" h="1493">
                <a:moveTo>
                  <a:pt x="642" y="0"/>
                </a:moveTo>
                <a:cubicBezTo>
                  <a:pt x="632" y="30"/>
                  <a:pt x="628" y="55"/>
                  <a:pt x="610" y="81"/>
                </a:cubicBezTo>
                <a:cubicBezTo>
                  <a:pt x="601" y="118"/>
                  <a:pt x="582" y="155"/>
                  <a:pt x="561" y="187"/>
                </a:cubicBezTo>
                <a:cubicBezTo>
                  <a:pt x="543" y="261"/>
                  <a:pt x="522" y="330"/>
                  <a:pt x="488" y="398"/>
                </a:cubicBezTo>
                <a:cubicBezTo>
                  <a:pt x="483" y="408"/>
                  <a:pt x="466" y="445"/>
                  <a:pt x="456" y="455"/>
                </a:cubicBezTo>
                <a:cubicBezTo>
                  <a:pt x="446" y="465"/>
                  <a:pt x="433" y="470"/>
                  <a:pt x="423" y="479"/>
                </a:cubicBezTo>
                <a:cubicBezTo>
                  <a:pt x="394" y="504"/>
                  <a:pt x="372" y="539"/>
                  <a:pt x="350" y="568"/>
                </a:cubicBezTo>
                <a:cubicBezTo>
                  <a:pt x="319" y="609"/>
                  <a:pt x="298" y="661"/>
                  <a:pt x="261" y="698"/>
                </a:cubicBezTo>
                <a:cubicBezTo>
                  <a:pt x="249" y="710"/>
                  <a:pt x="233" y="718"/>
                  <a:pt x="220" y="730"/>
                </a:cubicBezTo>
                <a:cubicBezTo>
                  <a:pt x="201" y="788"/>
                  <a:pt x="151" y="801"/>
                  <a:pt x="115" y="844"/>
                </a:cubicBezTo>
                <a:cubicBezTo>
                  <a:pt x="109" y="851"/>
                  <a:pt x="106" y="862"/>
                  <a:pt x="99" y="868"/>
                </a:cubicBezTo>
                <a:cubicBezTo>
                  <a:pt x="84" y="881"/>
                  <a:pt x="50" y="901"/>
                  <a:pt x="50" y="901"/>
                </a:cubicBezTo>
                <a:cubicBezTo>
                  <a:pt x="34" y="926"/>
                  <a:pt x="18" y="938"/>
                  <a:pt x="9" y="966"/>
                </a:cubicBezTo>
                <a:cubicBezTo>
                  <a:pt x="6" y="985"/>
                  <a:pt x="0" y="1003"/>
                  <a:pt x="1" y="1022"/>
                </a:cubicBezTo>
                <a:cubicBezTo>
                  <a:pt x="3" y="1074"/>
                  <a:pt x="6" y="1126"/>
                  <a:pt x="17" y="1177"/>
                </a:cubicBezTo>
                <a:cubicBezTo>
                  <a:pt x="20" y="1192"/>
                  <a:pt x="34" y="1203"/>
                  <a:pt x="42" y="1217"/>
                </a:cubicBezTo>
                <a:cubicBezTo>
                  <a:pt x="77" y="1279"/>
                  <a:pt x="121" y="1320"/>
                  <a:pt x="172" y="1371"/>
                </a:cubicBezTo>
                <a:cubicBezTo>
                  <a:pt x="204" y="1403"/>
                  <a:pt x="242" y="1447"/>
                  <a:pt x="285" y="1461"/>
                </a:cubicBezTo>
                <a:cubicBezTo>
                  <a:pt x="328" y="1475"/>
                  <a:pt x="372" y="1479"/>
                  <a:pt x="415" y="1493"/>
                </a:cubicBezTo>
                <a:cubicBezTo>
                  <a:pt x="528" y="1482"/>
                  <a:pt x="644" y="1479"/>
                  <a:pt x="756" y="1461"/>
                </a:cubicBezTo>
                <a:cubicBezTo>
                  <a:pt x="803" y="1444"/>
                  <a:pt x="847" y="1422"/>
                  <a:pt x="894" y="1404"/>
                </a:cubicBezTo>
                <a:cubicBezTo>
                  <a:pt x="914" y="1388"/>
                  <a:pt x="939" y="1379"/>
                  <a:pt x="959" y="1363"/>
                </a:cubicBezTo>
                <a:cubicBezTo>
                  <a:pt x="978" y="1347"/>
                  <a:pt x="988" y="1322"/>
                  <a:pt x="1007" y="1306"/>
                </a:cubicBezTo>
                <a:cubicBezTo>
                  <a:pt x="1040" y="1277"/>
                  <a:pt x="1070" y="1253"/>
                  <a:pt x="1096" y="1217"/>
                </a:cubicBezTo>
                <a:cubicBezTo>
                  <a:pt x="1107" y="1057"/>
                  <a:pt x="1115" y="899"/>
                  <a:pt x="1121" y="739"/>
                </a:cubicBezTo>
                <a:cubicBezTo>
                  <a:pt x="1112" y="665"/>
                  <a:pt x="1093" y="588"/>
                  <a:pt x="1048" y="528"/>
                </a:cubicBezTo>
                <a:cubicBezTo>
                  <a:pt x="1028" y="468"/>
                  <a:pt x="1000" y="425"/>
                  <a:pt x="967" y="373"/>
                </a:cubicBezTo>
                <a:cubicBezTo>
                  <a:pt x="922" y="303"/>
                  <a:pt x="907" y="249"/>
                  <a:pt x="845" y="187"/>
                </a:cubicBezTo>
                <a:cubicBezTo>
                  <a:pt x="842" y="179"/>
                  <a:pt x="843" y="169"/>
                  <a:pt x="837" y="163"/>
                </a:cubicBezTo>
                <a:cubicBezTo>
                  <a:pt x="831" y="157"/>
                  <a:pt x="820" y="158"/>
                  <a:pt x="813" y="154"/>
                </a:cubicBezTo>
                <a:cubicBezTo>
                  <a:pt x="798" y="145"/>
                  <a:pt x="786" y="132"/>
                  <a:pt x="772" y="122"/>
                </a:cubicBezTo>
                <a:cubicBezTo>
                  <a:pt x="750" y="90"/>
                  <a:pt x="719" y="45"/>
                  <a:pt x="683" y="33"/>
                </a:cubicBezTo>
                <a:cubicBezTo>
                  <a:pt x="652" y="12"/>
                  <a:pt x="665" y="23"/>
                  <a:pt x="642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89360"/>
            <a:ext cx="3129120" cy="2560680"/>
          </a:xfrm>
          <a:custGeom>
            <a:avLst/>
            <a:gdLst/>
            <a:ahLst/>
            <a:rect l="l" t="t" r="r" b="b"/>
            <a:pathLst>
              <a:path w="1971" h="1613">
                <a:moveTo>
                  <a:pt x="1947" y="71"/>
                </a:moveTo>
                <a:cubicBezTo>
                  <a:pt x="1826" y="47"/>
                  <a:pt x="1753" y="61"/>
                  <a:pt x="1614" y="71"/>
                </a:cubicBezTo>
                <a:cubicBezTo>
                  <a:pt x="1480" y="116"/>
                  <a:pt x="1622" y="71"/>
                  <a:pt x="1249" y="87"/>
                </a:cubicBezTo>
                <a:cubicBezTo>
                  <a:pt x="1195" y="89"/>
                  <a:pt x="1145" y="119"/>
                  <a:pt x="1095" y="136"/>
                </a:cubicBezTo>
                <a:cubicBezTo>
                  <a:pt x="1044" y="187"/>
                  <a:pt x="1097" y="144"/>
                  <a:pt x="982" y="168"/>
                </a:cubicBezTo>
                <a:cubicBezTo>
                  <a:pt x="970" y="170"/>
                  <a:pt x="960" y="180"/>
                  <a:pt x="949" y="185"/>
                </a:cubicBezTo>
                <a:cubicBezTo>
                  <a:pt x="933" y="191"/>
                  <a:pt x="900" y="201"/>
                  <a:pt x="900" y="201"/>
                </a:cubicBezTo>
                <a:cubicBezTo>
                  <a:pt x="880" y="215"/>
                  <a:pt x="850" y="233"/>
                  <a:pt x="835" y="250"/>
                </a:cubicBezTo>
                <a:cubicBezTo>
                  <a:pt x="822" y="264"/>
                  <a:pt x="821" y="291"/>
                  <a:pt x="803" y="298"/>
                </a:cubicBezTo>
                <a:cubicBezTo>
                  <a:pt x="765" y="312"/>
                  <a:pt x="722" y="303"/>
                  <a:pt x="681" y="306"/>
                </a:cubicBezTo>
                <a:cubicBezTo>
                  <a:pt x="654" y="316"/>
                  <a:pt x="627" y="322"/>
                  <a:pt x="600" y="331"/>
                </a:cubicBezTo>
                <a:cubicBezTo>
                  <a:pt x="572" y="350"/>
                  <a:pt x="538" y="358"/>
                  <a:pt x="511" y="379"/>
                </a:cubicBezTo>
                <a:cubicBezTo>
                  <a:pt x="500" y="387"/>
                  <a:pt x="492" y="399"/>
                  <a:pt x="479" y="404"/>
                </a:cubicBezTo>
                <a:cubicBezTo>
                  <a:pt x="456" y="413"/>
                  <a:pt x="430" y="414"/>
                  <a:pt x="406" y="420"/>
                </a:cubicBezTo>
                <a:cubicBezTo>
                  <a:pt x="389" y="424"/>
                  <a:pt x="373" y="431"/>
                  <a:pt x="357" y="436"/>
                </a:cubicBezTo>
                <a:cubicBezTo>
                  <a:pt x="349" y="439"/>
                  <a:pt x="332" y="444"/>
                  <a:pt x="332" y="444"/>
                </a:cubicBezTo>
                <a:cubicBezTo>
                  <a:pt x="262" y="519"/>
                  <a:pt x="376" y="403"/>
                  <a:pt x="292" y="469"/>
                </a:cubicBezTo>
                <a:cubicBezTo>
                  <a:pt x="251" y="501"/>
                  <a:pt x="212" y="550"/>
                  <a:pt x="178" y="590"/>
                </a:cubicBezTo>
                <a:cubicBezTo>
                  <a:pt x="143" y="632"/>
                  <a:pt x="98" y="685"/>
                  <a:pt x="73" y="736"/>
                </a:cubicBezTo>
                <a:cubicBezTo>
                  <a:pt x="54" y="776"/>
                  <a:pt x="66" y="761"/>
                  <a:pt x="40" y="785"/>
                </a:cubicBezTo>
                <a:cubicBezTo>
                  <a:pt x="25" y="831"/>
                  <a:pt x="8" y="867"/>
                  <a:pt x="0" y="915"/>
                </a:cubicBezTo>
                <a:cubicBezTo>
                  <a:pt x="3" y="996"/>
                  <a:pt x="1" y="1077"/>
                  <a:pt x="8" y="1158"/>
                </a:cubicBezTo>
                <a:cubicBezTo>
                  <a:pt x="13" y="1214"/>
                  <a:pt x="61" y="1252"/>
                  <a:pt x="97" y="1288"/>
                </a:cubicBezTo>
                <a:cubicBezTo>
                  <a:pt x="143" y="1334"/>
                  <a:pt x="107" y="1291"/>
                  <a:pt x="162" y="1369"/>
                </a:cubicBezTo>
                <a:cubicBezTo>
                  <a:pt x="179" y="1393"/>
                  <a:pt x="300" y="1455"/>
                  <a:pt x="332" y="1475"/>
                </a:cubicBezTo>
                <a:cubicBezTo>
                  <a:pt x="435" y="1540"/>
                  <a:pt x="310" y="1456"/>
                  <a:pt x="389" y="1499"/>
                </a:cubicBezTo>
                <a:cubicBezTo>
                  <a:pt x="434" y="1524"/>
                  <a:pt x="471" y="1559"/>
                  <a:pt x="519" y="1580"/>
                </a:cubicBezTo>
                <a:cubicBezTo>
                  <a:pt x="532" y="1586"/>
                  <a:pt x="546" y="1592"/>
                  <a:pt x="560" y="1596"/>
                </a:cubicBezTo>
                <a:cubicBezTo>
                  <a:pt x="587" y="1603"/>
                  <a:pt x="641" y="1613"/>
                  <a:pt x="641" y="1613"/>
                </a:cubicBezTo>
                <a:cubicBezTo>
                  <a:pt x="681" y="1610"/>
                  <a:pt x="722" y="1609"/>
                  <a:pt x="762" y="1604"/>
                </a:cubicBezTo>
                <a:cubicBezTo>
                  <a:pt x="784" y="1601"/>
                  <a:pt x="851" y="1565"/>
                  <a:pt x="852" y="1564"/>
                </a:cubicBezTo>
                <a:cubicBezTo>
                  <a:pt x="914" y="1534"/>
                  <a:pt x="982" y="1520"/>
                  <a:pt x="1046" y="1499"/>
                </a:cubicBezTo>
                <a:cubicBezTo>
                  <a:pt x="1078" y="1469"/>
                  <a:pt x="1109" y="1445"/>
                  <a:pt x="1136" y="1410"/>
                </a:cubicBezTo>
                <a:cubicBezTo>
                  <a:pt x="1172" y="1362"/>
                  <a:pt x="1190" y="1305"/>
                  <a:pt x="1225" y="1256"/>
                </a:cubicBezTo>
                <a:cubicBezTo>
                  <a:pt x="1268" y="1196"/>
                  <a:pt x="1312" y="1137"/>
                  <a:pt x="1355" y="1077"/>
                </a:cubicBezTo>
                <a:cubicBezTo>
                  <a:pt x="1380" y="1043"/>
                  <a:pt x="1398" y="1003"/>
                  <a:pt x="1428" y="972"/>
                </a:cubicBezTo>
                <a:cubicBezTo>
                  <a:pt x="1460" y="939"/>
                  <a:pt x="1473" y="901"/>
                  <a:pt x="1501" y="866"/>
                </a:cubicBezTo>
                <a:cubicBezTo>
                  <a:pt x="1513" y="851"/>
                  <a:pt x="1529" y="841"/>
                  <a:pt x="1541" y="826"/>
                </a:cubicBezTo>
                <a:cubicBezTo>
                  <a:pt x="1567" y="794"/>
                  <a:pt x="1614" y="728"/>
                  <a:pt x="1614" y="728"/>
                </a:cubicBezTo>
                <a:cubicBezTo>
                  <a:pt x="1636" y="641"/>
                  <a:pt x="1665" y="518"/>
                  <a:pt x="1728" y="452"/>
                </a:cubicBezTo>
                <a:cubicBezTo>
                  <a:pt x="1743" y="407"/>
                  <a:pt x="1768" y="356"/>
                  <a:pt x="1801" y="323"/>
                </a:cubicBezTo>
                <a:cubicBezTo>
                  <a:pt x="1813" y="273"/>
                  <a:pt x="1852" y="250"/>
                  <a:pt x="1882" y="209"/>
                </a:cubicBezTo>
                <a:cubicBezTo>
                  <a:pt x="1890" y="178"/>
                  <a:pt x="1893" y="150"/>
                  <a:pt x="1923" y="136"/>
                </a:cubicBezTo>
                <a:cubicBezTo>
                  <a:pt x="1915" y="139"/>
                  <a:pt x="1902" y="152"/>
                  <a:pt x="1898" y="144"/>
                </a:cubicBezTo>
                <a:cubicBezTo>
                  <a:pt x="1893" y="136"/>
                  <a:pt x="1910" y="129"/>
                  <a:pt x="1914" y="120"/>
                </a:cubicBezTo>
                <a:cubicBezTo>
                  <a:pt x="1923" y="103"/>
                  <a:pt x="1971" y="0"/>
                  <a:pt x="1947" y="7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dges/Switches: Traffic Iso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breaks subnet into LAN 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filters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me only forwarded to the necessary segmen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gments become separate collision domai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1555920" y="5084640"/>
            <a:ext cx="417240" cy="33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234" name="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237" name="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9720" y="5056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1760" y="4929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5320" y="36590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74320" y="629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33160" y="63658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8400" y="418608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CDD2-628A-4296-B3E1-1CF9E72B15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ver Hubs/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forwards frames as nee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ters frames to avoid unnecessary load on se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frames only to segments that need to see the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the geographic span of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collision domains allow longer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s privacy by limiting scope of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 can “snoop” the traffic traversing thei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not all the rest of th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es carrier sense and collision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transmit when the link is bus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es exponential back-off after a colli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segments using different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0152-6E1D-454B-BDBA-8450BB9D02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 Over Hubs/Repea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in forwarding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must receive and parse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erform a look-up to decide where to for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ing and forwarding the packet introduces de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learn where to forwar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needs to construct a forwarding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ally, without intervention from network administra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self-lear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c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omplicated devices that cost more mon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CD9E-B99A-4C3D-92E6-67C6D8EE86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Cut-Through Sw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a frame takes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L is the length of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 is the transmission rate of the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receiving the frame takes L/R time un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delay can be a high fraction of total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is small over short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buffering delay a large fraction of to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large group walking through NY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3520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9280" y="58165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21040" y="5580000"/>
            <a:ext cx="65232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580000"/>
            <a:ext cx="15372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B13F-EEB1-480E-B825-3BFE28FE8D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t-Through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rt transmitting as soon as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frame header and do the look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outgoing link is idle, start forwarding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lapping trans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 the head of the packet via the outgo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le still receiving the tail via the incom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different folks crossing different inter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104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6560" y="581652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49720" y="558000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56080" y="558000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5560" y="5580000"/>
            <a:ext cx="34596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9B89-52A7-4C8C-B379-7455D3F670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elf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forward frames sele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frames only on segments that need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s destination MAC address to outgoing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al: construct the switch table automat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5592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5F6E-DE6E-43A5-AE58-46D9CCB77A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Building th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a frame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ociate the address with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om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mapping in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ime-to-live field to eventually forget the m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200" y="3774960"/>
            <a:ext cx="226692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witch learns how to reach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5EA9-B264-42B5-8127-40C2ECFEAE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Handling Mi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frame arrives with unfamiliar destin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the frame out all of the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for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pefully, this case won’t happen very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4120" y="385128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in doubt, shou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7480" y="4581360"/>
            <a:ext cx="179640" cy="363600"/>
          </a:xfrm>
          <a:custGeom>
            <a:avLst/>
            <a:gdLst/>
            <a:ahLst/>
            <a:rect l="l" t="t" r="r" b="b"/>
            <a:pathLst>
              <a:path w="113" h="229">
                <a:moveTo>
                  <a:pt x="0" y="218"/>
                </a:moveTo>
                <a:cubicBezTo>
                  <a:pt x="40" y="223"/>
                  <a:pt x="81" y="229"/>
                  <a:pt x="97" y="193"/>
                </a:cubicBezTo>
                <a:cubicBezTo>
                  <a:pt x="113" y="157"/>
                  <a:pt x="105" y="78"/>
                  <a:pt x="97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49680" y="5272200"/>
            <a:ext cx="498600" cy="538200"/>
          </a:xfrm>
          <a:custGeom>
            <a:avLst/>
            <a:gdLst/>
            <a:ahLst/>
            <a:rect l="l" t="t" r="r" b="b"/>
            <a:pathLst>
              <a:path w="314" h="339">
                <a:moveTo>
                  <a:pt x="0" y="0"/>
                </a:moveTo>
                <a:cubicBezTo>
                  <a:pt x="109" y="32"/>
                  <a:pt x="218" y="65"/>
                  <a:pt x="266" y="121"/>
                </a:cubicBezTo>
                <a:cubicBezTo>
                  <a:pt x="314" y="177"/>
                  <a:pt x="302" y="258"/>
                  <a:pt x="290" y="33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3663-47B9-4D06-97DA-F358690447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iltering/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42480" y="1150560"/>
            <a:ext cx="820116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switch receives a frame: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dex switch table using MAC dest addr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{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rop the fra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orward the frame on interface indic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l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8935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74360" y="5618160"/>
            <a:ext cx="472680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ward on all but the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n which the fram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838240" y="5807160"/>
            <a:ext cx="5252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AD7C-2595-4C06-A193-53BBD7CDF8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term Ex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om 104 in the Computer Science bui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in the usual Friend classro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:30pm-2:50pm on Wednesday March 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ual class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book, notes, slides, etc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no computer, PDA, calculator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d reading from textbook, plus lectur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actice exams, plus questions in the text bo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EA2E-A8E5-4269-9A97-E785362FE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oding Can Lead to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sometimes need to broadcast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with an unfamiliar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sent to the broadcas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casting is implemented by floo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ting fram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oding can lead to forwarding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f the network contains a cycle of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ither accidentally, or by design for higher reli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7512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55560" y="5580000"/>
            <a:ext cx="828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812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9200" y="558000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96160" y="5580000"/>
            <a:ext cx="792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95800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7360" y="657864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274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706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3926-5F10-4690-B826-CF926256E2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panning Tr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the topology has no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using some of the links when floo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forming a lo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-graph that covers all vertices but contains no cyc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s not in the spanning tree do not forward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60560" y="39290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541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669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424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82880" y="6002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5772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52760" y="61945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499760" y="42735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4680" y="42354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00120" y="50799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28760" y="56563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7360" y="51577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0600" y="43117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30480" y="56559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84240" y="56941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190520" y="60782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1520" y="477360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0760" y="396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943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071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24800" y="538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3080" y="6040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6560" y="58104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62326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39960" y="431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84880" y="427356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40320" y="51181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68960" y="569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7560" y="51958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31160" y="434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70680" y="569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24800" y="573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030720" y="61164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4CA9-89C0-4D6A-B9ED-3A055000A6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a Spanning T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a distributed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cooperate to build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 automatically when failur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ngredients of th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need to elect a “roo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witch with the small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witch identifies if its interfac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on the shortest path from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exclude from the tree if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 (Y, d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no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ing Y i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distance i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83440" y="369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770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898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07120" y="511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05760" y="577044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68880" y="554040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5640" y="5962680"/>
            <a:ext cx="42192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722640" y="404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67560" y="400356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23000" y="484812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42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20240" y="492588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3480" y="407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53360" y="542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107120" y="546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413400" y="584676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93720" y="327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64320" y="4772160"/>
            <a:ext cx="1881000" cy="538200"/>
          </a:xfrm>
          <a:custGeom>
            <a:avLst/>
            <a:gdLst/>
            <a:ahLst/>
            <a:rect l="l" t="t" r="r" b="b"/>
            <a:pathLst>
              <a:path w="1185" h="339">
                <a:moveTo>
                  <a:pt x="0" y="339"/>
                </a:moveTo>
                <a:cubicBezTo>
                  <a:pt x="0" y="339"/>
                  <a:pt x="592" y="169"/>
                  <a:pt x="1185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58600" y="51181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e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721640" y="5694480"/>
            <a:ext cx="39600" cy="653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74640" y="6335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77F3-2376-4E95-BB1C-938E5D4BC6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ly, each switch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sends a messag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ing itself as the root with distance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: switch X announces (X, 0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update their view of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message, check the root 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new id is smaller, start viewing that switch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compute their distance from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1 to the distance received from a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interfaces not on a shortest path to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exclude them from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B8B5-8BEE-47FD-9DE5-5295CCB015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(4, 0, 4) message to 2 and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0, 2) message from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inks that #2 is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it is just one hop a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1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on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l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6609-7DA1-458E-B7E8-CC0CB3DA4B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2 hears about switch #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hears (1, 1, 3) from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2, 2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3, 4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receives (1, 3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thre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I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A7B6-F86C-4909-BC97-D08E66B95C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gorithm must react to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the root n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lect a new root, with the next low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other switches and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compute the spanning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ot switch continues sending mess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iodically reannouncing itself as the root (1, 0,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 switches continue forward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failures through timeout (soft state!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waits to hear from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times out and claims to be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3760" y="6194520"/>
            <a:ext cx="80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ee Section 3.2.2 in the textbook for details and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3DD8-70D8-47CA-BFFB-6F67B9439A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Toward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olden day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ck cables snaked through cable ducts in build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computer they passed was plugged 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people in adjacent offices were put on the same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ependent of whether they belonged together or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recentl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 and switches changed all t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office connected to central wiring clo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ten multiple LANs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) connected by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ibility in mapping offices to differen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68280" y="5810400"/>
            <a:ext cx="641376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roup users based on organizational structure, rather than the physical layout of the bui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222E-D4BA-4D1D-8691-3BAFDADEC5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Group by Organizational 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is a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interface card can be put into “promiscuous” m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get a copy of all of the traffic (e.g., midterm ex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isolating traffic on separate LANs improves secu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LAN segments are more heavily used than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researchers running experiments get out of h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aturate their own segment and not the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, there may be natural locality of commun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raffic between people in the same research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87E9-ABF0-410B-BD6C-7120B16629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ople Move, and Roles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zational changes are frequ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aculty office becomes a grad-student off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graduate student becomes a faculty me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hysical rewiring is a major p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unplugging the cable from one 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lugging it in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the cable is long enough to r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you don’t make a mist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uld like to “rewire” the building in softwa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sulting concept is a Virtual LAN (VLA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9F84-29CA-4774-88AB-5CF9F25EE8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ices that shuttling packets at different 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 and hub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s and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protocols and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dicated access and full-duplex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2910-1FB2-4700-A077-033DB11978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292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660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3884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4468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3006720"/>
            <a:ext cx="2727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94280" y="3006720"/>
            <a:ext cx="2727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3467160"/>
            <a:ext cx="0" cy="188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77040" y="3467160"/>
            <a:ext cx="0" cy="1920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8424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8424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8424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8424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9612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9612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9612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9612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46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66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2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974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402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92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08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230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49760" y="5772240"/>
            <a:ext cx="50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00200" y="345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7440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1128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7680" y="3429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7973-CCFD-4AE7-BA06-689EA276D6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84240" y="3621240"/>
            <a:ext cx="1113120" cy="115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84240" y="3850920"/>
            <a:ext cx="95904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84240" y="388944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84240" y="388908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00680" y="362088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00680" y="3851280"/>
            <a:ext cx="105588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388944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08800" y="392904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13880" y="2546280"/>
            <a:ext cx="138276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66920" y="2546280"/>
            <a:ext cx="84600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82160" y="254628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5560" y="254628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40240" y="2546280"/>
            <a:ext cx="19224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608440" y="254628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724000" y="254628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838480" y="254628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6880" y="57722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62000" y="49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453360" y="3272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23840" y="4503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23840" y="404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23840" y="358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9848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221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839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4784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3560" y="2506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57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865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2440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453360" y="372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53360" y="418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53360" y="4617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0BC7-77FA-4C62-86EF-9EAAB2C856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ing VLAN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idges/switches need configuration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ying which VLANs are accessible via which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pping to V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terface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s if all hosts on same segment belong to sam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MAC address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on same segment belong to different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move from one physical locati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ing the Ethernet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ng a field for a VLAN t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emented on the bridges/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can still interoperate with old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7F0C-751B-44A9-83DF-00E764D8AB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From Switches to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g-and-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filtering and forwarding of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pronunciation ambiguity (e.g., “rooter” vs. “row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pology is restricted to a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networks require large ARP tab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adcast storms can cause the network to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9BA2-FE16-4492-92CB-2D3E08A6C0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Hubs, Switches, &amp;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66840" y="1797120"/>
          <a:ext cx="918180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797120"/>
                    <a:ext cx="91818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317520" y="352908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280" y="4346640"/>
            <a:ext cx="859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800" y="5433840"/>
            <a:ext cx="843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C820-0A85-4F61-8EA7-A62D90467D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uttling data from one link to an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ts, frames, packet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/hubs, bridges/switches, rout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deas in swit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time: midterm ex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fter the brea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-level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E47B-9C48-422D-BAA2-A4EC292047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uttling Data at Differen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devices switch different thing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al layer: electrical signals (repeaters and hub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layer: frames (bridges and switch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layer: packets (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960" y="338940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400356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461952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523404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5960" y="584820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1520" y="346716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1880" y="41068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0720" y="46832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7240" y="529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9641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728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7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5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81040" y="447192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F60F-52BC-4EB8-82EC-56ADE90B95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ance limitation in local-area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ctrical signal becomes weaker as it tra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s a limit on the length of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eaters join LANs toge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 electronic de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ously monitors electrical signals on each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s an amplified cop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1480" y="450360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50360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188C-3CBE-425D-B114-882BE88DBA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multiple input lines electr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ed to hold multiple line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necessarily amplify the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y similar to repea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so operates at the physical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7360" y="5514840"/>
            <a:ext cx="36180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7360" y="586584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588024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72080" y="582948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309760" y="589284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69040" y="5524560"/>
            <a:ext cx="3603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0760" y="5511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382920" y="57103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882960" y="62406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237440" y="56754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377040" y="60865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055520" y="533412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1483920" y="551664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25640" y="556884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5600880"/>
            <a:ext cx="9036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27160" y="5559480"/>
            <a:ext cx="4316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84280" y="5580000"/>
            <a:ext cx="1587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2400" y="551664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990760" y="560088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64240" y="5568840"/>
            <a:ext cx="1440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7160" y="5483160"/>
            <a:ext cx="6415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93640" y="417348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1920" y="4162320"/>
            <a:ext cx="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651200" y="410832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5600" y="529416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4280" y="53038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23360" y="5164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8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0320" y="4125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79CA-BB34-4E76-80B0-27EBF4F5D6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Repeaters and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large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bit is sent everyw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aggregate throughput is limi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hree departments each get 10 Mbps independ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connect via a hub and must share 10 M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not support multiple LAN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buffer or interpr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can’t interconnect between different rates or form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0 Mbps Ethernet and 100 Mbps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ations on maximum nodes and distan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circumvent the limitations of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ill cannot go beyond 2500 meters o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AEBA-092F-4F46-B102-78818B0A72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Brid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s two or more LANs at the lin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tracts destination address from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s up the destination in a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s the frame to the appropriate LAN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egment is its own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F36F-AC3E-4A03-9F60-E874B48533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ly connects individual comp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switch is essentially the same as a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typically used to connect hosts, no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bridges, support concurrent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can talk to C, while B talks to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60E4-BEFE-4B8E-8B97-26126C437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Rexford</cp:lastModifiedBy>
  <dcterms:modified xsi:type="dcterms:W3CDTF">2006-03-13T18:18:35Z</dcterms:modified>
  <cp:revision>2147</cp:revision>
  <dc:subject/>
  <dc:title>Communication</dc:title>
</cp:coreProperties>
</file>