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6CBC-0F09-4277-A211-A4078D8BB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A00C-9A01-44A5-92B5-38E548F89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BF80-7017-4B82-A265-D58237B52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DA6F-FDD8-4780-99BE-45868E420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EA4A2-84D8-41ED-BD28-2F8854A425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DAC5C-9843-44DE-B3B1-271044689E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FCF8D-F9DA-4C33-9753-65B321481D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E1B8-57E9-4B55-A983-FE08463FF8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64CE-1079-457E-B615-37913B2823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429B9-6361-484F-9337-5703ACA822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2126-64C2-4CFC-A97C-04929F6066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96FB-E4B3-42A7-839A-4547B3E0D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7F4B9-F5FB-4EF9-87FC-1332DA6340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C6D6-F401-481D-ADA6-F1435B77A8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10DA7-5D6D-43C4-8918-90F17D28CD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45D8-7FDB-42A4-B881-72C478D927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2891-F49A-4C9C-BC66-6FB061FD6B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0C32-6458-4994-8CAE-F9B95089A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DE44-0007-4C03-B109-57C431A99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692C-ADBE-4F6D-ABC9-E1124AA4D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FBA9-4A25-4EA4-A52E-B32C022D0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60AA-652C-4DFE-987E-72D654757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C192-F495-4A4E-AC35-7C6EC0481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3E4B-09A2-4C5E-8B6A-16FFA34F8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3F16-0621-4849-A61A-E58FFA566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29CF-ACC9-445B-AA43-C8B4BC16C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677880" algn="ctr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5640" algn="ctr">
              <a:spcBef>
                <a:spcPts val="249"/>
              </a:spcBef>
              <a:buClr>
                <a:srgbClr val="0000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373040" algn="ctr">
              <a:spcBef>
                <a:spcPts val="2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30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1880" y="262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witches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: Section 3.2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85960" y="3885840"/>
            <a:ext cx="768024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461: Comput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6 (MW 1:30-2:50 in Friend 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Assistant: Mike Wawrzoni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princeton.edu/courses/archive/spring06/cos46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51080" y="395280"/>
            <a:ext cx="295776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CCBB-36E6-4257-95ED-4B1563DF42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dicated Access and Full Duple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dicated ac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has direct connection to the swit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ther than a shared LAN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ull duplex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 connection can send in both dir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sending to switch, and host receiving from swit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n 10BaseT and 100Base 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letely avoids colli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connection is a bidirectional point-to-point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need for carrier sense, collision detection, and so 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34B7-EC5A-4216-848D-AFA7ED9E0B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721400" y="3992400"/>
            <a:ext cx="2781000" cy="2575080"/>
          </a:xfrm>
          <a:custGeom>
            <a:avLst/>
            <a:gdLst/>
            <a:ahLst/>
            <a:rect l="l" t="t" r="r" b="b"/>
            <a:pathLst>
              <a:path w="1752" h="1622">
                <a:moveTo>
                  <a:pt x="0" y="0"/>
                </a:moveTo>
                <a:cubicBezTo>
                  <a:pt x="66" y="66"/>
                  <a:pt x="98" y="149"/>
                  <a:pt x="146" y="227"/>
                </a:cubicBezTo>
                <a:cubicBezTo>
                  <a:pt x="170" y="265"/>
                  <a:pt x="202" y="295"/>
                  <a:pt x="227" y="333"/>
                </a:cubicBezTo>
                <a:cubicBezTo>
                  <a:pt x="257" y="379"/>
                  <a:pt x="287" y="424"/>
                  <a:pt x="316" y="470"/>
                </a:cubicBezTo>
                <a:cubicBezTo>
                  <a:pt x="326" y="487"/>
                  <a:pt x="349" y="519"/>
                  <a:pt x="349" y="519"/>
                </a:cubicBezTo>
                <a:cubicBezTo>
                  <a:pt x="363" y="561"/>
                  <a:pt x="385" y="601"/>
                  <a:pt x="405" y="641"/>
                </a:cubicBezTo>
                <a:cubicBezTo>
                  <a:pt x="421" y="673"/>
                  <a:pt x="419" y="687"/>
                  <a:pt x="446" y="714"/>
                </a:cubicBezTo>
                <a:cubicBezTo>
                  <a:pt x="454" y="764"/>
                  <a:pt x="469" y="813"/>
                  <a:pt x="487" y="860"/>
                </a:cubicBezTo>
                <a:cubicBezTo>
                  <a:pt x="490" y="917"/>
                  <a:pt x="489" y="974"/>
                  <a:pt x="495" y="1030"/>
                </a:cubicBezTo>
                <a:cubicBezTo>
                  <a:pt x="500" y="1075"/>
                  <a:pt x="529" y="1134"/>
                  <a:pt x="543" y="1176"/>
                </a:cubicBezTo>
                <a:cubicBezTo>
                  <a:pt x="557" y="1219"/>
                  <a:pt x="563" y="1295"/>
                  <a:pt x="592" y="1330"/>
                </a:cubicBezTo>
                <a:cubicBezTo>
                  <a:pt x="619" y="1362"/>
                  <a:pt x="626" y="1349"/>
                  <a:pt x="657" y="1371"/>
                </a:cubicBezTo>
                <a:cubicBezTo>
                  <a:pt x="666" y="1378"/>
                  <a:pt x="671" y="1389"/>
                  <a:pt x="681" y="1395"/>
                </a:cubicBezTo>
                <a:cubicBezTo>
                  <a:pt x="745" y="1435"/>
                  <a:pt x="821" y="1458"/>
                  <a:pt x="892" y="1485"/>
                </a:cubicBezTo>
                <a:cubicBezTo>
                  <a:pt x="926" y="1519"/>
                  <a:pt x="966" y="1569"/>
                  <a:pt x="1014" y="1590"/>
                </a:cubicBezTo>
                <a:cubicBezTo>
                  <a:pt x="1045" y="1604"/>
                  <a:pt x="1111" y="1622"/>
                  <a:pt x="1111" y="1622"/>
                </a:cubicBezTo>
                <a:cubicBezTo>
                  <a:pt x="1144" y="1619"/>
                  <a:pt x="1177" y="1622"/>
                  <a:pt x="1209" y="1614"/>
                </a:cubicBezTo>
                <a:cubicBezTo>
                  <a:pt x="1220" y="1611"/>
                  <a:pt x="1224" y="1596"/>
                  <a:pt x="1233" y="1590"/>
                </a:cubicBezTo>
                <a:cubicBezTo>
                  <a:pt x="1263" y="1570"/>
                  <a:pt x="1291" y="1556"/>
                  <a:pt x="1322" y="1533"/>
                </a:cubicBezTo>
                <a:cubicBezTo>
                  <a:pt x="1422" y="1458"/>
                  <a:pt x="1496" y="1368"/>
                  <a:pt x="1566" y="1266"/>
                </a:cubicBezTo>
                <a:cubicBezTo>
                  <a:pt x="1631" y="1172"/>
                  <a:pt x="1715" y="1101"/>
                  <a:pt x="1752" y="990"/>
                </a:cubicBezTo>
                <a:cubicBezTo>
                  <a:pt x="1751" y="981"/>
                  <a:pt x="1744" y="897"/>
                  <a:pt x="1736" y="876"/>
                </a:cubicBezTo>
                <a:cubicBezTo>
                  <a:pt x="1723" y="842"/>
                  <a:pt x="1698" y="814"/>
                  <a:pt x="1687" y="779"/>
                </a:cubicBezTo>
                <a:cubicBezTo>
                  <a:pt x="1675" y="742"/>
                  <a:pt x="1667" y="709"/>
                  <a:pt x="1630" y="681"/>
                </a:cubicBezTo>
                <a:cubicBezTo>
                  <a:pt x="1594" y="654"/>
                  <a:pt x="1540" y="603"/>
                  <a:pt x="1517" y="568"/>
                </a:cubicBezTo>
                <a:cubicBezTo>
                  <a:pt x="1469" y="497"/>
                  <a:pt x="1420" y="413"/>
                  <a:pt x="1347" y="365"/>
                </a:cubicBezTo>
                <a:cubicBezTo>
                  <a:pt x="1325" y="324"/>
                  <a:pt x="1289" y="268"/>
                  <a:pt x="1249" y="243"/>
                </a:cubicBezTo>
                <a:cubicBezTo>
                  <a:pt x="1223" y="227"/>
                  <a:pt x="1190" y="226"/>
                  <a:pt x="1160" y="219"/>
                </a:cubicBezTo>
                <a:cubicBezTo>
                  <a:pt x="1098" y="204"/>
                  <a:pt x="1037" y="194"/>
                  <a:pt x="973" y="187"/>
                </a:cubicBezTo>
                <a:cubicBezTo>
                  <a:pt x="851" y="141"/>
                  <a:pt x="749" y="136"/>
                  <a:pt x="616" y="130"/>
                </a:cubicBezTo>
                <a:cubicBezTo>
                  <a:pt x="516" y="97"/>
                  <a:pt x="434" y="23"/>
                  <a:pt x="324" y="16"/>
                </a:cubicBezTo>
                <a:cubicBezTo>
                  <a:pt x="216" y="9"/>
                  <a:pt x="108" y="5"/>
                  <a:pt x="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8200" y="4030560"/>
            <a:ext cx="1779840" cy="2370240"/>
          </a:xfrm>
          <a:custGeom>
            <a:avLst/>
            <a:gdLst/>
            <a:ahLst/>
            <a:rect l="l" t="t" r="r" b="b"/>
            <a:pathLst>
              <a:path w="1121" h="1493">
                <a:moveTo>
                  <a:pt x="642" y="0"/>
                </a:moveTo>
                <a:cubicBezTo>
                  <a:pt x="632" y="30"/>
                  <a:pt x="628" y="55"/>
                  <a:pt x="610" y="81"/>
                </a:cubicBezTo>
                <a:cubicBezTo>
                  <a:pt x="601" y="118"/>
                  <a:pt x="582" y="155"/>
                  <a:pt x="561" y="187"/>
                </a:cubicBezTo>
                <a:cubicBezTo>
                  <a:pt x="543" y="261"/>
                  <a:pt x="522" y="330"/>
                  <a:pt x="488" y="398"/>
                </a:cubicBezTo>
                <a:cubicBezTo>
                  <a:pt x="483" y="408"/>
                  <a:pt x="466" y="445"/>
                  <a:pt x="456" y="455"/>
                </a:cubicBezTo>
                <a:cubicBezTo>
                  <a:pt x="446" y="465"/>
                  <a:pt x="433" y="470"/>
                  <a:pt x="423" y="479"/>
                </a:cubicBezTo>
                <a:cubicBezTo>
                  <a:pt x="394" y="504"/>
                  <a:pt x="372" y="539"/>
                  <a:pt x="350" y="568"/>
                </a:cubicBezTo>
                <a:cubicBezTo>
                  <a:pt x="319" y="609"/>
                  <a:pt x="298" y="661"/>
                  <a:pt x="261" y="698"/>
                </a:cubicBezTo>
                <a:cubicBezTo>
                  <a:pt x="249" y="710"/>
                  <a:pt x="233" y="718"/>
                  <a:pt x="220" y="730"/>
                </a:cubicBezTo>
                <a:cubicBezTo>
                  <a:pt x="201" y="788"/>
                  <a:pt x="151" y="801"/>
                  <a:pt x="115" y="844"/>
                </a:cubicBezTo>
                <a:cubicBezTo>
                  <a:pt x="109" y="851"/>
                  <a:pt x="106" y="862"/>
                  <a:pt x="99" y="868"/>
                </a:cubicBezTo>
                <a:cubicBezTo>
                  <a:pt x="84" y="881"/>
                  <a:pt x="50" y="901"/>
                  <a:pt x="50" y="901"/>
                </a:cubicBezTo>
                <a:cubicBezTo>
                  <a:pt x="34" y="926"/>
                  <a:pt x="18" y="938"/>
                  <a:pt x="9" y="966"/>
                </a:cubicBezTo>
                <a:cubicBezTo>
                  <a:pt x="6" y="985"/>
                  <a:pt x="0" y="1003"/>
                  <a:pt x="1" y="1022"/>
                </a:cubicBezTo>
                <a:cubicBezTo>
                  <a:pt x="3" y="1074"/>
                  <a:pt x="6" y="1126"/>
                  <a:pt x="17" y="1177"/>
                </a:cubicBezTo>
                <a:cubicBezTo>
                  <a:pt x="20" y="1192"/>
                  <a:pt x="34" y="1203"/>
                  <a:pt x="42" y="1217"/>
                </a:cubicBezTo>
                <a:cubicBezTo>
                  <a:pt x="77" y="1279"/>
                  <a:pt x="121" y="1320"/>
                  <a:pt x="172" y="1371"/>
                </a:cubicBezTo>
                <a:cubicBezTo>
                  <a:pt x="204" y="1403"/>
                  <a:pt x="242" y="1447"/>
                  <a:pt x="285" y="1461"/>
                </a:cubicBezTo>
                <a:cubicBezTo>
                  <a:pt x="328" y="1475"/>
                  <a:pt x="372" y="1479"/>
                  <a:pt x="415" y="1493"/>
                </a:cubicBezTo>
                <a:cubicBezTo>
                  <a:pt x="528" y="1482"/>
                  <a:pt x="644" y="1479"/>
                  <a:pt x="756" y="1461"/>
                </a:cubicBezTo>
                <a:cubicBezTo>
                  <a:pt x="803" y="1444"/>
                  <a:pt x="847" y="1422"/>
                  <a:pt x="894" y="1404"/>
                </a:cubicBezTo>
                <a:cubicBezTo>
                  <a:pt x="914" y="1388"/>
                  <a:pt x="939" y="1379"/>
                  <a:pt x="959" y="1363"/>
                </a:cubicBezTo>
                <a:cubicBezTo>
                  <a:pt x="978" y="1347"/>
                  <a:pt x="988" y="1322"/>
                  <a:pt x="1007" y="1306"/>
                </a:cubicBezTo>
                <a:cubicBezTo>
                  <a:pt x="1040" y="1277"/>
                  <a:pt x="1070" y="1253"/>
                  <a:pt x="1096" y="1217"/>
                </a:cubicBezTo>
                <a:cubicBezTo>
                  <a:pt x="1107" y="1057"/>
                  <a:pt x="1115" y="899"/>
                  <a:pt x="1121" y="739"/>
                </a:cubicBezTo>
                <a:cubicBezTo>
                  <a:pt x="1112" y="665"/>
                  <a:pt x="1093" y="588"/>
                  <a:pt x="1048" y="528"/>
                </a:cubicBezTo>
                <a:cubicBezTo>
                  <a:pt x="1028" y="468"/>
                  <a:pt x="1000" y="425"/>
                  <a:pt x="967" y="373"/>
                </a:cubicBezTo>
                <a:cubicBezTo>
                  <a:pt x="922" y="303"/>
                  <a:pt x="907" y="249"/>
                  <a:pt x="845" y="187"/>
                </a:cubicBezTo>
                <a:cubicBezTo>
                  <a:pt x="842" y="179"/>
                  <a:pt x="843" y="169"/>
                  <a:pt x="837" y="163"/>
                </a:cubicBezTo>
                <a:cubicBezTo>
                  <a:pt x="831" y="157"/>
                  <a:pt x="820" y="158"/>
                  <a:pt x="813" y="154"/>
                </a:cubicBezTo>
                <a:cubicBezTo>
                  <a:pt x="798" y="145"/>
                  <a:pt x="786" y="132"/>
                  <a:pt x="772" y="122"/>
                </a:cubicBezTo>
                <a:cubicBezTo>
                  <a:pt x="750" y="90"/>
                  <a:pt x="719" y="45"/>
                  <a:pt x="683" y="33"/>
                </a:cubicBezTo>
                <a:cubicBezTo>
                  <a:pt x="652" y="12"/>
                  <a:pt x="665" y="23"/>
                  <a:pt x="642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3789360"/>
            <a:ext cx="3129120" cy="2560680"/>
          </a:xfrm>
          <a:custGeom>
            <a:avLst/>
            <a:gdLst/>
            <a:ahLst/>
            <a:rect l="l" t="t" r="r" b="b"/>
            <a:pathLst>
              <a:path w="1971" h="1613">
                <a:moveTo>
                  <a:pt x="1947" y="71"/>
                </a:moveTo>
                <a:cubicBezTo>
                  <a:pt x="1826" y="47"/>
                  <a:pt x="1753" y="61"/>
                  <a:pt x="1614" y="71"/>
                </a:cubicBezTo>
                <a:cubicBezTo>
                  <a:pt x="1480" y="116"/>
                  <a:pt x="1622" y="71"/>
                  <a:pt x="1249" y="87"/>
                </a:cubicBezTo>
                <a:cubicBezTo>
                  <a:pt x="1195" y="89"/>
                  <a:pt x="1145" y="119"/>
                  <a:pt x="1095" y="136"/>
                </a:cubicBezTo>
                <a:cubicBezTo>
                  <a:pt x="1044" y="187"/>
                  <a:pt x="1097" y="144"/>
                  <a:pt x="982" y="168"/>
                </a:cubicBezTo>
                <a:cubicBezTo>
                  <a:pt x="970" y="170"/>
                  <a:pt x="960" y="180"/>
                  <a:pt x="949" y="185"/>
                </a:cubicBezTo>
                <a:cubicBezTo>
                  <a:pt x="933" y="191"/>
                  <a:pt x="900" y="201"/>
                  <a:pt x="900" y="201"/>
                </a:cubicBezTo>
                <a:cubicBezTo>
                  <a:pt x="880" y="215"/>
                  <a:pt x="850" y="233"/>
                  <a:pt x="835" y="250"/>
                </a:cubicBezTo>
                <a:cubicBezTo>
                  <a:pt x="822" y="264"/>
                  <a:pt x="821" y="291"/>
                  <a:pt x="803" y="298"/>
                </a:cubicBezTo>
                <a:cubicBezTo>
                  <a:pt x="765" y="312"/>
                  <a:pt x="722" y="303"/>
                  <a:pt x="681" y="306"/>
                </a:cubicBezTo>
                <a:cubicBezTo>
                  <a:pt x="654" y="316"/>
                  <a:pt x="627" y="322"/>
                  <a:pt x="600" y="331"/>
                </a:cubicBezTo>
                <a:cubicBezTo>
                  <a:pt x="572" y="350"/>
                  <a:pt x="538" y="358"/>
                  <a:pt x="511" y="379"/>
                </a:cubicBezTo>
                <a:cubicBezTo>
                  <a:pt x="500" y="387"/>
                  <a:pt x="492" y="399"/>
                  <a:pt x="479" y="404"/>
                </a:cubicBezTo>
                <a:cubicBezTo>
                  <a:pt x="456" y="413"/>
                  <a:pt x="430" y="414"/>
                  <a:pt x="406" y="420"/>
                </a:cubicBezTo>
                <a:cubicBezTo>
                  <a:pt x="389" y="424"/>
                  <a:pt x="373" y="431"/>
                  <a:pt x="357" y="436"/>
                </a:cubicBezTo>
                <a:cubicBezTo>
                  <a:pt x="349" y="439"/>
                  <a:pt x="332" y="444"/>
                  <a:pt x="332" y="444"/>
                </a:cubicBezTo>
                <a:cubicBezTo>
                  <a:pt x="262" y="519"/>
                  <a:pt x="376" y="403"/>
                  <a:pt x="292" y="469"/>
                </a:cubicBezTo>
                <a:cubicBezTo>
                  <a:pt x="251" y="501"/>
                  <a:pt x="212" y="550"/>
                  <a:pt x="178" y="590"/>
                </a:cubicBezTo>
                <a:cubicBezTo>
                  <a:pt x="143" y="632"/>
                  <a:pt x="98" y="685"/>
                  <a:pt x="73" y="736"/>
                </a:cubicBezTo>
                <a:cubicBezTo>
                  <a:pt x="54" y="776"/>
                  <a:pt x="66" y="761"/>
                  <a:pt x="40" y="785"/>
                </a:cubicBezTo>
                <a:cubicBezTo>
                  <a:pt x="25" y="831"/>
                  <a:pt x="8" y="867"/>
                  <a:pt x="0" y="915"/>
                </a:cubicBezTo>
                <a:cubicBezTo>
                  <a:pt x="3" y="996"/>
                  <a:pt x="1" y="1077"/>
                  <a:pt x="8" y="1158"/>
                </a:cubicBezTo>
                <a:cubicBezTo>
                  <a:pt x="13" y="1214"/>
                  <a:pt x="61" y="1252"/>
                  <a:pt x="97" y="1288"/>
                </a:cubicBezTo>
                <a:cubicBezTo>
                  <a:pt x="143" y="1334"/>
                  <a:pt x="107" y="1291"/>
                  <a:pt x="162" y="1369"/>
                </a:cubicBezTo>
                <a:cubicBezTo>
                  <a:pt x="179" y="1393"/>
                  <a:pt x="300" y="1455"/>
                  <a:pt x="332" y="1475"/>
                </a:cubicBezTo>
                <a:cubicBezTo>
                  <a:pt x="435" y="1540"/>
                  <a:pt x="310" y="1456"/>
                  <a:pt x="389" y="1499"/>
                </a:cubicBezTo>
                <a:cubicBezTo>
                  <a:pt x="434" y="1524"/>
                  <a:pt x="471" y="1559"/>
                  <a:pt x="519" y="1580"/>
                </a:cubicBezTo>
                <a:cubicBezTo>
                  <a:pt x="532" y="1586"/>
                  <a:pt x="546" y="1592"/>
                  <a:pt x="560" y="1596"/>
                </a:cubicBezTo>
                <a:cubicBezTo>
                  <a:pt x="587" y="1603"/>
                  <a:pt x="641" y="1613"/>
                  <a:pt x="641" y="1613"/>
                </a:cubicBezTo>
                <a:cubicBezTo>
                  <a:pt x="681" y="1610"/>
                  <a:pt x="722" y="1609"/>
                  <a:pt x="762" y="1604"/>
                </a:cubicBezTo>
                <a:cubicBezTo>
                  <a:pt x="784" y="1601"/>
                  <a:pt x="851" y="1565"/>
                  <a:pt x="852" y="1564"/>
                </a:cubicBezTo>
                <a:cubicBezTo>
                  <a:pt x="914" y="1534"/>
                  <a:pt x="982" y="1520"/>
                  <a:pt x="1046" y="1499"/>
                </a:cubicBezTo>
                <a:cubicBezTo>
                  <a:pt x="1078" y="1469"/>
                  <a:pt x="1109" y="1445"/>
                  <a:pt x="1136" y="1410"/>
                </a:cubicBezTo>
                <a:cubicBezTo>
                  <a:pt x="1172" y="1362"/>
                  <a:pt x="1190" y="1305"/>
                  <a:pt x="1225" y="1256"/>
                </a:cubicBezTo>
                <a:cubicBezTo>
                  <a:pt x="1268" y="1196"/>
                  <a:pt x="1312" y="1137"/>
                  <a:pt x="1355" y="1077"/>
                </a:cubicBezTo>
                <a:cubicBezTo>
                  <a:pt x="1380" y="1043"/>
                  <a:pt x="1398" y="1003"/>
                  <a:pt x="1428" y="972"/>
                </a:cubicBezTo>
                <a:cubicBezTo>
                  <a:pt x="1460" y="939"/>
                  <a:pt x="1473" y="901"/>
                  <a:pt x="1501" y="866"/>
                </a:cubicBezTo>
                <a:cubicBezTo>
                  <a:pt x="1513" y="851"/>
                  <a:pt x="1529" y="841"/>
                  <a:pt x="1541" y="826"/>
                </a:cubicBezTo>
                <a:cubicBezTo>
                  <a:pt x="1567" y="794"/>
                  <a:pt x="1614" y="728"/>
                  <a:pt x="1614" y="728"/>
                </a:cubicBezTo>
                <a:cubicBezTo>
                  <a:pt x="1636" y="641"/>
                  <a:pt x="1665" y="518"/>
                  <a:pt x="1728" y="452"/>
                </a:cubicBezTo>
                <a:cubicBezTo>
                  <a:pt x="1743" y="407"/>
                  <a:pt x="1768" y="356"/>
                  <a:pt x="1801" y="323"/>
                </a:cubicBezTo>
                <a:cubicBezTo>
                  <a:pt x="1813" y="273"/>
                  <a:pt x="1852" y="250"/>
                  <a:pt x="1882" y="209"/>
                </a:cubicBezTo>
                <a:cubicBezTo>
                  <a:pt x="1890" y="178"/>
                  <a:pt x="1893" y="150"/>
                  <a:pt x="1923" y="136"/>
                </a:cubicBezTo>
                <a:cubicBezTo>
                  <a:pt x="1915" y="139"/>
                  <a:pt x="1902" y="152"/>
                  <a:pt x="1898" y="144"/>
                </a:cubicBezTo>
                <a:cubicBezTo>
                  <a:pt x="1893" y="136"/>
                  <a:pt x="1910" y="129"/>
                  <a:pt x="1914" y="120"/>
                </a:cubicBezTo>
                <a:cubicBezTo>
                  <a:pt x="1923" y="103"/>
                  <a:pt x="1971" y="0"/>
                  <a:pt x="1947" y="71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dges/Switches: Traffic Iso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breaks subnet into LAN seg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filters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ame only forwarded to the necessary segment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gments become separate collision domai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6800" y="5264280"/>
            <a:ext cx="288720" cy="6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95480" y="5564160"/>
            <a:ext cx="415800" cy="339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00520" y="55767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513400" y="55306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654280" y="5589720"/>
            <a:ext cx="417600" cy="339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118200" y="5272200"/>
            <a:ext cx="289080" cy="6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82920" y="5262480"/>
            <a:ext cx="288720" cy="66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595680" y="54244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4033800" y="59022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6973920" y="53928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6219720" y="576252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1555920" y="5084640"/>
            <a:ext cx="417240" cy="339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flipH="1">
            <a:off x="1931760" y="524844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319480" y="5295960"/>
            <a:ext cx="2714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8520" y="5324400"/>
            <a:ext cx="730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984480" y="5286240"/>
            <a:ext cx="346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299120" y="5305320"/>
            <a:ext cx="12528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03680" y="5248440"/>
            <a:ext cx="23040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881320" y="5324400"/>
            <a:ext cx="42876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384960" y="5295960"/>
            <a:ext cx="936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08800" y="5218200"/>
            <a:ext cx="514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335480" y="3781440"/>
            <a:ext cx="371520" cy="252000"/>
            <a:chOff x="4335480" y="3781440"/>
            <a:chExt cx="371520" cy="252000"/>
          </a:xfrm>
        </p:grpSpPr>
        <p:sp>
          <p:nvSpPr>
            <p:cNvPr id="234" name=""/>
            <p:cNvSpPr/>
            <p:nvPr/>
          </p:nvSpPr>
          <p:spPr>
            <a:xfrm>
              <a:off x="4707000" y="3781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35480" y="3954960"/>
              <a:ext cx="344160" cy="78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4521240" y="3839400"/>
              <a:ext cx="140400" cy="109440"/>
              <a:chOff x="4521240" y="3839400"/>
              <a:chExt cx="140400" cy="109440"/>
            </a:xfrm>
          </p:grpSpPr>
          <p:sp>
            <p:nvSpPr>
              <p:cNvPr id="237" name=""/>
              <p:cNvSpPr/>
              <p:nvPr/>
            </p:nvSpPr>
            <p:spPr>
              <a:xfrm>
                <a:off x="4544640" y="3839400"/>
                <a:ext cx="93600" cy="10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521240" y="3839400"/>
                <a:ext cx="140400" cy="10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"/>
          <p:cNvSpPr/>
          <p:nvPr/>
        </p:nvSpPr>
        <p:spPr>
          <a:xfrm flipH="1">
            <a:off x="2728800" y="4035600"/>
            <a:ext cx="16653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49680" y="4025880"/>
            <a:ext cx="0" cy="11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08080" y="3976560"/>
            <a:ext cx="1497240" cy="12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05200" y="5048280"/>
            <a:ext cx="6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89720" y="5056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21760" y="492912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55320" y="36590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itch/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74320" y="629136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33160" y="636588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5200" y="635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8400" y="418608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is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92DF-D2F6-4F7A-A335-93D9734674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antages Over Hubs/Repea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ly forwards frames as need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lters frames to avoid unnecessary load on se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frames only to segments that need to see them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tends the geographic span of the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parate collision domains allow longer dista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roves privacy by limiting scope of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s can “snoop” the traffic traversing their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not all the rest of the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es carrier sense and collision det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transmit when the link is bus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es exponential back-off after a colli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oins segments using different technolog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0E93-22AC-41F3-9DD1-AF242BD8FE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 Over Hubs/Repea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ay in forwarding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/switch must receive and parse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erform a look-up to decide where to forwar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ing and forwarding the packet introduces del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to learn where to forward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/switch needs to construct a forwarding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ally, without intervention from network administrat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lution: self-learning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gher cos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re complicated devices that cost more mone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2D36-1F46-4D88-A5E3-43992CBDB1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For Cut-Through Switc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ing a frame takes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se L is the length of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 is the transmission rate of the lin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n, receiving the frame takes L/R time un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ffering delay can be a high fraction of total del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pagation delay is small over short dista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buffering delay a large fraction of tot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y: large group walking through NY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76600" y="58593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64360" y="5607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152800" y="5618160"/>
            <a:ext cx="512640" cy="4478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635200" y="57610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70760" y="5761080"/>
            <a:ext cx="15372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89280" y="58165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02120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929040" y="5925960"/>
            <a:ext cx="5666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93800" y="55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89680" y="55958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61080" y="585936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0532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69800" y="61642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495680" y="5961240"/>
            <a:ext cx="3873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21040" y="5580000"/>
            <a:ext cx="65232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19640" y="5580000"/>
            <a:ext cx="15372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7A08-E079-473D-B0F9-C6262ABC92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t-Through Swit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rt transmitting as soon as possi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pect the frame header and do the look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outgoing link is idle, start forwarding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lapping transmis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 the head of the packet via the outgoing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ile still receiving the tail via the incoming 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y: different folks crossing different inters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76600" y="58593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64360" y="5607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152800" y="5618160"/>
            <a:ext cx="512640" cy="447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651040" y="57610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70760" y="5761080"/>
            <a:ext cx="15372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06560" y="5816520"/>
            <a:ext cx="8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02120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929040" y="5925960"/>
            <a:ext cx="5666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93800" y="5557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89680" y="55958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61080" y="585936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05320" y="58165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69800" y="61642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95680" y="5961240"/>
            <a:ext cx="3873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49720" y="558000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56080" y="558000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65560" y="5580000"/>
            <a:ext cx="34596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FBE6-2C53-451D-B2F0-D7D8EF886A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For Self Lear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forward frames selectivel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 frames only on segments that need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ps destination MAC address to outgoing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al: construct the switch table automatical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5592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32880" y="55324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641760" y="5329080"/>
            <a:ext cx="35568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B375-2A6C-4B69-B5E4-69F5D2C78C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 Learning: Building the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4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a frame arriv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pect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AC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sociate the address with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incoming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e the mapping in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 time-to-live field to eventually forget the mapp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21080" y="492768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27440" y="492768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8200" y="3774960"/>
            <a:ext cx="2266920" cy="703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witch learns how to reach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27400" y="4695840"/>
            <a:ext cx="692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F0EC-A993-414B-AB8E-95816E08A8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f Learning: Handling Mi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1520" y="1277640"/>
            <a:ext cx="84582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frame arrives with unfamiliar destin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 the frame out all of the interfa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cept for the one where the fram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pefully, this case won’t happen very oft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4120" y="3851280"/>
            <a:ext cx="1306440" cy="100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en in doubt, shou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21080" y="492768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27440" y="492768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57480" y="4581360"/>
            <a:ext cx="179640" cy="363600"/>
          </a:xfrm>
          <a:custGeom>
            <a:avLst/>
            <a:gdLst/>
            <a:ahLst/>
            <a:rect l="l" t="t" r="r" b="b"/>
            <a:pathLst>
              <a:path w="113" h="229">
                <a:moveTo>
                  <a:pt x="0" y="218"/>
                </a:moveTo>
                <a:cubicBezTo>
                  <a:pt x="40" y="223"/>
                  <a:pt x="81" y="229"/>
                  <a:pt x="97" y="193"/>
                </a:cubicBezTo>
                <a:cubicBezTo>
                  <a:pt x="113" y="157"/>
                  <a:pt x="105" y="78"/>
                  <a:pt x="97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49680" y="5272200"/>
            <a:ext cx="498600" cy="538200"/>
          </a:xfrm>
          <a:custGeom>
            <a:avLst/>
            <a:gdLst/>
            <a:ahLst/>
            <a:rect l="l" t="t" r="r" b="b"/>
            <a:pathLst>
              <a:path w="314" h="339">
                <a:moveTo>
                  <a:pt x="0" y="0"/>
                </a:moveTo>
                <a:cubicBezTo>
                  <a:pt x="109" y="32"/>
                  <a:pt x="218" y="65"/>
                  <a:pt x="266" y="121"/>
                </a:cubicBezTo>
                <a:cubicBezTo>
                  <a:pt x="314" y="177"/>
                  <a:pt x="302" y="258"/>
                  <a:pt x="290" y="339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57480" y="5003640"/>
            <a:ext cx="12290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9CBB-46BA-4632-9373-5D387E9531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 Filtering/Forwar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42480" y="1150560"/>
            <a:ext cx="820116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en switch receives a frame:</a:t>
            </a:r>
            <a:br>
              <a:rPr sz="2400"/>
            </a:b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dex switch table using MAC dest addres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try found for destination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{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t on segment from which frame arrived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drop the fram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forward the frame on interface indicate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158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floo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89352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74360" y="5618160"/>
            <a:ext cx="4726800" cy="825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forward on all but the inte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on which the frame arr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2838240" y="5807160"/>
            <a:ext cx="52524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6E26-534D-4371-B574-7F603AB5FA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dterm Ex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om 104 in the Computer Science buil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T in the usual Friend classroo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:30pm-2:50pm on Wednesday March 1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ual class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pen book, notes, slides, etc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st no computer, PDA, calculator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d reading from textbook, plus lecture no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actice exams, plus questions in the text boo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36F6-199B-4723-90EB-BB1AF7021B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oding Can Lead to Loo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sometimes need to broadcast fram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frame with an unfamiliar destin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frame sent to the broadcast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roadcasting is implemented by flood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ting frame out every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cept the one where the frame arri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ooding can lead to forwarding loo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f the network contains a cycle of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ither accidentally, or by design for higher relia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75120" y="61437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255560" y="5580000"/>
            <a:ext cx="8280" cy="42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218120" y="6232680"/>
            <a:ext cx="7920" cy="34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59200" y="5580000"/>
            <a:ext cx="4147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15000" y="61437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5996160" y="5580000"/>
            <a:ext cx="7920" cy="42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5958000" y="6232680"/>
            <a:ext cx="7920" cy="34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7360" y="6578640"/>
            <a:ext cx="4147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27440" y="5734080"/>
            <a:ext cx="0" cy="690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570640" y="5734080"/>
            <a:ext cx="0" cy="690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B5CE-0CF8-4594-AF00-E996A34D21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Spanning Tre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sure the topology has no loo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oid using some of the links when floo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avoid forming a loo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anning tre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b-graph that covers all vertices but contains no cyc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s not in the spanning tree do not forward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60560" y="39290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154160" y="47736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66960" y="47736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84240" y="53499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82880" y="60022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6000" y="5772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52760" y="619452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499760" y="427356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4680" y="423540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00120" y="507996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28760" y="565632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97360" y="515772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90600" y="431172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1230480" y="565596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884240" y="5694120"/>
            <a:ext cx="19080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1190520" y="6078240"/>
            <a:ext cx="50184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81520" y="4773600"/>
            <a:ext cx="1266840" cy="498600"/>
          </a:xfrm>
          <a:prstGeom prst="rightArrow">
            <a:avLst>
              <a:gd name="adj1" fmla="val 50000"/>
              <a:gd name="adj2" fmla="val 6352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00760" y="3967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94360" y="481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07160" y="481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24800" y="53881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23080" y="60404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86560" y="581040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92960" y="623268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339960" y="431172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184880" y="4273560"/>
            <a:ext cx="498600" cy="652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40320" y="511812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68960" y="569448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37560" y="519588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31160" y="434988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070680" y="569412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724800" y="573228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6030720" y="611640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EF6A-4A54-42EA-8488-61A37968B1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ucting a Spanning Tr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 a distributed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es cooperate to build the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adapt automatically when failures occ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ey ingredients of the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es need to elect a “roo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witch with the smallest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switch identifies if its interface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on the shortest path from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 exclude from the tree if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ssages (Y, d, X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nod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ing Y is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distance is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83440" y="3697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77040" y="454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989840" y="4541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07120" y="51181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105760" y="5770440"/>
            <a:ext cx="422280" cy="3841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68880" y="554040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75640" y="5962680"/>
            <a:ext cx="42192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6722640" y="404172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567560" y="400356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723000" y="4848120"/>
            <a:ext cx="422280" cy="346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51640" y="542448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220240" y="492588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13480" y="407988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453360" y="542412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107120" y="546228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6413400" y="5846760"/>
            <a:ext cx="501840" cy="27000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93720" y="3274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64320" y="4772160"/>
            <a:ext cx="1881000" cy="538200"/>
          </a:xfrm>
          <a:custGeom>
            <a:avLst/>
            <a:gdLst/>
            <a:ahLst/>
            <a:rect l="l" t="t" r="r" b="b"/>
            <a:pathLst>
              <a:path w="1185" h="339">
                <a:moveTo>
                  <a:pt x="0" y="339"/>
                </a:moveTo>
                <a:cubicBezTo>
                  <a:pt x="0" y="339"/>
                  <a:pt x="592" y="169"/>
                  <a:pt x="1185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58600" y="511812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ne 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721640" y="5694480"/>
            <a:ext cx="39600" cy="653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74640" y="63356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h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9BDC-42B3-4816-B096-D6C51CFAE9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s in Spanning Tree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itially, each switch thinks it is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sends a message out every interf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ing itself as the root with distance 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ample: switch X announces (X, 0, X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update their view of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on receiving a message, check the root i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the new id is smaller, start viewing that switch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es compute their distance from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 1 to the distance received from a neighb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interfaces not on a shortest path to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exclude them from the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7D5C-1D39-49B3-BD5C-786FA27D94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From Switch #4’s View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573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thinks it is the ro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(4, 0, 4) message to 2 and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n, switch #4 hears from #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s (2, 0, 2) message from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inks that #2 is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it is just one hop aw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n, switch #4 hears from #7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s (2, 1, 7) from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this is a longer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prefers its own one-hop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moves 4-7 link from the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259760" y="2390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533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61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83440" y="38116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182080" y="4464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5200" y="423396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51600" y="4656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799320" y="273528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43880" y="2697120"/>
            <a:ext cx="49824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99320" y="354168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527960" y="411804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96200" y="361944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489800" y="277344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529320" y="411768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7183440" y="415584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489360" y="453996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23040" y="3811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9260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86240" y="4222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10576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221680" y="4452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11720" y="464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0A45-D576-4C0B-9BBE-363859725A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From Switch #4’s View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573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2 hears about switch #1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2 hears (1, 1, 3) from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2 starts treating 1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s (1, 2, 2) to neighb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hears from switch #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4 starts treating 1 as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nds (1, 3, 4) to neighb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#4 hears from switch #7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4 receives (1, 3, 7) from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alizes this is a longer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prefers its own three-hop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removes 4-7 Iink from the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259760" y="2390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533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66160" y="3235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183440" y="38116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82080" y="4464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45200" y="423396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51600" y="46562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799320" y="273528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43880" y="2697120"/>
            <a:ext cx="49824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99320" y="354168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27960" y="411804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96200" y="361944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489800" y="277344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29320" y="411768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7183440" y="415584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6489360" y="453996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23040" y="3811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49260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186240" y="4222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105760" y="3224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1680" y="4452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11720" y="4645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459B-C6D8-4C44-84A3-E4AF9C3B68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ust Spanning Tree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gorithm must react to failu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ure of the root no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lect a new root, with the next lowest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ure of other switches and lin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compute the spanning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oot switch continues sending messa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iodically reannouncing itself as the root (1, 0, 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 switches continue forwarding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tecting failures through timeout (soft state!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waits to hear from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 times out and claims to be the ro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53760" y="6194520"/>
            <a:ext cx="80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ee Section 3.2.2 in the textbook for details and another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641B-DB08-4732-B992-007CCCAB53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olution Toward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the olden days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ck cables snaked through cable ducts in building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computer they passed was plugged 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people in adjacent offices were put on the same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dependent of whether they belonged together or n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re recently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ubs and switches changed all th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office connected to central wiring clos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ften multiple LANs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ubs) connected by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exibility in mapping offices to different L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268280" y="5810400"/>
            <a:ext cx="6413760" cy="703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roup users based on organizational structure, rather than the physical layout of the bui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6F5A-B880-4F6D-ABD5-77342689A3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Group by Organizational Structu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thernet is a shared med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y interface card can be put into “promiscuous” mo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get a copy of all of the traffic (e.g., midterm exam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isolating traffic on separate LANs improves secur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LAN segments are more heavily used than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researchers running experiments get out of h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saturate their own segment and not the oth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s, there may be natural locality of commun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raffic between people in the same research gro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E408-260C-4F24-AD01-318A3035D0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ople Move, and Roles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rganizational changes are frequ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faculty office becomes a grad-student off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graduate student becomes a faculty memb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hysical rewiring is a major p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quires unplugging the cable from one po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plugging it into ano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hoping the cable is long enough to rea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hoping you don’t make a mistak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ould like to “rewire” the building in softwa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resulting concept is a Virtual LAN (VLA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7C63-C98F-4DF0-B191-A8E98AAE43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Today’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vices that shuttling packets at different lay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eaters and hub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dges and 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 protocols and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dicated access and full-duplex transf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f learning of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anning tr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irtual LANs (VLAN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894E-9B3A-4D56-BA1C-2FEF768850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Two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43280" y="385128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69040" y="385128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67000" y="3813120"/>
            <a:ext cx="2149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12920" y="3006720"/>
            <a:ext cx="0" cy="69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46600" y="3006720"/>
            <a:ext cx="0" cy="69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38840" y="3813120"/>
            <a:ext cx="53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44680" y="3813120"/>
            <a:ext cx="53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30480" y="3006720"/>
            <a:ext cx="2727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94280" y="3006720"/>
            <a:ext cx="2727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44680" y="3467160"/>
            <a:ext cx="0" cy="1882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377040" y="3467160"/>
            <a:ext cx="0" cy="1920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22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24160" y="34671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24160" y="40035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24160" y="45417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24160" y="50799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6516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84240" y="36212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84240" y="415908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84240" y="46958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84240" y="52340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38920" y="34671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38920" y="40035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38920" y="45417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38920" y="50799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8028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7704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96120" y="36212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96120" y="415908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96120" y="46958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96120" y="5234040"/>
            <a:ext cx="460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36880" y="2200320"/>
            <a:ext cx="46008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5104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6556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25640" y="450360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1460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6692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288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9740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48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6252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7704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9120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4024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9292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0888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23040" y="2546280"/>
            <a:ext cx="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49760" y="5772240"/>
            <a:ext cx="502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d VL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ange V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s forward traffic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00200" y="3454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74400" y="312120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11280" y="312120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17680" y="3429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96720" y="346716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6072-EAC7-4421-AE55-B2255CFE1E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Two Virtual 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43280" y="385128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69040" y="385128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67000" y="3813120"/>
            <a:ext cx="2149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22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24160" y="34671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24160" y="40035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24160" y="454176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424160" y="507996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6516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84240" y="3621240"/>
            <a:ext cx="1113120" cy="115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884240" y="3850920"/>
            <a:ext cx="959040" cy="307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1884240" y="3889440"/>
            <a:ext cx="1036800" cy="8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884240" y="3889080"/>
            <a:ext cx="1228680" cy="1344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38920" y="34671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38920" y="40035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38920" y="454176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38920" y="507996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8028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77040" y="36212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00680" y="3620880"/>
            <a:ext cx="1055880" cy="153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800680" y="3851280"/>
            <a:ext cx="1055880" cy="307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724360" y="3889440"/>
            <a:ext cx="1132200" cy="8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08800" y="3929040"/>
            <a:ext cx="1247760" cy="1305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36880" y="2200320"/>
            <a:ext cx="46008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65104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6556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25640" y="450360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13880" y="2546280"/>
            <a:ext cx="138276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66920" y="2546280"/>
            <a:ext cx="84600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82160" y="2546280"/>
            <a:ext cx="30636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265560" y="2546280"/>
            <a:ext cx="23184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4836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62520" y="220032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7704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91200" y="220032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40240" y="2546280"/>
            <a:ext cx="192240" cy="119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608440" y="2546280"/>
            <a:ext cx="38412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724000" y="2546280"/>
            <a:ext cx="88452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5838480" y="2546280"/>
            <a:ext cx="138420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56880" y="5772240"/>
            <a:ext cx="52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d VL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ange V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forward traffic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62000" y="499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453360" y="3272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96720" y="3467160"/>
            <a:ext cx="5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23840" y="4503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23840" y="4043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23840" y="3583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9848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2212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83920" y="2546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4784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3560" y="25066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572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8652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24400" y="250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453360" y="37206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453360" y="4182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453360" y="46173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BF9E-9030-4649-82F7-22542A0E36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ing VLANs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ridges/switches need configuration tab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aying which VLANs are accessible via which interfa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roaches to mapping to VLA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interface has a VLAN col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orks if all hosts on same segment belong to sam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MAC address has a VLAN col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when hosts on same segment belong to different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when hosts move from one physical location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nging the Ethernet head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ng a field for a VLAN ta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lemented on the bridges/switch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can still interoperate with old Ethernet c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0ABE-9B26-408E-9A77-768FB1D19C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ing From Switches to Ro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vantages of switches over ro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ug-and-pl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st filtering and forwarding of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pronunciation ambiguity (e.g., “rooter” vs. “rowter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advantages of switches over ro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pology is restricted to a spanning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rge networks require large ARP tab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oadcast storms can cause the network to collap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CE32-B864-429C-9357-C27F425023E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Hubs, Switches, &amp; Rou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66840" y="1797120"/>
          <a:ext cx="9181800" cy="47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797120"/>
                    <a:ext cx="918180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317520" y="3529080"/>
            <a:ext cx="854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1280" y="4346640"/>
            <a:ext cx="859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5800" y="5433840"/>
            <a:ext cx="843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349F-B665-4BA9-894D-A7B909CAA94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uttling data from one link to anoth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ts, frames, packets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eaters/hubs, bridges/switches, routers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ey ideas in switch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t-through switch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f learning of the switch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anning tr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irtual LANs (VLAN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xt time: midterm exa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fter the brea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cation-level protoco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8AD2-E97F-459C-A614-F7A696A596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07160" y="4427640"/>
            <a:ext cx="1074960" cy="730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70720" y="4427640"/>
            <a:ext cx="1074600" cy="730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32480" y="4427640"/>
            <a:ext cx="1074600" cy="730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4427640"/>
            <a:ext cx="1074960" cy="730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uttling Data at Different Lay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t devices switch different thing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ysical layer: electrical signals (repeaters and hub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 layer: frames (bridges and switch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work layer: packets (router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5960" y="3389400"/>
            <a:ext cx="2881080" cy="614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5960" y="4003560"/>
            <a:ext cx="2881080" cy="61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85960" y="4619520"/>
            <a:ext cx="2881080" cy="614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85960" y="5234040"/>
            <a:ext cx="2881080" cy="614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5960" y="5848200"/>
            <a:ext cx="2881080" cy="6145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01520" y="346716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1880" y="410688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00720" y="46832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17240" y="5297400"/>
            <a:ext cx="19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,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5964120"/>
            <a:ext cx="18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eater, 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1728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5372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90520" y="4471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81040" y="4471920"/>
            <a:ext cx="7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4427640"/>
            <a:ext cx="4186440" cy="730080"/>
          </a:xfrm>
          <a:prstGeom prst="rect">
            <a:avLst/>
          </a:prstGeom>
          <a:noFill/>
          <a:ln w="507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93A4-3E50-4A83-8597-D24745E025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cal Layer: Repea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tance limitation in local-area networ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lectrical signal becomes weaker as it trave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oses a limit on the length of a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peaters join LANs togeth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og electronic dev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inuously monitors electrical signals on each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mits an amplified cop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01480" y="4503600"/>
          <a:ext cx="8334720" cy="23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4503600"/>
                    <a:ext cx="8334720" cy="23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F4E5-0F93-45E3-9BBC-A9A66E2463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cal Layer: Hub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oins multiple input lines electricall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ed to hold multiple line c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 not necessarily amplify the sig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ery similar to repea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so operates at the physical lay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67360" y="5514840"/>
            <a:ext cx="361800" cy="74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57360" y="5865840"/>
            <a:ext cx="520560" cy="376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588024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572080" y="5829480"/>
            <a:ext cx="520920" cy="37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309760" y="5892840"/>
            <a:ext cx="522360" cy="376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269040" y="5524560"/>
            <a:ext cx="3603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20760" y="5511960"/>
            <a:ext cx="3621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382920" y="571032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3882960" y="624060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237440" y="567540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6377040" y="608652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1055520" y="5334120"/>
            <a:ext cx="522360" cy="376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H="1">
            <a:off x="1483920" y="5516640"/>
            <a:ext cx="69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925640" y="5568840"/>
            <a:ext cx="34128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05160" y="5600880"/>
            <a:ext cx="90360" cy="32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827160" y="5559480"/>
            <a:ext cx="43164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84280" y="5580000"/>
            <a:ext cx="1587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32400" y="551664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990760" y="5600880"/>
            <a:ext cx="53676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564240" y="5568840"/>
            <a:ext cx="1440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7160" y="5483160"/>
            <a:ext cx="6415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93640" y="4173480"/>
            <a:ext cx="2082600" cy="11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1920" y="4162320"/>
            <a:ext cx="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651200" y="4108320"/>
            <a:ext cx="187344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5600" y="5294160"/>
            <a:ext cx="5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34280" y="530388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23360" y="5164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3832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70320" y="4125960"/>
            <a:ext cx="3621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4567-C9DB-48E5-992F-ED19FE1056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Repeaters and Hub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e large collision dom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bit is sent everywhe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aggregate throughput is limi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hree departments each get 10 Mbps independent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n connect via a hub and must share 10 Mb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nnot support multiple LAN technolog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buffer or interpret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can’t interconnect between different rates or forma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10 Mbps Ethernet and 100 Mbps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mitations on maximum nodes and distan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es not circumvent the limitations of shared med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still cannot go beyond 2500 meters on Eth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E67A-A2FC-4A26-987A-B0D267DD66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Layer: Brid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nects two or more LANs at the link lay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tracts destination address from the fr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oks up the destination in a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s the frame to the appropriate LAN se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segment is its own collision domai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488160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490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478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634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622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77840" y="4367160"/>
            <a:ext cx="610560" cy="2844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766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922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910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06640" y="436716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05440" y="4659480"/>
            <a:ext cx="0" cy="21564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594828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49040" y="6178680"/>
            <a:ext cx="610560" cy="28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478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634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622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77840" y="6178680"/>
            <a:ext cx="610560" cy="284400"/>
          </a:xfrm>
          <a:prstGeom prst="rect">
            <a:avLst/>
          </a:prstGeom>
          <a:solidFill>
            <a:srgbClr val="f4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766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922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910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06640" y="61786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05440" y="59547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2720" y="436572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1520" y="465768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2720" y="6176880"/>
            <a:ext cx="610560" cy="28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5952960"/>
            <a:ext cx="0" cy="216000"/>
          </a:xfrm>
          <a:prstGeom prst="line">
            <a:avLst/>
          </a:prstGeom>
          <a:ln w="1260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828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4881600"/>
            <a:ext cx="243828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4881600"/>
            <a:ext cx="0" cy="106668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4881600"/>
            <a:ext cx="0" cy="106668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5110200"/>
            <a:ext cx="9144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FF5F-3556-4E97-B2D3-E8F217283F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Layer: Swit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ypically connects individual compu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switch is essentially the same as a bri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ough typically used to connect hosts, not L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ke bridges, support concurrent commun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 A can talk to C, while B talks to 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68640" y="394668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550960" y="4986360"/>
            <a:ext cx="513000" cy="447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32880" y="553248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641760" y="5329080"/>
            <a:ext cx="35568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92320" y="492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89280" y="3889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0EF4-2811-486B-9720-784083F5DD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4:58:21Z</dcterms:created>
  <dc:creator>Kai Li</dc:creator>
  <dc:description/>
  <dc:language>en-US</dc:language>
  <cp:lastModifiedBy>Rexford</cp:lastModifiedBy>
  <dcterms:modified xsi:type="dcterms:W3CDTF">2006-03-13T18:18:35Z</dcterms:modified>
  <cp:revision>2147</cp:revision>
  <dc:subject/>
  <dc:title>Communication</dc:title>
</cp:coreProperties>
</file>