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142C1-E9D8-4201-8C7B-FEF7364B8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605CC-52A5-462A-801C-14FBB4D7C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976F5-5584-478F-B9C3-97BCD8605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028A3-28CA-4986-B860-DA131F44A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51B0C-E1BE-49FE-BA89-247CBFC36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36178-E134-4D17-BB6D-F0FD16AF4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4C19E-A5FC-4214-81D3-542FFEC11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14EF1-0E6F-4323-9A3C-566E59A4B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E0F8D-C1BB-40C3-B009-BD7F29C72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6D2D4-7D43-4C4A-A95F-88FD2C85F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D4533-2290-4908-98BE-2E3B60AA5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CAD40-997E-46FA-9AA4-305C0E30D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8CE0D-8C75-4CDB-BDB2-079DE3ED2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BC374-48D8-422B-9A24-7F2C22CAC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5BC11-C5A2-4771-82CE-12EF10B14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A197E-C84A-42A4-8253-3E1F9079A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388D7-2F66-47B8-A0F0-980FED5CB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8857F-3E5F-4694-AEF7-E814F6D9A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9D3AB-841A-409F-90AF-AD1D13F68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D3C13-0855-46C6-9B0B-F411A6D56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3C93B-B031-467F-9189-A63B831D3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3E1B7-20A5-46FC-BE56-609BEF4C6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1D9EE-363C-4F91-8D05-1D7385AAC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015E7-BB4B-4B6D-A20E-FB085D259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9B243-B649-4D81-8C03-3EBD362C41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20A5B-6D23-4734-BA2B-B846001038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7324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esh fixup II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dro Saman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Drawback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ssing polyg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y generate spurious 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nected p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idity determination becomes un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onclus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roaches are usually straightforw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some user intervention in many pf the processes (usually for error boun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ssing polygons still a myst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Future work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xt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Fuzzy ?) Object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racteristic database and det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dural corr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Using toleranc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 vertices and edges “toleranc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ps in the algorith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ex merg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ge merg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ge brea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ike gene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 intervention requi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lerance must be chosen carefu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to maintain features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cktracking is expens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Drawback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5715000" y="1066680"/>
            <a:ext cx="2590920" cy="1371600"/>
            <a:chOff x="5715000" y="1066680"/>
            <a:chExt cx="2590920" cy="1371600"/>
          </a:xfrm>
        </p:grpSpPr>
        <p:sp>
          <p:nvSpPr>
            <p:cNvPr id="135" name=""/>
            <p:cNvSpPr/>
            <p:nvPr/>
          </p:nvSpPr>
          <p:spPr>
            <a:xfrm>
              <a:off x="5715000" y="1066680"/>
              <a:ext cx="2590920" cy="1371600"/>
            </a:xfrm>
            <a:prstGeom prst="rect">
              <a:avLst/>
            </a:prstGeom>
            <a:solidFill>
              <a:srgbClr val="0099cc"/>
            </a:solidFill>
            <a:ln cap="sq" w="1260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5490a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724160" y="1171800"/>
              <a:ext cx="370080" cy="369360"/>
            </a:xfrm>
            <a:prstGeom prst="ellipse">
              <a:avLst/>
            </a:prstGeom>
            <a:solidFill>
              <a:srgbClr val="0099cc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926320" y="1752480"/>
              <a:ext cx="68688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719400" y="1330200"/>
              <a:ext cx="0" cy="9496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354080" y="1699560"/>
              <a:ext cx="5814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935480" y="1330200"/>
              <a:ext cx="0" cy="9496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Radiosity requirement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 interpo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ll shap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fficient radiator den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fficient receiver node den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secting faces should be represented explicit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rocessing stag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u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es geome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s T vert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ximizes coplanar fa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3124080" y="4343400"/>
            <a:ext cx="1752480" cy="1981080"/>
            <a:chOff x="3124080" y="4343400"/>
            <a:chExt cx="1752480" cy="1981080"/>
          </a:xfrm>
        </p:grpSpPr>
        <p:sp>
          <p:nvSpPr>
            <p:cNvPr id="146" name=""/>
            <p:cNvSpPr/>
            <p:nvPr/>
          </p:nvSpPr>
          <p:spPr>
            <a:xfrm>
              <a:off x="3124080" y="4343400"/>
              <a:ext cx="1752480" cy="1981080"/>
            </a:xfrm>
            <a:prstGeom prst="rect">
              <a:avLst/>
            </a:prstGeom>
            <a:noFill/>
            <a:ln cap="sq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504960" y="4572000"/>
              <a:ext cx="0" cy="15238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733560" y="4572000"/>
              <a:ext cx="0" cy="15238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267080" y="4572000"/>
              <a:ext cx="0" cy="15238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495680" y="4572000"/>
              <a:ext cx="0" cy="15238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733560" y="4572000"/>
              <a:ext cx="53352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809880" y="5029200"/>
              <a:ext cx="38088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809880" y="5638680"/>
              <a:ext cx="38088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733560" y="6095880"/>
              <a:ext cx="53352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504960" y="4572000"/>
              <a:ext cx="2286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504960" y="6095880"/>
              <a:ext cx="2286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267080" y="6095880"/>
              <a:ext cx="2286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267080" y="4572000"/>
              <a:ext cx="2286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 flipV="1">
              <a:off x="3733560" y="4572000"/>
              <a:ext cx="76320" cy="4572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V="1">
              <a:off x="4190760" y="4572000"/>
              <a:ext cx="76320" cy="4572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H="1" flipV="1">
              <a:off x="4190760" y="5638680"/>
              <a:ext cx="76320" cy="4572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3733560" y="5638680"/>
              <a:ext cx="76320" cy="4572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7086600" y="4343400"/>
            <a:ext cx="1752480" cy="1981080"/>
            <a:chOff x="7086600" y="4343400"/>
            <a:chExt cx="1752480" cy="1981080"/>
          </a:xfrm>
        </p:grpSpPr>
        <p:sp>
          <p:nvSpPr>
            <p:cNvPr id="164" name=""/>
            <p:cNvSpPr/>
            <p:nvPr/>
          </p:nvSpPr>
          <p:spPr>
            <a:xfrm>
              <a:off x="7086600" y="4343400"/>
              <a:ext cx="1752480" cy="1981080"/>
            </a:xfrm>
            <a:prstGeom prst="rect">
              <a:avLst/>
            </a:prstGeom>
            <a:noFill/>
            <a:ln cap="sq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467480" y="4572000"/>
              <a:ext cx="0" cy="15238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696080" y="5029200"/>
              <a:ext cx="0" cy="6094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9600" y="5029200"/>
              <a:ext cx="0" cy="6094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458200" y="4572000"/>
              <a:ext cx="0" cy="15238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467480" y="4572000"/>
              <a:ext cx="99072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696080" y="5029200"/>
              <a:ext cx="53352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696080" y="5638680"/>
              <a:ext cx="53352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467480" y="6095880"/>
              <a:ext cx="99072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5105520" y="4343400"/>
            <a:ext cx="1752480" cy="1981080"/>
            <a:chOff x="5105520" y="4343400"/>
            <a:chExt cx="1752480" cy="1981080"/>
          </a:xfrm>
        </p:grpSpPr>
        <p:sp>
          <p:nvSpPr>
            <p:cNvPr id="174" name=""/>
            <p:cNvSpPr/>
            <p:nvPr/>
          </p:nvSpPr>
          <p:spPr>
            <a:xfrm>
              <a:off x="5105520" y="4343400"/>
              <a:ext cx="1752480" cy="1981080"/>
            </a:xfrm>
            <a:prstGeom prst="rect">
              <a:avLst/>
            </a:prstGeom>
            <a:noFill/>
            <a:ln cap="sq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486400" y="4572000"/>
              <a:ext cx="0" cy="15238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715000" y="4572000"/>
              <a:ext cx="0" cy="15238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248520" y="4572000"/>
              <a:ext cx="0" cy="15238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477120" y="4572000"/>
              <a:ext cx="0" cy="15238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715000" y="4572000"/>
              <a:ext cx="53352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715000" y="5029200"/>
              <a:ext cx="53352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715000" y="5638680"/>
              <a:ext cx="53352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715000" y="6095880"/>
              <a:ext cx="53352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486400" y="4572000"/>
              <a:ext cx="2286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486400" y="6095880"/>
              <a:ext cx="2286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248520" y="6095880"/>
              <a:ext cx="2286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248520" y="4572000"/>
              <a:ext cx="2286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7" name=""/>
          <p:cNvGrpSpPr/>
          <p:nvPr/>
        </p:nvGrpSpPr>
        <p:grpSpPr>
          <a:xfrm>
            <a:off x="1143000" y="4343400"/>
            <a:ext cx="1752480" cy="1981080"/>
            <a:chOff x="1143000" y="4343400"/>
            <a:chExt cx="1752480" cy="1981080"/>
          </a:xfrm>
        </p:grpSpPr>
        <p:sp>
          <p:nvSpPr>
            <p:cNvPr id="188" name=""/>
            <p:cNvSpPr/>
            <p:nvPr/>
          </p:nvSpPr>
          <p:spPr>
            <a:xfrm>
              <a:off x="1143000" y="4343400"/>
              <a:ext cx="1752480" cy="1981080"/>
            </a:xfrm>
            <a:prstGeom prst="rect">
              <a:avLst/>
            </a:prstGeom>
            <a:noFill/>
            <a:ln cap="sq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523880" y="4572000"/>
              <a:ext cx="0" cy="15238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752480" y="4572000"/>
              <a:ext cx="0" cy="15238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285640" y="4572000"/>
              <a:ext cx="0" cy="15238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514240" y="4572000"/>
              <a:ext cx="0" cy="15238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828440" y="4572000"/>
              <a:ext cx="38088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828440" y="5029200"/>
              <a:ext cx="38088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828440" y="5638680"/>
              <a:ext cx="38088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828440" y="6095880"/>
              <a:ext cx="38088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523880" y="4572000"/>
              <a:ext cx="22824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523880" y="6095880"/>
              <a:ext cx="22824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285640" y="6095880"/>
              <a:ext cx="22824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285640" y="4572000"/>
              <a:ext cx="22824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V="1">
              <a:off x="1828440" y="4572000"/>
              <a:ext cx="0" cy="4572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V="1">
              <a:off x="2209680" y="4572000"/>
              <a:ext cx="0" cy="4572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2209680" y="5638680"/>
              <a:ext cx="0" cy="4572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1828440" y="5638680"/>
              <a:ext cx="0" cy="4572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Stages continued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s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s face intersections by breaking pla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plan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s overlapping coplanar fa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me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formly subdivides fac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ly squares and then traiang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e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roblem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gain a error tolerance is requi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thors say this is automatically computed (“scene relative tolerance”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Spatial subdivis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vide space by polygon pla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e solidity val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consistent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Example fixup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2209680" y="1676520"/>
            <a:ext cx="838440" cy="137160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438280" y="3048120"/>
            <a:ext cx="129564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200400" y="1676520"/>
            <a:ext cx="533520" cy="114300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5181480" y="1371600"/>
            <a:ext cx="1067040" cy="182880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791320" y="1447920"/>
            <a:ext cx="1218960" cy="167616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5105520" y="2971800"/>
            <a:ext cx="1981080" cy="7632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2057400" y="3581280"/>
            <a:ext cx="1371600" cy="18288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676520" y="5257800"/>
            <a:ext cx="27432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971800" y="3581280"/>
            <a:ext cx="1371600" cy="20574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5105520" y="4952880"/>
            <a:ext cx="2286000" cy="4572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5334120" y="3581280"/>
            <a:ext cx="914400" cy="19814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715000" y="3429000"/>
            <a:ext cx="1752480" cy="243828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02T00:33:15Z</dcterms:created>
  <dc:creator>Rudro Samanta</dc:creator>
  <dc:description/>
  <dc:language>en-US</dc:language>
  <cp:lastModifiedBy>Rudro Samanta</cp:lastModifiedBy>
  <cp:lastPrinted>1998-03-05T18:24:24Z</cp:lastPrinted>
  <dcterms:modified xsi:type="dcterms:W3CDTF">1998-03-05T19:44:32Z</dcterms:modified>
  <cp:revision>9</cp:revision>
  <dc:subject/>
  <dc:title>Mesh fixup (cont.)</dc:title>
</cp:coreProperties>
</file>