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BF1E-4BB7-4F21-8B49-B8408471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3A58-28C5-4CDC-B0B7-E303CCEE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BAF8-B406-476C-89A6-8955DD3E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9454-40D7-406F-8A36-3F81375E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3899-AC44-4563-9CE0-53193CDB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8C48-6C5A-4FCD-B4C1-D89B4C29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AAC1-C042-4704-9CA9-118181D9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0E4F-8E6C-4C49-B5F8-0E8E38F6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CDA7-8FEB-4663-80C2-63AED27F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9817-8719-4494-AFCB-44F03697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BEF7-C2D6-433D-BF60-27707A4A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6561-35D4-4FED-816D-2D1403EE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78A3-0783-40B9-ABE9-859DE212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89C8-54E0-4A84-B486-A02F244F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CC57-46DF-4904-BD75-6695213F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7925-9660-4A32-A4D9-6BC761DF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3809-7BF4-4FF3-88CB-F28F559B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73EF-B9D9-4BDE-AAEB-CAA0FDBA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3A73-A980-4EB4-A5F2-AB059006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6594-0CFC-42BA-BDDA-6C5F5B99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F7EB-EDEF-4D1D-813D-3CD837C7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681B-42D5-4FDB-AAAC-84053005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871-34FC-4508-9D7D-260B6F7F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9DFE-CD0A-4CCF-871D-2499D4E2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2EBB-120C-42CF-92C2-4E4761CD2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C31D-8317-49C4-9B9C-7914F5AAD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sh fixup I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dro Sam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rawback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ng polyg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generate spurious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ed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ity determination becomes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es are usually straight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some user intervention in many pf the processes (usually for error bou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ng polygons still a mys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uture 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uzzy ?) Object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 database and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al cor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ing tolera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vertices and edges “toleran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in th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ex mer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ge mer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ge bre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ke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nterven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erance must be chosen car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maintain featur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tracking is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rawback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715000" y="1066680"/>
            <a:ext cx="2590920" cy="1371600"/>
            <a:chOff x="5715000" y="1066680"/>
            <a:chExt cx="2590920" cy="1371600"/>
          </a:xfrm>
        </p:grpSpPr>
        <p:sp>
          <p:nvSpPr>
            <p:cNvPr id="135" name=""/>
            <p:cNvSpPr/>
            <p:nvPr/>
          </p:nvSpPr>
          <p:spPr>
            <a:xfrm>
              <a:off x="5715000" y="1066680"/>
              <a:ext cx="2590920" cy="1371600"/>
            </a:xfrm>
            <a:prstGeom prst="rect">
              <a:avLst/>
            </a:prstGeom>
            <a:solidFill>
              <a:srgbClr val="0099cc"/>
            </a:solidFill>
            <a:ln cap="sq"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24160" y="1171800"/>
              <a:ext cx="370080" cy="369360"/>
            </a:xfrm>
            <a:prstGeom prst="ellipse">
              <a:avLst/>
            </a:prstGeom>
            <a:solidFill>
              <a:srgbClr val="00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26320" y="1752480"/>
              <a:ext cx="686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19400" y="1330200"/>
              <a:ext cx="0" cy="949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54080" y="1699560"/>
              <a:ext cx="581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35480" y="1330200"/>
              <a:ext cx="0" cy="949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adiosity require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interp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 sh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cient radiator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cient receiver node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secting faces should be represented explici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cessing stag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s ge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 ver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s coplanar 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124080" y="4343400"/>
            <a:ext cx="1752480" cy="1981080"/>
            <a:chOff x="3124080" y="4343400"/>
            <a:chExt cx="1752480" cy="1981080"/>
          </a:xfrm>
        </p:grpSpPr>
        <p:sp>
          <p:nvSpPr>
            <p:cNvPr id="146" name=""/>
            <p:cNvSpPr/>
            <p:nvPr/>
          </p:nvSpPr>
          <p:spPr>
            <a:xfrm>
              <a:off x="3124080" y="4343400"/>
              <a:ext cx="1752480" cy="198108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0496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3356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6708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9568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3560" y="457200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09880" y="502920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09880" y="563868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33560" y="609588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04960" y="457200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04960" y="609588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67080" y="609588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67080" y="457200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3733560" y="4572000"/>
              <a:ext cx="7632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190760" y="4572000"/>
              <a:ext cx="7632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4190760" y="5638680"/>
              <a:ext cx="7632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733560" y="5638680"/>
              <a:ext cx="7632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7086600" y="4343400"/>
            <a:ext cx="1752480" cy="1981080"/>
            <a:chOff x="7086600" y="4343400"/>
            <a:chExt cx="1752480" cy="1981080"/>
          </a:xfrm>
        </p:grpSpPr>
        <p:sp>
          <p:nvSpPr>
            <p:cNvPr id="164" name=""/>
            <p:cNvSpPr/>
            <p:nvPr/>
          </p:nvSpPr>
          <p:spPr>
            <a:xfrm>
              <a:off x="7086600" y="4343400"/>
              <a:ext cx="1752480" cy="198108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6748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96080" y="5029200"/>
              <a:ext cx="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9600" y="5029200"/>
              <a:ext cx="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5820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67480" y="4572000"/>
              <a:ext cx="990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96080" y="502920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96080" y="563868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67480" y="6095880"/>
              <a:ext cx="990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105520" y="4343400"/>
            <a:ext cx="1752480" cy="1981080"/>
            <a:chOff x="5105520" y="4343400"/>
            <a:chExt cx="1752480" cy="1981080"/>
          </a:xfrm>
        </p:grpSpPr>
        <p:sp>
          <p:nvSpPr>
            <p:cNvPr id="174" name=""/>
            <p:cNvSpPr/>
            <p:nvPr/>
          </p:nvSpPr>
          <p:spPr>
            <a:xfrm>
              <a:off x="5105520" y="4343400"/>
              <a:ext cx="1752480" cy="198108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8640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1500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4852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7712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15000" y="457200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15000" y="502920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5000" y="563868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15000" y="609588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6400" y="457200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86400" y="609588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48520" y="609588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48520" y="457200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143000" y="4343400"/>
            <a:ext cx="1752480" cy="1981080"/>
            <a:chOff x="1143000" y="4343400"/>
            <a:chExt cx="1752480" cy="1981080"/>
          </a:xfrm>
        </p:grpSpPr>
        <p:sp>
          <p:nvSpPr>
            <p:cNvPr id="188" name=""/>
            <p:cNvSpPr/>
            <p:nvPr/>
          </p:nvSpPr>
          <p:spPr>
            <a:xfrm>
              <a:off x="1143000" y="4343400"/>
              <a:ext cx="1752480" cy="198108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2388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5248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1424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28440" y="457200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440" y="502920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28440" y="563868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28440" y="609588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23880" y="4572000"/>
              <a:ext cx="22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23880" y="6095880"/>
              <a:ext cx="22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85640" y="6095880"/>
              <a:ext cx="22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85640" y="4572000"/>
              <a:ext cx="22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1828440" y="4572000"/>
              <a:ext cx="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209680" y="4572000"/>
              <a:ext cx="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2209680" y="5638680"/>
              <a:ext cx="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828440" y="5638680"/>
              <a:ext cx="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ages continue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s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face intersections by breaking 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la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overlapping coplanar 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ormly subdivides fa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 squares and then traian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 a error toleranc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s say this is automatically computed (“scene relative tolerance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atial subdivis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space by polygon pl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solidity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consist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 fixu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209680" y="1676520"/>
            <a:ext cx="838440" cy="1371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38280" y="3048120"/>
            <a:ext cx="12956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1676520"/>
            <a:ext cx="533520" cy="1143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5181480" y="1371600"/>
            <a:ext cx="1067040" cy="1828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1447920"/>
            <a:ext cx="1218960" cy="1676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105520" y="2971800"/>
            <a:ext cx="1981080" cy="763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057400" y="3581280"/>
            <a:ext cx="1371600" cy="182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76520" y="525780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1800" y="3581280"/>
            <a:ext cx="1371600" cy="2057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105520" y="4952880"/>
            <a:ext cx="2286000" cy="457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334120" y="3581280"/>
            <a:ext cx="914400" cy="1981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15000" y="3429000"/>
            <a:ext cx="1752480" cy="2438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0:33:15Z</dcterms:created>
  <dc:creator>Rudro Samanta</dc:creator>
  <dc:description/>
  <dc:language>en-US</dc:language>
  <cp:lastModifiedBy>Rudro Samanta</cp:lastModifiedBy>
  <cp:lastPrinted>1998-03-05T18:24:24Z</cp:lastPrinted>
  <dcterms:modified xsi:type="dcterms:W3CDTF">1998-03-05T19:44:32Z</dcterms:modified>
  <cp:revision>9</cp:revision>
  <dc:subject/>
  <dc:title>Mesh fixup (cont.)</dc:title>
</cp:coreProperties>
</file>