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832-D90B-4BA2-AC50-099405A9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A8F-B528-45C2-B229-9C9326A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419-EE08-4C5A-92C2-124D9426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C7B-43DC-4D4C-A769-C93968F8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0B76-DD9E-47D7-AF1F-00266590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8AFD-64AB-4D52-9AC5-8903F022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6E3C-CAC4-4475-94BF-3B8DBA2D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DAEB-900B-47D3-93E2-2AA6BDEF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DB72-F36F-4F00-B792-89D51845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8255-C445-4547-B830-23BC6A49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7E67-AE45-4ED7-B51D-D272FD23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272-28AD-437C-9DF3-7B3DF44A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5210-6EAF-4D3D-874F-A6915B84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E32F-D90C-4845-B329-D6B282D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5309-08FD-4629-B5BA-9AAEA770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FDA3-98C0-4BA8-B880-DD0F0DDF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8CB8-ACFC-4D0B-916F-8A51230A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7CF-82CE-4982-877C-E383C598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67C-5527-4526-9FBF-43FC835B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785-C89D-484B-898F-27167C65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2B4-7B81-4BF5-89E7-758525DF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A90-86CF-45E2-B46D-161FE321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8C5-1617-4363-A8AD-FACA1434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BF5-1DA1-4711-9BF3-3BBE8ED1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AB14-12F7-4FA8-B4AA-6758AF18D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C31E-9E57-4492-A8B3-87B59D5A6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sh fixup I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dro Sam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awbac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generate spurious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ity determination becomes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es are usually straight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ome user intervention in many pf the processes (usually for error b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polygons still a 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uzzy ?) Object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database and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toler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vertices and edges “tolera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in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br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k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ven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 must be chosen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intain featur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tracking is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awbac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15000" y="1066680"/>
            <a:ext cx="2590920" cy="1371600"/>
            <a:chOff x="5715000" y="1066680"/>
            <a:chExt cx="2590920" cy="1371600"/>
          </a:xfrm>
        </p:grpSpPr>
        <p:sp>
          <p:nvSpPr>
            <p:cNvPr id="135" name=""/>
            <p:cNvSpPr/>
            <p:nvPr/>
          </p:nvSpPr>
          <p:spPr>
            <a:xfrm>
              <a:off x="5715000" y="1066680"/>
              <a:ext cx="2590920" cy="137160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24160" y="1171800"/>
              <a:ext cx="370080" cy="369360"/>
            </a:xfrm>
            <a:prstGeom prst="ellipse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26320" y="1752480"/>
              <a:ext cx="686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9400" y="1330200"/>
              <a:ext cx="0" cy="94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54080" y="1699560"/>
              <a:ext cx="581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5480" y="1330200"/>
              <a:ext cx="0" cy="94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adiosity 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sha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radiator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receiver node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ecting faces should be represented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s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s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 ver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s coplanar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24080" y="4343400"/>
            <a:ext cx="1752480" cy="1981080"/>
            <a:chOff x="3124080" y="4343400"/>
            <a:chExt cx="1752480" cy="1981080"/>
          </a:xfrm>
        </p:grpSpPr>
        <p:sp>
          <p:nvSpPr>
            <p:cNvPr id="146" name=""/>
            <p:cNvSpPr/>
            <p:nvPr/>
          </p:nvSpPr>
          <p:spPr>
            <a:xfrm>
              <a:off x="312408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496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56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70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5720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50292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9880" y="56386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3560" y="60958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0496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496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708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733560" y="457200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190760" y="457200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190760" y="563868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733560" y="5638680"/>
              <a:ext cx="763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086600" y="4343400"/>
            <a:ext cx="1752480" cy="1981080"/>
            <a:chOff x="7086600" y="4343400"/>
            <a:chExt cx="1752480" cy="1981080"/>
          </a:xfrm>
        </p:grpSpPr>
        <p:sp>
          <p:nvSpPr>
            <p:cNvPr id="164" name=""/>
            <p:cNvSpPr/>
            <p:nvPr/>
          </p:nvSpPr>
          <p:spPr>
            <a:xfrm>
              <a:off x="708660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674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96080" y="50292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9600" y="50292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582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67480" y="457200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96080" y="50292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96080" y="56386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609588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05520" y="4343400"/>
            <a:ext cx="1752480" cy="1981080"/>
            <a:chOff x="5105520" y="4343400"/>
            <a:chExt cx="1752480" cy="1981080"/>
          </a:xfrm>
        </p:grpSpPr>
        <p:sp>
          <p:nvSpPr>
            <p:cNvPr id="174" name=""/>
            <p:cNvSpPr/>
            <p:nvPr/>
          </p:nvSpPr>
          <p:spPr>
            <a:xfrm>
              <a:off x="510552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64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852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12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15000" y="45720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50292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6386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60958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8640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60958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48520" y="45720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143000" y="4343400"/>
            <a:ext cx="1752480" cy="1981080"/>
            <a:chOff x="1143000" y="4343400"/>
            <a:chExt cx="1752480" cy="1981080"/>
          </a:xfrm>
        </p:grpSpPr>
        <p:sp>
          <p:nvSpPr>
            <p:cNvPr id="188" name=""/>
            <p:cNvSpPr/>
            <p:nvPr/>
          </p:nvSpPr>
          <p:spPr>
            <a:xfrm>
              <a:off x="1143000" y="4343400"/>
              <a:ext cx="1752480" cy="198108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5248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4240" y="4572000"/>
              <a:ext cx="0" cy="152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8440" y="45720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440" y="50292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440" y="56386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440" y="60958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3880" y="457200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609588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5640" y="609588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5640" y="457200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828440" y="457200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209680" y="457200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209680" y="56386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828440" y="56386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ges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face intersections by breaking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la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overlapping coplanar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ly subdivides f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squares and then traian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a error toleranc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 say this is automatically computed (“scene relative toleranc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atial subdivi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space by polygon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solidit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nsist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fixu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09680" y="1676520"/>
            <a:ext cx="838440" cy="1371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3048120"/>
            <a:ext cx="129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1676520"/>
            <a:ext cx="533520" cy="1143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181480" y="1371600"/>
            <a:ext cx="1067040" cy="1828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1447920"/>
            <a:ext cx="1218960" cy="1676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05520" y="2971800"/>
            <a:ext cx="1981080" cy="76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057400" y="3581280"/>
            <a:ext cx="137160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52578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3581280"/>
            <a:ext cx="137160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105520" y="4952880"/>
            <a:ext cx="228600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334120" y="3581280"/>
            <a:ext cx="914400" cy="198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3429000"/>
            <a:ext cx="1752480" cy="2438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0:33:15Z</dcterms:created>
  <dc:creator>Rudro Samanta</dc:creator>
  <dc:description/>
  <dc:language>en-US</dc:language>
  <cp:lastModifiedBy>Rudro Samanta</cp:lastModifiedBy>
  <cp:lastPrinted>1998-03-05T18:24:24Z</cp:lastPrinted>
  <dcterms:modified xsi:type="dcterms:W3CDTF">1998-03-05T19:44:32Z</dcterms:modified>
  <cp:revision>9</cp:revision>
  <dc:subject/>
  <dc:title>Mesh fixup (cont.)</dc:title>
</cp:coreProperties>
</file>