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920" y="4015440"/>
            <a:ext cx="89154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920" y="401544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0320" y="401544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6560" y="99072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1200" y="99072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920" y="401544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6560" y="401544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1200" y="401544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152280"/>
            <a:ext cx="91328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920" y="401544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0320" y="401544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920" y="4015440"/>
            <a:ext cx="89154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4945-3768-4AE7-837E-78517D14D32C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62120"/>
            <a:ext cx="9132840" cy="28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804960"/>
            <a:ext cx="9132840" cy="25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3080" y="2130120"/>
            <a:ext cx="850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Active Networks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nnifer Rexford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ree Parts to an Active Network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xecution environmen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machine with access to node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, Turing-complete vs. restricted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ctive application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n end-to-end, customized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 code on to the routers to program the V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ode operating system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multiple execution environments at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afety between executio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xample: Capsule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apsule = code + data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of IP packe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ype that identifies the code that should handle the capsul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may indicate a Java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de runs in transient execution environmen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royed when the capsule evaluatio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ctive storag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sules can leave information behind in a node’s non-transient storage for subsequent caps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xternal methods cached on the nod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oncerns: Security, Safety, and Performance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rotection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my service damage your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un code in a sandbo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Resource managemen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my service consume arbitrary resourc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areful control ove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erformanc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my program complete quickly enough to avoid introducing excessive latenc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limit the complexity of the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run them only on lower-speed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afety and Security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rograms ensured to terminat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Limited amount of resources consumed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ype-checked program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Basic error handling 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o interference due to concurrent execution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fficiency and Performance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Running programs on packet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stionable on higher-speed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here you have just a few nsec per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easible at the edge (e.g., 100 Mbps, 1 Gbps)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ewall, NAT, shaper, proxy, intru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easible for control plane in the cor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ning routing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mputer architecture advances help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ter conventional process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rocessors and FPG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rocessor c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tepping Back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Was active networks a success or failure?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idea of computation and services inside the networ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for a principled approach to middleboxes, and a blurring of router vs. general network nod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mechanism of packets carrying cod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evil in the detail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granularity: packets vs.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is code loaded: on demand vs. in adv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 programs: user vs. network op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hat’s the Difference?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What’s the difference between active networks and virtualized infrastructures?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tLab, VINI, and GE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What’s the difference between active networks and middleboxes?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ewall, NAT, proxy, gateway, shaper, trans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What’s the difference between active networks and overlay networks?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tLab, RON, Akamai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ice Quotation from the Tennenhouse Paper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presently a disconnect between what users consider to b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“inside” the networ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the practitioner’s perspective, which is somewhat restricted.  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example, web browsers allow users to interact with what they perceive to be “the network”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ithout distinguishing among the many routers, domain name servers, and web serv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t conspire to provide the service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may be time for practitioners to reevaluate their abstractions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art thinking about the network at a higher lev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assive Network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umb store-and-forward network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rt end hosts implement key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routers store and forw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network processing (e.g., routing, forwarding, buffering, and packet schedul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acket header used in a simple way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, standardized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one of a small set of operations to occ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forwarded or dropped based on those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(largely) ignores higher-layer hea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ctive Network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acket == data + cod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rt hosts,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nodes that can execute code on th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packets that carry code to activ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ostscript analogy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both your data, and the program the printer runs to print you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 networks allow an individual user, or groups of users, to inject customized programs into the nodes of the network. 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otivation for Active Network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High-level goa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rage computation i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User pul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adaptive stre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ggregation to reduce data vol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ation closer to users to reduce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ndustry push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-hoc collection of middleboxes emer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with generic, multi-purpose activ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, proliferation of active components will happen anyway, without any common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otivation for Active Networks (Continued)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Big mismatch in rates of innovation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change quickly (e.g., Web, P2P, I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etwork changes slow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eploying new network technology is hard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for standardization (at the IET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delays for vendors to implement and service providers to deploy the new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Better to decouple services from hardwar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the amount of glob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 new service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otivating Example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ustomized packet-drop policy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watching video stream (MPE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leads to bandwidth li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op selectively the B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application-specific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Other example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rror correction:  adapt to loss r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-SYN fil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ca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ulticast (or any multica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nabling Technologies for Active Network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mponent-based software engineering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 blocks for composing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de mobility (e.g,. Java)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ough previously between end hosts, not network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ovation in safe and efficient code 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ield-programmable gate arrays (FPGAs)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ing higher speed of packet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Research in programming language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PL folks’ interest in 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wo Models of Active Networks (ANs)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ctive networks are active in two way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s run code on data flowing through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s can inject programs in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rogrammable switche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rete AN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ion of program loading and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program loading only by network op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is demultiplexed to the right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apsule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ed AN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packet is a program, and carries its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haps in a restricted programm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0T01:47:45Z</dcterms:created>
  <dc:creator>Albert Greenberg</dc:creator>
  <dc:description/>
  <dc:language>en-US</dc:language>
  <cp:lastModifiedBy>Rexford</cp:lastModifiedBy>
  <cp:lastPrinted>1998-06-29T00:15:13Z</cp:lastPrinted>
  <dcterms:modified xsi:type="dcterms:W3CDTF">2006-11-30T14:28:31Z</dcterms:modified>
  <cp:revision>3329</cp:revision>
  <dc:subject/>
  <dc:title>WorldNet Data Warehouse  Albert Greenberg albert@research.att.com http://www.research.att.com/~albert/talks/IF-June98.html</dc:title>
</cp:coreProperties>
</file>