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56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120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56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120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2280"/>
            <a:ext cx="9132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9E8-FA90-4B88-9C2C-6E43AE8186C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9132840" cy="2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4960"/>
            <a:ext cx="9132840" cy="2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2130120"/>
            <a:ext cx="850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ree Parts to an Active Networ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 with access to nod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, Turing-complete vs. restricted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applicatio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 end-to-end, customiz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code on to the routers to program the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de operating system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ple execution environments at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afety between executio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xample: Capsu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 = code + data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of IP pack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 that identifies the code that should handle the capsul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y indicate a Jav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runs in transient 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ed when the capsule evaluatio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storag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sules can leave information behind in a node’s non-transient storage for subsequent caps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rnal methods cached on the n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cerns: Security, Safety,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damage you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un code in a sand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ource manage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consume arbitrary resour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areful control ove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program complete quickly enough to avoid introducing excessive lat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limit the complexity of th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run them only on low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afety and Securit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s ensured to termin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imited amount of resources consume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-checked program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asic error handling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 interference due to concurrent execu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fficiency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unning programs on packet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able on high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ere you have just a few nsec per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at the edge (e.g., 100 Mbps, 1 Gbp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shaper, proxy, intru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for control plane in the co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ning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uter architecture advances hel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conventio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 and FP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rocessor 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tepping Bac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as active networks a success or failure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dea of computation and services inside the net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a principled approach to middleboxes, and a blurring of router vs. general network n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mechanism of packets carry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il in the detail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ranularity: packets vs.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code loaded: on demand vs.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rograms: user vs.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at’s the Difference?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virtualized infrastructur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VINI, and G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middlebox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proxy, gateway, shaper,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overlay network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RON, Akama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ice Quotation from the Tennenhouse Paper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presently a disconnect between what users consider to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inside” the netwo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practitioner’s perspective, which is somewhat restricted. 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, web browsers allow users to interact with what they perceive to be “the network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thout distinguishing among the many routers, domain name servers, and web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conspire to provide the servic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be time for practitioners to reevaluate their abstraction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rt thinking about the network at a higher le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umb store-and-forward network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end hosts implement ke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routers store and forw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etwork processing (e.g., routing, forwarding, buffering, and packet schedul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header used in a simple wa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, standardized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one of a small set of operations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forwarded or dropped based on thos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(largely) ignores higher-layer h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== data + c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s,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nodes that can execute code on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packets that carry code to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ostscript analog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both your data, and the program the printer runs to print you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networks allow an individual user, or groups of users, to inject customized programs into the nodes of the network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igh-level goa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mputation 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r pul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adaptive 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ggregation to reduce data vol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 closer to users to reduce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dustry push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collection of middleboxe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with generic, multi-purpose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proliferation of active components will happen anyway, without any comm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 (Continued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ig mismatch in rates of innov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hange quickly (e.g., Web, P2P, 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changes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ploying new network technology is har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for standardization (at the 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delays for vendors to implement and service providers to deploy the new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etter to decouple services from hardwa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amount of glob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new service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ng Examp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ustomized packet-drop polic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watching video stream (MPE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leads to bandwidth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selectively the B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pplication-specific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ther exampl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rror correction:  adapt to loss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SYN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ulticast (or any mult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nabling Technologies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onent-based software engineering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blocks for compos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mobility (e.g,. Java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previously between end hosts, not network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in safe and efficient code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eld-programmable gate arrays (FPGA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higher speed of packet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earch in programming languag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L folks’ interest in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wo Models of Active Networks (ANs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networks are active in two way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run code on data flowing throug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can inject programs in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mable switch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rogram loading and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rogram loading only by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is demultiplexed to the righ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acket is a program, and carries it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aps in a restric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1:47:45Z</dcterms:created>
  <dc:creator>Albert Greenberg</dc:creator>
  <dc:description/>
  <dc:language>en-US</dc:language>
  <cp:lastModifiedBy>Rexford</cp:lastModifiedBy>
  <cp:lastPrinted>1998-06-29T00:15:13Z</cp:lastPrinted>
  <dcterms:modified xsi:type="dcterms:W3CDTF">2006-11-30T14:28:31Z</dcterms:modified>
  <cp:revision>3329</cp:revision>
  <dc:subject/>
  <dc:title>WorldNet Data Warehouse  Albert Greenberg albert@research.att.com http://www.research.att.com/~albert/talks/IF-June98.html</dc:title>
</cp:coreProperties>
</file>